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842-180A-4309-9068-F397A05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1DE-D229-443D-AB43-B87E01E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8E6-DCCF-4A47-85CD-1C917001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CF4-D465-4751-A1E6-8ACE09EF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E2E-2AAF-4584-97AE-93B2E26D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70FD-F511-4FD8-917B-FC7DD1B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83F-8CEC-4937-9FB7-813919D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940-900C-4D08-AFF1-A2916D5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039D-BF60-4656-86F4-5B257EA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5E2-753C-4122-A09B-23519F7A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D6C-0AF0-46AC-93BA-E3E644B9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A0A-253A-4A56-8EEF-F72BC0F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0AE-ADDE-4678-AEE8-32FBB301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F01F-C0A1-4019-9008-3F414BE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42DF-F2C2-4DAC-8CE5-2370D514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9AB1-9D05-4A8C-8A75-D391B33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5C44-8E92-4DBF-A194-29D747EA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F1A-B018-4DDA-88FE-5BCBEE0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BBD-CAAF-47E9-8968-DEA35F0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77A-0CDC-4E3C-882A-0034526F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E04-E81E-43B6-B3A6-E1FC89E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01C-0867-4808-89C9-AE37137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FB1-C05D-40D8-8A21-F5376B3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FAE-CC80-4935-9515-74878E10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405E-E4CB-4B6D-8D68-972CFB0FB82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1206-56F5-44DF-833F-F82C3B67A0F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amentwicklu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961080" cy="3632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85560" y="2806560"/>
            <a:ext cx="1334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Perf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2440" y="2806560"/>
            <a:ext cx="1046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76120" y="4691160"/>
            <a:ext cx="113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t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640" y="4691160"/>
            <a:ext cx="1070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N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960" y="112536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n der Teamentwickl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1484280"/>
            <a:ext cx="2592360" cy="37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Test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r Phase entsteht das Te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Mitglieder kommen mit bestimmte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rwartun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sind auf der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uche nach ihrer Rol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nerhalb des Tea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beschnupp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ch gegenseitig und auf der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achebe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rden erste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Informationen gesamme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zw. gemeinsame Ziele formuliert.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2852640"/>
            <a:ext cx="289080" cy="287280"/>
          </a:xfrm>
          <a:prstGeom prst="rightArrow">
            <a:avLst>
              <a:gd name="adj1" fmla="val 50000"/>
              <a:gd name="adj2" fmla="val 2515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4726080"/>
            <a:ext cx="289080" cy="287280"/>
          </a:xfrm>
          <a:prstGeom prst="rightArrow">
            <a:avLst>
              <a:gd name="adj1" fmla="val 50000"/>
              <a:gd name="adj2" fmla="val 2515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2838600"/>
            <a:ext cx="2737080" cy="37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Nahkampf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Phase mit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einem Grundkonsens. Kampf um 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ackord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Machtposi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inter-frag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eingesetzten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Metho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er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Teamlei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m Ende dieser Phase sollten die Definition der Aufgabenrollen und der Konsens hinsichtlich der Aufgabenbewältigung sowie der Zielsetzung steh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280" y="2838600"/>
            <a:ext cx="2556000" cy="37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Orientierungs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Wogen im Team haben sich geglättet,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Verhaltensnormen werden deklari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es ist ei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Wir-Gefüh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tstanden.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Jetzt beginnt die eigentliche Arbe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 Team. Informationen werden offen ausgetauscht und bewertet. Auftretende Konflikte sollten aber auch in dieser Phase themat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9000"/>
            <a:ext cx="2556000" cy="325764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rbeitsph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ser Phase sind dank des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hen Zusammen-hal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pitzenleist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ögli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Gruppe steuert 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wiegend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elbständ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Konflikte und andere Probleme werden in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Feedbacksitz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skutiert und in der Regel auch gelö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482920" y="472608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556000" y="292428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260280"/>
            <a:ext cx="360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eamentwicklu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961080" cy="363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560" y="2806560"/>
            <a:ext cx="1334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Perf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42440" y="2806560"/>
            <a:ext cx="1046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120" y="4691160"/>
            <a:ext cx="113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t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4691160"/>
            <a:ext cx="1070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Nor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5960" y="7650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n der Teamentwickl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15920"/>
            <a:ext cx="3203640" cy="3014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Test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r Phase entsteht das Te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Mitglieder kommen mit bestimmte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rwartun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sind auf der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uche nach ihrer Rol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nerhalb des Tea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beschnupp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ch gegenseitig und auf der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achebe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rden erste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Informationen gesamme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zw. gemeinsame Ziele formuliert.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2852640"/>
            <a:ext cx="289080" cy="287280"/>
          </a:xfrm>
          <a:prstGeom prst="rightArrow">
            <a:avLst>
              <a:gd name="adj1" fmla="val 50000"/>
              <a:gd name="adj2" fmla="val 2515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726080"/>
            <a:ext cx="289080" cy="287280"/>
          </a:xfrm>
          <a:prstGeom prst="rightArrow">
            <a:avLst>
              <a:gd name="adj1" fmla="val 50000"/>
              <a:gd name="adj2" fmla="val 2515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3213000"/>
            <a:ext cx="3132000" cy="325764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Nahkampf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Phase mit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einem Grundkonsens. Kampf um 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ackord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Machtposi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inter-frag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r eingesetzten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Metho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er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Teamlei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m Ende dieser Phase sollten die Definition der Aufgabenrollen und der Konsens hinsichtlich der Aufgabenbewältigung sowie der Zielsetzung steh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0"/>
            <a:ext cx="2771640" cy="350100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Orientierungs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Wogen im Team haben sich geglättet,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Verhaltensnormen werden deklari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 es ist ein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Wir-Gefüh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tstanden.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Jetzt beginnt die eigentliche Arbe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 Team. Informationen werden offen ausgetauscht und bewertet. Auftretende Konflikte sollten aber auch in dieser Phase themat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5920"/>
            <a:ext cx="2843280" cy="277092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rbeitsph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ser Phase sind dank des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hen Zusammen-halt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pitzenleist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ögli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Gruppe steuert 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wiegend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selbständ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Konflikte und andere Probleme werden in </a:t>
            </a: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Feedbacksitzung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skutiert und in der Regel auch gelö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2482920" y="472608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2556000" y="2924280"/>
            <a:ext cx="288720" cy="287280"/>
          </a:xfrm>
          <a:prstGeom prst="rightArrow">
            <a:avLst>
              <a:gd name="adj1" fmla="val 50000"/>
              <a:gd name="adj2" fmla="val 251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7:31:10Z</dcterms:created>
  <dc:creator>admin</dc:creator>
  <dc:description/>
  <dc:language>en-US</dc:language>
  <cp:lastModifiedBy>admin</cp:lastModifiedBy>
  <dcterms:modified xsi:type="dcterms:W3CDTF">2008-11-06T20:16:30Z</dcterms:modified>
  <cp:revision>1</cp:revision>
  <dc:subject/>
  <dc:title>Teamentwicklung</dc:title>
</cp:coreProperties>
</file>