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B92-A52F-41BC-A485-39E2BD18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B31-783F-4DBF-B7FD-49A7418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258-DC56-459D-B71A-9B9CC1F7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1D8-91A4-420D-B393-D0352819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2E6-59FA-4A16-902E-79BDAE9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793-1550-432E-866A-197991A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47B-9DF9-4EF6-9307-4A734EC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7BA-6B49-4B5E-8DFA-47407D07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CD-7EE5-4274-B93C-4629C46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816-0E47-461B-8F13-209A92A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77F-E93A-45F0-B340-CEC491F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795-E495-4315-973A-7CEBB3A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ynamo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Dynamo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Dynamo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Dynamo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Dynamo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Dynamo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Dynamo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Dynamo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ynamoEF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QuaySansE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aySansEF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QuaySansE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QuaySansE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QuaySansE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404-19BD-4992-8800-91D5530CB6C3}" type="slidenum">
              <a:rPr b="0" lang="en-US" sz="1200" spc="-1" strike="noStrike">
                <a:solidFill>
                  <a:srgbClr val="000000"/>
                </a:solidFill>
                <a:latin typeface="QuaySansE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838080" y="0"/>
            <a:ext cx="1036296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Übliche Anmeldung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ben gesehenen Benutzernamen und das neu gewählte Kennwort eingeb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kument ist eingestellt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ateityp, Name oder Beschreibung können jederzeit korrigiert oder geänder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ktion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ateityp, Name oder Beschreibung können jederzeit korrigiert oder geänder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ktion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ktionen können auch auf verschiedene Dokumente gleichzeitig angewende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rdner erstell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m BSCW-Menü unter „Datei“ und „Neu“ den Befehl „Ordner“ auswähl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ame eingeb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m zu neuen Ordner sollten Sie einen kurzen und verständlichen Namen geb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Beschreibung möglich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ine Beschreibung ist vor allem bei neuen Ordnern sinnvoll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rdner ist erstellt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r eben erzeugte Ordner kann jetzt verwalte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Änderung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ame oder Beschreibung können jederzeit korrigiert oder geänder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kumente verwalt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Gewünschte Datei ausschneide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rdner wechsel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 den erstellten Ordner wechsel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ndlich dri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tzt kann die Arbeit auf der Standardoberfläche von BSCW losgeh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benen wechsel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Die gewünschte Ebene unter „Ihre Position“ anklicj´k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nternetseiten einstell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m BSCW-Menü unter dem Befehl „Neu“ eine „URL“ einstelle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dresse eingeb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in gewählter Name oder eine Beschreibung können ergänz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ktuell oder archiviert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e verknüpfte Seite kann als Link („Verweis abspeichern“) oder nach aktuellem Stand („Dokument holen und abspeichern“) eingestell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nternetseiten austausch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tzt können Internetseiten nach verschiedenen Bearbeitungsstufen abgespeichert und bearbeitet werd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0033"/>
                </a:solidFill>
                <a:latin typeface="Tahoma"/>
              </a:rPr>
              <a:t>Viel Spaß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86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Kennwort vergess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209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Erneute Registrierung mit der bekannten eMail-Adresse durchführe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4165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ues Einladungsschreib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71560" y="1324080"/>
            <a:ext cx="73724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asswort änder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tzt zum oben angegebenen Namen ein neu gewähltes Passwort eingeben und bestätig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ahoma"/>
              </a:rPr>
              <a:t>CSCW</a:t>
            </a:r>
            <a:br>
              <a:rPr sz="3300"/>
            </a:br>
            <a:r>
              <a:rPr b="0" lang="de-DE" sz="3300" spc="-1" strike="noStrike">
                <a:solidFill>
                  <a:srgbClr val="000000"/>
                </a:solidFill>
                <a:latin typeface="Tahoma"/>
              </a:rPr>
              <a:t>Computer Supported Cooperative Work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C: Ausgangspunkt ist der Rechner</a:t>
            </a: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1" marL="566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S: Rechner wird als Unterstützungsmedium eingesetzt</a:t>
            </a: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C: Unterstützung von kooperativen Aktivitäten</a:t>
            </a: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lvl="1" marL="566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W: Arbeitsaufgabe</a:t>
            </a: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3200400" cy="125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48765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ues Dokument einstell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m BSCW-Menü unter dem Befehl „Neu“ ein Dokument einstelle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ahoma"/>
              </a:rPr>
              <a:t>Groupeware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nwendungen die Gruppen bei gemeinsamer Arbeit unterstützen, eine gemeinsame Arbeitsumgebung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20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Historie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inige relevante CSCW-Systeme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5419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utzen - Risik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698480"/>
          <a:ext cx="7800840" cy="45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98480"/>
                    <a:ext cx="7800840" cy="45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ntegrierte Lernumgebung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ahoma"/>
              </a:rPr>
              <a:t>bestehend aus privaten, organisations-bezogenen und globalen Informations-raum sowie den gemeinsamen Arbeits-bereichen der Lerngruppen. </a:t>
            </a:r>
            <a:endParaRPr b="0" lang="en-US" sz="21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93892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ues Dokument such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as Schaltfeld „Durchsuchen“ anklick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as richtige Verzeichnis such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uf der Festplatte, einer Diskette, CD oder einem sonstigen angeschlossenen Datenträger das gewünschte Verzeichnis auswähl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atei auswählen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m Dialogfeld die gewünschte Datei suchen und öffn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ame und Beschreibung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r angezeigte Dokumentname muss nicht mit dem ursprünglichen Namen übereinstimmen.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MIME-Typ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n Dateityp angeben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kumentübertragung</a:t>
            </a:r>
            <a:endParaRPr b="0" lang="en-US" sz="3300" spc="-1" strike="noStrike">
              <a:solidFill>
                <a:srgbClr val="000000"/>
              </a:solidFill>
              <a:latin typeface="Dynam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20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as ausgewählte Dokument wird übertragen und steht dann allen Mitgliedern der Arbeitsgruppe Zur Verfügung</a:t>
            </a:r>
            <a:endParaRPr b="0" lang="en-US" sz="1900" spc="-1" strike="noStrike">
              <a:solidFill>
                <a:srgbClr val="000000"/>
              </a:solidFill>
              <a:latin typeface="DynamoE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5700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0:16:17Z</dcterms:created>
  <dc:creator>Jochen Mogler</dc:creator>
  <dc:description/>
  <dc:language>en-US</dc:language>
  <cp:lastModifiedBy>Jochen Mogler</cp:lastModifiedBy>
  <cp:lastPrinted>2002-01-28T13:20:23Z</cp:lastPrinted>
  <dcterms:modified xsi:type="dcterms:W3CDTF">2002-01-28T13:22:02Z</dcterms:modified>
  <cp:revision>16</cp:revision>
  <dc:subject/>
  <dc:title>BSCW</dc:title>
</cp:coreProperties>
</file>