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19920" y="51055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mm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877760" cy="12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a000a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äsentieren mit Hilfe 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es Compu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876400"/>
            <a:ext cx="6934320" cy="314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003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Tahoma"/>
              </a:rPr>
              <a:t>Gestaltung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99003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Wiedererken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2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leichtert Konzentration auf den Inhalt du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heitliche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heitliches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e gut lesbare Sch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b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696080" y="59436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äsentationslay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s muss zusammenpass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nn Sie Zeit, Lust und Geschick haben: Entwickeln Sie Ihr eigenes Desig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3809880" cy="359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96080" y="59436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olienlayou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sichtliche Plazierung von Texten, Grafiken und Bild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Folienlayouts benutz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Dem Leser die Orientierung erleichte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59436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eseflu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 rot="1657200">
            <a:off x="1063440" y="2610000"/>
            <a:ext cx="6911640" cy="32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von oben links nach unten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7987400">
            <a:off x="3352680" y="2818800"/>
            <a:ext cx="1066680" cy="1371600"/>
          </a:xfrm>
          <a:prstGeom prst="downArrow">
            <a:avLst>
              <a:gd name="adj1" fmla="val 50000"/>
              <a:gd name="adj2" fmla="val 32146"/>
            </a:avLst>
          </a:prstGeom>
          <a:solidFill>
            <a:srgbClr val="8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905120"/>
            <a:ext cx="4343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chtige Informatione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ben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4495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gos, Schmuck: auf die rechte Se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59436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chriftart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chtigstes Kriterium für den Schrifteinsat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429000"/>
            <a:ext cx="838080" cy="1641600"/>
          </a:xfrm>
          <a:custGeom>
            <a:avLst/>
            <a:gdLst>
              <a:gd name="textAreaLeft" fmla="*/ 112320 w 838080"/>
              <a:gd name="textAreaRight" fmla="*/ 725760 w 838080"/>
              <a:gd name="textAreaTop" fmla="*/ 287280 h 1641600"/>
              <a:gd name="textAreaBottom" fmla="*/ 1190160 h 164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3429000"/>
            <a:ext cx="914400" cy="1795320"/>
          </a:xfrm>
          <a:custGeom>
            <a:avLst/>
            <a:gdLst>
              <a:gd name="textAreaLeft" fmla="*/ 122400 w 914400"/>
              <a:gd name="textAreaRight" fmla="*/ 792000 w 914400"/>
              <a:gd name="textAreaTop" fmla="*/ 313920 h 1795320"/>
              <a:gd name="textAreaBottom" fmla="*/ 1301760 h 17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sbark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chriftart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s New R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Book Antiq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ookman Old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ootlight MT Light"/>
              </a:rPr>
              <a:t>Footlight MT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191120" cy="190476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Serifenschrif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chriftart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entury Goth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ic Sans 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2406240"/>
            <a:ext cx="3638520" cy="1893960"/>
          </a:xfrm>
          <a:prstGeom prst="leftArrow">
            <a:avLst>
              <a:gd name="adj1" fmla="val 50000"/>
              <a:gd name="adj2" fmla="val 48028"/>
            </a:avLst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fenlose Schri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chrifteinsatz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Playbill"/>
              </a:rPr>
              <a:t>Schlichte Schriften verwend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Brush Script MT"/>
              </a:rPr>
              <a:t>Schlichte Schriften verwend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Britannic Bold"/>
              </a:rPr>
              <a:t>Schlichte Schriften verwend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esdemona"/>
              </a:rPr>
              <a:t>Verwenden Sie nicht nur Grossbuchstab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Colonna MT"/>
              </a:rPr>
              <a:t>VERWENDEN SIE NICHT NUR GROSSBUCHSTABE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nmutung von Schrif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mic"/>
              </a:rPr>
              <a:t>Fortschri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Wide Latin"/>
              </a:rPr>
              <a:t>Seiden-wäs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Playbill"/>
              </a:rPr>
              <a:t>Stahlträ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raggadocio"/>
              </a:rPr>
              <a:t>Porzel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715000" y="2895480"/>
            <a:ext cx="1568160" cy="2333880"/>
            <a:chOff x="5715000" y="2895480"/>
            <a:chExt cx="1568160" cy="2333880"/>
          </a:xfrm>
        </p:grpSpPr>
        <p:sp>
          <p:nvSpPr>
            <p:cNvPr id="103" name=""/>
            <p:cNvSpPr/>
            <p:nvPr/>
          </p:nvSpPr>
          <p:spPr>
            <a:xfrm>
              <a:off x="6537240" y="2987640"/>
              <a:ext cx="493560" cy="595440"/>
            </a:xfrm>
            <a:custGeom>
              <a:avLst/>
              <a:gdLst/>
              <a:ahLst/>
              <a:rect l="l" t="t" r="r" b="b"/>
              <a:pathLst>
                <a:path w="621" h="751">
                  <a:moveTo>
                    <a:pt x="42" y="360"/>
                  </a:moveTo>
                  <a:lnTo>
                    <a:pt x="89" y="253"/>
                  </a:lnTo>
                  <a:lnTo>
                    <a:pt x="187" y="140"/>
                  </a:lnTo>
                  <a:lnTo>
                    <a:pt x="285" y="70"/>
                  </a:lnTo>
                  <a:lnTo>
                    <a:pt x="392" y="14"/>
                  </a:lnTo>
                  <a:lnTo>
                    <a:pt x="495" y="0"/>
                  </a:lnTo>
                  <a:lnTo>
                    <a:pt x="565" y="24"/>
                  </a:lnTo>
                  <a:lnTo>
                    <a:pt x="607" y="80"/>
                  </a:lnTo>
                  <a:lnTo>
                    <a:pt x="621" y="150"/>
                  </a:lnTo>
                  <a:lnTo>
                    <a:pt x="607" y="239"/>
                  </a:lnTo>
                  <a:lnTo>
                    <a:pt x="575" y="337"/>
                  </a:lnTo>
                  <a:lnTo>
                    <a:pt x="495" y="430"/>
                  </a:lnTo>
                  <a:lnTo>
                    <a:pt x="406" y="533"/>
                  </a:lnTo>
                  <a:lnTo>
                    <a:pt x="462" y="715"/>
                  </a:lnTo>
                  <a:lnTo>
                    <a:pt x="448" y="751"/>
                  </a:lnTo>
                  <a:lnTo>
                    <a:pt x="420" y="743"/>
                  </a:lnTo>
                  <a:lnTo>
                    <a:pt x="350" y="598"/>
                  </a:lnTo>
                  <a:lnTo>
                    <a:pt x="252" y="659"/>
                  </a:lnTo>
                  <a:lnTo>
                    <a:pt x="131" y="682"/>
                  </a:lnTo>
                  <a:lnTo>
                    <a:pt x="56" y="673"/>
                  </a:lnTo>
                  <a:lnTo>
                    <a:pt x="5" y="617"/>
                  </a:lnTo>
                  <a:lnTo>
                    <a:pt x="0" y="528"/>
                  </a:lnTo>
                  <a:lnTo>
                    <a:pt x="0" y="449"/>
                  </a:lnTo>
                  <a:lnTo>
                    <a:pt x="42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8200" y="2895480"/>
              <a:ext cx="554040" cy="666720"/>
            </a:xfrm>
            <a:custGeom>
              <a:avLst/>
              <a:gdLst/>
              <a:ahLst/>
              <a:rect l="l" t="t" r="r" b="b"/>
              <a:pathLst>
                <a:path w="698" h="841">
                  <a:moveTo>
                    <a:pt x="288" y="604"/>
                  </a:moveTo>
                  <a:lnTo>
                    <a:pt x="316" y="632"/>
                  </a:lnTo>
                  <a:lnTo>
                    <a:pt x="335" y="684"/>
                  </a:lnTo>
                  <a:lnTo>
                    <a:pt x="344" y="786"/>
                  </a:lnTo>
                  <a:lnTo>
                    <a:pt x="279" y="841"/>
                  </a:lnTo>
                  <a:lnTo>
                    <a:pt x="190" y="796"/>
                  </a:lnTo>
                  <a:lnTo>
                    <a:pt x="154" y="656"/>
                  </a:lnTo>
                  <a:lnTo>
                    <a:pt x="65" y="433"/>
                  </a:lnTo>
                  <a:lnTo>
                    <a:pt x="23" y="238"/>
                  </a:lnTo>
                  <a:lnTo>
                    <a:pt x="0" y="56"/>
                  </a:lnTo>
                  <a:lnTo>
                    <a:pt x="23" y="0"/>
                  </a:lnTo>
                  <a:lnTo>
                    <a:pt x="56" y="0"/>
                  </a:lnTo>
                  <a:lnTo>
                    <a:pt x="218" y="47"/>
                  </a:lnTo>
                  <a:lnTo>
                    <a:pt x="428" y="126"/>
                  </a:lnTo>
                  <a:lnTo>
                    <a:pt x="484" y="131"/>
                  </a:lnTo>
                  <a:lnTo>
                    <a:pt x="529" y="117"/>
                  </a:lnTo>
                  <a:lnTo>
                    <a:pt x="567" y="182"/>
                  </a:lnTo>
                  <a:lnTo>
                    <a:pt x="698" y="279"/>
                  </a:lnTo>
                  <a:lnTo>
                    <a:pt x="698" y="307"/>
                  </a:lnTo>
                  <a:lnTo>
                    <a:pt x="670" y="321"/>
                  </a:lnTo>
                  <a:lnTo>
                    <a:pt x="572" y="238"/>
                  </a:lnTo>
                  <a:lnTo>
                    <a:pt x="539" y="266"/>
                  </a:lnTo>
                  <a:lnTo>
                    <a:pt x="419" y="297"/>
                  </a:lnTo>
                  <a:lnTo>
                    <a:pt x="349" y="266"/>
                  </a:lnTo>
                  <a:lnTo>
                    <a:pt x="358" y="201"/>
                  </a:lnTo>
                  <a:lnTo>
                    <a:pt x="293" y="154"/>
                  </a:lnTo>
                  <a:lnTo>
                    <a:pt x="176" y="112"/>
                  </a:lnTo>
                  <a:lnTo>
                    <a:pt x="93" y="89"/>
                  </a:lnTo>
                  <a:lnTo>
                    <a:pt x="93" y="154"/>
                  </a:lnTo>
                  <a:lnTo>
                    <a:pt x="112" y="297"/>
                  </a:lnTo>
                  <a:lnTo>
                    <a:pt x="150" y="405"/>
                  </a:lnTo>
                  <a:lnTo>
                    <a:pt x="204" y="522"/>
                  </a:lnTo>
                  <a:lnTo>
                    <a:pt x="288" y="6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08800" y="3327480"/>
              <a:ext cx="774360" cy="565200"/>
            </a:xfrm>
            <a:custGeom>
              <a:avLst/>
              <a:gdLst/>
              <a:ahLst/>
              <a:rect l="l" t="t" r="r" b="b"/>
              <a:pathLst>
                <a:path w="976" h="711">
                  <a:moveTo>
                    <a:pt x="148" y="429"/>
                  </a:moveTo>
                  <a:lnTo>
                    <a:pt x="83" y="378"/>
                  </a:lnTo>
                  <a:lnTo>
                    <a:pt x="22" y="378"/>
                  </a:lnTo>
                  <a:lnTo>
                    <a:pt x="0" y="434"/>
                  </a:lnTo>
                  <a:lnTo>
                    <a:pt x="22" y="541"/>
                  </a:lnTo>
                  <a:lnTo>
                    <a:pt x="162" y="625"/>
                  </a:lnTo>
                  <a:lnTo>
                    <a:pt x="417" y="700"/>
                  </a:lnTo>
                  <a:lnTo>
                    <a:pt x="469" y="711"/>
                  </a:lnTo>
                  <a:lnTo>
                    <a:pt x="525" y="711"/>
                  </a:lnTo>
                  <a:lnTo>
                    <a:pt x="628" y="711"/>
                  </a:lnTo>
                  <a:lnTo>
                    <a:pt x="808" y="654"/>
                  </a:lnTo>
                  <a:lnTo>
                    <a:pt x="972" y="602"/>
                  </a:lnTo>
                  <a:lnTo>
                    <a:pt x="976" y="569"/>
                  </a:lnTo>
                  <a:lnTo>
                    <a:pt x="892" y="378"/>
                  </a:lnTo>
                  <a:lnTo>
                    <a:pt x="794" y="233"/>
                  </a:lnTo>
                  <a:lnTo>
                    <a:pt x="738" y="163"/>
                  </a:lnTo>
                  <a:lnTo>
                    <a:pt x="738" y="112"/>
                  </a:lnTo>
                  <a:lnTo>
                    <a:pt x="654" y="112"/>
                  </a:lnTo>
                  <a:lnTo>
                    <a:pt x="530" y="0"/>
                  </a:lnTo>
                  <a:lnTo>
                    <a:pt x="497" y="0"/>
                  </a:lnTo>
                  <a:lnTo>
                    <a:pt x="497" y="37"/>
                  </a:lnTo>
                  <a:lnTo>
                    <a:pt x="614" y="121"/>
                  </a:lnTo>
                  <a:lnTo>
                    <a:pt x="614" y="168"/>
                  </a:lnTo>
                  <a:lnTo>
                    <a:pt x="642" y="289"/>
                  </a:lnTo>
                  <a:lnTo>
                    <a:pt x="696" y="303"/>
                  </a:lnTo>
                  <a:lnTo>
                    <a:pt x="752" y="308"/>
                  </a:lnTo>
                  <a:lnTo>
                    <a:pt x="818" y="387"/>
                  </a:lnTo>
                  <a:lnTo>
                    <a:pt x="860" y="527"/>
                  </a:lnTo>
                  <a:lnTo>
                    <a:pt x="832" y="574"/>
                  </a:lnTo>
                  <a:lnTo>
                    <a:pt x="706" y="611"/>
                  </a:lnTo>
                  <a:lnTo>
                    <a:pt x="586" y="616"/>
                  </a:lnTo>
                  <a:lnTo>
                    <a:pt x="488" y="616"/>
                  </a:lnTo>
                  <a:lnTo>
                    <a:pt x="361" y="583"/>
                  </a:lnTo>
                  <a:lnTo>
                    <a:pt x="246" y="518"/>
                  </a:lnTo>
                  <a:lnTo>
                    <a:pt x="148" y="4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8280" y="3457440"/>
              <a:ext cx="612720" cy="911520"/>
            </a:xfrm>
            <a:custGeom>
              <a:avLst/>
              <a:gdLst/>
              <a:ahLst/>
              <a:rect l="l" t="t" r="r" b="b"/>
              <a:pathLst>
                <a:path w="771" h="1147">
                  <a:moveTo>
                    <a:pt x="210" y="73"/>
                  </a:moveTo>
                  <a:lnTo>
                    <a:pt x="313" y="26"/>
                  </a:lnTo>
                  <a:lnTo>
                    <a:pt x="434" y="3"/>
                  </a:lnTo>
                  <a:lnTo>
                    <a:pt x="579" y="0"/>
                  </a:lnTo>
                  <a:lnTo>
                    <a:pt x="663" y="17"/>
                  </a:lnTo>
                  <a:lnTo>
                    <a:pt x="757" y="73"/>
                  </a:lnTo>
                  <a:lnTo>
                    <a:pt x="771" y="129"/>
                  </a:lnTo>
                  <a:lnTo>
                    <a:pt x="761" y="199"/>
                  </a:lnTo>
                  <a:lnTo>
                    <a:pt x="719" y="264"/>
                  </a:lnTo>
                  <a:lnTo>
                    <a:pt x="672" y="297"/>
                  </a:lnTo>
                  <a:lnTo>
                    <a:pt x="593" y="334"/>
                  </a:lnTo>
                  <a:lnTo>
                    <a:pt x="518" y="390"/>
                  </a:lnTo>
                  <a:lnTo>
                    <a:pt x="481" y="451"/>
                  </a:lnTo>
                  <a:lnTo>
                    <a:pt x="462" y="563"/>
                  </a:lnTo>
                  <a:lnTo>
                    <a:pt x="490" y="647"/>
                  </a:lnTo>
                  <a:lnTo>
                    <a:pt x="546" y="731"/>
                  </a:lnTo>
                  <a:lnTo>
                    <a:pt x="588" y="853"/>
                  </a:lnTo>
                  <a:lnTo>
                    <a:pt x="593" y="993"/>
                  </a:lnTo>
                  <a:lnTo>
                    <a:pt x="565" y="1077"/>
                  </a:lnTo>
                  <a:lnTo>
                    <a:pt x="495" y="1133"/>
                  </a:lnTo>
                  <a:lnTo>
                    <a:pt x="411" y="1147"/>
                  </a:lnTo>
                  <a:lnTo>
                    <a:pt x="285" y="1110"/>
                  </a:lnTo>
                  <a:lnTo>
                    <a:pt x="173" y="1026"/>
                  </a:lnTo>
                  <a:lnTo>
                    <a:pt x="98" y="923"/>
                  </a:lnTo>
                  <a:lnTo>
                    <a:pt x="28" y="759"/>
                  </a:lnTo>
                  <a:lnTo>
                    <a:pt x="0" y="559"/>
                  </a:lnTo>
                  <a:lnTo>
                    <a:pt x="18" y="381"/>
                  </a:lnTo>
                  <a:lnTo>
                    <a:pt x="70" y="227"/>
                  </a:lnTo>
                  <a:lnTo>
                    <a:pt x="140" y="138"/>
                  </a:lnTo>
                  <a:lnTo>
                    <a:pt x="21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5000" y="4183200"/>
              <a:ext cx="679320" cy="1046160"/>
            </a:xfrm>
            <a:custGeom>
              <a:avLst/>
              <a:gdLst/>
              <a:ahLst/>
              <a:rect l="l" t="t" r="r" b="b"/>
              <a:pathLst>
                <a:path w="857" h="1317">
                  <a:moveTo>
                    <a:pt x="748" y="285"/>
                  </a:moveTo>
                  <a:lnTo>
                    <a:pt x="659" y="172"/>
                  </a:lnTo>
                  <a:lnTo>
                    <a:pt x="538" y="14"/>
                  </a:lnTo>
                  <a:lnTo>
                    <a:pt x="440" y="0"/>
                  </a:lnTo>
                  <a:lnTo>
                    <a:pt x="369" y="14"/>
                  </a:lnTo>
                  <a:lnTo>
                    <a:pt x="351" y="84"/>
                  </a:lnTo>
                  <a:lnTo>
                    <a:pt x="398" y="186"/>
                  </a:lnTo>
                  <a:lnTo>
                    <a:pt x="547" y="313"/>
                  </a:lnTo>
                  <a:lnTo>
                    <a:pt x="678" y="437"/>
                  </a:lnTo>
                  <a:lnTo>
                    <a:pt x="734" y="503"/>
                  </a:lnTo>
                  <a:lnTo>
                    <a:pt x="734" y="535"/>
                  </a:lnTo>
                  <a:lnTo>
                    <a:pt x="692" y="615"/>
                  </a:lnTo>
                  <a:lnTo>
                    <a:pt x="594" y="703"/>
                  </a:lnTo>
                  <a:lnTo>
                    <a:pt x="468" y="760"/>
                  </a:lnTo>
                  <a:lnTo>
                    <a:pt x="327" y="788"/>
                  </a:lnTo>
                  <a:lnTo>
                    <a:pt x="197" y="811"/>
                  </a:lnTo>
                  <a:lnTo>
                    <a:pt x="117" y="825"/>
                  </a:lnTo>
                  <a:lnTo>
                    <a:pt x="42" y="816"/>
                  </a:lnTo>
                  <a:lnTo>
                    <a:pt x="0" y="844"/>
                  </a:lnTo>
                  <a:lnTo>
                    <a:pt x="0" y="898"/>
                  </a:lnTo>
                  <a:lnTo>
                    <a:pt x="28" y="921"/>
                  </a:lnTo>
                  <a:lnTo>
                    <a:pt x="197" y="978"/>
                  </a:lnTo>
                  <a:lnTo>
                    <a:pt x="337" y="1062"/>
                  </a:lnTo>
                  <a:lnTo>
                    <a:pt x="454" y="1192"/>
                  </a:lnTo>
                  <a:lnTo>
                    <a:pt x="491" y="1262"/>
                  </a:lnTo>
                  <a:lnTo>
                    <a:pt x="505" y="1314"/>
                  </a:lnTo>
                  <a:lnTo>
                    <a:pt x="561" y="1317"/>
                  </a:lnTo>
                  <a:lnTo>
                    <a:pt x="650" y="1291"/>
                  </a:lnTo>
                  <a:lnTo>
                    <a:pt x="645" y="1220"/>
                  </a:lnTo>
                  <a:lnTo>
                    <a:pt x="552" y="1118"/>
                  </a:lnTo>
                  <a:lnTo>
                    <a:pt x="435" y="1024"/>
                  </a:lnTo>
                  <a:lnTo>
                    <a:pt x="337" y="968"/>
                  </a:lnTo>
                  <a:lnTo>
                    <a:pt x="229" y="926"/>
                  </a:lnTo>
                  <a:lnTo>
                    <a:pt x="155" y="898"/>
                  </a:lnTo>
                  <a:lnTo>
                    <a:pt x="159" y="884"/>
                  </a:lnTo>
                  <a:lnTo>
                    <a:pt x="313" y="867"/>
                  </a:lnTo>
                  <a:lnTo>
                    <a:pt x="468" y="839"/>
                  </a:lnTo>
                  <a:lnTo>
                    <a:pt x="608" y="797"/>
                  </a:lnTo>
                  <a:lnTo>
                    <a:pt x="692" y="760"/>
                  </a:lnTo>
                  <a:lnTo>
                    <a:pt x="785" y="671"/>
                  </a:lnTo>
                  <a:lnTo>
                    <a:pt x="832" y="573"/>
                  </a:lnTo>
                  <a:lnTo>
                    <a:pt x="857" y="479"/>
                  </a:lnTo>
                  <a:lnTo>
                    <a:pt x="841" y="406"/>
                  </a:lnTo>
                  <a:lnTo>
                    <a:pt x="790" y="350"/>
                  </a:lnTo>
                  <a:lnTo>
                    <a:pt x="748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1640" y="4103640"/>
              <a:ext cx="568440" cy="1100160"/>
            </a:xfrm>
            <a:custGeom>
              <a:avLst/>
              <a:gdLst/>
              <a:ahLst/>
              <a:rect l="l" t="t" r="r" b="b"/>
              <a:pathLst>
                <a:path w="716" h="1388">
                  <a:moveTo>
                    <a:pt x="88" y="0"/>
                  </a:moveTo>
                  <a:lnTo>
                    <a:pt x="4" y="4"/>
                  </a:lnTo>
                  <a:lnTo>
                    <a:pt x="0" y="69"/>
                  </a:lnTo>
                  <a:lnTo>
                    <a:pt x="28" y="139"/>
                  </a:lnTo>
                  <a:lnTo>
                    <a:pt x="98" y="223"/>
                  </a:lnTo>
                  <a:lnTo>
                    <a:pt x="168" y="312"/>
                  </a:lnTo>
                  <a:lnTo>
                    <a:pt x="241" y="506"/>
                  </a:lnTo>
                  <a:lnTo>
                    <a:pt x="264" y="642"/>
                  </a:lnTo>
                  <a:lnTo>
                    <a:pt x="255" y="768"/>
                  </a:lnTo>
                  <a:lnTo>
                    <a:pt x="213" y="935"/>
                  </a:lnTo>
                  <a:lnTo>
                    <a:pt x="168" y="1080"/>
                  </a:lnTo>
                  <a:lnTo>
                    <a:pt x="126" y="1229"/>
                  </a:lnTo>
                  <a:lnTo>
                    <a:pt x="98" y="1299"/>
                  </a:lnTo>
                  <a:lnTo>
                    <a:pt x="84" y="1369"/>
                  </a:lnTo>
                  <a:lnTo>
                    <a:pt x="116" y="1388"/>
                  </a:lnTo>
                  <a:lnTo>
                    <a:pt x="199" y="1360"/>
                  </a:lnTo>
                  <a:lnTo>
                    <a:pt x="353" y="1332"/>
                  </a:lnTo>
                  <a:lnTo>
                    <a:pt x="493" y="1346"/>
                  </a:lnTo>
                  <a:lnTo>
                    <a:pt x="632" y="1388"/>
                  </a:lnTo>
                  <a:lnTo>
                    <a:pt x="660" y="1383"/>
                  </a:lnTo>
                  <a:lnTo>
                    <a:pt x="716" y="1299"/>
                  </a:lnTo>
                  <a:lnTo>
                    <a:pt x="716" y="1262"/>
                  </a:lnTo>
                  <a:lnTo>
                    <a:pt x="599" y="1243"/>
                  </a:lnTo>
                  <a:lnTo>
                    <a:pt x="451" y="1243"/>
                  </a:lnTo>
                  <a:lnTo>
                    <a:pt x="311" y="1271"/>
                  </a:lnTo>
                  <a:lnTo>
                    <a:pt x="180" y="1313"/>
                  </a:lnTo>
                  <a:lnTo>
                    <a:pt x="168" y="1290"/>
                  </a:lnTo>
                  <a:lnTo>
                    <a:pt x="194" y="1229"/>
                  </a:lnTo>
                  <a:lnTo>
                    <a:pt x="269" y="1052"/>
                  </a:lnTo>
                  <a:lnTo>
                    <a:pt x="320" y="871"/>
                  </a:lnTo>
                  <a:lnTo>
                    <a:pt x="348" y="712"/>
                  </a:lnTo>
                  <a:lnTo>
                    <a:pt x="348" y="628"/>
                  </a:lnTo>
                  <a:lnTo>
                    <a:pt x="334" y="502"/>
                  </a:lnTo>
                  <a:lnTo>
                    <a:pt x="297" y="382"/>
                  </a:lnTo>
                  <a:lnTo>
                    <a:pt x="264" y="298"/>
                  </a:lnTo>
                  <a:lnTo>
                    <a:pt x="213" y="186"/>
                  </a:lnTo>
                  <a:lnTo>
                    <a:pt x="158" y="5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nmutung von Schrif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Rounded MT Bold"/>
              </a:rPr>
              <a:t>Runde Sch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Marriage"/>
              </a:rPr>
              <a:t>gebrochene Sch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Brush Script MT"/>
              </a:rPr>
              <a:t>Schreibsch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Narrow"/>
              </a:rPr>
              <a:t>Blocksch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5080" y="2184480"/>
            <a:ext cx="38131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Gestaltung von Computerpräsentation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schlä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chriftgröß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Raumgröße und die Anzahl der Zuschauer/innen berücksichtig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Fließtex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riftgrade zwischen 18 pt und 32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Überschrif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riftgrade zwischen 36 und 48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ößere Schriften nur b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pitelanfä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menfolien oder besonderen Hervorheb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uszeichnungen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rvorhebungen durch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tte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riftschnitt oder </a:t>
            </a:r>
            <a:r>
              <a:rPr b="0" lang="de-DE" sz="3200" spc="-1" strike="noStrike">
                <a:solidFill>
                  <a:srgbClr val="990033"/>
                </a:solidFill>
                <a:latin typeface="Arial"/>
              </a:rPr>
              <a:t>Far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Kursivschrif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st bei größerem Leseabstand nicht so gut lesba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zu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336699"/>
                </a:solidFill>
                <a:latin typeface="Arial"/>
              </a:rPr>
              <a:t>viel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990033"/>
                </a:solidFill>
                <a:latin typeface="Arial"/>
              </a:rPr>
              <a:t>hervorhe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59436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Grundregel der Gestalt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99"/>
                </a:solidFill>
                <a:latin typeface="Tahoma"/>
              </a:rPr>
              <a:t>Weniger ist mehr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59436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unktionen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er Präsentation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ür Zuhörer/in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schauungs-material für einen gesprochenen Vortr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Arial"/>
              </a:rPr>
              <a:t>Visu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Redner/in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dankenstü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satz für das Manusk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rleichterung der freien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. Funktion der Präsenta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62320" y="3429000"/>
            <a:ext cx="4267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ur ein Hilfsmitt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429000"/>
            <a:ext cx="1317600" cy="1587600"/>
          </a:xfrm>
          <a:custGeom>
            <a:avLst/>
            <a:gdLst>
              <a:gd name="textAreaLeft" fmla="*/ 176400 w 1317600"/>
              <a:gd name="textAreaRight" fmla="*/ 1141200 w 1317600"/>
              <a:gd name="textAreaTop" fmla="*/ 277560 h 1587600"/>
              <a:gd name="textAreaBottom" fmla="*/ 1150920 h 15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429000"/>
            <a:ext cx="1371600" cy="17953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13920 h 1795320"/>
              <a:gd name="textAreaBottom" fmla="*/ 1301760 h 17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2. Funktion der Prä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lbstständiger Ablauf auf dem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59436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ehler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 viel Text auf einer F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ine Stichwö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chreibfe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 kleine Schri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echt lesbare Schriftfar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6405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8720" y="235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89216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ehler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inheitliches 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che An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ladenes Präsentations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rspruch zwischen Inhalt un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 viele  und funktionslose Anim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olgen dieser Feh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r Zuhörer/in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le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ngere Aufnahmefäh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ngere Aufnahme-bereit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135576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96080" y="59436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Vorschläg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ür die Gestalt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6699"/>
                </a:solidFill>
                <a:uFillTx/>
                <a:latin typeface="Arial"/>
                <a:hlinkClick r:id="rId1" action="ppaction://hlinksldjump"/>
              </a:rPr>
              <a:t>Wiedererken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6699"/>
                </a:solidFill>
                <a:uFillTx/>
                <a:latin typeface="Arial"/>
                <a:hlinkClick r:id="rId2" action="ppaction://hlinksldjump"/>
              </a:rPr>
              <a:t>Präsentations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6699"/>
                </a:solidFill>
                <a:uFillTx/>
                <a:latin typeface="Arial"/>
                <a:hlinkClick r:id="rId3" action="ppaction://hlinksldjump"/>
              </a:rPr>
              <a:t>Folien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6699"/>
                </a:solidFill>
                <a:uFillTx/>
                <a:latin typeface="Arial"/>
                <a:hlinkClick r:id="rId4" action="ppaction://hlinksldjump"/>
              </a:rPr>
              <a:t>Lesefl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6699"/>
                </a:solidFill>
                <a:uFillTx/>
                <a:latin typeface="Arial"/>
                <a:hlinkClick r:id="rId5" action="ppaction://hlinksldjump"/>
              </a:rPr>
              <a:t>Sch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336699"/>
                </a:solidFill>
                <a:uFillTx/>
                <a:latin typeface="Arial"/>
                <a:hlinkClick r:id="rId6" action="ppaction://hlinksldjump"/>
              </a:rPr>
              <a:t>Grundre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8T17:29:06Z</dcterms:created>
  <dc:creator>Dagmar Buntins</dc:creator>
  <dc:description/>
  <dc:language>en-US</dc:language>
  <cp:lastModifiedBy>barbara meinecke</cp:lastModifiedBy>
  <dcterms:modified xsi:type="dcterms:W3CDTF">2000-01-12T09:03:46Z</dcterms:modified>
  <cp:revision>35</cp:revision>
  <dc:subject>Foliengestaltung</dc:subject>
  <dc:title>Einführung in Powerpoint</dc:title>
</cp:coreProperties>
</file>