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BB1ADA1-039C-435B-A0CE-D956F76BC5C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ichen werden mit fetthaltiger Farbe aufgetragen und chemisch gefestigt, danach können Abzüge hergestell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ntwicklungsgeschichte der Schrift = Graphologie vergangener Kultu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p Rundbogen in der  Romanik, - Rundungen in den Buchsta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otik hohe Bauwerke – enge hochstrebende Buchstab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eilschriften von Mesopotamien (Euphrat und Tigris)  auf Tontafel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ieroglyphen waren wohl bedeutenste Schrift mit Bildzeichen  (Bild – und Lautschir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hrift wurde nunauch zur Verbreitung nichtreligiöser Literatur verwend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s  phönizische Zeichen für Aleph – Ochse stammt aus den Bilderzeichen von Ägypt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olk im östlichen Mittelmeerra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ndelstätigkeit zwang zu Sprach – und Schriftkenntniss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S Alphabet wurde unter den Aramäern im 1. Jahrtausen v. Chr. Zum internationalen Verstädnigugnsmittel für den gesamten vorderen Orient bis nach Indi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echen fügten Vokale hinz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rundlage unserer heutigen Großbuchstaben der Antiquasch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m Unterschied zur griechischen Schrift sind die Balken der Buchstaben nicht gleich breit, sondern wiesen Strichstärkenunterschiede auf und besitzen Serifen (Füßch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pitalis ist Ausgangspunkt für die Entwicklung unsere Kleinbuchstab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arallel zu der Entwicklung der Kleinbuchstaben läuft die Entwicklung der Schreibschrif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eben der Capitalis Monumentalis entstanden die Buchschrift Capitalis Quadrata und die erste Kursive Schriftform die 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Curs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önche die zum Schnellschreiben gezwungen w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leinbuchstaben entwickelten sich nicht parallel zu den Großbuchstaben sondern entwickelten sich aus diesen hera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Wandlung zur Minuskel nicht durchgemacht haben: K, W, Y, X, Z,U und V waren in der Form kaum unterschiedlich in Gebrau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hreibwerkzkeuge wie Pinsel/Feder begünstigten die Entwickl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it dieser Zeit Zwei-Buchstaben Alphab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69665-41AE-4692-B5BB-415FC32CF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2D682-7584-4688-8DCC-59B6EC3FD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52F13-E32E-4510-B3D5-3D602BE1B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8531D-744B-4EE2-B894-0FA5849369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54665-8B95-4A4A-8892-606C596175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DD978-BA75-495E-970B-8BBE2489F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D966F-8AC7-4431-BFBC-3E54BABA7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9A27B-DF55-4663-85FF-0C187BFC90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90C62-E910-4E6F-BDD0-049E4A97A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B688B-2027-45D2-8C8F-9DAFB825C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578E-5849-4854-8F2D-D4969909E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D4578-F428-449B-A562-38D7AED95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jektgruppe Gestal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6294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D6B2-1E04-460B-BE8D-192DA45CC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eschichte der Schrif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uropäische Schriftentwick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9. – 12. Jh. n. Chr.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1905120"/>
            <a:ext cx="63248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rl der Große forcierte die Entwicklung der karolingischen Minuskel, mit dem Ziel, eine einheitliche Schrift im ganzen Reich zu schaff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arolingische Minus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se Schrift entwickelte sich zu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chrift des Abendlan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arolingische Minusk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karolingische%20minuskel" descr=""/>
          <p:cNvPicPr/>
          <p:nvPr/>
        </p:nvPicPr>
        <p:blipFill>
          <a:blip r:embed="rId1"/>
          <a:stretch/>
        </p:blipFill>
        <p:spPr>
          <a:xfrm>
            <a:off x="2057400" y="1371600"/>
            <a:ext cx="5334120" cy="2779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38080" y="4572000"/>
            <a:ext cx="7239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leinbuchstabenschrift mit Ober- und Unterlä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r Auszeichnung wurde weiterhin die röm.Capitalis benutz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743200" y="7621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arolingische Minus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971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brochene 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18280" y="2098800"/>
            <a:ext cx="283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3017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iqua Schrift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8288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tische Minus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182880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manistische Minus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403848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de Form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ß- und Kleinbuchst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40384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tische Schrift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nkles Schriftb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742840" y="12952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129528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76520" y="21337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wei-Buchstaben-Alphabet aus Groß- und Kleinbuchstaben blieb bis heute erhal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7621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apitalis wurde nicht von den Minuskeln verdräng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37339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chlief jedoch eine differenzierte  formale Entwicklu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38080" y="1828800"/>
            <a:ext cx="6820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ndel der Stilepo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sbreitung der Buchdruckerku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ische Entwickl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ulturelle Entwicklung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44956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1"/>
                <a:ea typeface="MS Reference 1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ührten zu einer Vielzahl von Druckschri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7621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twicklung der Schrift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influss der Schreibtechni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209680"/>
            <a:ext cx="75819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reibinstrumente und Schreibunterlagen waren für die Ästhetik einer Schrift bestimm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hrfeder ermöglichte zum Beispi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nelles Schrei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kturierung der Schrift durch kontrolliert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Tintenfluss (dick, dünn, geschwungene End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feiner Aufstrich, starker Abstrich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influss der Drucktechni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23960" y="2590920"/>
            <a:ext cx="8001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3603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lain" startAt="1455"/>
              <a:tabLst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tenberg erfindet den Buchdruck  (Hochdruck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obuste, klar geformte Schriften war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twendi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60360">
              <a:spcBef>
                <a:spcPts val="1500"/>
              </a:spcBef>
              <a:tabLst>
                <a:tab algn="l" pos="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60360">
              <a:spcBef>
                <a:spcPts val="1500"/>
              </a:spcBef>
              <a:tabLst>
                <a:tab algn="l" pos="0"/>
                <a:tab algn="l" pos="855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81480" y="3962520"/>
            <a:ext cx="182880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8. Jh. Tiefdruck (Kupferstich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0280" y="2590920"/>
            <a:ext cx="7848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uchstaben werden in Kupferplatte vertieft eingravi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ehr feine Übergänge sind mögl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spiele für Schrift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Bodoni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Bodoni"/>
              </a:rPr>
              <a:t>Bodon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Didot, Walba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Kupferstich" descr=""/>
          <p:cNvPicPr/>
          <p:nvPr/>
        </p:nvPicPr>
        <p:blipFill>
          <a:blip r:embed="rId1"/>
          <a:stretch/>
        </p:blipFill>
        <p:spPr>
          <a:xfrm>
            <a:off x="6248520" y="3429000"/>
            <a:ext cx="20574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99920" y="380880"/>
            <a:ext cx="7848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9. Jh.  Flachdruck (Lithografi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2666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124080"/>
            <a:ext cx="6858000" cy="30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s entstand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erifenbetonte Schrift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gyptienne und Italienne Schrift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sp.: </a:t>
            </a:r>
            <a:r>
              <a:rPr b="1" lang="de-DE" sz="2400" spc="-1" strike="noStrike">
                <a:solidFill>
                  <a:srgbClr val="000000"/>
                </a:solidFill>
                <a:latin typeface="Rockwell"/>
              </a:rPr>
              <a:t>Rockwell, </a:t>
            </a:r>
            <a:r>
              <a:rPr b="0" lang="de-DE" sz="2400" spc="-1" strike="noStrike">
                <a:solidFill>
                  <a:srgbClr val="000000"/>
                </a:solidFill>
                <a:latin typeface="ClarendonLight"/>
              </a:rPr>
              <a:t>Clarendon, </a:t>
            </a:r>
            <a:r>
              <a:rPr b="0" lang="de-DE" sz="3200" spc="-1" strike="noStrike">
                <a:solidFill>
                  <a:srgbClr val="000000"/>
                </a:solidFill>
                <a:latin typeface="Durango"/>
              </a:rPr>
              <a:t>Duran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56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erifenlose Groteskschrift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sp.: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Eurostile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ial, </a:t>
            </a:r>
            <a:r>
              <a:rPr b="0" lang="de-DE" sz="2800" spc="-1" strike="noStrike">
                <a:solidFill>
                  <a:srgbClr val="000000"/>
                </a:solidFill>
                <a:latin typeface="FuturaThin"/>
              </a:rPr>
              <a:t>Fu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Lithografie" descr=""/>
          <p:cNvPicPr/>
          <p:nvPr/>
        </p:nvPicPr>
        <p:blipFill>
          <a:blip r:embed="rId1"/>
          <a:stretch/>
        </p:blipFill>
        <p:spPr>
          <a:xfrm>
            <a:off x="7162920" y="1447920"/>
            <a:ext cx="1552320" cy="1349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5800" y="129528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igrane Zeichnungen/Schriften werden mit Hilfe von Pinsel, Zirkel, Lineal oder freihändig mit fetthaltiger Farbe auf  plangeschliffenen Stein aufgebrac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rchitektur und Schrif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17524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133720"/>
            <a:ext cx="6858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 besteht ein enger Zusammenhang zwischen Schriftart und Kunsts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istige und intellektuelle Entwicklungen einer Epoche drücken sich in Architektur und Schrift a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30178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24382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40384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28954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838080"/>
            <a:ext cx="66294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schen hatten seit jeher das Bedürfnis verschieden Erlebnisse, Begebenheiten festzuhalten und mitzutei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rstufen der Schrift war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rbhölzer und Knotenschrift als Gedächtnishil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öhlenmalereien (ca. 20000 v. Chr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Kerbholz" descr=""/>
          <p:cNvPicPr/>
          <p:nvPr/>
        </p:nvPicPr>
        <p:blipFill>
          <a:blip r:embed="rId1"/>
          <a:stretch/>
        </p:blipFill>
        <p:spPr>
          <a:xfrm>
            <a:off x="6324480" y="3238560"/>
            <a:ext cx="2476800" cy="380880"/>
          </a:xfrm>
          <a:prstGeom prst="rect">
            <a:avLst/>
          </a:prstGeom>
          <a:ln w="0">
            <a:noFill/>
          </a:ln>
        </p:spPr>
      </p:pic>
      <p:pic>
        <p:nvPicPr>
          <p:cNvPr id="51" name="Höhlenmalerei" descr=""/>
          <p:cNvPicPr/>
          <p:nvPr/>
        </p:nvPicPr>
        <p:blipFill>
          <a:blip r:embed="rId2">
            <a:grayscl/>
            <a:lum contrast="-30000"/>
          </a:blip>
          <a:stretch/>
        </p:blipFill>
        <p:spPr>
          <a:xfrm>
            <a:off x="6705720" y="4495680"/>
            <a:ext cx="213336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otik 12.- 15. Jh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058840"/>
            <a:ext cx="3657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brochene Schrift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.B. Gutenberg Bi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3200400"/>
            <a:ext cx="426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ge, hochstehende Schr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dungen sind gebro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Gotik" descr=""/>
          <p:cNvPicPr/>
          <p:nvPr/>
        </p:nvPicPr>
        <p:blipFill>
          <a:blip r:embed="rId1"/>
          <a:stretch/>
        </p:blipFill>
        <p:spPr>
          <a:xfrm>
            <a:off x="6095880" y="1697040"/>
            <a:ext cx="18288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naissance 15.- 16. Jh.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2378160"/>
            <a:ext cx="5410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nig unterschiedliche Strichstä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higes Gesamtb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t les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i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Renaissance" descr=""/>
          <p:cNvPicPr/>
          <p:nvPr/>
        </p:nvPicPr>
        <p:blipFill>
          <a:blip r:embed="rId1"/>
          <a:stretch/>
        </p:blipFill>
        <p:spPr>
          <a:xfrm>
            <a:off x="6477120" y="457200"/>
            <a:ext cx="1866960" cy="1523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5800" y="4800600"/>
            <a:ext cx="7620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edergeburt des griech.- röm. St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ateinische Schriftformen – Antiqua Schrift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: Venezianische/Französische Renaissance Antiq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rift wurde nun auch zur Verbreitung nichtreligiöser Literatur verwend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2120" y="914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nezianische Renaissance-Anti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18288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495288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441972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icht nach links geneigte Symmetrieachse bei Rundu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rstrich des e liegt schrä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Venezianische%20Antiqua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41907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080" y="853920"/>
            <a:ext cx="64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ranzösische Renaissance-Anti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449568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rstrich beim e liegt ger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arock%20antiqua%20Caslon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531504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7. – 18. Jh. Baroc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araock" descr=""/>
          <p:cNvPicPr/>
          <p:nvPr/>
        </p:nvPicPr>
        <p:blipFill>
          <a:blip r:embed="rId1"/>
          <a:stretch/>
        </p:blipFill>
        <p:spPr>
          <a:xfrm>
            <a:off x="6248520" y="762120"/>
            <a:ext cx="2082600" cy="1536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90720" y="3048120"/>
            <a:ext cx="609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sbreitung der Buchdruckerkunst, technische und kulturelle Entwicklungen, führten zu einer Vielzahl von Druckschrif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41911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495288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4876920"/>
            <a:ext cx="426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17524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8380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6094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rock-Anti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328760"/>
            <a:ext cx="64767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ße Strichstärkenunterschi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hse der Rundungen senkrec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ifen schräg, wenig ausgerun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rift wirkt edel, gedi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Barock%20antiqua%20Caslon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48006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lassizismus (1750 – 1800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3733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sinnung auf Einfaches, geometrisch Konstruier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Klassizismus" descr=""/>
          <p:cNvPicPr/>
          <p:nvPr/>
        </p:nvPicPr>
        <p:blipFill>
          <a:blip r:embed="rId1"/>
          <a:stretch/>
        </p:blipFill>
        <p:spPr>
          <a:xfrm>
            <a:off x="5715000" y="1295280"/>
            <a:ext cx="251460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lassizistische-Antiqua (um 1800 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sequent konstruierte Buchst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orbild waren Kupferstichschrif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agrechte Serifen ohne Rund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krechte Achse der Rund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ker Kontrast zwischen dicken und dünnen Linien erschwert Lesbark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Klassiz%20Antiqua%20o" descr=""/>
          <p:cNvPicPr/>
          <p:nvPr/>
        </p:nvPicPr>
        <p:blipFill>
          <a:blip r:embed="rId1"/>
          <a:stretch/>
        </p:blipFill>
        <p:spPr>
          <a:xfrm>
            <a:off x="6477120" y="3657600"/>
            <a:ext cx="761760" cy="838080"/>
          </a:xfrm>
          <a:prstGeom prst="rect">
            <a:avLst/>
          </a:prstGeom>
          <a:ln w="0">
            <a:noFill/>
          </a:ln>
        </p:spPr>
      </p:pic>
      <p:pic>
        <p:nvPicPr>
          <p:cNvPr id="158" name="Klassiz%20Antiqua%20e" descr=""/>
          <p:cNvPicPr/>
          <p:nvPr/>
        </p:nvPicPr>
        <p:blipFill>
          <a:blip r:embed="rId2"/>
          <a:stretch/>
        </p:blipFill>
        <p:spPr>
          <a:xfrm>
            <a:off x="6400800" y="2362320"/>
            <a:ext cx="838080" cy="630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flipV="1">
            <a:off x="5486400" y="289512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380988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lassizistische Antiqua Schriftarte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7664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Walbaum" descr=""/>
          <p:cNvPicPr/>
          <p:nvPr/>
        </p:nvPicPr>
        <p:blipFill>
          <a:blip r:embed="rId1"/>
          <a:stretch/>
        </p:blipFill>
        <p:spPr>
          <a:xfrm>
            <a:off x="2933640" y="2262240"/>
            <a:ext cx="35816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ifenbetonte Linear Antiqua (19. Jh.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utlich hervorgehobene Seri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um Strichstärkenkontr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metrieachse bei Rundungen senkr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3429000"/>
            <a:ext cx="411480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spie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6212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Clarendon" descr=""/>
          <p:cNvPicPr/>
          <p:nvPr/>
        </p:nvPicPr>
        <p:blipFill>
          <a:blip r:embed="rId1"/>
          <a:stretch/>
        </p:blipFill>
        <p:spPr>
          <a:xfrm>
            <a:off x="1447920" y="4038480"/>
            <a:ext cx="32763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33440" y="22860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n unterscheidet zwei Entwicklun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362320"/>
            <a:ext cx="3124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ldhaft gebliebene Schr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.B. 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2378160"/>
            <a:ext cx="3962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phabetische Schr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riften deren ursprüngliche Bildzeichen verwandelt wurden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chgebung wurde bis aufs Äußerste vereinf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073680" y="1403640"/>
            <a:ext cx="1091880" cy="69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45480" y="1423800"/>
            <a:ext cx="1062720" cy="65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577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571500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hönizisch Aleph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lpha der  röm.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apit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195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leph1" descr=""/>
          <p:cNvPicPr/>
          <p:nvPr/>
        </p:nvPicPr>
        <p:blipFill>
          <a:blip r:embed="rId1"/>
          <a:stretch/>
        </p:blipFill>
        <p:spPr>
          <a:xfrm>
            <a:off x="4397400" y="5029200"/>
            <a:ext cx="652320" cy="541440"/>
          </a:xfrm>
          <a:prstGeom prst="rect">
            <a:avLst/>
          </a:prstGeom>
          <a:ln w="0">
            <a:noFill/>
          </a:ln>
        </p:spPr>
      </p:pic>
      <p:pic>
        <p:nvPicPr>
          <p:cNvPr id="61" name="aleph2b" descr=""/>
          <p:cNvPicPr/>
          <p:nvPr/>
        </p:nvPicPr>
        <p:blipFill>
          <a:blip r:embed="rId2"/>
          <a:stretch/>
        </p:blipFill>
        <p:spPr>
          <a:xfrm>
            <a:off x="5867280" y="5029200"/>
            <a:ext cx="628920" cy="581040"/>
          </a:xfrm>
          <a:prstGeom prst="rect">
            <a:avLst/>
          </a:prstGeom>
          <a:ln w="0">
            <a:noFill/>
          </a:ln>
        </p:spPr>
      </p:pic>
      <p:pic>
        <p:nvPicPr>
          <p:cNvPr id="62" name="Capitalis%20A" descr=""/>
          <p:cNvPicPr/>
          <p:nvPr/>
        </p:nvPicPr>
        <p:blipFill>
          <a:blip r:embed="rId3"/>
          <a:stretch/>
        </p:blipFill>
        <p:spPr>
          <a:xfrm>
            <a:off x="7620120" y="5029200"/>
            <a:ext cx="5522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ue Sachlichkei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 1900 begann eine Erneuerungsbewegung, die jede Stilnachahmung und unsachliche Dekoration ableh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ter Einfluss der Technik wurden neue Formgesetze gescha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ue Groteskschriften entsta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Serifenlose Linear-Antiqua (Sans-Serif)</a:t>
            </a:r>
            <a:r>
              <a:rPr b="1" lang="de-DE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32416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an spricht auch von Groteskschrif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etzten sich erst im 20. Jh. als Leseschrift für längere Texte du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er Untergruppen abgeleitet vo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der klassizistischen Antiqua und der Renaissance Antiqua         (z.B. Helvetica, Frutig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merikanische Grotesk ( z.B. </a:t>
            </a:r>
            <a:r>
              <a:rPr b="0" lang="de-DE" sz="1800" spc="-1" strike="noStrike">
                <a:solidFill>
                  <a:srgbClr val="000000"/>
                </a:solidFill>
                <a:latin typeface="Franklin Gothic Demi"/>
              </a:rPr>
              <a:t>Franklin Gothic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Konstruierte Linear Antiqua (z</a:t>
            </a:r>
            <a:r>
              <a:rPr b="0" lang="de-DE" sz="2000" spc="-1" strike="noStrike">
                <a:solidFill>
                  <a:srgbClr val="000000"/>
                </a:solidFill>
                <a:latin typeface="FuturaThin"/>
              </a:rPr>
              <a:t>. Futura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de-DE" sz="2000" spc="-1" strike="noStrike">
                <a:solidFill>
                  <a:srgbClr val="000000"/>
                </a:solidFill>
                <a:latin typeface="Eurostile"/>
              </a:rPr>
              <a:t>Eurostile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rkmale der Grotesk Schrifte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ine Strichstärkenunterschi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rken z.t. technisch konstru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mmetrieachse bei Rundungen senkr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spie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Serifenlose%20linear%20Antiqua" descr=""/>
          <p:cNvPicPr/>
          <p:nvPr/>
        </p:nvPicPr>
        <p:blipFill>
          <a:blip r:embed="rId1"/>
          <a:stretch/>
        </p:blipFill>
        <p:spPr>
          <a:xfrm>
            <a:off x="2362320" y="4267080"/>
            <a:ext cx="358128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762120"/>
            <a:ext cx="777240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Quellennachw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chriftprob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ww.Schriftgrad.de, 20.01.03,13.30 U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chriftgeschich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ww.Beinert.net/typographie/index.html,14.01.03,21.45 U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ww.Typolis.de, 20.02.03, 16.10 Uh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ilder auf Folien 16,17,18: Vgl. Frutiger Adrian: (1991), Der Mensch und seine Zeichen, Weiss Verlag, Dreie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600200"/>
            <a:ext cx="80773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hönizi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(östl. Mittelmeerraum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wickel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onsonantenschrif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Lautschr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onsonanten sind nicht in Silben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verschmolz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a, di, gu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sondern sind eine eigene Lauteinhei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, d, 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phönizische Alphabet bestand aus 22 Lautzeich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7621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. 2000 v. Ch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24480" y="685800"/>
            <a:ext cx="27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. 1000 v. Ch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676520"/>
            <a:ext cx="6781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iechen übernahmen die phönizische Schri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setzten einige Buchstaben und fügt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weitere Buchstaben hinz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e brachten die Zeichen in eine geometrische Form, die weitgehend mit unseren heutigen Großbuchstaben übereinstimm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3657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ahoma"/>
              </a:rPr>
              <a:t>ca. 500 v. Chr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2209680"/>
            <a:ext cx="7162920" cy="25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rusker (- Römer)  übernahmen dieses Alphabet und form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……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 Stein gemeißel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e reine Versalschri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CAPITALIS   MONUMENTAL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5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. 600 n. Ch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twicklung einer Kleinbuchstabenschr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2286000"/>
            <a:ext cx="79246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dingt dur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chiedene Schreibmaterialien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einfachungen beim schnellen Schreib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standen im Laufe vieler Jahrhunderte aus  der römischen </a:t>
            </a: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CAPITALIS MONUMENTAL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chriften mit runden Formen und Kleinbuchstaben, - die Minuskelfo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Entwicklung%20%20Minuskel%20a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553440" cy="1260360"/>
          </a:xfrm>
          <a:prstGeom prst="rect">
            <a:avLst/>
          </a:prstGeom>
          <a:ln w="0">
            <a:noFill/>
          </a:ln>
        </p:spPr>
      </p:pic>
      <p:pic>
        <p:nvPicPr>
          <p:cNvPr id="72" name="Entwicklung%20%20Minuskel%20e" descr=""/>
          <p:cNvPicPr/>
          <p:nvPr/>
        </p:nvPicPr>
        <p:blipFill>
          <a:blip r:embed="rId2"/>
          <a:stretch/>
        </p:blipFill>
        <p:spPr>
          <a:xfrm>
            <a:off x="1143000" y="4495680"/>
            <a:ext cx="6477120" cy="1185840"/>
          </a:xfrm>
          <a:prstGeom prst="rect">
            <a:avLst/>
          </a:prstGeom>
          <a:ln w="0">
            <a:noFill/>
          </a:ln>
        </p:spPr>
      </p:pic>
      <p:pic>
        <p:nvPicPr>
          <p:cNvPr id="73" name="Entwicklung%20%20Minuskel%20e" descr=""/>
          <p:cNvPicPr/>
          <p:nvPr/>
        </p:nvPicPr>
        <p:blipFill>
          <a:blip r:embed="rId3"/>
          <a:stretch/>
        </p:blipFill>
        <p:spPr>
          <a:xfrm>
            <a:off x="1143000" y="2828880"/>
            <a:ext cx="6477120" cy="1198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3808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twicklungsstationen unserer Kleinbuchsta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9907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Halbuniziale%206" descr=""/>
          <p:cNvPicPr/>
          <p:nvPr/>
        </p:nvPicPr>
        <p:blipFill>
          <a:blip r:embed="rId1"/>
          <a:stretch/>
        </p:blipFill>
        <p:spPr>
          <a:xfrm>
            <a:off x="5334120" y="2940120"/>
            <a:ext cx="1008000" cy="1063440"/>
          </a:xfrm>
          <a:prstGeom prst="rect">
            <a:avLst/>
          </a:prstGeom>
          <a:ln w="0">
            <a:noFill/>
          </a:ln>
        </p:spPr>
      </p:pic>
      <p:pic>
        <p:nvPicPr>
          <p:cNvPr id="77" name="Humanistische%20Minuskel" descr=""/>
          <p:cNvPicPr/>
          <p:nvPr/>
        </p:nvPicPr>
        <p:blipFill>
          <a:blip r:embed="rId2"/>
          <a:stretch/>
        </p:blipFill>
        <p:spPr>
          <a:xfrm>
            <a:off x="5334120" y="4267080"/>
            <a:ext cx="100800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Rustica%205.jh" descr=""/>
          <p:cNvPicPr/>
          <p:nvPr/>
        </p:nvPicPr>
        <p:blipFill>
          <a:blip r:embed="rId3"/>
          <a:stretch/>
        </p:blipFill>
        <p:spPr>
          <a:xfrm>
            <a:off x="5334120" y="609480"/>
            <a:ext cx="993600" cy="1076400"/>
          </a:xfrm>
          <a:prstGeom prst="rect">
            <a:avLst/>
          </a:prstGeom>
          <a:ln w="0">
            <a:noFill/>
          </a:ln>
        </p:spPr>
      </p:pic>
      <p:pic>
        <p:nvPicPr>
          <p:cNvPr id="79" name="Unitiale%206Jh" descr=""/>
          <p:cNvPicPr/>
          <p:nvPr/>
        </p:nvPicPr>
        <p:blipFill>
          <a:blip r:embed="rId4"/>
          <a:stretch/>
        </p:blipFill>
        <p:spPr>
          <a:xfrm>
            <a:off x="5334120" y="1905120"/>
            <a:ext cx="1003320" cy="906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295280" y="1066680"/>
            <a:ext cx="3429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ustica 5. J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Unziale 6. J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albunziale 10. J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umanistische Minus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09:59:57Z</dcterms:created>
  <dc:creator>Combe-Walter</dc:creator>
  <dc:description/>
  <dc:language>en-US</dc:language>
  <cp:lastModifiedBy>Combe-Walter</cp:lastModifiedBy>
  <dcterms:modified xsi:type="dcterms:W3CDTF">2004-03-09T20:55:53Z</dcterms:modified>
  <cp:revision>76</cp:revision>
  <dc:subject/>
  <dc:title>Geschichte der Schrift</dc:title>
</cp:coreProperties>
</file>