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3664-E0F4-47C1-8BB1-179C8571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52CC-5C67-4140-B64C-3FB0C67A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6C9C-CC7C-4D5B-9276-AF4071F6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ADE3-C34F-49CF-AC0D-90E87486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9970-AE1D-44AE-BA3E-D995939F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154F-0CD8-4986-896E-90F16CBC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7D45-26FF-470C-83B6-C2F6A6C5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6ED1-BBE3-4A00-A8FC-C98203D9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BE42-E912-4CDB-BC89-6B0E8E60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BBA9-B4AF-45A6-BE79-D6AB23C6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0B18-E936-49D9-8411-5756536C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4B03-F993-4588-B0E6-75B18A0E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81C0-702D-4F89-9F62-FDBCCB3D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66FF-1205-4C88-AB3C-1B5067C0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F52A-2C35-42DB-BB42-D36F0320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6FB4-8836-47E4-8755-CE0A9A96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6E5B-7D25-4DCD-9E7D-0A461EB2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18A53-49E0-4903-885E-18CF113B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B484B-38C1-4740-9397-34CBDAA4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0C09C-FD2F-4A9A-9528-99933818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AB38B-231C-4778-8242-7AE7C24D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2F91D-DB22-419F-A2ED-68F303F9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21B4-34D8-481E-83C3-A23EC776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C5AA6-58A1-46DE-ABAA-F22F90B8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D3627-1FB3-4577-90D4-D2E14447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C09EA-F461-487C-A87C-0C9D19D7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99017-789E-4328-8325-129E5A16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3D988-9DC3-42FB-A908-B703FAB9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0FC0E-1610-4FB2-AD52-251A1791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23D6B-807A-4CB1-AC75-47F8F850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D4400-8EBD-481A-9879-CFF9E637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B7FC6-3577-4CD7-B76C-F8D98B27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B765E-26B9-4789-BADE-5CD70C92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740E-372A-4F36-9322-32CDEC05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79F13-1C87-41CA-9407-367AB10E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E9A42-3ED4-49D0-BF30-AD6E3019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DAE2E-AA12-44F3-8E5B-69203512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77955-F92D-4C9E-A628-45BDA773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47B9A-31BF-4BEB-A07E-CA1F321F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3824E-7196-4CB7-911C-E860DC8A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8DD6B-03F7-43C6-BD8D-787F30AF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04137-0957-4051-A622-128CE0B2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2A239-D10A-4644-A6A7-A4B07E63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AA717-741A-42F7-9E86-7422EAD4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ECB8-FD24-400A-9553-AC23E1F2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58414-8B17-4986-88F8-EEAE667F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784CD-39ED-480D-B80D-6254BA00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8A462-B363-40DB-B576-D989455E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31C95-1610-4554-9435-4CA3140A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D86AA-5793-4D10-8B14-15AE6A5C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54A8A-1B6F-4475-A207-5E7FB775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6B26E-8EFC-4D73-81BF-D26E6BB1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76DD0-C9EF-4FF7-8239-58BABD76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87E49-6B4A-4920-BD84-0685692D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D8058-88F3-4295-8BAE-2C8AD59B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679C-DEF7-4E11-88C2-961187F7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5B9BF-9A7D-42F8-BCE7-ED3C53DB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5A970-A01A-46C0-85C1-B0C27AF8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8A3D5-6CC3-449F-9008-570BED9D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CCE05-9036-45BA-9922-E5262C71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FC2B9-5DEA-4B54-9F4D-67DE6FBA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D04B1-CE79-4C6F-A7D1-C9892E61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D060A-4113-4905-B8D5-533FEE53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43F85-16F2-4F72-8F9A-2BD41B7E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57604-FCD8-4E01-AA8A-787AF76E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9486B-2DFF-41E2-ADAA-A9BABB1B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608E-8F8F-4974-8FB4-643F1191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922ED-223A-4733-907F-43DB0353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CE792-042A-4BCD-A0EE-B276C275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E95E8-EF19-4F3C-8DFB-825DCC3D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553B-E77D-474B-BE68-057DC045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001D-BB7B-4AD0-AED4-D87FCBE3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bgerundetes Rechteck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Abgerundetes Rechteck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Abgerundetes Rechteck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4015-A220-4533-A3AF-60B9D69B78D8}" type="slidenum">
              <a:rPr b="0" lang="de-DE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bgerundetes Rechtec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Abgerundetes Rechteck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Abgerundetes Rechteck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7161-97B0-4B82-81C1-4077897ED0D3}" type="slidenum">
              <a:rPr b="0" lang="de-DE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bgerundetes Rechtec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Abgerundetes Rechteck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Abgerundetes Rechteck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8D4E-D5C3-4F54-997E-E43F1C82DA81}" type="slidenum">
              <a:rPr b="0" lang="de-DE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bgerundetes Rechtec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6998-F0C4-4FE1-9DFC-DAC126A6BC3C}" type="slidenum">
              <a:rPr b="0" lang="de-DE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bgerundetes Rechtec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Eine Ecke des Rechtecks abrunden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4F04-D917-438B-BA8B-E882A233F7BC}" type="slidenum">
              <a:rPr b="0" lang="de-DE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bgerundetes Rechteck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Abgerundetes Rechteck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Abgerundetes Rechteck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5815-6E2A-4452-8FEA-CAA8874D5755}" type="slidenum">
              <a:rPr b="0" lang="de-DE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9766f"/>
                </a:solidFill>
                <a:latin typeface="Verdana"/>
              </a:rPr>
              <a:t>Thema: Währungsrechne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11280" y="2276640"/>
            <a:ext cx="77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"/>
          <p:cNvPicPr/>
          <p:nvPr/>
        </p:nvPicPr>
        <p:blipFill>
          <a:blip r:embed="rId1"/>
          <a:stretch/>
        </p:blipFill>
        <p:spPr>
          <a:xfrm>
            <a:off x="2146320" y="1773360"/>
            <a:ext cx="4226040" cy="281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2190600" y="1843200"/>
            <a:ext cx="47628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611280" y="2276640"/>
            <a:ext cx="77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"/>
          <p:cNvPicPr/>
          <p:nvPr/>
        </p:nvPicPr>
        <p:blipFill>
          <a:blip r:embed="rId1"/>
          <a:stretch/>
        </p:blipFill>
        <p:spPr>
          <a:xfrm>
            <a:off x="2484360" y="1660680"/>
            <a:ext cx="4137120" cy="263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611280" y="2276640"/>
            <a:ext cx="77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7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3887640" cy="29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0" spc="-1" strike="noStrike">
                <a:solidFill>
                  <a:srgbClr val="ff8d3e"/>
                </a:solidFill>
                <a:latin typeface="Verdana"/>
              </a:rPr>
              <a:t>Lösung</a:t>
            </a:r>
            <a:endParaRPr b="1" lang="en-US" sz="80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611280" y="2276640"/>
            <a:ext cx="77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611280" y="371628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roßbritanni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620640" y="422604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ritische Pfund GB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611280" y="473076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00 Pence = 1 Pf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411012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611280" y="2276640"/>
            <a:ext cx="77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611280" y="371628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20640" y="422604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apanische Yen JP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611280" y="473076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00 Sen = 1 Y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2262240" y="619200"/>
            <a:ext cx="4325760" cy="28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611280" y="2276640"/>
            <a:ext cx="77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484360" y="765000"/>
            <a:ext cx="4321080" cy="24498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611280" y="371628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chwei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20640" y="422604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chweizer Franken CH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611280" y="4730760"/>
            <a:ext cx="554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00 Rappen = 1 Schweizer Fran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611280" y="2276640"/>
            <a:ext cx="77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611280" y="371628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620640" y="422604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S-Dollar US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11280" y="473076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00 Cent = 1 Dol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7" descr=""/>
          <p:cNvPicPr/>
          <p:nvPr/>
        </p:nvPicPr>
        <p:blipFill>
          <a:blip r:embed="rId1"/>
          <a:stretch/>
        </p:blipFill>
        <p:spPr>
          <a:xfrm>
            <a:off x="2340000" y="620640"/>
            <a:ext cx="4249800" cy="283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611280" y="2276640"/>
            <a:ext cx="77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611280" y="371628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o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20640" y="422604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olnische Zloty PL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611280" y="473076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00 Groszy = 1 Zlo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7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3889080" cy="29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8d3e"/>
                </a:solidFill>
                <a:latin typeface="Verdana"/>
              </a:rPr>
              <a:t>Kaufmännisches Rechne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625320" y="1916280"/>
            <a:ext cx="2481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zentre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6285240" y="4365720"/>
            <a:ext cx="1991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insre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3403800" y="2781360"/>
            <a:ext cx="285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ährungsre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2797200" y="2255760"/>
            <a:ext cx="4067280" cy="1513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611280" y="2276640"/>
            <a:ext cx="77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611280" y="371628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uss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20640" y="422604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ussische Rubel RU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611280" y="473076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00 Kopeken = 1 Ru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7" descr=""/>
          <p:cNvPicPr/>
          <p:nvPr/>
        </p:nvPicPr>
        <p:blipFill>
          <a:blip r:embed="rId1"/>
          <a:stretch/>
        </p:blipFill>
        <p:spPr>
          <a:xfrm>
            <a:off x="2146320" y="611280"/>
            <a:ext cx="4226040" cy="281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2190600" y="981000"/>
            <a:ext cx="4762800" cy="317196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596880" y="4365720"/>
            <a:ext cx="468144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00 Satang = 1 Ba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611280" y="2276640"/>
            <a:ext cx="77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611280" y="371628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inn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620640" y="422604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uro 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611280" y="473076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00 Cent = 1 Eu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7" descr=""/>
          <p:cNvPicPr/>
          <p:nvPr/>
        </p:nvPicPr>
        <p:blipFill>
          <a:blip r:embed="rId1"/>
          <a:stretch/>
        </p:blipFill>
        <p:spPr>
          <a:xfrm>
            <a:off x="2195640" y="692280"/>
            <a:ext cx="4136760" cy="263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11280" y="2276640"/>
            <a:ext cx="77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11280" y="371628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chwe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620640" y="422604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chwedische Kronen S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611280" y="473076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00 Oere = 1 Kr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"/>
          <p:cNvPicPr/>
          <p:nvPr/>
        </p:nvPicPr>
        <p:blipFill>
          <a:blip r:embed="rId1"/>
          <a:stretch/>
        </p:blipFill>
        <p:spPr>
          <a:xfrm>
            <a:off x="2700360" y="549360"/>
            <a:ext cx="3887640" cy="29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6"/>
          <p:cNvSpPr/>
          <p:nvPr/>
        </p:nvSpPr>
        <p:spPr>
          <a:xfrm>
            <a:off x="539640" y="227664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2997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de-DE" sz="2400" spc="-1" strike="noStrike" u="sng">
                <a:solidFill>
                  <a:srgbClr val="ff8d3e"/>
                </a:solidFill>
                <a:uFillTx/>
                <a:latin typeface="Verdana"/>
              </a:rPr>
              <a:t>Arbeitsauftrag: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ff8d3e"/>
                </a:solidFill>
                <a:latin typeface="Verdana"/>
              </a:rPr>
              <a:t>Nehmt ein Blatt Papier und ordnet den Flaggen das Land und dessen Währung zu.</a:t>
            </a:r>
            <a:br>
              <a:rPr sz="2400"/>
            </a:br>
            <a:r>
              <a:rPr b="1" lang="de-DE" sz="2400" spc="-1" strike="noStrike">
                <a:solidFill>
                  <a:srgbClr val="ff8d3e"/>
                </a:solidFill>
                <a:latin typeface="Verdana"/>
              </a:rPr>
              <a:t> </a:t>
            </a:r>
            <a:br>
              <a:rPr sz="2400"/>
            </a:br>
            <a:r>
              <a:rPr b="1" lang="de-DE" sz="2400" spc="-1" strike="noStrike">
                <a:solidFill>
                  <a:srgbClr val="ff8d3e"/>
                </a:solidFill>
                <a:latin typeface="Verdana"/>
              </a:rPr>
              <a:t>Das richtige Land ergibt einen Punkt und die richtige Währung ergibt zwei Punkte.</a:t>
            </a:r>
            <a:br>
              <a:rPr sz="3200"/>
            </a:br>
            <a:r>
              <a:rPr b="1" lang="de-DE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611280" y="2276640"/>
            <a:ext cx="77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1"/>
          <a:stretch/>
        </p:blipFill>
        <p:spPr>
          <a:xfrm>
            <a:off x="2444760" y="1963800"/>
            <a:ext cx="411012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611280" y="2276640"/>
            <a:ext cx="77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"/>
          <p:cNvPicPr/>
          <p:nvPr/>
        </p:nvPicPr>
        <p:blipFill>
          <a:blip r:embed="rId1"/>
          <a:stretch/>
        </p:blipFill>
        <p:spPr>
          <a:xfrm>
            <a:off x="2262240" y="1700280"/>
            <a:ext cx="4325760" cy="28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611280" y="2276640"/>
            <a:ext cx="77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2482920" y="1752480"/>
            <a:ext cx="4321080" cy="244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611280" y="2276640"/>
            <a:ext cx="77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7" descr=""/>
          <p:cNvPicPr/>
          <p:nvPr/>
        </p:nvPicPr>
        <p:blipFill>
          <a:blip r:embed="rId1"/>
          <a:stretch/>
        </p:blipFill>
        <p:spPr>
          <a:xfrm>
            <a:off x="2317680" y="1700280"/>
            <a:ext cx="4249800" cy="28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611280" y="2276640"/>
            <a:ext cx="77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7" descr=""/>
          <p:cNvPicPr/>
          <p:nvPr/>
        </p:nvPicPr>
        <p:blipFill>
          <a:blip r:embed="rId1"/>
          <a:stretch/>
        </p:blipFill>
        <p:spPr>
          <a:xfrm>
            <a:off x="2521080" y="1413000"/>
            <a:ext cx="3889080" cy="29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5:53:35Z</dcterms:created>
  <dc:creator> </dc:creator>
  <dc:description/>
  <dc:language>en-US</dc:language>
  <cp:lastModifiedBy>Herrmann, Dirk (LS)</cp:lastModifiedBy>
  <cp:lastPrinted>2013-06-05T09:52:27Z</cp:lastPrinted>
  <dcterms:modified xsi:type="dcterms:W3CDTF">2013-06-05T09:52:53Z</dcterms:modified>
  <cp:revision>35</cp:revision>
  <dc:subject/>
  <dc:title>Folie 1</dc:title>
</cp:coreProperties>
</file>