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8613-2D96-4ED6-B9D2-2E91D64E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6AF0-A010-4F0C-8512-0E416C9C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30D3-394B-4A79-B5E0-C9C56CF5B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D7FF-1951-4E27-A277-822D96BD3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D524-5ADA-40AD-ABC8-3108B4328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8C6E-4077-4FD3-8D51-7C614B60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594E-D861-4E09-BA5F-0810F196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E3D9-8B4D-40B7-864B-DBA00D1B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D0AE-3CA6-4F30-ABEA-2093FC59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7B01-8A47-43D4-A386-BA02C1CC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1845-548A-41C9-B507-FE7721A4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123D-DD1C-44D2-B033-BE63F3C3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E6E8-2E39-4784-AF7B-0499FAFA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8194-7A01-4427-BA34-34E851CD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DDDA-B66C-462A-B779-43EFA645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F111-CD3F-4645-A041-1D7901E44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B93D-8596-4EB8-B5F1-593F17E39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6DB61-81FC-4B9F-AD13-37B4F401F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A4CC2-1DD3-42CF-B243-2E27C14A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173F5-0AD3-41CB-A13F-0715F2B0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B1D5B-6FE9-4AF8-9835-3542E8EB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94293-B367-4EEE-8E61-C6969521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3967-C0BE-4E4E-BD0A-ECB5E031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F2175-0080-46FB-8AC8-D005363D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FECEE-4135-4448-AF98-1EEC96FA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A387D-1452-4085-8B75-9E338E71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14B98-C1F2-4ED3-A17E-001ECA26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797D8-DDE1-4544-9EB8-0B2AB67B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71161-05EF-4EC8-AAA0-7CFA976B2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E1371-0442-4C26-90EB-C99E63663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E7298-A57E-4950-A095-C3122F66C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BB67D-5152-4215-A1AF-5FAD9C04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EE18D-2C9E-4B41-B4B1-61D120DF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042C-99B5-44B6-965F-89F2AB49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413EF-51B0-4C7F-ABF7-C0EAAF5E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BADC8-CA7F-4472-BA8B-12DB238D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DBA32-5255-4E03-94C8-FA7F7335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517C0-CC5E-4196-8003-278F18FE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E2B14-58C3-41B6-B3F9-54A01D53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F6A7C-7A85-4C2E-9754-8CA0992D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76FED-11E7-4C51-868A-1374E761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DBF80-15CE-4F8D-B559-9E009BF6A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65EE1-F1FF-4773-965D-0CA28E905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F6760-8E6D-456E-B8BC-35BBD8F55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E5AF-0943-45D8-8F11-7F0A78EC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24BC7-B9FC-4325-B8C2-000C89FA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19C62-40BD-497B-817D-C7263310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77AFA-88F1-49D7-828D-F347C24C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B4E63-BB11-466C-BBD5-D59954CB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8F3AC-95D6-4EDA-A9BF-D89EFE86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961BD-0370-487D-ABCE-423E6119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CF4AE-B91D-4A1A-8B61-AEB536F2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7EF1A-F3FA-44DD-BEFB-FF9034B3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EFC0F-C405-4944-A07E-256746C9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408B5-CF65-49A0-BDCF-B98997CE8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825C-0AC8-4663-A709-E6940246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1CAB5-B340-4ED3-A02D-1FE905D7C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47EE3-B008-4188-8E0D-95030D91C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3D149-9BC5-4A6E-B84A-A9E125F3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3D02E-CB45-4C2A-80AF-EB459672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E81D3-A2D4-4589-8F3F-82E6DEC0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505A8-C0B4-4E8C-8420-1F9404E1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81A2D-0677-483B-A99B-0781EA42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F8C53-FEAD-4C8B-8CE9-BD45ADF9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3D0C9-E9E0-4ACA-8B5E-23ADBFBD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52DE2-1527-4F86-B642-CDBE4586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0729-2A92-4E80-BC4D-61F7B84F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E235E-A9F3-47C9-86C3-0ECDA738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30A02-6A54-4B5F-B7DE-4FAB6357F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B8FD2-E554-4E57-8D5B-F90632392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77F3-CAA6-40D9-8741-B578428E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B882-2AFF-4549-A868-A4C5B209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bgerundetes Rechteck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Abgerundetes Rechteck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Abgerundetes Rechteck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6FAF-F358-479B-A2C4-BE2905950FEB}" type="slidenum">
              <a:rPr b="0" lang="de-DE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bgerundetes Rechtec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Abgerundetes Rechteck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Abgerundetes Rechteck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C310-CCF4-4554-859F-13A46A60E503}" type="slidenum">
              <a:rPr b="0" lang="de-DE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bgerundetes Rechtec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Abgerundetes Rechteck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Abgerundetes Rechteck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AD5B-DBB7-4922-8DFD-3B06383401C0}" type="slidenum">
              <a:rPr b="0" lang="de-DE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bgerundetes Rechtec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F90B-B31A-4E0F-B61E-8E2804B8344D}" type="slidenum">
              <a:rPr b="0" lang="de-DE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bgerundetes Rechtec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Eine Ecke des Rechtecks abrunden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C601-3D67-49D2-8A27-E8BE809306B3}" type="slidenum">
              <a:rPr b="0" lang="de-DE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bgerundetes Rechteck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Abgerundetes Rechteck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22" name="Abgerundetes Rechteck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0B65-B9F8-46B9-A023-64E6384E2F27}" type="slidenum">
              <a:rPr b="0" lang="de-DE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9766f"/>
                </a:solidFill>
                <a:latin typeface="Verdana"/>
              </a:rPr>
              <a:t>Thema: Währungsrechne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611280" y="2276640"/>
            <a:ext cx="777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7" descr=""/>
          <p:cNvPicPr/>
          <p:nvPr/>
        </p:nvPicPr>
        <p:blipFill>
          <a:blip r:embed="rId1"/>
          <a:stretch/>
        </p:blipFill>
        <p:spPr>
          <a:xfrm>
            <a:off x="2146320" y="1773360"/>
            <a:ext cx="4226040" cy="281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2190600" y="1843200"/>
            <a:ext cx="47628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611280" y="2276640"/>
            <a:ext cx="777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7" descr=""/>
          <p:cNvPicPr/>
          <p:nvPr/>
        </p:nvPicPr>
        <p:blipFill>
          <a:blip r:embed="rId1"/>
          <a:stretch/>
        </p:blipFill>
        <p:spPr>
          <a:xfrm>
            <a:off x="2484360" y="1660680"/>
            <a:ext cx="4137120" cy="263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611280" y="2276640"/>
            <a:ext cx="777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7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3887640" cy="29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0" spc="-1" strike="noStrike">
                <a:solidFill>
                  <a:srgbClr val="ff8d3e"/>
                </a:solidFill>
                <a:latin typeface="Verdana"/>
              </a:rPr>
              <a:t>Lösung</a:t>
            </a:r>
            <a:endParaRPr b="1" lang="en-US" sz="80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611280" y="2276640"/>
            <a:ext cx="777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611280" y="371628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roßbritanni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620640" y="422604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ritische Pfund GB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611280" y="473076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100 Pence = 1 Pf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7" descr=""/>
          <p:cNvPicPr/>
          <p:nvPr/>
        </p:nvPicPr>
        <p:blipFill>
          <a:blip r:embed="rId1"/>
          <a:stretch/>
        </p:blipFill>
        <p:spPr>
          <a:xfrm>
            <a:off x="2268360" y="620640"/>
            <a:ext cx="4110120" cy="27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611280" y="2276640"/>
            <a:ext cx="777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611280" y="371628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620640" y="422604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apanische Yen JP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611280" y="473076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100 Sen = 1 Y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2262240" y="619200"/>
            <a:ext cx="4325760" cy="28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611280" y="2276640"/>
            <a:ext cx="777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2484360" y="765000"/>
            <a:ext cx="4321080" cy="244980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611280" y="371628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chwei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620640" y="422604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chweizer Franken CH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611280" y="4730760"/>
            <a:ext cx="554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100 Rappen = 1 Schweizer Fran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611280" y="2276640"/>
            <a:ext cx="777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611280" y="371628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620640" y="422604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S-Dollar US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611280" y="473076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100 Cent = 1 Dol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7" descr=""/>
          <p:cNvPicPr/>
          <p:nvPr/>
        </p:nvPicPr>
        <p:blipFill>
          <a:blip r:embed="rId1"/>
          <a:stretch/>
        </p:blipFill>
        <p:spPr>
          <a:xfrm>
            <a:off x="2340000" y="620640"/>
            <a:ext cx="4249800" cy="283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611280" y="2276640"/>
            <a:ext cx="777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611280" y="371628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o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20640" y="422604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olnische Zloty PL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611280" y="473076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100 Groszy = 1 Zlo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7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3889080" cy="29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8d3e"/>
                </a:solidFill>
                <a:latin typeface="Verdana"/>
              </a:rPr>
              <a:t>Kaufmännisches Rechnen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625320" y="1916280"/>
            <a:ext cx="2481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zentrech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6285240" y="4365720"/>
            <a:ext cx="1991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insrech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3403800" y="2781360"/>
            <a:ext cx="285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ährungsrech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9"/>
          <p:cNvSpPr/>
          <p:nvPr/>
        </p:nvSpPr>
        <p:spPr>
          <a:xfrm>
            <a:off x="2797200" y="2255760"/>
            <a:ext cx="4067280" cy="1513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611280" y="2276640"/>
            <a:ext cx="777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611280" y="371628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ussl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620640" y="422604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ussische Rubel RU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611280" y="473076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100 Kopeken = 1 Rub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7" descr=""/>
          <p:cNvPicPr/>
          <p:nvPr/>
        </p:nvPicPr>
        <p:blipFill>
          <a:blip r:embed="rId1"/>
          <a:stretch/>
        </p:blipFill>
        <p:spPr>
          <a:xfrm>
            <a:off x="2146320" y="611280"/>
            <a:ext cx="4226040" cy="281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2190600" y="981000"/>
            <a:ext cx="4762800" cy="317196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3"/>
          <p:cNvSpPr/>
          <p:nvPr/>
        </p:nvSpPr>
        <p:spPr>
          <a:xfrm>
            <a:off x="596880" y="4365720"/>
            <a:ext cx="468144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hail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a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100 Satang = 1 Ba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611280" y="2276640"/>
            <a:ext cx="777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611280" y="371628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Finnl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620640" y="422604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uro 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611280" y="473076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100 Cent = 1 Eu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7" descr=""/>
          <p:cNvPicPr/>
          <p:nvPr/>
        </p:nvPicPr>
        <p:blipFill>
          <a:blip r:embed="rId1"/>
          <a:stretch/>
        </p:blipFill>
        <p:spPr>
          <a:xfrm>
            <a:off x="2195640" y="692280"/>
            <a:ext cx="4136760" cy="263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611280" y="2276640"/>
            <a:ext cx="777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611280" y="371628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chwe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620640" y="422604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chwedische Kronen S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611280" y="473076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100 Oere = 1 Kr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7" descr=""/>
          <p:cNvPicPr/>
          <p:nvPr/>
        </p:nvPicPr>
        <p:blipFill>
          <a:blip r:embed="rId1"/>
          <a:stretch/>
        </p:blipFill>
        <p:spPr>
          <a:xfrm>
            <a:off x="2700360" y="549360"/>
            <a:ext cx="3887640" cy="29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6"/>
          <p:cNvSpPr/>
          <p:nvPr/>
        </p:nvSpPr>
        <p:spPr>
          <a:xfrm>
            <a:off x="539640" y="2276640"/>
            <a:ext cx="77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360" y="2997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de-DE" sz="2400" spc="-1" strike="noStrike" u="sng">
                <a:solidFill>
                  <a:srgbClr val="ff8d3e"/>
                </a:solidFill>
                <a:uFillTx/>
                <a:latin typeface="Verdana"/>
              </a:rPr>
              <a:t>Arbeitsauftrag: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ff8d3e"/>
                </a:solidFill>
                <a:latin typeface="Verdana"/>
              </a:rPr>
              <a:t>Nehmt ein Blatt Papier und ordnet den Flaggen das Land und dessen Währung zu.</a:t>
            </a:r>
            <a:br>
              <a:rPr sz="2400"/>
            </a:br>
            <a:r>
              <a:rPr b="1" lang="de-DE" sz="2400" spc="-1" strike="noStrike">
                <a:solidFill>
                  <a:srgbClr val="ff8d3e"/>
                </a:solidFill>
                <a:latin typeface="Verdana"/>
              </a:rPr>
              <a:t> </a:t>
            </a:r>
            <a:br>
              <a:rPr sz="2400"/>
            </a:br>
            <a:r>
              <a:rPr b="1" lang="de-DE" sz="2400" spc="-1" strike="noStrike">
                <a:solidFill>
                  <a:srgbClr val="ff8d3e"/>
                </a:solidFill>
                <a:latin typeface="Verdana"/>
              </a:rPr>
              <a:t>Das richtige Land ergibt einen Punkt und die richtige Währung ergibt zwei Punkte.</a:t>
            </a:r>
            <a:br>
              <a:rPr sz="3200"/>
            </a:br>
            <a:r>
              <a:rPr b="1" lang="de-DE" sz="32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611280" y="2276640"/>
            <a:ext cx="777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7" descr=""/>
          <p:cNvPicPr/>
          <p:nvPr/>
        </p:nvPicPr>
        <p:blipFill>
          <a:blip r:embed="rId1"/>
          <a:stretch/>
        </p:blipFill>
        <p:spPr>
          <a:xfrm>
            <a:off x="2444760" y="1963800"/>
            <a:ext cx="411012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611280" y="2276640"/>
            <a:ext cx="777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7" descr=""/>
          <p:cNvPicPr/>
          <p:nvPr/>
        </p:nvPicPr>
        <p:blipFill>
          <a:blip r:embed="rId1"/>
          <a:stretch/>
        </p:blipFill>
        <p:spPr>
          <a:xfrm>
            <a:off x="2262240" y="1700280"/>
            <a:ext cx="4325760" cy="28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611280" y="2276640"/>
            <a:ext cx="777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1"/>
          <a:stretch/>
        </p:blipFill>
        <p:spPr>
          <a:xfrm>
            <a:off x="2482920" y="1752480"/>
            <a:ext cx="4321080" cy="244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611280" y="2276640"/>
            <a:ext cx="777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7" descr=""/>
          <p:cNvPicPr/>
          <p:nvPr/>
        </p:nvPicPr>
        <p:blipFill>
          <a:blip r:embed="rId1"/>
          <a:stretch/>
        </p:blipFill>
        <p:spPr>
          <a:xfrm>
            <a:off x="2317680" y="1700280"/>
            <a:ext cx="4249800" cy="283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611280" y="2276640"/>
            <a:ext cx="777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7" descr=""/>
          <p:cNvPicPr/>
          <p:nvPr/>
        </p:nvPicPr>
        <p:blipFill>
          <a:blip r:embed="rId1"/>
          <a:stretch/>
        </p:blipFill>
        <p:spPr>
          <a:xfrm>
            <a:off x="2521080" y="1413000"/>
            <a:ext cx="3889080" cy="29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15:53:35Z</dcterms:created>
  <dc:creator> </dc:creator>
  <dc:description/>
  <dc:language>en-US</dc:language>
  <cp:lastModifiedBy>Herrmann, Dirk (LS)</cp:lastModifiedBy>
  <cp:lastPrinted>2013-06-05T09:52:27Z</cp:lastPrinted>
  <dcterms:modified xsi:type="dcterms:W3CDTF">2013-06-05T09:52:53Z</dcterms:modified>
  <cp:revision>35</cp:revision>
  <dc:subject/>
  <dc:title>Folie 1</dc:title>
</cp:coreProperties>
</file>