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0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61920" y="741240"/>
            <a:ext cx="493416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908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8720"/>
            <a:ext cx="2971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378720"/>
            <a:ext cx="29703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D204-9333-4B1D-AA8C-62F25F0F75A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s://de.wikipedia.org/wiki/Energieversorgung" TargetMode="External"/><Relationship Id="rId2" Type="http://schemas.openxmlformats.org/officeDocument/2006/relationships/hyperlink" Target="https://de.wikipedia.org/wiki/Verkehrsinfrastruktur" TargetMode="External"/><Relationship Id="rId3" Type="http://schemas.openxmlformats.org/officeDocument/2006/relationships/hyperlink" Target="https://de.wikipedia.org/wiki/Finanzsystem" TargetMode="External"/><Relationship Id="rId4" Type="http://schemas.openxmlformats.org/officeDocument/2006/relationships/hyperlink" Target="https://de.wikipedia.org/wiki/Bankensystem" TargetMode="External"/><Relationship Id="rId5" Type="http://schemas.openxmlformats.org/officeDocument/2006/relationships/hyperlink" Target="https://de.wikipedia.org/wiki/Steuersystem_(Steuerrecht)" TargetMode="External"/><Relationship Id="rId6" Type="http://schemas.openxmlformats.org/officeDocument/2006/relationships/hyperlink" Target="https://de.wikipedia.org/wiki/W&#228;hrungssystem" TargetMode="External"/><Relationship Id="rId7" Type="http://schemas.openxmlformats.org/officeDocument/2006/relationships/hyperlink" Target="https://de.wikipedia.org/wiki/Bildungssystem" TargetMode="External"/><Relationship Id="rId8" Type="http://schemas.openxmlformats.org/officeDocument/2006/relationships/hyperlink" Target="https://de.wikipedia.org/wiki/F&#252;rsorge" TargetMode="External"/><Relationship Id="rId9" Type="http://schemas.openxmlformats.org/officeDocument/2006/relationships/hyperlink" Target="https://de.wikipedia.org/wiki/Gesundheitssystem" TargetMode="External"/><Relationship Id="rId10" Type="http://schemas.openxmlformats.org/officeDocument/2006/relationships/hyperlink" Target="https://de.wikipedia.org/wiki/Kultur" TargetMode="External"/><Relationship Id="rId11" Type="http://schemas.openxmlformats.org/officeDocument/2006/relationships/hyperlink" Target="https://de.wikipedia.org/wiki/Kultur" TargetMode="External"/><Relationship Id="rId12" Type="http://schemas.openxmlformats.org/officeDocument/2006/relationships/hyperlink" Target="https://de.wikipedia.org/wiki/&#214;ffentliche_Sicherheit" TargetMode="External"/><Relationship Id="rId13" Type="http://schemas.openxmlformats.org/officeDocument/2006/relationships/slide" Target="../slides/slide1.xml"/><Relationship Id="rId1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61920" y="741240"/>
            <a:ext cx="4934160" cy="3702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690800"/>
            <a:ext cx="54864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 Infrastruktur </a:t>
            </a: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a) technisch: </a:t>
            </a:r>
            <a:r>
              <a:rPr b="1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nergieversorgung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; Kommunikation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Stoffliche Ver- und Entsorgung;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Verkehrsinfrastruktur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;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Finanz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-, 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Banken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-, 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Steuer</a:t>
            </a:r>
            <a:r>
              <a:rPr b="0" lang="de-DE" sz="1200" spc="-1" strike="noStrike" u="sng">
                <a:solidFill>
                  <a:srgbClr val="000000"/>
                </a:solidFill>
                <a:uFillTx/>
                <a:latin typeface="Calibri"/>
              </a:rPr>
              <a:t>- und 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ährungs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alibri"/>
              </a:rPr>
              <a:t>b) sozial: </a:t>
            </a:r>
            <a:r>
              <a:rPr b="1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Bildungssystem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, Bildungseinrichtungen;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Fürsorge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-Dienstleistungen mit Kinderbetreuungs-Einrichtungen, …;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Gesundheitssystem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Kulturelle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Einrichtungen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de-DE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Öffentliche Sicherheit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; Soziale Sicherung ; Sport und Freize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liennummernplatzhalter 3"/>
          <p:cNvSpPr/>
          <p:nvPr/>
        </p:nvSpPr>
        <p:spPr>
          <a:xfrm>
            <a:off x="3886200" y="9379080"/>
            <a:ext cx="2970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024A-0CCD-47B3-8E10-6518283837D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Datumsplatzhalter 1"/>
          <p:cNvSpPr/>
          <p:nvPr/>
        </p:nvSpPr>
        <p:spPr>
          <a:xfrm>
            <a:off x="3886200" y="0"/>
            <a:ext cx="2970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3A5-D6A9-4446-9796-1D727CEA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922C-96C7-44E9-8E45-717FD6A0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42E8-1BB7-4332-A37A-9E197BA95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80D-4229-459E-B3BF-63787003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B3C4-97B4-4EDA-988C-B9BA1526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1759-36CC-43DA-81E1-880BFC13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436-44CF-41FB-839F-99AAE8F1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539-ED92-49AD-9921-7FBBB39F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E7ED-D474-4C6D-97B6-C028C22C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23B-1C40-4ACE-8F5D-7602E9A7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2EA3-DD85-41F5-9B72-947F0B8C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B366-7A0A-4ACB-B2C5-5C7D3310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E56E-E7FF-47A1-B4E4-9AF746E04C74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Textfeld 28"/>
          <p:cNvGrpSpPr/>
          <p:nvPr/>
        </p:nvGrpSpPr>
        <p:grpSpPr>
          <a:xfrm>
            <a:off x="2981160" y="4254480"/>
            <a:ext cx="420840" cy="372960"/>
            <a:chOff x="2981160" y="4254480"/>
            <a:chExt cx="420840" cy="372960"/>
          </a:xfrm>
        </p:grpSpPr>
        <p:pic>
          <p:nvPicPr>
            <p:cNvPr id="49" name="Textfeld 28" descr=""/>
            <p:cNvPicPr/>
            <p:nvPr/>
          </p:nvPicPr>
          <p:blipFill>
            <a:blip r:embed="rId1"/>
            <a:stretch/>
          </p:blipFill>
          <p:spPr>
            <a:xfrm>
              <a:off x="2981160" y="4254480"/>
              <a:ext cx="42084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 rot="4069800">
              <a:off x="3073680" y="4275720"/>
              <a:ext cx="23184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Abgerundetes Rechteck 32"/>
          <p:cNvGrpSpPr/>
          <p:nvPr/>
        </p:nvGrpSpPr>
        <p:grpSpPr>
          <a:xfrm>
            <a:off x="517680" y="2975040"/>
            <a:ext cx="2165040" cy="834840"/>
            <a:chOff x="517680" y="2975040"/>
            <a:chExt cx="2165040" cy="834840"/>
          </a:xfrm>
        </p:grpSpPr>
        <p:pic>
          <p:nvPicPr>
            <p:cNvPr id="52" name="Abgerundetes Rechteck 32" descr=""/>
            <p:cNvPicPr/>
            <p:nvPr/>
          </p:nvPicPr>
          <p:blipFill>
            <a:blip r:embed="rId2"/>
            <a:stretch/>
          </p:blipFill>
          <p:spPr>
            <a:xfrm>
              <a:off x="517680" y="2975040"/>
              <a:ext cx="21650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77800" y="3036960"/>
              <a:ext cx="20415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alibri"/>
                </a:rPr>
                <a:t>Infrastruktur (techn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alibri"/>
                </a:rPr>
                <a:t>K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Abgerundetes Rechteck 33"/>
          <p:cNvGrpSpPr/>
          <p:nvPr/>
        </p:nvGrpSpPr>
        <p:grpSpPr>
          <a:xfrm>
            <a:off x="3475080" y="5267160"/>
            <a:ext cx="2163600" cy="835200"/>
            <a:chOff x="3475080" y="5267160"/>
            <a:chExt cx="2163600" cy="835200"/>
          </a:xfrm>
        </p:grpSpPr>
        <p:pic>
          <p:nvPicPr>
            <p:cNvPr id="55" name="Abgerundetes Rechteck 33" descr=""/>
            <p:cNvPicPr/>
            <p:nvPr/>
          </p:nvPicPr>
          <p:blipFill>
            <a:blip r:embed="rId3"/>
            <a:stretch/>
          </p:blipFill>
          <p:spPr>
            <a:xfrm>
              <a:off x="3475080" y="5267160"/>
              <a:ext cx="216360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533760" y="5326200"/>
              <a:ext cx="2048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alibri"/>
                </a:rPr>
                <a:t>Bod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alibri"/>
                </a:rPr>
                <a:t>Rohstof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Abgerundetes Rechteck 34"/>
          <p:cNvGrpSpPr/>
          <p:nvPr/>
        </p:nvGrpSpPr>
        <p:grpSpPr>
          <a:xfrm>
            <a:off x="3492360" y="749160"/>
            <a:ext cx="2159280" cy="824040"/>
            <a:chOff x="3492360" y="749160"/>
            <a:chExt cx="2159280" cy="824040"/>
          </a:xfrm>
        </p:grpSpPr>
        <p:pic>
          <p:nvPicPr>
            <p:cNvPr id="58" name="Abgerundetes Rechteck 34" descr=""/>
            <p:cNvPicPr/>
            <p:nvPr/>
          </p:nvPicPr>
          <p:blipFill>
            <a:blip r:embed="rId4"/>
            <a:stretch/>
          </p:blipFill>
          <p:spPr>
            <a:xfrm>
              <a:off x="3492360" y="749160"/>
              <a:ext cx="215928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549600" y="811080"/>
              <a:ext cx="2043000" cy="7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alibri"/>
                </a:rPr>
                <a:t>Kli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Abgerundetes Rechteck 37"/>
          <p:cNvGrpSpPr/>
          <p:nvPr/>
        </p:nvGrpSpPr>
        <p:grpSpPr>
          <a:xfrm>
            <a:off x="6450120" y="2975040"/>
            <a:ext cx="2163600" cy="834840"/>
            <a:chOff x="6450120" y="2975040"/>
            <a:chExt cx="2163600" cy="834840"/>
          </a:xfrm>
        </p:grpSpPr>
        <p:pic>
          <p:nvPicPr>
            <p:cNvPr id="61" name="Abgerundetes Rechteck 37" descr=""/>
            <p:cNvPicPr/>
            <p:nvPr/>
          </p:nvPicPr>
          <p:blipFill>
            <a:blip r:embed="rId5"/>
            <a:stretch/>
          </p:blipFill>
          <p:spPr>
            <a:xfrm>
              <a:off x="6450120" y="2975040"/>
              <a:ext cx="21636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510240" y="3036960"/>
              <a:ext cx="20401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alibri"/>
                </a:rPr>
                <a:t>Infrastruktur (sozi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alibri"/>
                </a:rPr>
                <a:t>Bild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Abgerundetes Rechteck 40"/>
          <p:cNvGrpSpPr/>
          <p:nvPr/>
        </p:nvGrpSpPr>
        <p:grpSpPr>
          <a:xfrm>
            <a:off x="1792440" y="6145200"/>
            <a:ext cx="5492520" cy="438120"/>
            <a:chOff x="1792440" y="6145200"/>
            <a:chExt cx="5492520" cy="438120"/>
          </a:xfrm>
        </p:grpSpPr>
        <p:pic>
          <p:nvPicPr>
            <p:cNvPr id="64" name="Abgerundetes Rechteck 40" descr=""/>
            <p:cNvPicPr/>
            <p:nvPr/>
          </p:nvPicPr>
          <p:blipFill>
            <a:blip r:embed="rId6"/>
            <a:stretch/>
          </p:blipFill>
          <p:spPr>
            <a:xfrm>
              <a:off x="1792440" y="6145200"/>
              <a:ext cx="549252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1835280" y="6184800"/>
              <a:ext cx="54100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alibri"/>
                </a:rPr>
                <a:t>USA und ein ausgewählter BRICS-Sta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uppieren 41"/>
          <p:cNvGrpSpPr/>
          <p:nvPr/>
        </p:nvGrpSpPr>
        <p:grpSpPr>
          <a:xfrm>
            <a:off x="2700360" y="1557360"/>
            <a:ext cx="3727440" cy="3730680"/>
            <a:chOff x="2700360" y="1557360"/>
            <a:chExt cx="3727440" cy="3730680"/>
          </a:xfrm>
        </p:grpSpPr>
        <p:grpSp>
          <p:nvGrpSpPr>
            <p:cNvPr id="67" name="Freeform 2"/>
            <p:cNvGrpSpPr/>
            <p:nvPr/>
          </p:nvGrpSpPr>
          <p:grpSpPr>
            <a:xfrm>
              <a:off x="3976920" y="2835000"/>
              <a:ext cx="1174320" cy="1175040"/>
              <a:chOff x="3976920" y="2835000"/>
              <a:chExt cx="1174320" cy="1175040"/>
            </a:xfrm>
          </p:grpSpPr>
          <p:pic>
            <p:nvPicPr>
              <p:cNvPr id="68" name="Freeform 2" descr=""/>
              <p:cNvPicPr/>
              <p:nvPr/>
            </p:nvPicPr>
            <p:blipFill>
              <a:blip r:embed="rId7"/>
              <a:stretch/>
            </p:blipFill>
            <p:spPr>
              <a:xfrm>
                <a:off x="3976920" y="2835000"/>
                <a:ext cx="1174320" cy="117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3996000" y="2856960"/>
                <a:ext cx="1134360" cy="113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Freeform 3"/>
            <p:cNvGrpSpPr/>
            <p:nvPr/>
          </p:nvGrpSpPr>
          <p:grpSpPr>
            <a:xfrm>
              <a:off x="2700360" y="1557360"/>
              <a:ext cx="3727440" cy="3730680"/>
              <a:chOff x="2700360" y="1557360"/>
              <a:chExt cx="3727440" cy="3730680"/>
            </a:xfrm>
          </p:grpSpPr>
          <p:pic>
            <p:nvPicPr>
              <p:cNvPr id="71" name="Freeform 3" descr=""/>
              <p:cNvPicPr/>
              <p:nvPr/>
            </p:nvPicPr>
            <p:blipFill>
              <a:blip r:embed="rId8"/>
              <a:stretch/>
            </p:blipFill>
            <p:spPr>
              <a:xfrm>
                <a:off x="2700360" y="1557360"/>
                <a:ext cx="3727440" cy="373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2724120" y="1578240"/>
                <a:ext cx="3682080" cy="368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Freeform 4"/>
            <p:cNvGrpSpPr/>
            <p:nvPr/>
          </p:nvGrpSpPr>
          <p:grpSpPr>
            <a:xfrm>
              <a:off x="2850840" y="2491560"/>
              <a:ext cx="1439280" cy="2013120"/>
              <a:chOff x="2850840" y="2491560"/>
              <a:chExt cx="1439280" cy="2013120"/>
            </a:xfrm>
          </p:grpSpPr>
          <p:pic>
            <p:nvPicPr>
              <p:cNvPr id="74" name="Freeform 4" descr=""/>
              <p:cNvPicPr/>
              <p:nvPr/>
            </p:nvPicPr>
            <p:blipFill>
              <a:blip r:embed="rId9"/>
              <a:stretch/>
            </p:blipFill>
            <p:spPr>
              <a:xfrm>
                <a:off x="2850840" y="2491560"/>
                <a:ext cx="1439280" cy="20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2867400" y="2508840"/>
                <a:ext cx="1400760" cy="19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Freeform 5"/>
            <p:cNvGrpSpPr/>
            <p:nvPr/>
          </p:nvGrpSpPr>
          <p:grpSpPr>
            <a:xfrm>
              <a:off x="3489120" y="1707840"/>
              <a:ext cx="2011320" cy="1452600"/>
              <a:chOff x="3489120" y="1707840"/>
              <a:chExt cx="2011320" cy="1452600"/>
            </a:xfrm>
          </p:grpSpPr>
          <p:pic>
            <p:nvPicPr>
              <p:cNvPr id="77" name="Freeform 5" descr=""/>
              <p:cNvPicPr/>
              <p:nvPr/>
            </p:nvPicPr>
            <p:blipFill>
              <a:blip r:embed="rId10"/>
              <a:stretch/>
            </p:blipFill>
            <p:spPr>
              <a:xfrm>
                <a:off x="3489120" y="1707840"/>
                <a:ext cx="2011320" cy="14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3510720" y="1724040"/>
                <a:ext cx="1972440" cy="14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Freeform 6"/>
            <p:cNvGrpSpPr/>
            <p:nvPr/>
          </p:nvGrpSpPr>
          <p:grpSpPr>
            <a:xfrm>
              <a:off x="4838040" y="2340720"/>
              <a:ext cx="1439280" cy="2018880"/>
              <a:chOff x="4838040" y="2340720"/>
              <a:chExt cx="1439280" cy="2018880"/>
            </a:xfrm>
          </p:grpSpPr>
          <p:pic>
            <p:nvPicPr>
              <p:cNvPr id="80" name="Freeform 6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38040" y="2340720"/>
                <a:ext cx="1439280" cy="201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4858560" y="2365560"/>
                <a:ext cx="1403280" cy="197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Freeform 7"/>
            <p:cNvGrpSpPr/>
            <p:nvPr/>
          </p:nvGrpSpPr>
          <p:grpSpPr>
            <a:xfrm>
              <a:off x="3627720" y="3691080"/>
              <a:ext cx="2017440" cy="1452600"/>
              <a:chOff x="3627720" y="3691080"/>
              <a:chExt cx="2017440" cy="1452600"/>
            </a:xfrm>
          </p:grpSpPr>
          <p:pic>
            <p:nvPicPr>
              <p:cNvPr id="83" name="Freeform 7" descr=""/>
              <p:cNvPicPr/>
              <p:nvPr/>
            </p:nvPicPr>
            <p:blipFill>
              <a:blip r:embed="rId12"/>
              <a:stretch/>
            </p:blipFill>
            <p:spPr>
              <a:xfrm>
                <a:off x="3627720" y="3691080"/>
                <a:ext cx="2017440" cy="14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"/>
              <p:cNvSpPr/>
              <p:nvPr/>
            </p:nvSpPr>
            <p:spPr>
              <a:xfrm>
                <a:off x="3646080" y="3712680"/>
                <a:ext cx="1972440" cy="141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5" name="Gruppieren 40" descr=""/>
            <p:cNvPicPr/>
            <p:nvPr/>
          </p:nvPicPr>
          <p:blipFill>
            <a:blip r:embed="rId13"/>
            <a:stretch/>
          </p:blipFill>
          <p:spPr>
            <a:xfrm>
              <a:off x="2880720" y="1623600"/>
              <a:ext cx="3384360" cy="298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Foliennummernplatzhalter 2"/>
          <p:cNvSpPr/>
          <p:nvPr/>
        </p:nvSpPr>
        <p:spPr>
          <a:xfrm>
            <a:off x="6993000" y="645624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9C32-CAAC-4B94-A0E2-6794CE669D18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Abgerundetes Rechteck 75"/>
          <p:cNvGrpSpPr/>
          <p:nvPr/>
        </p:nvGrpSpPr>
        <p:grpSpPr>
          <a:xfrm>
            <a:off x="208080" y="669960"/>
            <a:ext cx="3132000" cy="798480"/>
            <a:chOff x="208080" y="669960"/>
            <a:chExt cx="3132000" cy="798480"/>
          </a:xfrm>
        </p:grpSpPr>
        <p:pic>
          <p:nvPicPr>
            <p:cNvPr id="88" name="Abgerundetes Rechteck 75" descr=""/>
            <p:cNvPicPr/>
            <p:nvPr/>
          </p:nvPicPr>
          <p:blipFill>
            <a:blip r:embed="rId14"/>
            <a:stretch/>
          </p:blipFill>
          <p:spPr>
            <a:xfrm>
              <a:off x="208080" y="669960"/>
              <a:ext cx="313200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68200" y="727200"/>
              <a:ext cx="301644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alibri"/>
                </a:rPr>
                <a:t>Weltwirtschafts-region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Textfeld 1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Arial"/>
              </a:rPr>
              <a:t>Unterrichtsplan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0:31:03Z</dcterms:created>
  <dc:creator>Thomas Schmitt</dc:creator>
  <dc:description/>
  <dc:language>en-US</dc:language>
  <cp:lastModifiedBy>User</cp:lastModifiedBy>
  <cp:lastPrinted>2015-01-21T21:04:20Z</cp:lastPrinted>
  <dcterms:modified xsi:type="dcterms:W3CDTF">2017-01-22T14:20:37Z</dcterms:modified>
  <cp:revision>820</cp:revision>
  <dc:subject/>
  <dc:title>PowerPoint-Präsentation</dc:title>
</cp:coreProperties>
</file>