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0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61920" y="741240"/>
            <a:ext cx="493416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908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378720"/>
            <a:ext cx="2970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3453-BFD0-4DCC-A775-88E593C49E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s://de.wikipedia.org/wiki/Energieversorgung" TargetMode="External"/><Relationship Id="rId2" Type="http://schemas.openxmlformats.org/officeDocument/2006/relationships/hyperlink" Target="https://de.wikipedia.org/wiki/Verkehrsinfrastruktur" TargetMode="External"/><Relationship Id="rId3" Type="http://schemas.openxmlformats.org/officeDocument/2006/relationships/hyperlink" Target="https://de.wikipedia.org/wiki/Finanzsystem" TargetMode="External"/><Relationship Id="rId4" Type="http://schemas.openxmlformats.org/officeDocument/2006/relationships/hyperlink" Target="https://de.wikipedia.org/wiki/Bankensystem" TargetMode="External"/><Relationship Id="rId5" Type="http://schemas.openxmlformats.org/officeDocument/2006/relationships/hyperlink" Target="https://de.wikipedia.org/wiki/Steuersystem_(Steuerrecht)" TargetMode="External"/><Relationship Id="rId6" Type="http://schemas.openxmlformats.org/officeDocument/2006/relationships/hyperlink" Target="https://de.wikipedia.org/wiki/W&#228;hrungssystem" TargetMode="External"/><Relationship Id="rId7" Type="http://schemas.openxmlformats.org/officeDocument/2006/relationships/hyperlink" Target="https://de.wikipedia.org/wiki/Bildungssystem" TargetMode="External"/><Relationship Id="rId8" Type="http://schemas.openxmlformats.org/officeDocument/2006/relationships/hyperlink" Target="https://de.wikipedia.org/wiki/F&#252;rsorge" TargetMode="External"/><Relationship Id="rId9" Type="http://schemas.openxmlformats.org/officeDocument/2006/relationships/hyperlink" Target="https://de.wikipedia.org/wiki/Gesundheitssystem" TargetMode="External"/><Relationship Id="rId10" Type="http://schemas.openxmlformats.org/officeDocument/2006/relationships/hyperlink" Target="https://de.wikipedia.org/wiki/Kultur" TargetMode="External"/><Relationship Id="rId11" Type="http://schemas.openxmlformats.org/officeDocument/2006/relationships/hyperlink" Target="https://de.wikipedia.org/wiki/Kultur" TargetMode="External"/><Relationship Id="rId12" Type="http://schemas.openxmlformats.org/officeDocument/2006/relationships/hyperlink" Target="https://de.wikipedia.org/wiki/&#214;ffentliche_Sicherheit" TargetMode="External"/><Relationship Id="rId13" Type="http://schemas.openxmlformats.org/officeDocument/2006/relationships/slide" Target="../slides/slide1.xml"/><Relationship Id="rId1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61920" y="741240"/>
            <a:ext cx="4934160" cy="3702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908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Infrastruktur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) technisch: </a:t>
            </a:r>
            <a:r>
              <a:rPr b="1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nergieversorgung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; Kommunikation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offliche Ver- und Entsorgung;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Verkehrsinfrastruktur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;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Finanz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-, 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Banken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-, 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Steuer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- und 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ährungs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b) sozial: </a:t>
            </a:r>
            <a:r>
              <a:rPr b="1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Bildungssystem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, Bildungseinrichtungen;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Fürsorge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Dienstleistungen mit Kinderbetreuungs-Einrichtungen, …;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Gesundheitssystem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Kulturelle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Einrichtung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Öffentliche Sicherheit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; Soziale Sicherung ; Sport und Freize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liennummernplatzhalter 3"/>
          <p:cNvSpPr/>
          <p:nvPr/>
        </p:nvSpPr>
        <p:spPr>
          <a:xfrm>
            <a:off x="3886200" y="9379080"/>
            <a:ext cx="2970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4F6F-4250-4B22-AEC5-70B9A2B59AC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Datumsplatzhalter 1"/>
          <p:cNvSpPr/>
          <p:nvPr/>
        </p:nvSpPr>
        <p:spPr>
          <a:xfrm>
            <a:off x="3886200" y="0"/>
            <a:ext cx="2970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277-B9D4-49D9-8365-5EA1785D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974-7C46-444D-8A26-8A473C6C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2ED-3787-4062-AEED-C4F2F76B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4E3-2236-4631-AB2F-AE9AF888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008-EA44-4C08-BE12-9937B9A3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8FC-DBC6-4F3A-A31C-989FB6BA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463-711D-40E3-8871-BB9023FE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E43-E751-44B6-A9B6-256A8371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173-48C2-4991-8CF4-36E5A4E3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38B-EA87-42DF-A051-A1E69377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31D-95AF-4919-ABEE-D6AA947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B47-F5A2-4AAF-A2C1-2B3C6C31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BBE-AA50-4D36-9B49-DAEAC4F6E611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extfeld 28"/>
          <p:cNvGrpSpPr/>
          <p:nvPr/>
        </p:nvGrpSpPr>
        <p:grpSpPr>
          <a:xfrm>
            <a:off x="2981160" y="4254480"/>
            <a:ext cx="420840" cy="372960"/>
            <a:chOff x="2981160" y="4254480"/>
            <a:chExt cx="420840" cy="372960"/>
          </a:xfrm>
        </p:grpSpPr>
        <p:pic>
          <p:nvPicPr>
            <p:cNvPr id="49" name="Textfeld 28" descr=""/>
            <p:cNvPicPr/>
            <p:nvPr/>
          </p:nvPicPr>
          <p:blipFill>
            <a:blip r:embed="rId1"/>
            <a:stretch/>
          </p:blipFill>
          <p:spPr>
            <a:xfrm>
              <a:off x="2981160" y="4254480"/>
              <a:ext cx="4208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4069800">
              <a:off x="3073680" y="4275720"/>
              <a:ext cx="231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Abgerundetes Rechteck 32"/>
          <p:cNvGrpSpPr/>
          <p:nvPr/>
        </p:nvGrpSpPr>
        <p:grpSpPr>
          <a:xfrm>
            <a:off x="517680" y="2975040"/>
            <a:ext cx="2165040" cy="834840"/>
            <a:chOff x="517680" y="2975040"/>
            <a:chExt cx="2165040" cy="834840"/>
          </a:xfrm>
        </p:grpSpPr>
        <p:pic>
          <p:nvPicPr>
            <p:cNvPr id="52" name="Abgerundetes Rechteck 32" descr=""/>
            <p:cNvPicPr/>
            <p:nvPr/>
          </p:nvPicPr>
          <p:blipFill>
            <a:blip r:embed="rId2"/>
            <a:stretch/>
          </p:blipFill>
          <p:spPr>
            <a:xfrm>
              <a:off x="517680" y="2975040"/>
              <a:ext cx="21650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7800" y="3036960"/>
              <a:ext cx="20415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Infrastruktur (techn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K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Abgerundetes Rechteck 33"/>
          <p:cNvGrpSpPr/>
          <p:nvPr/>
        </p:nvGrpSpPr>
        <p:grpSpPr>
          <a:xfrm>
            <a:off x="3475080" y="5267160"/>
            <a:ext cx="2163600" cy="835200"/>
            <a:chOff x="3475080" y="5267160"/>
            <a:chExt cx="2163600" cy="835200"/>
          </a:xfrm>
        </p:grpSpPr>
        <p:pic>
          <p:nvPicPr>
            <p:cNvPr id="55" name="Abgerundetes Rechteck 33" descr=""/>
            <p:cNvPicPr/>
            <p:nvPr/>
          </p:nvPicPr>
          <p:blipFill>
            <a:blip r:embed="rId3"/>
            <a:stretch/>
          </p:blipFill>
          <p:spPr>
            <a:xfrm>
              <a:off x="3475080" y="5267160"/>
              <a:ext cx="21636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533760" y="5326200"/>
              <a:ext cx="2048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Bo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Rohstof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Abgerundetes Rechteck 34"/>
          <p:cNvGrpSpPr/>
          <p:nvPr/>
        </p:nvGrpSpPr>
        <p:grpSpPr>
          <a:xfrm>
            <a:off x="3492360" y="749160"/>
            <a:ext cx="2159280" cy="824040"/>
            <a:chOff x="3492360" y="749160"/>
            <a:chExt cx="2159280" cy="824040"/>
          </a:xfrm>
        </p:grpSpPr>
        <p:pic>
          <p:nvPicPr>
            <p:cNvPr id="58" name="Abgerundetes Rechteck 34" descr=""/>
            <p:cNvPicPr/>
            <p:nvPr/>
          </p:nvPicPr>
          <p:blipFill>
            <a:blip r:embed="rId4"/>
            <a:stretch/>
          </p:blipFill>
          <p:spPr>
            <a:xfrm>
              <a:off x="3492360" y="749160"/>
              <a:ext cx="215928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549600" y="811080"/>
              <a:ext cx="204300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Kli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Abgerundetes Rechteck 37"/>
          <p:cNvGrpSpPr/>
          <p:nvPr/>
        </p:nvGrpSpPr>
        <p:grpSpPr>
          <a:xfrm>
            <a:off x="6450120" y="2975040"/>
            <a:ext cx="2163600" cy="834840"/>
            <a:chOff x="6450120" y="2975040"/>
            <a:chExt cx="2163600" cy="834840"/>
          </a:xfrm>
        </p:grpSpPr>
        <p:pic>
          <p:nvPicPr>
            <p:cNvPr id="61" name="Abgerundetes Rechteck 37" descr=""/>
            <p:cNvPicPr/>
            <p:nvPr/>
          </p:nvPicPr>
          <p:blipFill>
            <a:blip r:embed="rId5"/>
            <a:stretch/>
          </p:blipFill>
          <p:spPr>
            <a:xfrm>
              <a:off x="6450120" y="2975040"/>
              <a:ext cx="21636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510240" y="3036960"/>
              <a:ext cx="20401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Infrastruktur (sozi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Bild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Abgerundetes Rechteck 40"/>
          <p:cNvGrpSpPr/>
          <p:nvPr/>
        </p:nvGrpSpPr>
        <p:grpSpPr>
          <a:xfrm>
            <a:off x="1792440" y="6145200"/>
            <a:ext cx="5492520" cy="438120"/>
            <a:chOff x="1792440" y="6145200"/>
            <a:chExt cx="5492520" cy="438120"/>
          </a:xfrm>
        </p:grpSpPr>
        <p:pic>
          <p:nvPicPr>
            <p:cNvPr id="64" name="Abgerundetes Rechteck 40" descr=""/>
            <p:cNvPicPr/>
            <p:nvPr/>
          </p:nvPicPr>
          <p:blipFill>
            <a:blip r:embed="rId6"/>
            <a:stretch/>
          </p:blipFill>
          <p:spPr>
            <a:xfrm>
              <a:off x="1792440" y="6145200"/>
              <a:ext cx="549252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835280" y="6184800"/>
              <a:ext cx="54100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USA und ein ausgewählter BRICS-Sta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uppieren 41"/>
          <p:cNvGrpSpPr/>
          <p:nvPr/>
        </p:nvGrpSpPr>
        <p:grpSpPr>
          <a:xfrm>
            <a:off x="2700360" y="1557360"/>
            <a:ext cx="3727440" cy="3730680"/>
            <a:chOff x="2700360" y="1557360"/>
            <a:chExt cx="3727440" cy="3730680"/>
          </a:xfrm>
        </p:grpSpPr>
        <p:grpSp>
          <p:nvGrpSpPr>
            <p:cNvPr id="67" name="Freeform 2"/>
            <p:cNvGrpSpPr/>
            <p:nvPr/>
          </p:nvGrpSpPr>
          <p:grpSpPr>
            <a:xfrm>
              <a:off x="3976920" y="2835000"/>
              <a:ext cx="1174320" cy="1175040"/>
              <a:chOff x="3976920" y="2835000"/>
              <a:chExt cx="1174320" cy="1175040"/>
            </a:xfrm>
          </p:grpSpPr>
          <p:pic>
            <p:nvPicPr>
              <p:cNvPr id="68" name="Freeform 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76920" y="2835000"/>
                <a:ext cx="1174320" cy="11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3996000" y="2856960"/>
                <a:ext cx="1134360" cy="11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Freeform 3"/>
            <p:cNvGrpSpPr/>
            <p:nvPr/>
          </p:nvGrpSpPr>
          <p:grpSpPr>
            <a:xfrm>
              <a:off x="2700360" y="1557360"/>
              <a:ext cx="3727440" cy="3730680"/>
              <a:chOff x="2700360" y="1557360"/>
              <a:chExt cx="3727440" cy="3730680"/>
            </a:xfrm>
          </p:grpSpPr>
          <p:pic>
            <p:nvPicPr>
              <p:cNvPr id="71" name="Freeform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700360" y="1557360"/>
                <a:ext cx="3727440" cy="37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2724120" y="1578240"/>
                <a:ext cx="3682080" cy="36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Freeform 4"/>
            <p:cNvGrpSpPr/>
            <p:nvPr/>
          </p:nvGrpSpPr>
          <p:grpSpPr>
            <a:xfrm>
              <a:off x="2850840" y="2491560"/>
              <a:ext cx="1439280" cy="2013120"/>
              <a:chOff x="2850840" y="2491560"/>
              <a:chExt cx="1439280" cy="2013120"/>
            </a:xfrm>
          </p:grpSpPr>
          <p:pic>
            <p:nvPicPr>
              <p:cNvPr id="74" name="Freeform 4" descr=""/>
              <p:cNvPicPr/>
              <p:nvPr/>
            </p:nvPicPr>
            <p:blipFill>
              <a:blip r:embed="rId9"/>
              <a:stretch/>
            </p:blipFill>
            <p:spPr>
              <a:xfrm>
                <a:off x="2850840" y="2491560"/>
                <a:ext cx="1439280" cy="20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2867400" y="2508840"/>
                <a:ext cx="1400760" cy="19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Freeform 5"/>
            <p:cNvGrpSpPr/>
            <p:nvPr/>
          </p:nvGrpSpPr>
          <p:grpSpPr>
            <a:xfrm>
              <a:off x="3489120" y="1707840"/>
              <a:ext cx="2011320" cy="1452600"/>
              <a:chOff x="3489120" y="1707840"/>
              <a:chExt cx="2011320" cy="1452600"/>
            </a:xfrm>
          </p:grpSpPr>
          <p:pic>
            <p:nvPicPr>
              <p:cNvPr id="77" name="Freeform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89120" y="1707840"/>
                <a:ext cx="2011320" cy="14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3510720" y="1724040"/>
                <a:ext cx="1972440" cy="14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Freeform 6"/>
            <p:cNvGrpSpPr/>
            <p:nvPr/>
          </p:nvGrpSpPr>
          <p:grpSpPr>
            <a:xfrm>
              <a:off x="4838040" y="2340720"/>
              <a:ext cx="1439280" cy="2018880"/>
              <a:chOff x="4838040" y="2340720"/>
              <a:chExt cx="1439280" cy="2018880"/>
            </a:xfrm>
          </p:grpSpPr>
          <p:pic>
            <p:nvPicPr>
              <p:cNvPr id="80" name="Freeform 6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38040" y="2340720"/>
                <a:ext cx="1439280" cy="20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4858560" y="2365560"/>
                <a:ext cx="1403280" cy="197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Freeform 7"/>
            <p:cNvGrpSpPr/>
            <p:nvPr/>
          </p:nvGrpSpPr>
          <p:grpSpPr>
            <a:xfrm>
              <a:off x="3627720" y="3691080"/>
              <a:ext cx="2017440" cy="1452600"/>
              <a:chOff x="3627720" y="3691080"/>
              <a:chExt cx="2017440" cy="1452600"/>
            </a:xfrm>
          </p:grpSpPr>
          <p:pic>
            <p:nvPicPr>
              <p:cNvPr id="83" name="Freeform 7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27720" y="3691080"/>
                <a:ext cx="2017440" cy="14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3646080" y="3712680"/>
                <a:ext cx="1972440" cy="14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5" name="Gruppieren 40" descr=""/>
            <p:cNvPicPr/>
            <p:nvPr/>
          </p:nvPicPr>
          <p:blipFill>
            <a:blip r:embed="rId13"/>
            <a:stretch/>
          </p:blipFill>
          <p:spPr>
            <a:xfrm>
              <a:off x="2880720" y="1623600"/>
              <a:ext cx="3384360" cy="298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Foliennummernplatzhalter 2"/>
          <p:cNvSpPr/>
          <p:nvPr/>
        </p:nvSpPr>
        <p:spPr>
          <a:xfrm>
            <a:off x="6993000" y="6456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EAE3-E25C-4852-BD1F-0B9CF16E4370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Abgerundetes Rechteck 75"/>
          <p:cNvGrpSpPr/>
          <p:nvPr/>
        </p:nvGrpSpPr>
        <p:grpSpPr>
          <a:xfrm>
            <a:off x="208080" y="669960"/>
            <a:ext cx="3132000" cy="798480"/>
            <a:chOff x="208080" y="669960"/>
            <a:chExt cx="3132000" cy="798480"/>
          </a:xfrm>
        </p:grpSpPr>
        <p:pic>
          <p:nvPicPr>
            <p:cNvPr id="88" name="Abgerundetes Rechteck 75" descr=""/>
            <p:cNvPicPr/>
            <p:nvPr/>
          </p:nvPicPr>
          <p:blipFill>
            <a:blip r:embed="rId14"/>
            <a:stretch/>
          </p:blipFill>
          <p:spPr>
            <a:xfrm>
              <a:off x="208080" y="669960"/>
              <a:ext cx="3132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68200" y="727200"/>
              <a:ext cx="30164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ibri"/>
                </a:rPr>
                <a:t>Weltwirtschafts-reg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Textfeld 1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Unterrichtspla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0:31:03Z</dcterms:created>
  <dc:creator>Thomas Schmitt</dc:creator>
  <dc:description/>
  <dc:language>en-US</dc:language>
  <cp:lastModifiedBy>User</cp:lastModifiedBy>
  <cp:lastPrinted>2015-01-21T21:04:20Z</cp:lastPrinted>
  <dcterms:modified xsi:type="dcterms:W3CDTF">2017-01-22T14:20:37Z</dcterms:modified>
  <cp:revision>820</cp:revision>
  <dc:subject/>
  <dc:title>PowerPoint-Präsentation</dc:title>
</cp:coreProperties>
</file>