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6480" y="729720"/>
            <a:ext cx="486756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 B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584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AE81-2C82-4FE3-BA33-6FEDFA2BF7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43F1-23C8-4C66-9253-2610C9C5F7B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8EDF-AF3D-4E3A-A328-4C677AE8B0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9F1A-1B77-4A94-853E-BECE91142D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0D13-34D2-4338-9840-1A67467965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FBEF-C469-4922-93EF-E2D22CEB1B4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7A7-BFBF-45D2-A295-637C179023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3F31-9573-4716-80F1-CBF39D2064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145C-B6DB-433D-BDED-3CA7C17AB4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C372-9A38-4F90-960B-84426D1351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F837-03B4-408E-8035-F13F4B2FD7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B6FF-6102-4AEC-9034-0C71B0B41A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A8EB-9161-4B91-9314-8D11D5B4085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34AE-AECA-4B7F-ACFF-A05543A6B0C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4976-B74B-471F-BB90-45AE9276C6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5008-D4A3-4B70-91AC-67C007E85A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6840" y="730080"/>
            <a:ext cx="4867560" cy="3651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624200"/>
            <a:ext cx="50292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B4A6-967B-4DF7-8BBB-D674A50D9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14CA-756A-4EC5-817B-BE92EB555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CA32-04B6-4194-AAD2-1E53A44D1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4412-2C0E-48CF-B500-7A5A839FA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DBD09-9307-4ADE-9855-CAC34A5E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F2862-AB5A-4367-89EA-F8AE5997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AA269-A1EC-4B4C-B12A-5660C88E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8B6CE-E4C2-478B-A518-944D57E2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25F7D-F7F9-45A8-9B8D-040E923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9F6D8-FFF7-45A2-A533-E9214878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8C64F-58BF-459D-AAE8-0D245DD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EDDE-973F-4506-9F89-C52C4362E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1BD1A-5F35-4399-8924-498C4F7E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3A7AD-E2F2-4B88-A481-7EB521F2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E6B36-F0A3-4A6D-BEA2-2CDD3984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423D9-65F6-4313-810D-CA5939BF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DB21A-8BEE-44D9-8D2A-2642AE73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7EE1-9044-4B2B-B9E5-B7F8CD9E5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18FE-A556-4A0F-932D-FEB3C07BA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54F4-2970-4776-8946-8B1B951C6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0280-D234-400F-B624-46CCA6194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39E8-3D29-41E9-997B-89F08C0BB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74DB-2487-4162-84E0-2E7E0B6E3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BBB0-891C-4696-A6C8-B0DA162EF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>
                  <a:alpha val="73333"/>
                </a:srgbClr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 B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A9A6-3E6D-46B9-8D0E-1589A37D78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>
                  <a:alpha val="73333"/>
                </a:srgbClr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 B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utura L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AADE-D141-45D1-8214-AB9A82011B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:\Dokumente und Einstellungen\Andi\Lokale Einstellungen\Materialien\Kriterien f&#252;r Texte.doc" TargetMode="External"/><Relationship Id="rId2" Type="http://schemas.openxmlformats.org/officeDocument/2006/relationships/hyperlink" Target="C:\Dokumente und Einstellungen\Andi\Lokale Einstellungen\Materialien\Punktetabelle als Excel-Tabelle.xl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1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70080"/>
          </a:xfrm>
          <a:prstGeom prst="rect">
            <a:avLst/>
          </a:prstGeom>
          <a:solidFill>
            <a:srgbClr val="0a186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Futura Lt BT"/>
              </a:rPr>
              <a:t>Materialien im Abitur:</a:t>
            </a:r>
            <a:endParaRPr b="0" lang="en-US" sz="7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8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3D1-7863-408E-94F0-A7740080AC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85800" y="47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0" name="Textfeld 12"/>
          <p:cNvSpPr/>
          <p:nvPr/>
        </p:nvSpPr>
        <p:spPr>
          <a:xfrm>
            <a:off x="7089840" y="1800360"/>
            <a:ext cx="1295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0" spc="-1" strike="noStrike">
                <a:solidFill>
                  <a:srgbClr val="0a1860"/>
                </a:solidFill>
                <a:latin typeface="Futura Lt BT"/>
              </a:rPr>
              <a:t>?</a:t>
            </a:r>
            <a:endParaRPr b="0" lang="en-US" sz="110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B1AE-9F3F-4AB6-8F3D-B3E93B5493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61800" y="1406520"/>
          <a:ext cx="8491680" cy="5446800"/>
        </p:xfrm>
        <a:graphic>
          <a:graphicData uri="http://schemas.openxmlformats.org/drawingml/2006/table">
            <a:tbl>
              <a:tblPr/>
              <a:tblGrid>
                <a:gridCol w="2327400"/>
                <a:gridCol w="2867040"/>
                <a:gridCol w="3297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Arbeitsschrit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Quelleninterpre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"Arbeiten Sie heraus…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Leitfragen festleg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ne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durch Aufgabenstellung vorgegeb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Beschreibung und Klärung der formalen äußeren Merkm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</a:rPr>
                        <a:t>Klärung ja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</a:rPr>
                        <a:t>Beschreibung nur, wenn sie für die Aufgabenstellung von Bedeutung 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strukturierte Textwiedergab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entsprechend der Leitfragen, eher umfasse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selektiv entsprechend der Aufgabenstellung nach selbstgewählten oder in der Aufgabenstellung genannten Gesichtspunkt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Interpretation im engeren Sinne (Punkte 4-6 der unter 1.1. angeführten Arbeitsschritt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insbesondere auch: Beurteilung der Schlüssigkeit der Argumentation, Beurteilung der Aussagen im historischen Kontext und im Problemzusammenhang, eigenes Werturtei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nur beding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entsprechend der Aufgabenstellung, z.B. Intentionen, erkennbare Motive, Interessen, Perspektiven des Autors im historischen Kontext, Besonderheiten und Auffälligkeiten bei den zentralen Aussagen, bzw. den sprachlichen Mittel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zusammenfassendes Resüme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abwägendes Gesamturteil mit Bezug auf den allgemeinen Problemzusammenha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Futura Lt BT"/>
                          <a:ea typeface="Times New Roman"/>
                        </a:rPr>
                        <a:t>ne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utura Lt B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27"/>
          <p:cNvSpPr/>
          <p:nvPr/>
        </p:nvSpPr>
        <p:spPr>
          <a:xfrm>
            <a:off x="363600" y="163440"/>
            <a:ext cx="8485200" cy="124452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Futura Lt BT"/>
              </a:rPr>
              <a:t>„</a:t>
            </a:r>
            <a:r>
              <a:rPr b="0" lang="de-DE" sz="3600" spc="-1" strike="noStrike">
                <a:solidFill>
                  <a:srgbClr val="ffffff"/>
                </a:solidFill>
                <a:latin typeface="Futura Lt BT"/>
              </a:rPr>
              <a:t>Herausarbeiten“ entspricht nicht einer klassischen Quelleninterpretation</a:t>
            </a:r>
            <a:endParaRPr b="0" lang="en-US" sz="36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6" name="Rectangle 131"/>
          <p:cNvSpPr/>
          <p:nvPr/>
        </p:nvSpPr>
        <p:spPr>
          <a:xfrm>
            <a:off x="5567400" y="2308320"/>
            <a:ext cx="3289320" cy="1879560"/>
          </a:xfrm>
          <a:prstGeom prst="rect">
            <a:avLst/>
          </a:prstGeom>
          <a:solidFill>
            <a:srgbClr val="ffcc00">
              <a:alpha val="6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7" name="Rectangle 132"/>
          <p:cNvSpPr/>
          <p:nvPr/>
        </p:nvSpPr>
        <p:spPr>
          <a:xfrm>
            <a:off x="5570640" y="4189320"/>
            <a:ext cx="3289320" cy="1879560"/>
          </a:xfrm>
          <a:prstGeom prst="rect">
            <a:avLst/>
          </a:prstGeom>
          <a:solidFill>
            <a:srgbClr val="ffff99">
              <a:alpha val="52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liennummernplatzhalt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3795-23A6-45F5-8CEA-B8F8B58866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76200" y="304560"/>
            <a:ext cx="8408880" cy="184284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Futura Lt BT"/>
              </a:rPr>
              <a:t>Vorschlag: Anforderungen an Schülerlösungen bei den Operatoren „herausarbeiten“ und „vergleichen</a:t>
            </a:r>
            <a:r>
              <a:rPr b="0" lang="de-DE" sz="4000" spc="-1" strike="noStrike">
                <a:solidFill>
                  <a:srgbClr val="ffffff"/>
                </a:solidFill>
                <a:latin typeface="Futura Lt BT"/>
              </a:rPr>
              <a:t>“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09600" y="2293920"/>
            <a:ext cx="86486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beschreibende </a:t>
            </a: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Vorstellung der Quelle/Darstellung 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Darstellung der geforderten Inhalte: </a:t>
            </a: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Strukturierung</a:t>
            </a: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, Darlegung der Grundlage der Vergleichbarkeit, deutliche Trennung von Unterschieden und Gemeinsamkeiten, Zielgerichtetheit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inhaltliche Durchdringung, Loslösen von der Vorlage: keine Paraphrase/</a:t>
            </a: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eigene Worte</a:t>
            </a: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, inhaltliche Deutung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Beachtung der Regeln für die </a:t>
            </a: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Redewiedergabe</a:t>
            </a: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, </a:t>
            </a: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Belege </a:t>
            </a: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bei Zitaten und zentralen Textstellen (?!) 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utura Lt BT"/>
              </a:rPr>
              <a:t>Einhaltung standardsprachlicher Normen, stilistische Angemessenheit, korrekte Verwendung der Fachsprache.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liennummernplatzhalt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F721-79D8-43FD-8FD8-276B7F6FA1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5840" y="304920"/>
            <a:ext cx="8231400" cy="194472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Gesamtbewertung statt Punkte abhaken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09600" y="2293920"/>
            <a:ext cx="86486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utura Lt BT"/>
              </a:rPr>
              <a:t>gut (11 NP)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formale und inhaltliche Merkmale erfasst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zentrale Textpassagen aufgenommen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Spezifik der Quelle/des Materials berücksichtigt, auch sprachliche und rhetorische Mittel (z.B. Ironie) richtig aufgeschlüsselt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strukturierte Darstellung und selbstständige Wiedergabe der Inhalte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sichere historische Einordnung, Fachbegriffe richtig verwendet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Schülerlösung entspricht größtenteils den im Lösungsvorschlag geforderten Erkenntnissen (und Beurteilungen)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Lt BT"/>
              </a:rPr>
              <a:t>sprachlich richtige (auch hinsichtlich der Redewiedergabe) und gute Ausdrucksweise</a:t>
            </a:r>
            <a:endParaRPr b="0" lang="en-US" sz="20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liennummernplatzhalt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42E8-A2C0-4F39-A6E8-07A04C9966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5840" y="304920"/>
            <a:ext cx="8231400" cy="194472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Gesamtbewertung statt Punkte abhaken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09600" y="2293920"/>
            <a:ext cx="86486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Futura Lt BT"/>
              </a:rPr>
              <a:t>ausreichend (5 NP)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•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formale und inhaltliche Merkmale grob erfasst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•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einzelne Textpassagen aufgenommen und richtig erklärt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•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Spezifik der Quelle/des Materials erkannt, zentrale sprachliche und rhetorische Mittel (z.B. Ironie) grob erfasst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•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Darstellung zeigt, dass Schüler im Allgemeinen das verstanden hat, was er schreibt, auch wenn eine Strukturierung fehlt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•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im Allgemeinen richtige historische Einordnung, grundlegende Fachbegriffe im Allgemeinen richtig verwendet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•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im Wesentlichen richtige Ergebnisse, zentrale Aussage erkannt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•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Futura Lt BT"/>
              </a:rPr>
              <a:t>sprachliche Verstöße beeinträchtigen nicht wesentlich die Verständlichkeit und die Argumentation</a:t>
            </a:r>
            <a:endParaRPr b="0" lang="en-US" sz="18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liennummernplatzhalt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7157-6E0F-41F9-A24D-9DCD866586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5840" y="294840"/>
            <a:ext cx="8231400" cy="11955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weitere Hilfen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25520" y="2673360"/>
            <a:ext cx="80661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80808"/>
                </a:solidFill>
                <a:uFillTx/>
                <a:latin typeface="Futura Lt BT"/>
                <a:hlinkClick r:id="rId1"/>
              </a:rPr>
              <a:t>Beispiele für Schülerlösungen mit Korrekturhinweisen (vgl. Anhang des Handouts)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80808"/>
                </a:solidFill>
                <a:uFillTx/>
                <a:latin typeface="Futura Lt BT"/>
                <a:hlinkClick r:id="rId2"/>
              </a:rPr>
              <a:t>Umrechnungstabelle von Noten in Verrechnungspunkte zur Erleichterung der holistischen Korrektur</a:t>
            </a:r>
            <a:endParaRPr b="0" lang="en-US" sz="2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18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806560"/>
            <a:ext cx="9144000" cy="1270080"/>
          </a:xfrm>
          <a:prstGeom prst="rect">
            <a:avLst/>
          </a:prstGeom>
          <a:solidFill>
            <a:srgbClr val="0a1860"/>
          </a:solidFill>
          <a:ln w="9360">
            <a:solidFill>
              <a:srgbClr val="0a186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Futura Lt BT"/>
              </a:rPr>
              <a:t>Texte</a:t>
            </a:r>
            <a:endParaRPr b="0" lang="en-US" sz="72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2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F976-E064-4A0C-A251-7B9F8663B2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5800" y="47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liennummernplatzhalt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2E7F-DC28-42E6-8A97-3D1CF0F57E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304920"/>
            <a:ext cx="8547120" cy="83808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Methodenkompetenz 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3080" y="1306080"/>
            <a:ext cx="84960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Futura Lt BT"/>
              </a:rPr>
              <a:t>Die Erschließungskompetenz für historische Quellen und Darstellungen ist die Grundlage für die Entwicklung, Über-prüfung und Darstellung von historischen Sachanalysen.</a:t>
            </a:r>
            <a:endParaRPr b="0" lang="en-US" sz="26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utura Lt BT"/>
              </a:rPr>
              <a:t>Gautschi, Peter: Guter Geschichtsunterricht. Grundlagen, Erkenntnisse, Hinweise. Schwalbach/Ts. 2009. S. 50,52.</a:t>
            </a:r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Futura Lt BT"/>
              </a:rPr>
              <a:t>Der Kompetenzbereich „Historische Methodenkompetenzen“ umfasst die fachspezifischen Methoden der Erkenntnis-gewinnung und –verarbeitung. Die Analyse von Quellen und Darstellungen ist die Basis dafür, historische Narrationen zu entwickeln (Rekonstruktion) bzw. vorhandene historische Narrationen zu erfassen (Dekonstrukion). </a:t>
            </a:r>
            <a:endParaRPr b="0" lang="en-US" sz="26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Futura Lt BT"/>
              </a:rPr>
              <a:t>Schreiber, Waltraud/Körber, Andreas/Schöner, Alexander (Hgg.): Kompetenzen historischen Denkens. Ein Strukturmodell als Beitrag zur Kompetenzorientierung in der Geschichtsdidaktik. Neuried 2007. S. 27f., S. 194f.</a:t>
            </a:r>
            <a:endParaRPr b="0" lang="en-US" sz="14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97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5D4-8FA9-4F23-B099-BE44820BBE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0460-DCB9-40D3-9227-D1F8BE0F75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81760" cy="154152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Arbeit mit Texten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1600" y="2932200"/>
            <a:ext cx="81882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Textverständnis wichtige basale Kompetenz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zentrales Material im Geschichtsunterricht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Aufgaben mit Textbezug vermeintlich einfach, haben aber Schwierigkeiten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C666-DCAD-4579-AE64-0836F358F7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80320" cy="153972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Futura Lt BT"/>
              </a:rPr>
              <a:t>Gliederung</a:t>
            </a: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819520"/>
            <a:ext cx="76946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methodische Hinweise zum Umgang mit Texten und zum Kompetenzerwerb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Klärung der Anforderungen im Abitur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Vorschlag zur Leistungsbewertung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CB67-7BCA-4F87-855B-6879D0A93C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1760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Futura Lt BT"/>
              </a:rPr>
              <a:t>Methodische Hinweise in vielen Lehrwerken sind brauchbar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0" y="1911240"/>
            <a:ext cx="91947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A660-EC74-4028-BC9D-AF9BB43504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4920"/>
            <a:ext cx="7797600" cy="196848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Futura Lt BT"/>
              </a:rPr>
              <a:t>Muster: Arbeitsschritte bei der Interpretation von Textmaterial (Quellen und Darstellungen)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2711160"/>
            <a:ext cx="821052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Futura Lt BT"/>
              </a:rPr>
              <a:t>1. Leitfragen festlegen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Futura Lt BT"/>
              </a:rPr>
              <a:t>2. Formale Merkmale und Übersichtsinformationen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Futura Lt BT"/>
              </a:rPr>
              <a:t>3. Textinhalt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Futura Lt BT"/>
              </a:rPr>
              <a:t>4. Kontext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Futura Lt BT"/>
              </a:rPr>
              <a:t>5. Aussageabsicht und Perspektivität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Futura Lt BT"/>
              </a:rPr>
              <a:t>6. Beurteilung und Bewertung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Futura Lt BT"/>
              </a:rPr>
              <a:t>Besonderheit Vergleich: tertium comparationis, Gemeinsamkeiten, Unterschiede</a:t>
            </a:r>
            <a:endParaRPr b="0" lang="en-US" sz="24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2C34-EBFC-4E54-9F49-085FB0DFDC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4920"/>
            <a:ext cx="7797600" cy="110016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Futura Lt BT"/>
              </a:rPr>
              <a:t>Progression im Kompetenzerwerb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6960" y="1825560"/>
            <a:ext cx="769464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…</a:t>
            </a: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im Vergleich zu Sek. I und zur Einführungsphase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(sprachlich, inhaltlich) schwierigere Texte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komplexere und schwierigere Aufgaben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anspruchsvollere, vom Text nicht vorgegebene Strukturierung der herausgearbeiteten Inhalte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komplexere Textvergleiche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D1E0-B3AB-4BC5-A157-70BD301781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9960" y="304920"/>
            <a:ext cx="7797600" cy="1404720"/>
          </a:xfrm>
          <a:prstGeom prst="rect">
            <a:avLst/>
          </a:prstGeom>
          <a:solidFill>
            <a:srgbClr val="0a186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Futura Lt BT"/>
              </a:rPr>
              <a:t>Fluchtpunkt Abitur: Welche Aufgaben sind vorgesehen?</a:t>
            </a:r>
            <a:endParaRPr b="0" lang="en-US" sz="4000" spc="-1" strike="noStrike">
              <a:solidFill>
                <a:srgbClr val="ffffff"/>
              </a:solidFill>
              <a:latin typeface="Futura Lt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880" y="2084400"/>
            <a:ext cx="769464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utura Lt BT"/>
              </a:rPr>
              <a:t>Herausarbeiten</a:t>
            </a: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: „Informationen und Sachverhalte unter bestimmten Gesichtspunkten aus vorgegebenem Material entnehmen, wiedergeben und/oder gegebenenfalls berechnen.“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Futura Lt BT"/>
              </a:rPr>
              <a:t>Vergleichen</a:t>
            </a: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: „Gemeinsamkeiten und Unterschiede gewichtend einander gegenüberstellen und ein Ergebnis formulieren.“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Futura Lt BT"/>
              </a:rPr>
              <a:t>Kein Operator: </a:t>
            </a:r>
            <a:r>
              <a:rPr b="1" lang="de-DE" sz="2800" spc="-1" strike="noStrike">
                <a:solidFill>
                  <a:srgbClr val="000000"/>
                </a:solidFill>
                <a:latin typeface="Futura Lt BT"/>
              </a:rPr>
              <a:t>interpretieren</a:t>
            </a:r>
            <a:endParaRPr b="0" lang="en-US" sz="2800" spc="-1" strike="noStrike">
              <a:solidFill>
                <a:srgbClr val="000000"/>
              </a:solidFill>
              <a:latin typeface="Futura Lt BT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654960" y="6284880"/>
            <a:ext cx="206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7:04:36Z</dcterms:created>
  <dc:creator>Andreas Gawatz</dc:creator>
  <dc:description/>
  <dc:language>en-US</dc:language>
  <cp:lastModifiedBy>Zhivago</cp:lastModifiedBy>
  <dcterms:modified xsi:type="dcterms:W3CDTF">2011-04-15T20:29:48Z</dcterms:modified>
  <cp:revision>392</cp:revision>
  <dc:subject/>
  <dc:title>Arbeiten mit Texten</dc:title>
</cp:coreProperties>
</file>