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6480" y="729720"/>
            <a:ext cx="486756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EE39-F4AB-403D-8731-7B856F02AA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AB3-0F05-4241-B828-140947C23B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C4A-01ED-4D30-B02B-A15F161B5E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57A-5BE8-4705-99C5-52CAF4098B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318-0377-470F-806B-331645960E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2707-6A65-4026-A8DA-63204EB3E32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FFE-2035-41D9-8266-DC129280BEC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9B25-75E0-4EAD-9974-00C910DCF97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4B0-D5CB-4B2C-B75C-C96FBACA71F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B7F3-6E2E-4A63-BDF8-4945021B6A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7EC-D064-4EC6-9225-1C5C56C118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E40-E46C-4EE9-91EF-889DAD1B452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8C1-4CBB-4DB9-88C9-B79F5AD83C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A51-CCC5-4F97-8FFA-D5E305FB65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0CE-A535-4863-8A2F-0A5BE45371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1CED-7FD0-410B-8AD2-880F3A91ED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331-1819-4F02-B429-8990AFB53B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EAFF-F5E7-465A-A320-815ADD7959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C093-A228-434A-86A4-9DBC3F599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3494-1379-43AD-8987-AB35DF245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249E-774D-44BD-8029-A63504A50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4ED2-9EA4-4298-BF41-A426C19CD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594E1-E0C0-4E7D-AD38-37B103F7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38A62-F817-49EE-923E-99A1748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3F27-AFEC-4EC8-A084-79AD3A1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2A140-8E33-4667-984C-405F74B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DFE2C-660D-437A-AA07-C8DCF4B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8F4FE-94C4-463D-B26B-4688B1C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2747F-AA0A-43EF-B4BB-D35838D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A823-0155-446C-A25C-E970EA069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D2129-E52A-4E9B-B3F6-32E6042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4C3D-A2E3-4FDB-8C58-FCFFC490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2786D-F192-4A7E-B63D-6C53667B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9C0BF-63FD-4BBF-9672-7FF2277E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10A99-89F1-49E3-A522-212D40E8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04A2-9C75-4B6C-A339-1C3A63DF8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A8E6-1069-4A68-BCD6-6FE0F631B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3B54-30DC-488C-BC8B-7E6E90E0B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58C5-4E85-46A9-9DF4-275180A00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2C98-4C1A-46A1-A79A-A65B0260F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6784-A2ED-41D6-9386-206B6B9A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8063-8D89-4262-9B9C-1F2567511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>
                  <a:alpha val="73333"/>
                </a:srgbClr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B5A8-DF7D-4E3B-857E-03CF2C116F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>
                  <a:alpha val="73333"/>
                </a:srgbClr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10EC-1713-4BD7-9976-57B351AE26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70080"/>
          </a:xfrm>
          <a:prstGeom prst="rect">
            <a:avLst/>
          </a:prstGeom>
          <a:solidFill>
            <a:srgbClr val="0a18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Futura Lt BT"/>
              </a:rPr>
              <a:t>Materialien im Abitur:</a:t>
            </a:r>
            <a:endParaRPr b="0" lang="en-US" sz="7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B4F-F341-44C1-9F33-05384110CD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9" name="Textfeld 11"/>
          <p:cNvSpPr/>
          <p:nvPr/>
        </p:nvSpPr>
        <p:spPr>
          <a:xfrm>
            <a:off x="3178080" y="1865160"/>
            <a:ext cx="215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Futura Lt BT"/>
              </a:rPr>
              <a:t>Statistik</a:t>
            </a:r>
            <a:endParaRPr b="0" lang="en-US" sz="48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90" name="Picture 21" descr="D:\Gerhild\Fachberaterin\FB Fobi ZPG\ZPG II\Modul Löffler\Methodenkompetenz\Statistik\Material Statistik\Statistik NS Vortrag.jpg"/>
          <p:cNvPicPr/>
          <p:nvPr/>
        </p:nvPicPr>
        <p:blipFill>
          <a:blip r:embed="rId1"/>
          <a:srcRect l="4633" t="8739" r="4396" b="25492"/>
          <a:stretch/>
        </p:blipFill>
        <p:spPr>
          <a:xfrm>
            <a:off x="1798560" y="2787480"/>
            <a:ext cx="4991040" cy="21974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11"/>
          <p:cNvSpPr/>
          <p:nvPr/>
        </p:nvSpPr>
        <p:spPr>
          <a:xfrm>
            <a:off x="3665520" y="282240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0" spc="-1" strike="noStrike">
                <a:solidFill>
                  <a:srgbClr val="0a1860"/>
                </a:solidFill>
                <a:latin typeface="Futura Lt BT"/>
              </a:rPr>
              <a:t>?</a:t>
            </a:r>
            <a:endParaRPr b="0" lang="en-US" sz="13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518840"/>
            <a:ext cx="9144000" cy="48099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0D8F-E316-4621-94D7-E6F50563B2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977760" y="152280"/>
            <a:ext cx="71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a1860"/>
                </a:solidFill>
                <a:latin typeface="Futura Lt BT"/>
              </a:rPr>
              <a:t>Arbeitszeiten und Löhne 1933-1944</a:t>
            </a:r>
            <a:endParaRPr b="0" lang="en-US" sz="3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2" name="Textfeld 19"/>
          <p:cNvSpPr/>
          <p:nvPr/>
        </p:nvSpPr>
        <p:spPr>
          <a:xfrm>
            <a:off x="254160" y="685800"/>
            <a:ext cx="8673840" cy="665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a1860"/>
                </a:solidFill>
                <a:uFillTx/>
                <a:latin typeface="Futura Lt BT"/>
              </a:rPr>
              <a:t>Aussagewert des Datenmaterials prüfen: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vermutlich keine Statistik zu Propagandazwecken, da auch der Anstieg der Arbeitszeit und das Sinken der Löhne mit dem Krieg dargestellt werde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fehlende Angaben sind vermutlich nicht auf fehlende Daten zurückzuführen, da das NS-Regime penibel Buch führte;  bei den Löhnen wird trotz Lücken mit dem Jahr 1942 ein weiteres Steigen der Löhne deutlich; der Arbeitskräftemangel im Krieg lässt keinen erneuten Anstieg der Arbeitslosigkeit vermuten</a:t>
            </a:r>
            <a:br>
              <a:rPr sz="2000"/>
            </a:br>
            <a:r>
              <a:rPr b="1" lang="de-DE" sz="2000" spc="-1" strike="noStrike">
                <a:solidFill>
                  <a:srgbClr val="0a186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 fehlende Daten würden die Gesamtaussage vermutlich nicht veränder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a1860"/>
                </a:solidFill>
                <a:uFillTx/>
                <a:latin typeface="Futura Lt BT"/>
              </a:rPr>
              <a:t>Vergleichbarkeit prüfen: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a1860"/>
                </a:solidFill>
                <a:latin typeface="Futura Lt BT"/>
              </a:rPr>
              <a:t>trotz unterschiedlicher Maßzahlen lassen sich die Daten sinnvoll miteinander in Beziehung setze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Bef>
                <a:spcPts val="601"/>
              </a:spcBef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a1860"/>
                </a:solidFill>
                <a:uFillTx/>
                <a:latin typeface="Futura Lt BT"/>
              </a:rPr>
              <a:t>Variablenauswahl und -kombination prüfen: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88920" indent="-88920"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a1860"/>
                </a:solidFill>
                <a:latin typeface="Futura Lt BT"/>
              </a:rPr>
              <a:t>Kombination Wochenlohn – Arbeitszeit ist sinnvoll und notwendig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gezeigt wird die deutliche Stabilisierung der wirtschaftlichen und sozialen Lage bis in die Kriegsjahre hinei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601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einziger Nachteil scheint die steigende Arbeitszeit zu sei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18840"/>
            <a:ext cx="9144000" cy="48099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7C63-EA09-4834-93F3-645CFBFF42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6" name="Textfeld 7"/>
          <p:cNvSpPr/>
          <p:nvPr/>
        </p:nvSpPr>
        <p:spPr>
          <a:xfrm>
            <a:off x="977760" y="152280"/>
            <a:ext cx="71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a1860"/>
                </a:solidFill>
                <a:latin typeface="Futura Lt BT"/>
              </a:rPr>
              <a:t>Arbeitszeiten und Löhne 1933-1944</a:t>
            </a:r>
            <a:endParaRPr b="0" lang="en-US" sz="3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7" name="Textfeld 19"/>
          <p:cNvSpPr/>
          <p:nvPr/>
        </p:nvSpPr>
        <p:spPr>
          <a:xfrm>
            <a:off x="254160" y="762120"/>
            <a:ext cx="8673840" cy="67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aber die Auswahl der Variablen schränkt die Aussagekraft ein: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Dargestellt wird nur die Situation der Arbeiter, nicht der Beamten und der Unternehmer, die teilweise große Gewinne machten.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Die Arbeiterlöhne sagen nichts über das Familieneinkommen. (Sinkendes Familieneinkommen durch Nichterwerbstätigkeit der Frau? )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Steigende Reallöhne sagen nichts über die Versorgungslage der Bevölkerung, die sich verschlechterte.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Die Bevölkerung wurde außerdem durch verpflichtende (Sach-)Spenden belastet, die einer indirekten Steuer gleichkamen.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Der Rückgang der Arbeitslosigkeit ist nicht auf eine funktionierende Wirtschaft zurückzuführen. Die Wirtschaftspolitik der NS-Diktatur arbeitete mit Verschuldung, diktatorischen oder indirekten Eingriffen in den Arbeitsmarkt (z.B. Pflichtdienste, Lohn- und Preispolitik, Verdrängung der Frau).  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Aft>
                <a:spcPts val="400"/>
              </a:spcAft>
              <a:buClr>
                <a:srgbClr val="0a18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a1860"/>
                </a:solidFill>
                <a:latin typeface="Futura Lt BT"/>
              </a:rPr>
              <a:t>Umstrukturierungen durch den Krieg werden nicht dargestellt. (sinkendes Lohnniveau durch vermehrte Frauenarbeit? Familieneinkommen?).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lvl="1" marL="88920" indent="-8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Die Statistik verdeutlicht auf der einen Seite die Stabilisierung der wirtschaft-lichen und sozialen Lage der Arbeiter(familien), vergleicht diese Aussage aber nicht mit anderen, die Arbeiter belastenden Lebensbedingungen oder den Zugewinnen anderer Klassen.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81760" cy="1181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Progression im Kompetenzerwerb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1280" y="1547280"/>
            <a:ext cx="81882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im Vergleich zu Sek. I und zur Einführungsphase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omplexere Statistik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genaue Beschreibung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differenzierte Erklärung und Beurteilung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sprachliche Umsetzung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35480" indent="-28296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innvoll verbundene, sprachlich angemessene Beschreibu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5480" indent="-282960">
              <a:spcAft>
                <a:spcPts val="1199"/>
              </a:spcAft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Erklärung und Beurteilung mit Fachbegriffen und einschlägigen Beispiele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Statistik Glossar-Formulierungshilfe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D41-0D36-477E-8029-847B8C3E08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81760" cy="93960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Übungen zum Kompetenzerwerb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4240" y="1344600"/>
            <a:ext cx="818856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Statistik Methodenkompetenz Lehrer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Statistik Übungsaufgabe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Statistik Fehlerliste Schulbücher Kursstufe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Üben der Methodenkompetenz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Kennenlernen von Darstellungsformen, Maßzahlen, Variablenkombinationen 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Kennenlernen von statistischen „Problemzonen“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Üben von Erklärung und Beurteilu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Üben der Versprachlichu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Üben der Sach- und Reflexionskompetenz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tatistiken eignen sich als Material für alle Unterrichtsphasen 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tatistik Übungsaufgaben)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4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C5C-5DD3-4423-8820-9A57DA153C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81760" cy="1181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Beispielaufgabe Statistik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97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4B5-1C36-4979-9A8A-97D8AFAA61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99" name="Picture 2" descr="Statistik Beispielaufgabe BRD-DDR"/>
          <p:cNvPicPr/>
          <p:nvPr/>
        </p:nvPicPr>
        <p:blipFill>
          <a:blip r:embed="rId1"/>
          <a:srcRect l="2042" t="4314" r="2292" b="2811"/>
          <a:stretch/>
        </p:blipFill>
        <p:spPr>
          <a:xfrm>
            <a:off x="2197080" y="2155680"/>
            <a:ext cx="4800600" cy="418464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7"/>
          <p:cNvSpPr/>
          <p:nvPr/>
        </p:nvSpPr>
        <p:spPr>
          <a:xfrm>
            <a:off x="571680" y="1473120"/>
            <a:ext cx="72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Statistik Beispielaufgabe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70080"/>
          </a:xfrm>
          <a:prstGeom prst="rect">
            <a:avLst/>
          </a:prstGeom>
          <a:solidFill>
            <a:srgbClr val="0a18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Futura Lt BT"/>
              </a:rPr>
              <a:t>Materialien im Abitur:</a:t>
            </a:r>
            <a:endParaRPr b="0" lang="en-US" sz="7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0DA-31E0-43DB-8AEF-249CC16318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3178080" y="1916280"/>
            <a:ext cx="215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Futura Lt BT"/>
              </a:rPr>
              <a:t>Statistik</a:t>
            </a:r>
            <a:endParaRPr b="0" lang="en-US" sz="48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204" name="Picture 21" descr="D:\Gerhild\Fachberaterin\FB Fobi ZPG\ZPG II\Modul Löffler\Methodenkompetenz\Statistik\Material Statistik\Statistik NS Vortrag.jpg"/>
          <p:cNvPicPr/>
          <p:nvPr/>
        </p:nvPicPr>
        <p:blipFill>
          <a:blip r:embed="rId1"/>
          <a:srcRect l="4633" t="8739" r="4396" b="25492"/>
          <a:stretch/>
        </p:blipFill>
        <p:spPr>
          <a:xfrm>
            <a:off x="1832040" y="2955960"/>
            <a:ext cx="4991040" cy="2197080"/>
          </a:xfrm>
          <a:prstGeom prst="rect">
            <a:avLst/>
          </a:prstGeom>
          <a:ln w="0">
            <a:noFill/>
          </a:ln>
        </p:spPr>
      </p:pic>
      <p:sp>
        <p:nvSpPr>
          <p:cNvPr id="205" name="Textfeld 11"/>
          <p:cNvSpPr/>
          <p:nvPr/>
        </p:nvSpPr>
        <p:spPr>
          <a:xfrm>
            <a:off x="3598920" y="293040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0" spc="-1" strike="noStrike">
                <a:solidFill>
                  <a:srgbClr val="0a1860"/>
                </a:solidFill>
                <a:latin typeface="Futura Lt BT"/>
              </a:rPr>
              <a:t>!</a:t>
            </a:r>
            <a:endParaRPr b="0" lang="en-US" sz="13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50A-0280-4620-99BC-A2AB8B5079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8580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08" name="Textfeld 11"/>
          <p:cNvSpPr/>
          <p:nvPr/>
        </p:nvSpPr>
        <p:spPr>
          <a:xfrm>
            <a:off x="5969160" y="4470480"/>
            <a:ext cx="1295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0" spc="-1" strike="noStrike">
                <a:solidFill>
                  <a:srgbClr val="0a1860"/>
                </a:solidFill>
                <a:latin typeface="Futura Lt BT"/>
              </a:rPr>
              <a:t>!</a:t>
            </a:r>
            <a:endParaRPr b="0" lang="en-US" sz="11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12880" y="2742840"/>
            <a:ext cx="7772400" cy="1143000"/>
          </a:xfrm>
          <a:prstGeom prst="rect">
            <a:avLst/>
          </a:prstGeom>
          <a:solidFill>
            <a:srgbClr val="0a1860"/>
          </a:solidFill>
          <a:ln w="9360">
            <a:solidFill>
              <a:srgbClr val="0a186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ff"/>
                </a:solidFill>
                <a:latin typeface="Futura Lt BT"/>
              </a:rPr>
              <a:t>Vielen Dank!</a:t>
            </a:r>
            <a:endParaRPr b="0" lang="en-US" sz="6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5638-987F-47D0-9400-AAE744FD28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960" y="304920"/>
            <a:ext cx="8547120" cy="83808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Methodenkompetenz 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3080" y="1306080"/>
            <a:ext cx="84960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Futura Lt BT"/>
              </a:rPr>
              <a:t>Die Erschließungskompetenz für historische Quellen und Darstellungen ist die Grundlage für die Entwicklung, Über-prüfung und Darstellung von historischen Sachanalysen.</a:t>
            </a:r>
            <a:endParaRPr b="0" lang="en-US" sz="26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Gautschi, Peter: Guter Geschichtsunterricht. Grundlagen, Erkenntnisse, Hinweise. Schwalbach/Ts. 2009. S. 50,52.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Futura Lt BT"/>
              </a:rPr>
              <a:t>Der Kompetenzbereich „Historische Methodenkompetenzen“ umfasst die fachspezifischen Methoden der Erkenntnis-gewinnung und –verarbeitung. Die Analyse von Quellen und Darstellungen ist die Basis dafür, historische Narrationen zu entwickeln (Rekonstruktion) bzw. vorhandene historische Narrationen zu erfassen (Dekonstrukion). </a:t>
            </a:r>
            <a:endParaRPr b="0" lang="en-US" sz="26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Schreiber, Waltraud/Körber, Andreas/Schöner, Alexander (Hgg.): Kompetenzen historischen Denkens. Ein Strukturmodell als Beitrag zur Kompetenzorientierung in der Geschichtsdidaktik. Neuried 2007. S. 27f., S. 194f.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78DB-3E9E-4117-AC33-AFC9A52243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806560"/>
            <a:ext cx="9144000" cy="1270080"/>
          </a:xfrm>
          <a:prstGeom prst="rect">
            <a:avLst/>
          </a:prstGeom>
          <a:solidFill>
            <a:srgbClr val="0a1860"/>
          </a:solidFill>
          <a:ln w="9360">
            <a:solidFill>
              <a:srgbClr val="0a186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Futura Lt BT"/>
              </a:rPr>
              <a:t>Statistiken</a:t>
            </a:r>
            <a:endParaRPr b="0" lang="en-US" sz="7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835-497F-4DB6-9AEE-431392F0EB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8680" y="1928520"/>
            <a:ext cx="8188200" cy="26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Die Statistik wurde in der zweiten Hälfte des 19. Jahrhunderts das, was sie heute noch ist: das wichtigste Instrument eines kontinuierlichen </a:t>
            </a:r>
            <a:r>
              <a:rPr b="0" i="1" lang="de-DE" sz="2800" spc="-1" strike="noStrike">
                <a:solidFill>
                  <a:srgbClr val="000000"/>
                </a:solidFill>
                <a:latin typeface="Futura Lt BT"/>
              </a:rPr>
              <a:t>self monitoring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 von Gesellschaften“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Jürgen Osterhammel: Die Verwandlung der Welt. Eine Geschichte des 19. Jahrhunderts. München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Futura Lt BT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2009. S. 57.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1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8DD-116D-4C00-80E3-8F8ACB0D60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81760" cy="965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Warum Statistiken?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81760" cy="965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Warum Statistiken?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59880" y="1446120"/>
            <a:ext cx="783612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beschreibt und analysiert längerfristige Entwick-lungen oder komplexe Prozesse 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macht Regelfall und Einzelfall / Ausnahmen sichtbar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ann den relativen Einfluss bestimmter Faktoren in einem Zusammenhang klär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macht komplexe Vergleiche möglich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77840" indent="-177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anhand statistischer Daten entwickeln sich neue Fragestellung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6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1DC0-6E89-4472-B822-755C96A58A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81760" cy="965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Warum Statistiken?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4160" y="1243080"/>
            <a:ext cx="864864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Futura Lt BT"/>
              </a:rPr>
              <a:t>Erkenntnisse/Fragen durch Statistik?</a:t>
            </a:r>
            <a:endParaRPr b="0" lang="en-US" sz="3000" spc="-1" strike="noStrike">
              <a:solidFill>
                <a:srgbClr val="000000"/>
              </a:solidFill>
              <a:latin typeface="Futura Lt BT"/>
            </a:endParaRPr>
          </a:p>
          <a:p>
            <a:pPr marL="322200" indent="-322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  <a:ea typeface="Times New Roman"/>
              </a:rPr>
              <a:t>Ist die Weltwirtschaftskrise 1929-33 durch die ökonomischen Auswirkungen des Goldstandards (starres Wechselkurssystem, Deflation, Überbewertung von Währungen) verstärkt worden?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22200" indent="-3222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  <a:ea typeface="Times New Roman"/>
              </a:rPr>
              <a:t>Ist der Aufstieg der Nationalsozialisten wirklich auf den Anstieg der Arbeitslosigkeit zurückzuführen?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  <a:ea typeface="Times New Roman"/>
              </a:rPr>
              <a:t>Was veranlasste Wirtschaftssubjekte um das 19. Jahrhundert, Unternehmen zu gründen? Sind es ähnliche Faktoren, die auch 100 Jahre später noch von Bedeutung sind?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Alexander Moradi / Jörg Baten: Einführung in SPSS anhand historischer Wirtschaftsdaten. Wirtschaftswissenschaftliche Fakultät, Abt. Wirtschaftsgeschichte, Universität Tübingen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 marL="322200" indent="-322200"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0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DC39-6817-472F-9349-D94D82A3D8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81760" cy="1181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Statistiken im Abitur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640" y="1763640"/>
            <a:ext cx="3340080" cy="4471920"/>
          </a:xfrm>
          <a:prstGeom prst="rect">
            <a:avLst/>
          </a:prstGeom>
          <a:noFill/>
          <a:ln w="9360">
            <a:solidFill>
              <a:srgbClr val="0a1860"/>
            </a:solidFill>
            <a:miter/>
          </a:ln>
        </p:spPr>
        <p:txBody>
          <a:bodyPr anchor="t">
            <a:normAutofit fontScale="95000"/>
          </a:bodyPr>
          <a:p>
            <a:pPr marL="168840" indent="-168840">
              <a:spcBef>
                <a:spcPts val="1199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Aft>
                <a:spcPts val="601"/>
              </a:spcAft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beschreiben der Bild- und Textelemente (2006)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Aft>
                <a:spcPts val="1199"/>
              </a:spcAft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Futura Lt BT"/>
              </a:rPr>
              <a:t>und</a:t>
            </a: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- erläutern der Aussage (2006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- vergleichen der Aussage (2007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- die Absicht des Zeichners erläutern (2009)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4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analysieren (=untersuchen und auswerten) (2010)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4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analysieren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Futura Lt BT"/>
              </a:rPr>
              <a:t>und</a:t>
            </a: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 die Aussage überprüfen (2010)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400"/>
              </a:spcBef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201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4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Beschreibung – Erläuterung</a:t>
            </a: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bisher 50:50 VP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168840" indent="-16884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A1F-6E9E-4AF3-B529-1F691350B4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6" name="Textfeld 5"/>
          <p:cNvSpPr/>
          <p:nvPr/>
        </p:nvSpPr>
        <p:spPr>
          <a:xfrm>
            <a:off x="7721640" y="1612800"/>
            <a:ext cx="99072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Futura Lt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cxnSp>
        <p:nvCxnSpPr>
          <p:cNvPr id="117" name="Gerade Verbindung mit Pfeil 9"/>
          <p:cNvCxnSpPr/>
          <p:nvPr/>
        </p:nvCxnSpPr>
        <p:spPr>
          <a:xfrm flipH="1">
            <a:off x="8229240" y="5005080"/>
            <a:ext cx="2160" cy="951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Rectangle 3"/>
          <p:cNvSpPr/>
          <p:nvPr/>
        </p:nvSpPr>
        <p:spPr>
          <a:xfrm>
            <a:off x="3987720" y="1763640"/>
            <a:ext cx="45975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Futura Lt BT"/>
              </a:rPr>
              <a:t>beschreiben nach formalen und inhaltlichen Gesichtspunkten </a:t>
            </a: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(2009)</a:t>
            </a: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55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Futura Lt BT"/>
              </a:rPr>
              <a:t>mit Hilfe der Statistik einen Sachverhalt beschreiben </a:t>
            </a: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(2010)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Futura Lt BT"/>
              </a:rPr>
              <a:t>Daten in den historischen Kontext einordnen</a:t>
            </a:r>
            <a:endParaRPr b="0" lang="en-US" sz="22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55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Futura Lt BT"/>
              </a:rPr>
              <a:t>(beurteilen)</a:t>
            </a:r>
            <a:endParaRPr b="0" lang="en-US" sz="22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2999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Futura Lt BT"/>
              </a:rPr>
              <a:t>evtl. mehr als 12 VP</a:t>
            </a:r>
            <a:endParaRPr b="0" lang="en-US" sz="22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550"/>
              </a:spcBef>
              <a:buClr>
                <a:srgbClr val="000000"/>
              </a:buClr>
              <a:buFont typeface="Futura Lt BT"/>
              <a:buChar char="•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Lt BT"/>
            </a:endParaRPr>
          </a:p>
          <a:p>
            <a:pPr marL="177840" indent="-177840">
              <a:tabLst>
                <a:tab algn="l" pos="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utura Lt BT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9" name="Textfeld 8"/>
          <p:cNvSpPr/>
          <p:nvPr/>
        </p:nvSpPr>
        <p:spPr>
          <a:xfrm>
            <a:off x="3327480" y="6019920"/>
            <a:ext cx="5168880" cy="106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Futura Lt BT"/>
              </a:rPr>
              <a:t>3 methodische Arbeitsschritte</a:t>
            </a:r>
            <a:endParaRPr b="0" lang="en-US" sz="3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0" name="Textfeld 12" descr=""/>
          <p:cNvPicPr/>
          <p:nvPr/>
        </p:nvPicPr>
        <p:blipFill>
          <a:blip r:embed="rId1"/>
          <a:stretch/>
        </p:blipFill>
        <p:spPr>
          <a:xfrm>
            <a:off x="-66600" y="1500120"/>
            <a:ext cx="8715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8840"/>
            <a:ext cx="9144000" cy="48099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2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8BE-483B-4F12-92CE-71CE46BAB6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4" name="Textfeld 7"/>
          <p:cNvSpPr/>
          <p:nvPr/>
        </p:nvSpPr>
        <p:spPr>
          <a:xfrm>
            <a:off x="977760" y="177840"/>
            <a:ext cx="71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a1860"/>
                </a:solidFill>
                <a:latin typeface="Futura Lt BT"/>
              </a:rPr>
              <a:t>Arbeitszeiten und Löhne 1933-1944</a:t>
            </a:r>
            <a:endParaRPr b="0" lang="en-US" sz="3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25" name="Picture 21" descr="D:\Gerhild\Fachberaterin\FB Fobi ZPG\ZPG II\Modul Löffler\Methodenkompetenz\Statistik\Material Statistik\Statistik NS Vortrag.jpg"/>
          <p:cNvPicPr/>
          <p:nvPr/>
        </p:nvPicPr>
        <p:blipFill>
          <a:blip r:embed="rId1"/>
          <a:srcRect l="6890" t="11454" r="5794" b="27158"/>
          <a:stretch/>
        </p:blipFill>
        <p:spPr>
          <a:xfrm>
            <a:off x="228600" y="1625760"/>
            <a:ext cx="8724960" cy="4622760"/>
          </a:xfrm>
          <a:prstGeom prst="rect">
            <a:avLst/>
          </a:prstGeom>
          <a:ln w="0">
            <a:noFill/>
          </a:ln>
        </p:spPr>
      </p:pic>
      <p:sp>
        <p:nvSpPr>
          <p:cNvPr id="126" name="Abgerundetes Rechteck 18"/>
          <p:cNvSpPr/>
          <p:nvPr/>
        </p:nvSpPr>
        <p:spPr>
          <a:xfrm>
            <a:off x="1333440" y="216000"/>
            <a:ext cx="6616800" cy="52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" name="Textfeld 19"/>
          <p:cNvSpPr/>
          <p:nvPr/>
        </p:nvSpPr>
        <p:spPr>
          <a:xfrm>
            <a:off x="5651640" y="825480"/>
            <a:ext cx="220968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in Jahresschritte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8" name="Textfeld 22"/>
          <p:cNvSpPr/>
          <p:nvPr/>
        </p:nvSpPr>
        <p:spPr>
          <a:xfrm>
            <a:off x="3705120" y="825480"/>
            <a:ext cx="1882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in einer Tabelle 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" name="Abgerundetes Rechteck 24"/>
          <p:cNvSpPr/>
          <p:nvPr/>
        </p:nvSpPr>
        <p:spPr>
          <a:xfrm>
            <a:off x="216000" y="2120760"/>
            <a:ext cx="1333440" cy="1244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" name="Abgerundetes Rechteck 25"/>
          <p:cNvSpPr/>
          <p:nvPr/>
        </p:nvSpPr>
        <p:spPr>
          <a:xfrm>
            <a:off x="203040" y="3441600"/>
            <a:ext cx="1333800" cy="1524240"/>
          </a:xfrm>
          <a:custGeom>
            <a:avLst/>
            <a:gdLst>
              <a:gd name="textAreaLeft" fmla="*/ 64800 w 1333800"/>
              <a:gd name="textAreaRight" fmla="*/ 1269000 w 1333800"/>
              <a:gd name="textAreaTop" fmla="*/ 64800 h 1524240"/>
              <a:gd name="textAreaBottom" fmla="*/ 1459440 h 1524240"/>
            </a:gdLst>
            <a:ahLst/>
            <a:rect l="textAreaLeft" t="textAreaTop" r="textAreaRight" b="textAreaBottom"/>
            <a:pathLst>
              <a:path w="21600" h="24683">
                <a:moveTo>
                  <a:pt x="3600" y="0"/>
                </a:moveTo>
                <a:arcTo wR="3600" hR="3600" stAng="16200000" swAng="-5400000"/>
                <a:lnTo>
                  <a:pt x="0" y="21083"/>
                </a:lnTo>
                <a:arcTo wR="3600" hR="3600" stAng="10800000" swAng="-5400000"/>
                <a:lnTo>
                  <a:pt x="18000" y="24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1" name="Abgerundetes Rechteck 26"/>
          <p:cNvSpPr/>
          <p:nvPr/>
        </p:nvSpPr>
        <p:spPr>
          <a:xfrm>
            <a:off x="203040" y="5067360"/>
            <a:ext cx="1333800" cy="120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" name="Textfeld 28"/>
          <p:cNvSpPr/>
          <p:nvPr/>
        </p:nvSpPr>
        <p:spPr>
          <a:xfrm>
            <a:off x="1498680" y="3645000"/>
            <a:ext cx="443232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vermutlich in Stunden = absolute Zahl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" name="Textfeld 29"/>
          <p:cNvSpPr/>
          <p:nvPr/>
        </p:nvSpPr>
        <p:spPr>
          <a:xfrm>
            <a:off x="1486080" y="1981080"/>
            <a:ext cx="44319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Index = relative Zahl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4" name="Textfeld 30"/>
          <p:cNvSpPr/>
          <p:nvPr/>
        </p:nvSpPr>
        <p:spPr>
          <a:xfrm>
            <a:off x="1498680" y="5092560"/>
            <a:ext cx="44323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relative Zahl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" name="Textfeld 47"/>
          <p:cNvSpPr/>
          <p:nvPr/>
        </p:nvSpPr>
        <p:spPr>
          <a:xfrm>
            <a:off x="6896160" y="5118120"/>
            <a:ext cx="224784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keine Quellenan-gabe, keine Angaben zum Datenmaterial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36" name="Gruppieren 74"/>
          <p:cNvGrpSpPr/>
          <p:nvPr/>
        </p:nvGrpSpPr>
        <p:grpSpPr>
          <a:xfrm>
            <a:off x="1447920" y="2819520"/>
            <a:ext cx="5651280" cy="916920"/>
            <a:chOff x="1447920" y="2819520"/>
            <a:chExt cx="5651280" cy="916920"/>
          </a:xfrm>
        </p:grpSpPr>
        <p:sp>
          <p:nvSpPr>
            <p:cNvPr id="137" name="Textfeld 48"/>
            <p:cNvSpPr/>
            <p:nvPr/>
          </p:nvSpPr>
          <p:spPr>
            <a:xfrm>
              <a:off x="1447920" y="2819520"/>
              <a:ext cx="565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 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steigen jährlich zwischen1 u. 4, Stagnation 1940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insgesamt um 22, ca. 1937 Stand von 1928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38" name="Nach oben gebogener Pfeil 72"/>
            <p:cNvSpPr/>
            <p:nvPr/>
          </p:nvSpPr>
          <p:spPr>
            <a:xfrm flipH="1" rot="16200000">
              <a:off x="6698160" y="2800440"/>
              <a:ext cx="177480" cy="317160"/>
            </a:xfrm>
            <a:custGeom>
              <a:avLst/>
              <a:gdLst>
                <a:gd name="textAreaLeft" fmla="*/ -360 w 177480"/>
                <a:gd name="textAreaRight" fmla="*/ 155160 w 177480"/>
                <a:gd name="textAreaTop" fmla="*/ 27288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77860" h="317500">
                  <a:moveTo>
                    <a:pt x="0" y="273035"/>
                  </a:moveTo>
                  <a:lnTo>
                    <a:pt x="111163" y="273035"/>
                  </a:lnTo>
                  <a:lnTo>
                    <a:pt x="111163" y="44465"/>
                  </a:lnTo>
                  <a:lnTo>
                    <a:pt x="88930" y="44465"/>
                  </a:lnTo>
                  <a:lnTo>
                    <a:pt x="133395" y="0"/>
                  </a:lnTo>
                  <a:lnTo>
                    <a:pt x="177860" y="44465"/>
                  </a:lnTo>
                  <a:lnTo>
                    <a:pt x="155628" y="44465"/>
                  </a:lnTo>
                  <a:lnTo>
                    <a:pt x="155628" y="317500"/>
                  </a:lnTo>
                  <a:lnTo>
                    <a:pt x="0" y="3175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39" name="Nach oben gebogener Pfeil 73"/>
            <p:cNvSpPr/>
            <p:nvPr/>
          </p:nvSpPr>
          <p:spPr>
            <a:xfrm rot="5400000">
              <a:off x="1688760" y="2793960"/>
              <a:ext cx="190440" cy="291960"/>
            </a:xfrm>
            <a:custGeom>
              <a:avLst/>
              <a:gdLst>
                <a:gd name="textAreaLeft" fmla="*/ 0 w 190440"/>
                <a:gd name="textAreaRight" fmla="*/ 166680 w 190440"/>
                <a:gd name="textAreaTop" fmla="*/ 24444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190564" h="292100">
                  <a:moveTo>
                    <a:pt x="0" y="244459"/>
                  </a:moveTo>
                  <a:lnTo>
                    <a:pt x="119103" y="244459"/>
                  </a:lnTo>
                  <a:lnTo>
                    <a:pt x="119103" y="47641"/>
                  </a:lnTo>
                  <a:lnTo>
                    <a:pt x="95282" y="47641"/>
                  </a:lnTo>
                  <a:lnTo>
                    <a:pt x="142923" y="0"/>
                  </a:lnTo>
                  <a:lnTo>
                    <a:pt x="190564" y="47641"/>
                  </a:lnTo>
                  <a:lnTo>
                    <a:pt x="166744" y="47641"/>
                  </a:lnTo>
                  <a:lnTo>
                    <a:pt x="166744" y="292100"/>
                  </a:lnTo>
                  <a:lnTo>
                    <a:pt x="0" y="2921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40" name="Gruppieren 89"/>
          <p:cNvGrpSpPr/>
          <p:nvPr/>
        </p:nvGrpSpPr>
        <p:grpSpPr>
          <a:xfrm>
            <a:off x="7009920" y="2819520"/>
            <a:ext cx="1968840" cy="642600"/>
            <a:chOff x="7009920" y="2819520"/>
            <a:chExt cx="1968840" cy="642600"/>
          </a:xfrm>
        </p:grpSpPr>
        <p:sp>
          <p:nvSpPr>
            <p:cNvPr id="141" name="Textfeld 76"/>
            <p:cNvSpPr/>
            <p:nvPr/>
          </p:nvSpPr>
          <p:spPr>
            <a:xfrm>
              <a:off x="7010280" y="2819520"/>
              <a:ext cx="196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fallen um 7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1944~1938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42" name="Nach oben gebogener Pfeil 79"/>
            <p:cNvSpPr/>
            <p:nvPr/>
          </p:nvSpPr>
          <p:spPr>
            <a:xfrm rot="5400000">
              <a:off x="7081920" y="2797920"/>
              <a:ext cx="185760" cy="330120"/>
            </a:xfrm>
            <a:custGeom>
              <a:avLst/>
              <a:gdLst>
                <a:gd name="textAreaLeft" fmla="*/ 0 w 185760"/>
                <a:gd name="textAreaRight" fmla="*/ 162720 w 185760"/>
                <a:gd name="textAreaTop" fmla="*/ 28368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85801" h="330200">
                  <a:moveTo>
                    <a:pt x="0" y="283750"/>
                  </a:moveTo>
                  <a:lnTo>
                    <a:pt x="116126" y="283750"/>
                  </a:lnTo>
                  <a:lnTo>
                    <a:pt x="116126" y="46450"/>
                  </a:lnTo>
                  <a:lnTo>
                    <a:pt x="92901" y="46450"/>
                  </a:lnTo>
                  <a:lnTo>
                    <a:pt x="139351" y="0"/>
                  </a:lnTo>
                  <a:lnTo>
                    <a:pt x="185801" y="46450"/>
                  </a:lnTo>
                  <a:lnTo>
                    <a:pt x="162576" y="46450"/>
                  </a:lnTo>
                  <a:lnTo>
                    <a:pt x="162576" y="330200"/>
                  </a:lnTo>
                  <a:lnTo>
                    <a:pt x="0" y="330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43" name="Nach oben gebogener Pfeil 80"/>
            <p:cNvSpPr/>
            <p:nvPr/>
          </p:nvSpPr>
          <p:spPr>
            <a:xfrm flipH="1" rot="16200000">
              <a:off x="8604360" y="2837880"/>
              <a:ext cx="177480" cy="317520"/>
            </a:xfrm>
            <a:custGeom>
              <a:avLst/>
              <a:gdLst>
                <a:gd name="textAreaLeft" fmla="*/ -360 w 177480"/>
                <a:gd name="textAreaRight" fmla="*/ 155160 w 177480"/>
                <a:gd name="textAreaTop" fmla="*/ 27324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77860" h="317500">
                  <a:moveTo>
                    <a:pt x="0" y="273035"/>
                  </a:moveTo>
                  <a:lnTo>
                    <a:pt x="111163" y="273035"/>
                  </a:lnTo>
                  <a:lnTo>
                    <a:pt x="111163" y="44465"/>
                  </a:lnTo>
                  <a:lnTo>
                    <a:pt x="88930" y="44465"/>
                  </a:lnTo>
                  <a:lnTo>
                    <a:pt x="133395" y="0"/>
                  </a:lnTo>
                  <a:lnTo>
                    <a:pt x="177860" y="44465"/>
                  </a:lnTo>
                  <a:lnTo>
                    <a:pt x="155628" y="44465"/>
                  </a:lnTo>
                  <a:lnTo>
                    <a:pt x="155628" y="317500"/>
                  </a:lnTo>
                  <a:lnTo>
                    <a:pt x="0" y="3175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44" name="Gruppieren 81"/>
          <p:cNvGrpSpPr/>
          <p:nvPr/>
        </p:nvGrpSpPr>
        <p:grpSpPr>
          <a:xfrm>
            <a:off x="1473120" y="4254480"/>
            <a:ext cx="6502320" cy="642600"/>
            <a:chOff x="1473120" y="4254480"/>
            <a:chExt cx="6502320" cy="642600"/>
          </a:xfrm>
        </p:grpSpPr>
        <p:sp>
          <p:nvSpPr>
            <p:cNvPr id="145" name="Textfeld 82"/>
            <p:cNvSpPr/>
            <p:nvPr/>
          </p:nvSpPr>
          <p:spPr>
            <a:xfrm>
              <a:off x="1473120" y="4254480"/>
              <a:ext cx="650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steigt bis 1939 um 4 (Stagnation 1935),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von 1939 bis1942 nochmals um 2,2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46" name="Nach oben gebogener Pfeil 83"/>
            <p:cNvSpPr/>
            <p:nvPr/>
          </p:nvSpPr>
          <p:spPr>
            <a:xfrm flipH="1" rot="16200000">
              <a:off x="7528680" y="4210920"/>
              <a:ext cx="177840" cy="366480"/>
            </a:xfrm>
            <a:custGeom>
              <a:avLst/>
              <a:gdLst>
                <a:gd name="textAreaLeft" fmla="*/ 360 w 177840"/>
                <a:gd name="textAreaRight" fmla="*/ 156240 w 177840"/>
                <a:gd name="textAreaTop" fmla="*/ 31536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77860" h="318724">
                  <a:moveTo>
                    <a:pt x="0" y="274259"/>
                  </a:moveTo>
                  <a:lnTo>
                    <a:pt x="111163" y="274259"/>
                  </a:lnTo>
                  <a:lnTo>
                    <a:pt x="111163" y="44465"/>
                  </a:lnTo>
                  <a:lnTo>
                    <a:pt x="88930" y="44465"/>
                  </a:lnTo>
                  <a:lnTo>
                    <a:pt x="133395" y="0"/>
                  </a:lnTo>
                  <a:lnTo>
                    <a:pt x="177860" y="44465"/>
                  </a:lnTo>
                  <a:lnTo>
                    <a:pt x="155628" y="44465"/>
                  </a:lnTo>
                  <a:lnTo>
                    <a:pt x="155628" y="318724"/>
                  </a:lnTo>
                  <a:lnTo>
                    <a:pt x="0" y="31872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47" name="Nach oben gebogener Pfeil 84"/>
            <p:cNvSpPr/>
            <p:nvPr/>
          </p:nvSpPr>
          <p:spPr>
            <a:xfrm rot="5400000">
              <a:off x="1775520" y="4195440"/>
              <a:ext cx="210960" cy="379080"/>
            </a:xfrm>
            <a:custGeom>
              <a:avLst/>
              <a:gdLst>
                <a:gd name="textAreaLeft" fmla="*/ 0 w 210960"/>
                <a:gd name="textAreaRight" fmla="*/ 184680 w 210960"/>
                <a:gd name="textAreaTop" fmla="*/ 31860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11209" h="329763">
                  <a:moveTo>
                    <a:pt x="0" y="276961"/>
                  </a:moveTo>
                  <a:lnTo>
                    <a:pt x="132006" y="276961"/>
                  </a:lnTo>
                  <a:lnTo>
                    <a:pt x="132006" y="52802"/>
                  </a:lnTo>
                  <a:lnTo>
                    <a:pt x="105605" y="52802"/>
                  </a:lnTo>
                  <a:lnTo>
                    <a:pt x="158407" y="0"/>
                  </a:lnTo>
                  <a:lnTo>
                    <a:pt x="211209" y="52802"/>
                  </a:lnTo>
                  <a:lnTo>
                    <a:pt x="184808" y="52802"/>
                  </a:lnTo>
                  <a:lnTo>
                    <a:pt x="184808" y="329763"/>
                  </a:lnTo>
                  <a:lnTo>
                    <a:pt x="0" y="32976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48" name="Gruppieren 85"/>
          <p:cNvGrpSpPr/>
          <p:nvPr/>
        </p:nvGrpSpPr>
        <p:grpSpPr>
          <a:xfrm>
            <a:off x="1587600" y="5778360"/>
            <a:ext cx="5118120" cy="642600"/>
            <a:chOff x="1587600" y="5778360"/>
            <a:chExt cx="5118120" cy="642600"/>
          </a:xfrm>
        </p:grpSpPr>
        <p:sp>
          <p:nvSpPr>
            <p:cNvPr id="149" name="Textfeld 86"/>
            <p:cNvSpPr/>
            <p:nvPr/>
          </p:nvSpPr>
          <p:spPr>
            <a:xfrm>
              <a:off x="1587600" y="5778360"/>
              <a:ext cx="5118120" cy="642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 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fast halbiert bis 1934, sinkt jährlich ca. 3%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bis zur Vollbeschäftigung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50" name="Nach oben gebogener Pfeil 87"/>
            <p:cNvSpPr/>
            <p:nvPr/>
          </p:nvSpPr>
          <p:spPr>
            <a:xfrm flipH="1" rot="16200000">
              <a:off x="6328080" y="5770440"/>
              <a:ext cx="177840" cy="295200"/>
            </a:xfrm>
            <a:custGeom>
              <a:avLst/>
              <a:gdLst>
                <a:gd name="textAreaLeft" fmla="*/ 360 w 177840"/>
                <a:gd name="textAreaRight" fmla="*/ 156240 w 177840"/>
                <a:gd name="textAreaTop" fmla="*/ 25380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77860" h="317385">
                  <a:moveTo>
                    <a:pt x="0" y="272920"/>
                  </a:moveTo>
                  <a:lnTo>
                    <a:pt x="111163" y="272920"/>
                  </a:lnTo>
                  <a:lnTo>
                    <a:pt x="111163" y="44465"/>
                  </a:lnTo>
                  <a:lnTo>
                    <a:pt x="88930" y="44465"/>
                  </a:lnTo>
                  <a:lnTo>
                    <a:pt x="133395" y="0"/>
                  </a:lnTo>
                  <a:lnTo>
                    <a:pt x="177860" y="44465"/>
                  </a:lnTo>
                  <a:lnTo>
                    <a:pt x="155628" y="44465"/>
                  </a:lnTo>
                  <a:lnTo>
                    <a:pt x="155628" y="317385"/>
                  </a:lnTo>
                  <a:lnTo>
                    <a:pt x="0" y="31738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51" name="Nach oben gebogener Pfeil 88"/>
            <p:cNvSpPr/>
            <p:nvPr/>
          </p:nvSpPr>
          <p:spPr>
            <a:xfrm rot="5400000">
              <a:off x="1672560" y="5755680"/>
              <a:ext cx="210960" cy="306360"/>
            </a:xfrm>
            <a:custGeom>
              <a:avLst/>
              <a:gdLst>
                <a:gd name="textAreaLeft" fmla="*/ 0 w 210960"/>
                <a:gd name="textAreaRight" fmla="*/ 184680 w 210960"/>
                <a:gd name="textAreaTop" fmla="*/ 25740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11209" h="329330">
                  <a:moveTo>
                    <a:pt x="0" y="276528"/>
                  </a:moveTo>
                  <a:lnTo>
                    <a:pt x="132006" y="276528"/>
                  </a:lnTo>
                  <a:lnTo>
                    <a:pt x="132006" y="52802"/>
                  </a:lnTo>
                  <a:lnTo>
                    <a:pt x="105605" y="52802"/>
                  </a:lnTo>
                  <a:lnTo>
                    <a:pt x="158407" y="0"/>
                  </a:lnTo>
                  <a:lnTo>
                    <a:pt x="211209" y="52802"/>
                  </a:lnTo>
                  <a:lnTo>
                    <a:pt x="184808" y="52802"/>
                  </a:lnTo>
                  <a:lnTo>
                    <a:pt x="184808" y="329330"/>
                  </a:lnTo>
                  <a:lnTo>
                    <a:pt x="0" y="32933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sp>
        <p:nvSpPr>
          <p:cNvPr id="152" name="Textfeld 90"/>
          <p:cNvSpPr/>
          <p:nvPr/>
        </p:nvSpPr>
        <p:spPr>
          <a:xfrm>
            <a:off x="825480" y="6458040"/>
            <a:ext cx="194328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fehlende Zahle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06600"/>
            <a:ext cx="9144000" cy="48225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77D6-EE98-43F4-851F-17DBD692F0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6" name="Textfeld 7"/>
          <p:cNvSpPr/>
          <p:nvPr/>
        </p:nvSpPr>
        <p:spPr>
          <a:xfrm>
            <a:off x="977760" y="177840"/>
            <a:ext cx="718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a1860"/>
                </a:solidFill>
                <a:latin typeface="Futura Lt BT"/>
              </a:rPr>
              <a:t>Arbeitszeiten und Löhne 1933-1944</a:t>
            </a:r>
            <a:endParaRPr b="0" lang="en-US" sz="32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57" name="Picture 21" descr="D:\Gerhild\Fachberaterin\FB Fobi ZPG\ZPG II\Modul Löffler\Methodenkompetenz\Statistik\Material Statistik\Statistik NS Vortrag.jpg"/>
          <p:cNvPicPr/>
          <p:nvPr/>
        </p:nvPicPr>
        <p:blipFill>
          <a:blip r:embed="rId1"/>
          <a:srcRect l="6890" t="11454" r="5794" b="27158"/>
          <a:stretch/>
        </p:blipFill>
        <p:spPr>
          <a:xfrm>
            <a:off x="228600" y="1625760"/>
            <a:ext cx="8724960" cy="4622760"/>
          </a:xfrm>
          <a:prstGeom prst="rect">
            <a:avLst/>
          </a:prstGeom>
          <a:ln w="0">
            <a:noFill/>
          </a:ln>
        </p:spPr>
      </p:pic>
      <p:sp>
        <p:nvSpPr>
          <p:cNvPr id="158" name="Textfeld 19"/>
          <p:cNvSpPr/>
          <p:nvPr/>
        </p:nvSpPr>
        <p:spPr>
          <a:xfrm>
            <a:off x="4305240" y="838080"/>
            <a:ext cx="468648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a1860"/>
                </a:solidFill>
                <a:latin typeface="Futura Lt BT"/>
              </a:rPr>
              <a:t>Zeit des NS: nach WWK – Kriegsbeginn – vorletztes Kriegsjahr 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  <p:grpSp>
        <p:nvGrpSpPr>
          <p:cNvPr id="159" name="Gruppieren 74"/>
          <p:cNvGrpSpPr/>
          <p:nvPr/>
        </p:nvGrpSpPr>
        <p:grpSpPr>
          <a:xfrm>
            <a:off x="1447920" y="2819520"/>
            <a:ext cx="7696080" cy="1465560"/>
            <a:chOff x="1447920" y="2819520"/>
            <a:chExt cx="7696080" cy="1465560"/>
          </a:xfrm>
        </p:grpSpPr>
        <p:sp>
          <p:nvSpPr>
            <p:cNvPr id="160" name="Textfeld 48"/>
            <p:cNvSpPr/>
            <p:nvPr/>
          </p:nvSpPr>
          <p:spPr>
            <a:xfrm>
              <a:off x="1447920" y="2819520"/>
              <a:ext cx="7696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 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„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Wirtschaftsaufschwung“, Stagnation bei Kriegsbeginn, ab 1942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führen Kriegskosten und evtl. zunehmende Arbeit von Frauen (evtl. sind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auch Fremdarbeiter in der Statistik erfasst) zu sinkenden Löhnen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61" name="Nach oben gebogener Pfeil 72"/>
            <p:cNvSpPr/>
            <p:nvPr/>
          </p:nvSpPr>
          <p:spPr>
            <a:xfrm flipH="1" rot="16200000">
              <a:off x="8709840" y="2821680"/>
              <a:ext cx="139680" cy="312480"/>
            </a:xfrm>
            <a:custGeom>
              <a:avLst/>
              <a:gdLst>
                <a:gd name="textAreaLeft" fmla="*/ 0 w 139680"/>
                <a:gd name="textAreaRight" fmla="*/ 122400 w 139680"/>
                <a:gd name="textAreaTop" fmla="*/ 26496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39610" h="229651">
                  <a:moveTo>
                    <a:pt x="0" y="194749"/>
                  </a:moveTo>
                  <a:lnTo>
                    <a:pt x="87256" y="194749"/>
                  </a:lnTo>
                  <a:lnTo>
                    <a:pt x="87256" y="34903"/>
                  </a:lnTo>
                  <a:lnTo>
                    <a:pt x="69805" y="34903"/>
                  </a:lnTo>
                  <a:lnTo>
                    <a:pt x="104708" y="0"/>
                  </a:lnTo>
                  <a:lnTo>
                    <a:pt x="139610" y="34903"/>
                  </a:lnTo>
                  <a:lnTo>
                    <a:pt x="122159" y="34903"/>
                  </a:lnTo>
                  <a:lnTo>
                    <a:pt x="122159" y="229651"/>
                  </a:lnTo>
                  <a:lnTo>
                    <a:pt x="0" y="22965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62" name="Nach oben gebogener Pfeil 73"/>
            <p:cNvSpPr/>
            <p:nvPr/>
          </p:nvSpPr>
          <p:spPr>
            <a:xfrm rot="5400000">
              <a:off x="1826280" y="2724840"/>
              <a:ext cx="210960" cy="450720"/>
            </a:xfrm>
            <a:custGeom>
              <a:avLst/>
              <a:gdLst>
                <a:gd name="textAreaLeft" fmla="*/ 0 w 210960"/>
                <a:gd name="textAreaRight" fmla="*/ 184680 w 210960"/>
                <a:gd name="textAreaTop" fmla="*/ 37908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11002" h="331070">
                  <a:moveTo>
                    <a:pt x="0" y="278320"/>
                  </a:moveTo>
                  <a:lnTo>
                    <a:pt x="131876" y="278320"/>
                  </a:lnTo>
                  <a:lnTo>
                    <a:pt x="131876" y="52751"/>
                  </a:lnTo>
                  <a:lnTo>
                    <a:pt x="105501" y="52751"/>
                  </a:lnTo>
                  <a:lnTo>
                    <a:pt x="158252" y="0"/>
                  </a:lnTo>
                  <a:lnTo>
                    <a:pt x="211002" y="52751"/>
                  </a:lnTo>
                  <a:lnTo>
                    <a:pt x="184627" y="52751"/>
                  </a:lnTo>
                  <a:lnTo>
                    <a:pt x="184627" y="331070"/>
                  </a:lnTo>
                  <a:lnTo>
                    <a:pt x="0" y="33107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63" name="Gruppieren 81"/>
          <p:cNvGrpSpPr/>
          <p:nvPr/>
        </p:nvGrpSpPr>
        <p:grpSpPr>
          <a:xfrm>
            <a:off x="1473120" y="4254480"/>
            <a:ext cx="7480440" cy="1191240"/>
            <a:chOff x="1473120" y="4254480"/>
            <a:chExt cx="7480440" cy="1191240"/>
          </a:xfrm>
        </p:grpSpPr>
        <p:sp>
          <p:nvSpPr>
            <p:cNvPr id="164" name="Textfeld 82"/>
            <p:cNvSpPr/>
            <p:nvPr/>
          </p:nvSpPr>
          <p:spPr>
            <a:xfrm>
              <a:off x="1473120" y="4254480"/>
              <a:ext cx="748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Steigerung des Wochenlohns auch durch Arbeitszeiterhöhung, Stundenlöhne steigen daher nur gering, von 1933 bis 1942 um gut 6 %; Arbeitszeiterhöhung durch „Wirtschaftsaufschwung“ und Arbeitskräfte-mangel im Krieg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65" name="Nach oben gebogener Pfeil 83"/>
            <p:cNvSpPr/>
            <p:nvPr/>
          </p:nvSpPr>
          <p:spPr>
            <a:xfrm flipH="1" rot="16200000">
              <a:off x="8630640" y="4170960"/>
              <a:ext cx="177840" cy="420480"/>
            </a:xfrm>
            <a:custGeom>
              <a:avLst/>
              <a:gdLst>
                <a:gd name="textAreaLeft" fmla="*/ 360 w 177840"/>
                <a:gd name="textAreaRight" fmla="*/ 156240 w 177840"/>
                <a:gd name="textAreaTop" fmla="*/ 36180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77827" h="317837">
                  <a:moveTo>
                    <a:pt x="0" y="273380"/>
                  </a:moveTo>
                  <a:lnTo>
                    <a:pt x="111142" y="273380"/>
                  </a:lnTo>
                  <a:lnTo>
                    <a:pt x="111142" y="44457"/>
                  </a:lnTo>
                  <a:lnTo>
                    <a:pt x="88914" y="44457"/>
                  </a:lnTo>
                  <a:lnTo>
                    <a:pt x="133370" y="0"/>
                  </a:lnTo>
                  <a:lnTo>
                    <a:pt x="177827" y="44457"/>
                  </a:lnTo>
                  <a:lnTo>
                    <a:pt x="155599" y="44457"/>
                  </a:lnTo>
                  <a:lnTo>
                    <a:pt x="155599" y="317837"/>
                  </a:lnTo>
                  <a:lnTo>
                    <a:pt x="0" y="3178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66" name="Nach oben gebogener Pfeil 84"/>
            <p:cNvSpPr/>
            <p:nvPr/>
          </p:nvSpPr>
          <p:spPr>
            <a:xfrm rot="5400000">
              <a:off x="1838160" y="4167000"/>
              <a:ext cx="210960" cy="436320"/>
            </a:xfrm>
            <a:custGeom>
              <a:avLst/>
              <a:gdLst>
                <a:gd name="textAreaLeft" fmla="*/ 0 w 210960"/>
                <a:gd name="textAreaRight" fmla="*/ 184680 w 210960"/>
                <a:gd name="textAreaTop" fmla="*/ 36648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11169" h="329830">
                  <a:moveTo>
                    <a:pt x="0" y="277038"/>
                  </a:moveTo>
                  <a:lnTo>
                    <a:pt x="131981" y="277038"/>
                  </a:lnTo>
                  <a:lnTo>
                    <a:pt x="131981" y="52792"/>
                  </a:lnTo>
                  <a:lnTo>
                    <a:pt x="105585" y="52792"/>
                  </a:lnTo>
                  <a:lnTo>
                    <a:pt x="158377" y="0"/>
                  </a:lnTo>
                  <a:lnTo>
                    <a:pt x="211169" y="52792"/>
                  </a:lnTo>
                  <a:lnTo>
                    <a:pt x="184773" y="52792"/>
                  </a:lnTo>
                  <a:lnTo>
                    <a:pt x="184773" y="329830"/>
                  </a:lnTo>
                  <a:lnTo>
                    <a:pt x="0" y="32983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67" name="Gruppieren 85"/>
          <p:cNvGrpSpPr/>
          <p:nvPr/>
        </p:nvGrpSpPr>
        <p:grpSpPr>
          <a:xfrm>
            <a:off x="1587600" y="5778360"/>
            <a:ext cx="7556400" cy="642600"/>
            <a:chOff x="1587600" y="5778360"/>
            <a:chExt cx="7556400" cy="642600"/>
          </a:xfrm>
        </p:grpSpPr>
        <p:sp>
          <p:nvSpPr>
            <p:cNvPr id="168" name="Textfeld 86"/>
            <p:cNvSpPr/>
            <p:nvPr/>
          </p:nvSpPr>
          <p:spPr>
            <a:xfrm>
              <a:off x="1587600" y="5778360"/>
              <a:ext cx="7556400" cy="6426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       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Arbeitsbeschaffungsmaßnahmen, staatliche Aufträge und 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	</a:t>
              </a:r>
              <a:r>
                <a:rPr b="1" lang="de-DE" sz="1800" spc="-1" strike="noStrike">
                  <a:solidFill>
                    <a:srgbClr val="ff0000"/>
                  </a:solidFill>
                  <a:latin typeface="Futura Lt BT"/>
                </a:rPr>
                <a:t>Kredite (z.B. Mefo), RAD, Wehrpflicht, Frauenpolitik…</a:t>
              </a:r>
              <a:endParaRPr b="0" lang="en-US" sz="18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69" name="Nach oben gebogener Pfeil 87"/>
            <p:cNvSpPr/>
            <p:nvPr/>
          </p:nvSpPr>
          <p:spPr>
            <a:xfrm flipH="1" rot="16200000">
              <a:off x="8627400" y="5699880"/>
              <a:ext cx="177840" cy="436320"/>
            </a:xfrm>
            <a:custGeom>
              <a:avLst/>
              <a:gdLst>
                <a:gd name="textAreaLeft" fmla="*/ 360 w 177840"/>
                <a:gd name="textAreaRight" fmla="*/ 156240 w 177840"/>
                <a:gd name="textAreaTop" fmla="*/ 37548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177860" h="317829">
                  <a:moveTo>
                    <a:pt x="0" y="273364"/>
                  </a:moveTo>
                  <a:lnTo>
                    <a:pt x="111163" y="273364"/>
                  </a:lnTo>
                  <a:lnTo>
                    <a:pt x="111163" y="44465"/>
                  </a:lnTo>
                  <a:lnTo>
                    <a:pt x="88930" y="44465"/>
                  </a:lnTo>
                  <a:lnTo>
                    <a:pt x="133395" y="0"/>
                  </a:lnTo>
                  <a:lnTo>
                    <a:pt x="177860" y="44465"/>
                  </a:lnTo>
                  <a:lnTo>
                    <a:pt x="155628" y="44465"/>
                  </a:lnTo>
                  <a:lnTo>
                    <a:pt x="155628" y="317829"/>
                  </a:lnTo>
                  <a:lnTo>
                    <a:pt x="0" y="31782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70" name="Nach oben gebogener Pfeil 88"/>
            <p:cNvSpPr/>
            <p:nvPr/>
          </p:nvSpPr>
          <p:spPr>
            <a:xfrm rot="5400000">
              <a:off x="1764000" y="5681880"/>
              <a:ext cx="210960" cy="453960"/>
            </a:xfrm>
            <a:custGeom>
              <a:avLst/>
              <a:gdLst>
                <a:gd name="textAreaLeft" fmla="*/ 0 w 210960"/>
                <a:gd name="textAreaRight" fmla="*/ 184680 w 210960"/>
                <a:gd name="textAreaTop" fmla="*/ 38160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11209" h="330543">
                  <a:moveTo>
                    <a:pt x="0" y="277741"/>
                  </a:moveTo>
                  <a:lnTo>
                    <a:pt x="132006" y="277741"/>
                  </a:lnTo>
                  <a:lnTo>
                    <a:pt x="132006" y="52802"/>
                  </a:lnTo>
                  <a:lnTo>
                    <a:pt x="105605" y="52802"/>
                  </a:lnTo>
                  <a:lnTo>
                    <a:pt x="158407" y="0"/>
                  </a:lnTo>
                  <a:lnTo>
                    <a:pt x="211209" y="52802"/>
                  </a:lnTo>
                  <a:lnTo>
                    <a:pt x="184808" y="52802"/>
                  </a:lnTo>
                  <a:lnTo>
                    <a:pt x="184808" y="330543"/>
                  </a:lnTo>
                  <a:lnTo>
                    <a:pt x="0" y="33054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177840" y="851040"/>
            <a:ext cx="3889440" cy="2514600"/>
            <a:chOff x="177840" y="851040"/>
            <a:chExt cx="3889440" cy="2514600"/>
          </a:xfrm>
        </p:grpSpPr>
        <p:sp>
          <p:nvSpPr>
            <p:cNvPr id="172" name="Abgerundetes Rechteck 24"/>
            <p:cNvSpPr/>
            <p:nvPr/>
          </p:nvSpPr>
          <p:spPr>
            <a:xfrm>
              <a:off x="216000" y="2120760"/>
              <a:ext cx="1333440" cy="1244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73" name="Textfeld 29"/>
            <p:cNvSpPr/>
            <p:nvPr/>
          </p:nvSpPr>
          <p:spPr>
            <a:xfrm>
              <a:off x="177840" y="851040"/>
              <a:ext cx="3889440" cy="100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a1860"/>
                  </a:solidFill>
                  <a:latin typeface="Futura Lt BT"/>
                </a:rPr>
                <a:t>preis- und inflationsbereinigt, zeigt die reale Kaufkraft</a:t>
              </a:r>
              <a:endParaRPr b="0" lang="en-US" sz="20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cxnSp>
          <p:nvCxnSpPr>
            <p:cNvPr id="174" name="Gerade Verbindung mit Pfeil 32"/>
            <p:cNvCxnSpPr/>
            <p:nvPr/>
          </p:nvCxnSpPr>
          <p:spPr>
            <a:xfrm>
              <a:off x="849960" y="1549440"/>
              <a:ext cx="1080" cy="559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175" name="Group 30"/>
          <p:cNvGrpSpPr/>
          <p:nvPr/>
        </p:nvGrpSpPr>
        <p:grpSpPr>
          <a:xfrm>
            <a:off x="203040" y="5067360"/>
            <a:ext cx="2313000" cy="1910160"/>
            <a:chOff x="203040" y="5067360"/>
            <a:chExt cx="2313000" cy="1910160"/>
          </a:xfrm>
        </p:grpSpPr>
        <p:sp>
          <p:nvSpPr>
            <p:cNvPr id="176" name="Abgerundetes Rechteck 26"/>
            <p:cNvSpPr/>
            <p:nvPr/>
          </p:nvSpPr>
          <p:spPr>
            <a:xfrm>
              <a:off x="203040" y="5067360"/>
              <a:ext cx="1333800" cy="1206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  <p:sp>
          <p:nvSpPr>
            <p:cNvPr id="177" name="Textfeld 30"/>
            <p:cNvSpPr/>
            <p:nvPr/>
          </p:nvSpPr>
          <p:spPr>
            <a:xfrm>
              <a:off x="203040" y="6273720"/>
              <a:ext cx="2313000" cy="70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a1860"/>
                  </a:solidFill>
                  <a:latin typeface="Futura Lt BT"/>
                </a:rPr>
                <a:t>ohne Selbständige</a:t>
              </a:r>
              <a:endParaRPr b="0" lang="en-US" sz="2000" spc="-1" strike="noStrike">
                <a:solidFill>
                  <a:srgbClr val="ffffff"/>
                </a:solidFill>
                <a:latin typeface="Futura Lt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7:04:36Z</dcterms:created>
  <dc:creator>Andreas Gawatz</dc:creator>
  <dc:description/>
  <dc:language>en-US</dc:language>
  <cp:lastModifiedBy>Gerhild</cp:lastModifiedBy>
  <dcterms:modified xsi:type="dcterms:W3CDTF">2015-03-01T10:04:38Z</dcterms:modified>
  <cp:revision>403</cp:revision>
  <dc:subject/>
  <dc:title>Arbeiten mit Texten</dc:title>
</cp:coreProperties>
</file>