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3" name="AutoShape 1"/>
          <p:cNvSpPr/>
          <p:nvPr/>
        </p:nvSpPr>
        <p:spPr>
          <a:xfrm>
            <a:off x="0" y="0"/>
            <a:ext cx="6883560" cy="9709200"/>
          </a:xfrm>
          <a:custGeom>
            <a:avLst/>
            <a:gdLst>
              <a:gd name="textAreaLeft" fmla="*/ 360 w 6883560"/>
              <a:gd name="textAreaRight" fmla="*/ 6883200 w 6883560"/>
              <a:gd name="textAreaTop" fmla="*/ 360 h 9709200"/>
              <a:gd name="textAreaBottom" fmla="*/ 9708840 h 9709200"/>
            </a:gdLst>
            <a:ahLst/>
            <a:rect l="textAreaLeft" t="textAreaTop" r="textAreaRight" b="textAreaBottom"/>
            <a:pathLst>
              <a:path w="21600" h="30466">
                <a:moveTo>
                  <a:pt x="4" y="0"/>
                </a:moveTo>
                <a:arcTo wR="4" hR="4" stAng="16200000" swAng="-5400000"/>
                <a:lnTo>
                  <a:pt x="0" y="30462"/>
                </a:lnTo>
                <a:arcTo wR="4" hR="4" stAng="10800000" swAng="-5400000"/>
                <a:lnTo>
                  <a:pt x="21596" y="3046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AutoShape 2"/>
          <p:cNvSpPr/>
          <p:nvPr/>
        </p:nvSpPr>
        <p:spPr>
          <a:xfrm>
            <a:off x="0" y="0"/>
            <a:ext cx="6883560" cy="9709200"/>
          </a:xfrm>
          <a:custGeom>
            <a:avLst/>
            <a:gdLst>
              <a:gd name="textAreaLeft" fmla="*/ 360 w 6883560"/>
              <a:gd name="textAreaRight" fmla="*/ 6883200 w 6883560"/>
              <a:gd name="textAreaTop" fmla="*/ 360 h 9709200"/>
              <a:gd name="textAreaBottom" fmla="*/ 9708840 h 9709200"/>
            </a:gdLst>
            <a:ahLst/>
            <a:rect l="textAreaLeft" t="textAreaTop" r="textAreaRight" b="textAreaBottom"/>
            <a:pathLst>
              <a:path w="21600" h="30466">
                <a:moveTo>
                  <a:pt x="4" y="0"/>
                </a:moveTo>
                <a:arcTo wR="4" hR="4" stAng="16200000" swAng="-5400000"/>
                <a:lnTo>
                  <a:pt x="0" y="30462"/>
                </a:lnTo>
                <a:arcTo wR="4" hR="4" stAng="10800000" swAng="-5400000"/>
                <a:lnTo>
                  <a:pt x="21596" y="3046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PlaceHolder 1"/>
          <p:cNvSpPr>
            <a:spLocks noGrp="1"/>
          </p:cNvSpPr>
          <p:nvPr>
            <p:ph type="sldImg"/>
          </p:nvPr>
        </p:nvSpPr>
        <p:spPr>
          <a:xfrm>
            <a:off x="1106640" y="812520"/>
            <a:ext cx="5340240" cy="400356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86"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7"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88" name="PlaceHolder 4"/>
          <p:cNvSpPr>
            <a:spLocks noGrp="1"/>
          </p:cNvSpPr>
          <p:nvPr>
            <p:ph type="dt" idx="71"/>
          </p:nvPr>
        </p:nvSpPr>
        <p:spPr>
          <a:xfrm>
            <a:off x="4278240" y="-360"/>
            <a:ext cx="3276720" cy="530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89" name="PlaceHolder 5"/>
          <p:cNvSpPr>
            <a:spLocks noGrp="1"/>
          </p:cNvSpPr>
          <p:nvPr>
            <p:ph type="ftr" idx="72"/>
          </p:nvPr>
        </p:nvSpPr>
        <p:spPr>
          <a:xfrm>
            <a:off x="0" y="10156320"/>
            <a:ext cx="3276720" cy="5302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90" name="PlaceHolder 6"/>
          <p:cNvSpPr>
            <a:spLocks noGrp="1"/>
          </p:cNvSpPr>
          <p:nvPr>
            <p:ph type="sldNum" idx="73"/>
          </p:nvPr>
        </p:nvSpPr>
        <p:spPr>
          <a:xfrm>
            <a:off x="4278240" y="10156320"/>
            <a:ext cx="3276720" cy="53028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140994-D035-4BE5-A68A-91B993CC914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DE3053-5B9F-472E-9089-240B99821779}"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50" name="PlaceHolder 1"/>
          <p:cNvSpPr>
            <a:spLocks noGrp="1"/>
          </p:cNvSpPr>
          <p:nvPr>
            <p:ph type="sldImg"/>
          </p:nvPr>
        </p:nvSpPr>
        <p:spPr>
          <a:xfrm>
            <a:off x="1106640" y="812880"/>
            <a:ext cx="5343480" cy="4006800"/>
          </a:xfrm>
          <a:prstGeom prst="rect">
            <a:avLst/>
          </a:prstGeom>
          <a:ln w="0">
            <a:noFill/>
          </a:ln>
        </p:spPr>
      </p:sp>
      <p:sp>
        <p:nvSpPr>
          <p:cNvPr id="1051"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Ziviler Ungehorsam gilt als Form der politischen Partizipation, bei der ein bewusster Verstoß gegen rechtliche Normen aus Gewissensgründen zur Beseitigung einer Unrechtssituation vorgenommen wir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572384-5F9D-4D68-8426-E292CAA1AA05}"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82" name="PlaceHolder 1"/>
          <p:cNvSpPr>
            <a:spLocks noGrp="1"/>
          </p:cNvSpPr>
          <p:nvPr>
            <p:ph type="sldImg"/>
          </p:nvPr>
        </p:nvSpPr>
        <p:spPr>
          <a:xfrm>
            <a:off x="1012680" y="738360"/>
            <a:ext cx="4854600" cy="3641400"/>
          </a:xfrm>
          <a:prstGeom prst="rect">
            <a:avLst/>
          </a:prstGeom>
          <a:ln w="0">
            <a:noFill/>
          </a:ln>
        </p:spPr>
      </p:sp>
      <p:sp>
        <p:nvSpPr>
          <p:cNvPr id="1083" name="PlaceHolder 2"/>
          <p:cNvSpPr>
            <a:spLocks noGrp="1"/>
          </p:cNvSpPr>
          <p:nvPr>
            <p:ph type="body"/>
          </p:nvPr>
        </p:nvSpPr>
        <p:spPr>
          <a:xfrm>
            <a:off x="686880" y="4611600"/>
            <a:ext cx="5505480" cy="437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Zentrale Infos zum Tod des Benno Ohnesor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874E32-95AA-4CFE-856F-1F2D6AA97CA4}"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85" name="PlaceHolder 1"/>
          <p:cNvSpPr>
            <a:spLocks noGrp="1"/>
          </p:cNvSpPr>
          <p:nvPr>
            <p:ph type="sldImg"/>
          </p:nvPr>
        </p:nvSpPr>
        <p:spPr>
          <a:xfrm>
            <a:off x="1106640" y="812880"/>
            <a:ext cx="5343480" cy="4006800"/>
          </a:xfrm>
          <a:prstGeom prst="rect">
            <a:avLst/>
          </a:prstGeom>
          <a:ln w="0">
            <a:noFill/>
          </a:ln>
        </p:spPr>
      </p:sp>
      <p:sp>
        <p:nvSpPr>
          <p:cNvPr id="1086"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TA: </a:t>
            </a:r>
            <a:r>
              <a:rPr b="1" lang="de-DE" sz="1200" spc="-1" strike="noStrike">
                <a:solidFill>
                  <a:srgbClr val="000000"/>
                </a:solidFill>
                <a:latin typeface="Times New Roman"/>
              </a:rPr>
              <a:t>Ziviler Ungehorsam in Ost und Wes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08080" y="812880"/>
            <a:ext cx="5337000" cy="4003560"/>
          </a:xfrm>
          <a:prstGeom prst="rect">
            <a:avLst/>
          </a:prstGeom>
          <a:ln w="0">
            <a:noFill/>
          </a:ln>
        </p:spPr>
      </p:sp>
      <p:sp>
        <p:nvSpPr>
          <p:cNvPr id="1088"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Reflexion: </a:t>
            </a:r>
            <a:br>
              <a:rPr sz="1200"/>
            </a:br>
            <a:r>
              <a:rPr b="0" lang="de-DE" sz="1200" spc="-1" strike="noStrike">
                <a:solidFill>
                  <a:srgbClr val="000000"/>
                </a:solidFill>
                <a:latin typeface="Times New Roman"/>
              </a:rPr>
              <a:t>Was ist jeweils in den beiden Staaten passier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Quellenarbeit:</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ea typeface="Microsoft YaHei"/>
              </a:rPr>
              <a:t>Arbeite aus den Quellen herau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ea typeface="Microsoft YaHei"/>
              </a:rPr>
              <a:t>a.) die Reaktion des Umfeld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ea typeface="Microsoft YaHei"/>
              </a:rPr>
              <a:t>b.) die Reaktion des Staat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ea typeface="Microsoft YaHei"/>
              </a:rPr>
              <a:t>c.) die Reaktion der Öffentlichkeit</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89"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4D4725-F154-478D-8299-0FA530737460}"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4293CF-CD35-465B-B610-760620CE6605}"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91" name="PlaceHolder 1"/>
          <p:cNvSpPr>
            <a:spLocks noGrp="1"/>
          </p:cNvSpPr>
          <p:nvPr>
            <p:ph type="sldImg"/>
          </p:nvPr>
        </p:nvSpPr>
        <p:spPr>
          <a:xfrm>
            <a:off x="1106640" y="812880"/>
            <a:ext cx="5343480" cy="4006800"/>
          </a:xfrm>
          <a:prstGeom prst="rect">
            <a:avLst/>
          </a:prstGeom>
          <a:ln w="0">
            <a:noFill/>
          </a:ln>
        </p:spPr>
      </p:sp>
      <p:sp>
        <p:nvSpPr>
          <p:cNvPr id="1092"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08080" y="812880"/>
            <a:ext cx="5337000" cy="4003560"/>
          </a:xfrm>
          <a:prstGeom prst="rect">
            <a:avLst/>
          </a:prstGeom>
          <a:ln w="0">
            <a:noFill/>
          </a:ln>
        </p:spPr>
      </p:sp>
      <p:sp>
        <p:nvSpPr>
          <p:cNvPr id="1094"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95"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E68501-986D-4F16-A310-7460CC8FDB5B}"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08080" y="812880"/>
            <a:ext cx="5337000" cy="4003560"/>
          </a:xfrm>
          <a:prstGeom prst="rect">
            <a:avLst/>
          </a:prstGeom>
          <a:ln w="0">
            <a:noFill/>
          </a:ln>
        </p:spPr>
      </p:sp>
      <p:sp>
        <p:nvSpPr>
          <p:cNvPr id="1097"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98"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2D67D8-9EE3-40EE-930B-90492D570878}"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5C1FDF-3632-4862-B8B0-7F3FF8F8C9B2}"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100" name="PlaceHolder 1"/>
          <p:cNvSpPr>
            <a:spLocks noGrp="1"/>
          </p:cNvSpPr>
          <p:nvPr>
            <p:ph type="sldImg"/>
          </p:nvPr>
        </p:nvSpPr>
        <p:spPr>
          <a:xfrm>
            <a:off x="1106640" y="812880"/>
            <a:ext cx="5343480" cy="4006800"/>
          </a:xfrm>
          <a:prstGeom prst="rect">
            <a:avLst/>
          </a:prstGeom>
          <a:ln w="0">
            <a:noFill/>
          </a:ln>
        </p:spPr>
      </p:sp>
      <p:sp>
        <p:nvSpPr>
          <p:cNvPr id="1101"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Exit- und Voice-Bewegun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Times New Roman"/>
              </a:rPr>
              <a:t>Exit:</a:t>
            </a:r>
            <a:r>
              <a:rPr b="0" lang="de-DE" sz="1200" spc="-1" strike="noStrike">
                <a:solidFill>
                  <a:srgbClr val="000000"/>
                </a:solidFill>
                <a:latin typeface="Times New Roman"/>
              </a:rPr>
              <a:t> Abbruch der Geschäftsbeziehungen; Suchen neuer Geschäftspartner; Lösung des Problems über den Mar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Times New Roman"/>
              </a:rPr>
              <a:t>Voice</a:t>
            </a:r>
            <a:r>
              <a:rPr b="0" lang="de-DE" sz="1200" spc="-1" strike="noStrike">
                <a:solidFill>
                  <a:srgbClr val="000000"/>
                </a:solidFill>
                <a:latin typeface="Times New Roman"/>
              </a:rPr>
              <a:t>: internes Äußern der Unzufriedenheit, Suche nach Lösungen mit dem Geschäftspartn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39AFBE-132A-412A-AF5D-66A04CDB2B24}"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103" name="PlaceHolder 1"/>
          <p:cNvSpPr>
            <a:spLocks noGrp="1"/>
          </p:cNvSpPr>
          <p:nvPr>
            <p:ph type="sldImg"/>
          </p:nvPr>
        </p:nvSpPr>
        <p:spPr>
          <a:xfrm>
            <a:off x="1106640" y="812880"/>
            <a:ext cx="5343480" cy="4006800"/>
          </a:xfrm>
          <a:prstGeom prst="rect">
            <a:avLst/>
          </a:prstGeom>
          <a:ln w="0">
            <a:noFill/>
          </a:ln>
        </p:spPr>
      </p:sp>
      <p:sp>
        <p:nvSpPr>
          <p:cNvPr id="110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Entsprechendes Vertiefungsmaterial zu Verfolgung der Tä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Freie Recherche zur Gedenkkultu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08080" y="812880"/>
            <a:ext cx="5337000" cy="4003560"/>
          </a:xfrm>
          <a:prstGeom prst="rect">
            <a:avLst/>
          </a:prstGeom>
          <a:ln w="0">
            <a:noFill/>
          </a:ln>
        </p:spPr>
      </p:sp>
      <p:sp>
        <p:nvSpPr>
          <p:cNvPr id="1106"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07"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83A4F-EDA5-48FF-AAC5-22EF1D3E9137}"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29D51F-8350-4D66-A109-A50E3364D9E4}"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109" name="PlaceHolder 1"/>
          <p:cNvSpPr>
            <a:spLocks noGrp="1"/>
          </p:cNvSpPr>
          <p:nvPr>
            <p:ph type="sldImg"/>
          </p:nvPr>
        </p:nvSpPr>
        <p:spPr>
          <a:xfrm>
            <a:off x="1106640" y="812880"/>
            <a:ext cx="5341680" cy="4005360"/>
          </a:xfrm>
          <a:prstGeom prst="rect">
            <a:avLst/>
          </a:prstGeom>
          <a:ln w="0">
            <a:noFill/>
          </a:ln>
        </p:spPr>
      </p:sp>
      <p:sp>
        <p:nvSpPr>
          <p:cNvPr id="1110"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08080" y="812880"/>
            <a:ext cx="5337000" cy="4003560"/>
          </a:xfrm>
          <a:prstGeom prst="rect">
            <a:avLst/>
          </a:prstGeom>
          <a:ln w="0">
            <a:noFill/>
          </a:ln>
        </p:spPr>
      </p:sp>
      <p:sp>
        <p:nvSpPr>
          <p:cNvPr id="1053"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Mehrere Standards in einer Thematik „bedient“</a:t>
            </a:r>
            <a:endParaRPr b="0" lang="en-US" sz="1200" spc="-1" strike="noStrike">
              <a:solidFill>
                <a:srgbClr val="000000"/>
              </a:solidFill>
              <a:latin typeface="Times New Roman"/>
            </a:endParaRPr>
          </a:p>
        </p:txBody>
      </p:sp>
      <p:sp>
        <p:nvSpPr>
          <p:cNvPr id="1054"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63771D-78F3-4FAA-BEB7-75E4ECBCA128}"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08080" y="812880"/>
            <a:ext cx="5337000" cy="4003560"/>
          </a:xfrm>
          <a:prstGeom prst="rect">
            <a:avLst/>
          </a:prstGeom>
          <a:ln w="0">
            <a:noFill/>
          </a:ln>
        </p:spPr>
      </p:sp>
      <p:sp>
        <p:nvSpPr>
          <p:cNvPr id="1112"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13"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E878D2-1E9A-45D1-8632-1F36ABC595C4}"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08080" y="812880"/>
            <a:ext cx="5337000" cy="4003560"/>
          </a:xfrm>
          <a:prstGeom prst="rect">
            <a:avLst/>
          </a:prstGeom>
          <a:ln w="0">
            <a:noFill/>
          </a:ln>
        </p:spPr>
      </p:sp>
      <p:sp>
        <p:nvSpPr>
          <p:cNvPr id="1115"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16"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693C5-B396-4B4B-A7C5-D85A3C18A7DF}"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08080" y="812880"/>
            <a:ext cx="5337000" cy="4003560"/>
          </a:xfrm>
          <a:prstGeom prst="rect">
            <a:avLst/>
          </a:prstGeom>
          <a:ln w="0">
            <a:noFill/>
          </a:ln>
        </p:spPr>
      </p:sp>
      <p:sp>
        <p:nvSpPr>
          <p:cNvPr id="1118"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19"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2D1500-C72A-4C9A-B4C4-546A4425CA8D}"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08080" y="812880"/>
            <a:ext cx="5337000" cy="4003560"/>
          </a:xfrm>
          <a:prstGeom prst="rect">
            <a:avLst/>
          </a:prstGeom>
          <a:ln w="0">
            <a:noFill/>
          </a:ln>
        </p:spPr>
      </p:sp>
      <p:sp>
        <p:nvSpPr>
          <p:cNvPr id="1121"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22"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97FDDE-E8C5-43DF-BC79-41A2BA8A3599}"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08080" y="812880"/>
            <a:ext cx="5337000" cy="4003560"/>
          </a:xfrm>
          <a:prstGeom prst="rect">
            <a:avLst/>
          </a:prstGeom>
          <a:ln w="0">
            <a:noFill/>
          </a:ln>
        </p:spPr>
      </p:sp>
      <p:sp>
        <p:nvSpPr>
          <p:cNvPr id="1056"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Mehrere Standards in einer Thematik „bedient“</a:t>
            </a:r>
            <a:endParaRPr b="0" lang="en-US" sz="1200" spc="-1" strike="noStrike">
              <a:solidFill>
                <a:srgbClr val="000000"/>
              </a:solidFill>
              <a:latin typeface="Times New Roman"/>
            </a:endParaRPr>
          </a:p>
        </p:txBody>
      </p:sp>
      <p:sp>
        <p:nvSpPr>
          <p:cNvPr id="1057"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916DAC-1F30-4FFA-8A8A-FFEF0F51D7FE}"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149267-1905-4B6C-8177-50A0FCD99AD0}"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59"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imes New Roman"/>
                <a:ea typeface="Microsoft YaHei"/>
              </a:rPr>
              <a:t>30.12.12</a:t>
            </a:r>
            <a:endParaRPr b="0" lang="en-US" sz="1800" spc="-1" strike="noStrike">
              <a:solidFill>
                <a:srgbClr val="ffffff"/>
              </a:solidFill>
              <a:latin typeface="Arial"/>
            </a:endParaRPr>
          </a:p>
        </p:txBody>
      </p:sp>
      <p:sp>
        <p:nvSpPr>
          <p:cNvPr id="1060" name="PlaceHolder 1"/>
          <p:cNvSpPr>
            <a:spLocks noGrp="1"/>
          </p:cNvSpPr>
          <p:nvPr>
            <p:ph type="sldImg"/>
          </p:nvPr>
        </p:nvSpPr>
        <p:spPr>
          <a:xfrm>
            <a:off x="1014480" y="728640"/>
            <a:ext cx="4854600" cy="3641760"/>
          </a:xfrm>
          <a:prstGeom prst="rect">
            <a:avLst/>
          </a:prstGeom>
          <a:ln w="0">
            <a:noFill/>
          </a:ln>
        </p:spPr>
      </p:sp>
      <p:sp>
        <p:nvSpPr>
          <p:cNvPr id="1061" name="PlaceHolder 2"/>
          <p:cNvSpPr>
            <a:spLocks noGrp="1"/>
          </p:cNvSpPr>
          <p:nvPr>
            <p:ph type="body"/>
          </p:nvPr>
        </p:nvSpPr>
        <p:spPr>
          <a:xfrm>
            <a:off x="0" y="-198720"/>
            <a:ext cx="1440" cy="398520"/>
          </a:xfrm>
          <a:prstGeom prst="rect">
            <a:avLst/>
          </a:prstGeom>
          <a:noFill/>
          <a:ln w="0">
            <a:noFill/>
          </a:ln>
        </p:spPr>
        <p:txBody>
          <a:bodyPr lIns="0" rIns="0" tIns="0" bIns="0" anchor="ctr" anchorCtr="1">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ea typeface="Microsoft YaHei"/>
              </a:rPr>
              <a:t>Foto von Matthias Domaschk zeigen ohne Namen</a:t>
            </a:r>
            <a:endParaRPr b="0" lang="en-US" sz="20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Wingdings"/>
                <a:ea typeface="Wingdings"/>
              </a:rPr>
              <a:t></a:t>
            </a:r>
            <a:r>
              <a:rPr b="0" lang="de-DE" sz="2000" spc="-1" strike="noStrike">
                <a:solidFill>
                  <a:srgbClr val="000000"/>
                </a:solidFill>
                <a:latin typeface="Times New Roman"/>
              </a:rPr>
              <a:t> </a:t>
            </a:r>
            <a:r>
              <a:rPr b="0" lang="de-DE" sz="2000" spc="-1" strike="noStrike">
                <a:solidFill>
                  <a:srgbClr val="000000"/>
                </a:solidFill>
                <a:latin typeface="Times New Roman"/>
              </a:rPr>
              <a:t>Charakterisiert die Person. Wer könnte das sein? Was könnte sie machen? Welche Wünsche und Träume hat sie?</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F1576C-4B40-46C4-A58B-1E67AAE9DF7D}"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63"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imes New Roman"/>
                <a:ea typeface="Microsoft YaHei"/>
              </a:rPr>
              <a:t>30.12.12</a:t>
            </a:r>
            <a:endParaRPr b="0" lang="en-US" sz="1800" spc="-1" strike="noStrike">
              <a:solidFill>
                <a:srgbClr val="ffffff"/>
              </a:solidFill>
              <a:latin typeface="Arial"/>
            </a:endParaRPr>
          </a:p>
        </p:txBody>
      </p:sp>
      <p:sp>
        <p:nvSpPr>
          <p:cNvPr id="1064" name="PlaceHolder 1"/>
          <p:cNvSpPr>
            <a:spLocks noGrp="1"/>
          </p:cNvSpPr>
          <p:nvPr>
            <p:ph type="sldImg"/>
          </p:nvPr>
        </p:nvSpPr>
        <p:spPr>
          <a:xfrm>
            <a:off x="1014480" y="728640"/>
            <a:ext cx="4854600" cy="3641760"/>
          </a:xfrm>
          <a:prstGeom prst="rect">
            <a:avLst/>
          </a:prstGeom>
          <a:ln w="0">
            <a:noFill/>
          </a:ln>
        </p:spPr>
      </p:sp>
      <p:sp>
        <p:nvSpPr>
          <p:cNvPr id="1065" name="PlaceHolder 2"/>
          <p:cNvSpPr>
            <a:spLocks noGrp="1"/>
          </p:cNvSpPr>
          <p:nvPr>
            <p:ph type="body"/>
          </p:nvPr>
        </p:nvSpPr>
        <p:spPr>
          <a:xfrm>
            <a:off x="0" y="-198720"/>
            <a:ext cx="1440" cy="398520"/>
          </a:xfrm>
          <a:prstGeom prst="rect">
            <a:avLst/>
          </a:prstGeom>
          <a:noFill/>
          <a:ln w="0">
            <a:noFill/>
          </a:ln>
        </p:spPr>
        <p:txBody>
          <a:bodyPr lIns="0" rIns="0" tIns="0" bIns="0" anchor="ctr" anchorCtr="1">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ea typeface="Microsoft YaHei"/>
              </a:rPr>
              <a:t>Foto von Benno Ohnesorg zeigen ohne Namen</a:t>
            </a:r>
            <a:endParaRPr b="0" lang="en-US" sz="20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Wingdings"/>
                <a:ea typeface="Wingdings"/>
              </a:rPr>
              <a:t></a:t>
            </a:r>
            <a:r>
              <a:rPr b="0" lang="de-DE" sz="2000" spc="-1" strike="noStrike">
                <a:solidFill>
                  <a:srgbClr val="000000"/>
                </a:solidFill>
                <a:latin typeface="Times New Roman"/>
              </a:rPr>
              <a:t> </a:t>
            </a:r>
            <a:r>
              <a:rPr b="0" lang="de-DE" sz="2000" spc="-1" strike="noStrike">
                <a:solidFill>
                  <a:srgbClr val="000000"/>
                </a:solidFill>
                <a:latin typeface="Times New Roman"/>
              </a:rPr>
              <a:t>Charakterisiert die Person. Wer könnte das sein? Was könnte sie machen? Welche Wünsche und Träume hat sie?</a:t>
            </a:r>
            <a:endParaRPr b="0" lang="en-US" sz="20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30A073-5AD5-467E-A5F1-55A02FC1A048}"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67"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imes New Roman"/>
                <a:ea typeface="Microsoft YaHei"/>
              </a:rPr>
              <a:t>30.12.12</a:t>
            </a:r>
            <a:endParaRPr b="0" lang="en-US" sz="1800" spc="-1" strike="noStrike">
              <a:solidFill>
                <a:srgbClr val="ffffff"/>
              </a:solidFill>
              <a:latin typeface="Arial"/>
            </a:endParaRPr>
          </a:p>
        </p:txBody>
      </p:sp>
      <p:sp>
        <p:nvSpPr>
          <p:cNvPr id="1068" name="PlaceHolder 1"/>
          <p:cNvSpPr>
            <a:spLocks noGrp="1"/>
          </p:cNvSpPr>
          <p:nvPr>
            <p:ph type="sldImg"/>
          </p:nvPr>
        </p:nvSpPr>
        <p:spPr>
          <a:xfrm>
            <a:off x="1014480" y="728640"/>
            <a:ext cx="4854600" cy="3641760"/>
          </a:xfrm>
          <a:prstGeom prst="rect">
            <a:avLst/>
          </a:prstGeom>
          <a:ln w="0">
            <a:noFill/>
          </a:ln>
        </p:spPr>
      </p:sp>
      <p:sp>
        <p:nvSpPr>
          <p:cNvPr id="1069" name="PlaceHolder 2"/>
          <p:cNvSpPr>
            <a:spLocks noGrp="1"/>
          </p:cNvSpPr>
          <p:nvPr>
            <p:ph type="body"/>
          </p:nvPr>
        </p:nvSpPr>
        <p:spPr>
          <a:xfrm>
            <a:off x="0" y="-198720"/>
            <a:ext cx="1440" cy="398520"/>
          </a:xfrm>
          <a:prstGeom prst="rect">
            <a:avLst/>
          </a:prstGeom>
          <a:noFill/>
          <a:ln w="0">
            <a:noFill/>
          </a:ln>
        </p:spPr>
        <p:txBody>
          <a:bodyPr lIns="0" rIns="0" tIns="0" bIns="0" anchor="ctr" anchorCtr="1">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ea typeface="Microsoft YaHei"/>
              </a:rPr>
              <a:t>Fotos von beiden zeigen</a:t>
            </a:r>
            <a:endParaRPr b="0" lang="en-US" sz="2000" spc="-1" strike="noStrike">
              <a:solidFill>
                <a:srgbClr val="000000"/>
              </a:solidFill>
              <a:latin typeface="Times New Roman"/>
            </a:endParaRPr>
          </a:p>
          <a:p>
            <a:pPr>
              <a:spcBef>
                <a:spcPts val="7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imes New Roman"/>
              </a:rPr>
              <a:t>Sucht Merkmale, die beide verbindet!</a:t>
            </a:r>
            <a:endParaRPr b="0" lang="en-US" sz="2000" spc="-1" strike="noStrike">
              <a:solidFill>
                <a:srgbClr val="000000"/>
              </a:solidFill>
              <a:latin typeface="Times New Roman"/>
            </a:endParaRPr>
          </a:p>
          <a:p>
            <a:pPr>
              <a:spcBef>
                <a:spcPts val="7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imes New Roman"/>
              </a:rPr>
              <a:t>Hypothesenbildung: Lebte sie in Ost- oder Westdeutschland? </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5CB11-A0D6-408D-B0FC-CD28EAE46A4D}"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71"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imes New Roman"/>
                <a:ea typeface="Microsoft YaHei"/>
              </a:rPr>
              <a:t>30.12.12</a:t>
            </a:r>
            <a:endParaRPr b="0" lang="en-US" sz="1800" spc="-1" strike="noStrike">
              <a:solidFill>
                <a:srgbClr val="ffffff"/>
              </a:solidFill>
              <a:latin typeface="Arial"/>
            </a:endParaRPr>
          </a:p>
        </p:txBody>
      </p:sp>
      <p:sp>
        <p:nvSpPr>
          <p:cNvPr id="1072" name="PlaceHolder 1"/>
          <p:cNvSpPr>
            <a:spLocks noGrp="1"/>
          </p:cNvSpPr>
          <p:nvPr>
            <p:ph type="sldImg"/>
          </p:nvPr>
        </p:nvSpPr>
        <p:spPr>
          <a:xfrm>
            <a:off x="1014480" y="728640"/>
            <a:ext cx="4854600" cy="3641760"/>
          </a:xfrm>
          <a:prstGeom prst="rect">
            <a:avLst/>
          </a:prstGeom>
          <a:ln w="0">
            <a:noFill/>
          </a:ln>
        </p:spPr>
      </p:sp>
      <p:sp>
        <p:nvSpPr>
          <p:cNvPr id="1073" name="PlaceHolder 2"/>
          <p:cNvSpPr>
            <a:spLocks noGrp="1"/>
          </p:cNvSpPr>
          <p:nvPr>
            <p:ph type="body"/>
          </p:nvPr>
        </p:nvSpPr>
        <p:spPr>
          <a:xfrm>
            <a:off x="0" y="-198720"/>
            <a:ext cx="1440" cy="398520"/>
          </a:xfrm>
          <a:prstGeom prst="rect">
            <a:avLst/>
          </a:prstGeom>
          <a:noFill/>
          <a:ln w="0">
            <a:noFill/>
          </a:ln>
        </p:spPr>
        <p:txBody>
          <a:bodyPr lIns="0" rIns="0" tIns="0" bIns="0" anchor="ctr" anchorCtr="1">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ea typeface="Microsoft YaHei"/>
              </a:rPr>
              <a:t>Zentrale Infos geben</a:t>
            </a:r>
            <a:endParaRPr b="0" lang="en-US" sz="20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ea typeface="Microsoft YaHei"/>
              </a:rPr>
              <a:t>Hypothesenbildung wiederholen: Wer lebte im Westen, wer im Osten?</a:t>
            </a: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7CEE7-4C80-4FCA-BB89-F92D9B6DC1C4}" type="slidenum">
              <a:rPr b="0" lang="de-DE"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75"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imes New Roman"/>
                <a:ea typeface="Microsoft YaHei"/>
              </a:rPr>
              <a:t>30.12.12</a:t>
            </a:r>
            <a:endParaRPr b="0" lang="en-US" sz="1800" spc="-1" strike="noStrike">
              <a:solidFill>
                <a:srgbClr val="ffffff"/>
              </a:solidFill>
              <a:latin typeface="Arial"/>
            </a:endParaRPr>
          </a:p>
        </p:txBody>
      </p:sp>
      <p:sp>
        <p:nvSpPr>
          <p:cNvPr id="1076" name="PlaceHolder 1"/>
          <p:cNvSpPr>
            <a:spLocks noGrp="1"/>
          </p:cNvSpPr>
          <p:nvPr>
            <p:ph type="sldImg"/>
          </p:nvPr>
        </p:nvSpPr>
        <p:spPr>
          <a:xfrm>
            <a:off x="1014480" y="728640"/>
            <a:ext cx="4854600" cy="3641760"/>
          </a:xfrm>
          <a:prstGeom prst="rect">
            <a:avLst/>
          </a:prstGeom>
          <a:ln w="0">
            <a:noFill/>
          </a:ln>
        </p:spPr>
      </p:sp>
      <p:sp>
        <p:nvSpPr>
          <p:cNvPr id="1077" name="PlaceHolder 2"/>
          <p:cNvSpPr>
            <a:spLocks noGrp="1"/>
          </p:cNvSpPr>
          <p:nvPr>
            <p:ph type="body"/>
          </p:nvPr>
        </p:nvSpPr>
        <p:spPr>
          <a:xfrm>
            <a:off x="0" y="-198720"/>
            <a:ext cx="1440" cy="398520"/>
          </a:xfrm>
          <a:prstGeom prst="rect">
            <a:avLst/>
          </a:prstGeom>
          <a:noFill/>
          <a:ln w="0">
            <a:noFill/>
          </a:ln>
        </p:spPr>
        <p:txBody>
          <a:bodyPr lIns="0" rIns="0" tIns="0" bIns="0" anchor="ctr" anchorCtr="1">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ea typeface="Microsoft YaHei"/>
              </a:rPr>
              <a:t>Auflösung: Ost - West</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08080" y="812880"/>
            <a:ext cx="5337000" cy="4003560"/>
          </a:xfrm>
          <a:prstGeom prst="rect">
            <a:avLst/>
          </a:prstGeom>
          <a:ln w="0">
            <a:noFill/>
          </a:ln>
        </p:spPr>
      </p:sp>
      <p:sp>
        <p:nvSpPr>
          <p:cNvPr id="1079"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Zentrale Infos zum Tod des Matthias Domaschk</a:t>
            </a:r>
            <a:endParaRPr b="0" lang="en-US" sz="1200" spc="-1" strike="noStrike">
              <a:solidFill>
                <a:srgbClr val="000000"/>
              </a:solidFill>
              <a:latin typeface="Times New Roman"/>
            </a:endParaRPr>
          </a:p>
        </p:txBody>
      </p:sp>
      <p:sp>
        <p:nvSpPr>
          <p:cNvPr id="1080" name="Foliennummernplatzhalter 3"/>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5B9E7D-D1FB-42EB-A21A-9862F5106278}"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DC161A-3F45-4B44-A175-7D823DD4B0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70834A21-B233-4A3C-AD0A-86A6D03A1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A4FC607-8917-432A-BBDE-46AB11787F4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4E626F6-DF43-4502-9D5C-4208A236E60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50E69E-D2A0-4EB4-BE8D-68E445FC332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99E9C3A-45C1-4CF8-A59B-4DD64EF572F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6031942-F416-47EB-968D-21F64E51476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10668B8-09DD-4FA9-A7A8-3A8125BD2B5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6639722-2A33-4BB9-ABAF-9DC14882A86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5CFEE57-6C0A-4F61-80A2-EEB807C1A80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F77FFF7-267C-4363-B1B8-FAC7EA005D9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5E89445-A4A9-47EE-897E-39130705517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54BD4395-A3E8-4669-87B5-64888FB67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B6180E4-DB86-4118-8F3B-9CFF219C977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D86E776-C0AF-49B6-B65A-4E5CE2B2BB5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8ACC51C-B6C7-4D01-A6BD-A23FA8029C7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A53FA2F-418E-46A6-A4AF-FEA274A95A8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50C96BB-159D-4860-9C42-7EB5D1B99E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6E49BC6-1956-401E-830F-A1B02352A5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306317E-6E7C-42FB-A62F-B499325599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38B9698-B678-4D8D-A8EA-DC6EB89107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9D8D5B9-7708-4754-AA1B-C73E245F239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C743D24-4DE8-4B33-A295-645BBDC2EBA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30AA23DD-D426-46AE-8FCF-762A03B88E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DE0CE87-A27C-48FF-B599-6AB6491657B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6D9C7CD-CD69-47FC-AC07-CD8866D203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3A6B611-140F-4ADF-86FF-1D771F6F84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3ED1306-A6E9-4898-9C44-DFD8FC2AC0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D727646-7E16-4BAD-BF8E-A7695B8DB3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391AA4E-02FC-43CD-8EAC-CC6CB80891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D1FB51E-4754-4587-A1E9-23D817516D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E2CEAA9-1F8A-4A8C-8593-67640D0155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2C777DF-BAA4-4FB8-95D7-40AA0D8C1A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5C3E7C5-CBB1-429C-B0B0-D48CDBAF62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B082B4-A31D-440E-9D10-D0885A50FE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DD6FBBB-6DEC-4F59-90ED-9BE4EA60C3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234C89C-DFC8-4586-B835-ACC83F9EDA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B614899-D859-4B82-9B6D-EB5A4A5FA4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0F79FC5-A73A-4D76-ACF7-ACFC4DB960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3401DDB-A6BE-45F5-87A7-71CC68286A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1AFC740-1B83-4D8A-9AB8-28C9C1441C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1FD6B2E-8947-4395-857D-AD326A1AAA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F4A1E9E-3F9C-493B-AFE4-9FFCC2A114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6586833-B1B7-41F6-93EE-38C3C7D429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02008DD-DC38-45BD-B322-640E75F04C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98E0CCD3-0050-4928-8C99-1BD649C32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E8B164B-4257-4E96-B9A7-23D08F595B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AF76A88-DBE8-4B87-9078-8F3BCCA961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C71E570-950F-4C31-9852-4CB13DD97B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8E344C6-AA60-4E41-8608-C7769F61DA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CDDBE5C-90AA-4EE6-837E-79C2CCB0BA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C6DD476-8D77-4B3D-9E61-475E399F0F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2DBD5B9-704E-45FB-B674-F5694C2B80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42225E6-31AF-45B9-A6C6-4026618CD3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BD654F4-87D6-4946-AE16-8F36A9A1C1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8EBEAA8-DA8E-4492-B502-A7B3844F1D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4C2166E3-DD65-4DA1-8F94-DFDC7CE97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AD39932-D3F8-4891-A83E-9CF33E630B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DB8BA3C-5E40-46D7-95A2-6DAEB71AE5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F8EFAA8-EAE3-48FD-945C-1A94B59A67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A964625-71C1-4463-A284-B0C393C242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8E1BC6A-B740-4C93-ACD0-D1C98AC98E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864EA3E-5842-4212-A2FD-C3CCAACFB7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981C02E-5163-4098-A952-6166B5960C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A68118D-13D9-4B21-82FD-AE79EC6035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FA026AB-C28C-4E02-9807-39CB8748F1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EBFBEAF-C906-409E-B11E-076C0AB238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ED48D74B-58E2-4FA9-A94C-A5350FCFD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843E79D-275E-4F23-8790-843B5ACC35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C055148-AF7D-4EB8-BAB2-3A5CD0B046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2F61065-3E6B-4E75-B52A-4CF1563CFA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1F92A1F-77C1-4824-86AB-3976FBC399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E2CDEEA-AA9B-4D6E-BF47-574C61B496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B2814FB-3105-4DE1-8ACC-ACE8C7C1CC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5D58B1B-2033-4299-8DE7-20DA5EC726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F198C97-9DA4-4454-9357-D8C2A3391B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4F600B78-376B-45C4-986D-656BB04F16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B1E570E-6F54-4836-9EDA-752F127242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4"/>
          </p:nvPr>
        </p:nvSpPr>
        <p:spPr/>
        <p:txBody>
          <a:bodyPr/>
          <a:p>
            <a:fld id="{720D3D46-02C0-4B6A-AC77-AABF0F397A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53B4602-81E4-4387-8ECD-52473F8D9D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70649F7-5E79-498E-A1A4-F7E6945070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30AE960-AFE9-4564-96A2-4CB0E9EEF1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B74FBB8-B46A-44F1-99DF-DC15655EBA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8A0FA9F-0424-4C3A-A0C8-07CE2CF341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8246D6E-0F4E-4B71-9705-A6DFA4D46C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719DFDB-779D-4FF8-BF58-479649F6FF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6566A92-B2D7-4116-94E6-B6E4C1EEDB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CECD614-DA99-40F0-AE3E-05477A3075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6997F9A-E709-4584-B8BE-5C565D12B4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6C088685-60DB-4980-9ECB-71C8D34F6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DF8C43E-8F2B-46BE-9263-102BABE626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07426A1-A0FA-40EB-BF39-95F23656EB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DF2B0FD-35BC-4612-8BCF-6ED3F9383E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75052DD-D954-4DAA-8E74-25ECB30235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1BF8E95-8957-4367-9CB5-679F491744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0DEB631-AB3B-4A69-BDCC-3FA27902F1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FF21523-330F-46EF-901A-915EA63105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3890421-4546-4767-A218-F1F3C123C1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00B55EE-3610-4146-8448-865C718EA0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3F14C13-E14E-4D4C-8FA3-B23D9EDF53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2374BB5B-5B67-41DB-AA4B-D1C7B4246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FE7135C-F99E-4BF8-BE1E-D7C63D26C4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BBCD83DA-F999-4876-A7AC-5FFC25EEE5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A0A01E31-61D6-41A7-82F7-775BFA7D09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952D4C0F-8D60-4225-ACAB-7D36010BC7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01D0B90-0D34-4F4D-B708-808B37CDB6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1825232-10DD-4378-8601-BBF578A6E8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6E9AAAE-A97A-461A-9D12-5068EBEC99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D3F5977-5199-4BF6-A386-E652809ADA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8D3BF05-FF22-4F7F-AD88-8AB603ECC5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8EC3995-1A20-4F58-822E-799FB434DE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D1CC6AA6-87DA-4DB6-A8BC-E1AA497F0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5DDFC8AF-97BB-4015-9987-558F162E6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314BB02-2CA1-48D2-9764-3831A25D91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4FF1ED4-5BA7-4C04-A59B-FE2D1AED24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E037961-DD9F-40C8-841E-7BDC8DFFF8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E09F0C96-C2DD-4366-9D48-802750B820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8CC3B67-A8CC-4DE3-9ED3-64BF07117E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6A013B8D-EC70-4248-AD03-2054F98EBB2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532D8AF-D0A9-4A98-AB35-CBE3C12B0DE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A0C4C370-17CB-4D1B-8D95-46E13086A98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2F597D7-244B-449B-A6FD-15BE1D871E6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678B1F2-3923-4653-93DA-41390030E3A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729A68A1-7778-428F-9D99-4D981A30D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DDAAAF9-4A59-46ED-9BD7-35204554734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EDE170E-D64F-4F48-90BE-5941FA78686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57365ED-13FC-48F1-94B0-6FA4DDCB6B0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1CBA9DA-6C7B-4F4E-95F3-73F0AED9B03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066F2DD-0B15-4AAA-8F10-02460592B4A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64ACC74F-FB34-4DE6-B054-0D27B21A1DE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D60DC015-B000-434E-96AD-55EB6D9BD66D}"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76A60783-4F27-4B54-A940-C5DD85CF0B07}"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05073E7-F6EB-40FB-8422-992F38CC998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143D3B0-D795-405B-A3D8-75AE68A3180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709A5E57-F297-4AB3-A94C-E0CF69B2E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B5E4584-FDA9-4FE1-A16D-F168A825F96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3BE1E5B-E7EB-40D7-9CFE-53F484E5FDA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CD7A7A1-15D7-4CEF-9286-F92F79860CD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8B18870-6258-4EC7-9694-CC2E1E46990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232CE0D-A924-48D8-9C28-ED69C4B0DB0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56C27BD-A067-454A-97D2-C2B5F1A4FA0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7C964C8-2E7C-43F1-8348-35C9DC30DF8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F271A2FE-9FF1-4D8D-BA2D-7CDE3B168449}"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9343DB24-DCD8-4864-B9E7-10811FF1E0F7}"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507134D-86A4-4B47-BC34-0B780E848FC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4EC2482F-772B-489B-BFC1-3963CC985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C957265-41F9-4008-A907-C60F4982A89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690F16E-574F-4841-87ED-35108A20E18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9498A810-2D14-4049-A7C4-B312EA4BFF7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ACF8896-D4DE-4B84-B9BA-E2ADF4A23C7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470C840-84E9-4CBB-B8D5-5CD24212EAE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F7560B8-E9AB-46E8-8C6C-262DD8668DA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88EEB2E-7BE8-4929-94CD-84F310C98DA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D63FDCB-A427-46AF-AAF4-1E3981B7D6D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967343A1-E6E0-415A-BDC7-650EFD98291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DDD8DC47-49FD-4560-A76B-754B21F30195}"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F1D4E79A-A168-4AE9-B8AC-036E0AEE59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BA480FE0-76A9-4B5C-B342-7B490C44CB00}"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1B118862-DDCB-479A-9CE0-8CEEBDA8EF04}"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957908E-F6F6-4398-949B-BD30013756C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234AE9A2-41F8-4AD5-8B97-7C02CDB9029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89D6BE9-E33C-4E59-80FC-40989517E13D}"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489E6240-4F88-41B5-BDE0-B194CF2CEE5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8BDFFE2-AAC3-4A24-BA86-E3EAA64588A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8D87B6D-C9E5-402C-9AE3-D7E0AA194AC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7392277-1EB3-4D75-9030-DA1FB6FD573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5C2611F8-A85E-4286-A7B7-E834C64466E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AC84C35-278E-4007-9BF7-40113653AF4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B8E56711-6C0D-450C-98AD-975D015F5A9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32E06731-BA3B-49E0-8486-55583EBFF4E6}"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5A3E7B39-99E6-4720-BE6B-110947DF009D}"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E8C6536C-1C22-48D3-BB8B-8C105B5587E6}"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281B75E4-4D51-496B-8BAC-505EE84C14BA}"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85F48E8-EAC3-4DB5-B642-ADB7E243E3E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30340FF-8A8F-4921-B081-1F21FFBA28F4}"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A23F171-7F43-41C3-A3BC-CCB3BFE2D589}"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4B5FAF2-BC22-4DE8-9339-39315EB0200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33A7BE9-49E6-4F15-871D-71538ACE6AA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007BC3-DDCB-444A-A564-51AD435DB53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B63AE90-C05A-4FB2-A42F-D188FA09D9D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4D732BC-C940-4A6F-84E1-0B2BF3D22D7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0A87EC12-73C8-48DB-B4AF-D374010EDAF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0F825F17-1AD0-48A9-A251-6B4920DC8A3E}"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7FFB52FC-3256-4463-9C79-8387BD4DAD10}"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8DAEF5B1-4D18-4155-96E3-CD452E0A942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5FC9CBD1-4B94-45E3-8ED3-B61B8E3B8DE6}"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5830781-6CA8-4E82-82A3-F32192C98D1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5FA3F5E-7BDF-4428-8AFF-E259AD42C65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36EB39D-0FD6-4C4A-8407-A47A6EAE4A2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252F6F0-2724-43F6-B229-1CF2892787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0E6D090-AD62-4AA8-8CFD-AFBCCE37515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389407D-FB64-49D0-8FA6-FB5EFEC257A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62450E8-A83B-4C9B-AAF6-24359D762BC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395FDAA-EFAA-48C7-8EC4-0969869215E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6EEC160E-4430-4F39-B3ED-9D13CFF2E88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296C711D-151F-4260-AF3C-A6E7893A549F}"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EA16E5EA-937A-4E21-88F6-10523E26967B}"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83FDAB93-D169-44F1-941D-BCC63EFA47B0}"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A9B69DF-0094-49E9-A0A5-C871951DF32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CDAF3A0-F1B9-4BD8-9953-EC6DBE7C33D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1CAFE5E-BBEE-484A-94C3-F3C4D1FB0C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0797C4C-13FA-42B3-A2B2-FF4C95A9C69F}"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CF550B7A-8250-425D-913C-21C71A99DBE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233CA8FD-CC63-4126-8FDC-099BCA05790E}"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224B71A-FFEB-44F0-B219-1BE832EBDF8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733A6D0-D0D1-41F4-9FCC-C189E5D878A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E5E9071-866C-4820-8513-1C3699890A13}"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E981A84-4D10-4B15-874A-99C2AC0E89E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E3081FB1-88E6-4D2A-8343-251F6498F4CE}"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0C109CAE-A83C-424C-BA0C-6BDD02993E41}"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0D0FE1F-3E2C-4402-BEBD-5F03A93AC5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DF77CB53-9DC4-4B50-817D-43088A3E7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646DD13-02D8-4048-B7BE-60FC8B30DD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3D97F48-7BE3-48C5-9F25-AE098CF8A7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AA4F28-4559-4373-A3F2-15EAF41649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B30AAC-BFA7-4FD4-9FD2-AAACD620E8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F53691-A13C-4006-A510-904138B9AE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9A54E92-04A6-417E-BF4D-D62869EDD62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CB491AA-CCD8-47D2-947F-72735AA38EB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A8B2F51-2FA9-40B2-9318-0CF25FAA3DD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01765E2-7C6E-4410-AEFE-8C8CDE03245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5EB26F6-69C2-46F7-BD55-8FA4E1E1E55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0A9B3B2A-B144-402F-A682-9879D9AF9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FE5BC98-D39C-43C1-8402-D707AD58A6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AAD0F70-23A5-49C4-A8EA-55FC9ECFBC9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E9AEB6E-07E7-47A3-B775-61BC7D079CD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EF31321-891A-4DA7-BBE2-24AA5B4AF7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026ED4B-C856-44DC-B349-4E67528D8D6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570AE9-E913-4386-9DA8-D2C3566DB88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DB7FF18-31C6-4BC6-A083-3CF2EA36079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5584AFC-3352-4B93-89B8-A8B6CFBA0A9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DF5C0C9-4ACB-4846-9A23-5DA6D7F3EB6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612AF20-20F2-49C5-ADBA-B440EC42367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B4F26B8E-8C84-477F-A46C-717CD756C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45DFEEB-A230-43C1-8AE9-CE4ACD8CA2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4BE6358-C7E0-4C39-A900-3FE327953C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3612B31-943F-48A8-B0C5-4714F52B55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2F4CBD8-22A8-465A-B489-43FC30DA71A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88E7A5E-112E-4798-B733-6A395A26BB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C6B2A80-1536-4AF0-ACD5-4EE7EDADBF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6234F0C-5935-4550-A482-97B8E914B0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58252C-22BA-43FB-9ABF-39181C7C93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8FA79CB-484A-4575-93A1-F10E08FDC6A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05A4D63-2478-4A90-8AF1-2347A44396B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FFAAEFB8-0E39-41A1-85B1-BEF9DBC38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7E39942-0A8B-4279-9D69-0D5180B5EB6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4F0757D-8259-437F-AD9F-6E71FE2C026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C0080BA-A896-484D-BC73-3D626B27FBD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F99BB60-7F52-437B-B498-5E8C935A3DE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2AA062B-DD65-4068-AE23-B2CD3B8F249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079D58B-3340-485B-A1AC-EDD7815506D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2E7878C-D22A-4B0E-A8BE-459FCA34FEE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85255DB-2D6D-4017-8CB6-5901A49F956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6E36F85-7B76-4E13-8BFA-3DEBAFD6E8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32E9368-1E18-45D3-BBB2-3D5B0DC677C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9414ACE8-2D5A-4AB0-92A4-8AB0ED9BF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FBB5592-5D23-4D32-A4CD-1F4F0736CEC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91CE466-A8CE-4244-A86A-013B8234D21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0D42CC7-2234-49E3-9D71-CBC5E7E1D41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E89FCF4-10F4-4EBC-9E99-F8FF5CAEF56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A27F38F-1217-4E63-A0F7-0E1F86F7004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82F2391-37BF-40D9-8769-FDA7CF853A7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FDDF31D-0C76-422B-AD95-E7ECA8862DE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DD7E96F-632C-42CB-B5C4-2B446C21AB4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E9273D0-0DC8-49EE-901F-96336F63C40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E39678-AC7B-4DBC-9CAD-FD081A82051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E261A83A-42BE-47BD-88B9-BB760E0E0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207F444-A820-4707-9047-904461EB623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1183CD-AF9D-4403-921E-27090B49FB2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9310415-B467-4C91-BF4B-3776E6F4738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4F6D80C-AB43-4963-A417-496428532F1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8BAF4E4-06C6-4B16-B809-16F23E93EAE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F157E13-60CB-4F79-B85F-1A9B3DF230E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C9199D8-FC1A-425C-A387-A25986C992C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B28ECD8-2FF0-4050-97F3-280A4333D25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EAA7910-387B-4143-BB53-7166720C89A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A0B9C77-B216-40CB-B37A-A7A2580FA03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54E33B8F-6AA0-489E-83B3-7BEFB1E0E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46A51BA-A9A0-4D18-8DF0-80E800A69BB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31FABE3-CCE5-4E57-8943-636BF281B10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25E1470-4E76-4390-99EE-D5BA3724E2B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0DC1FF-2A80-4AC3-9744-6B4CF15EE59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4A00F8-5D42-45F4-A6F2-2D2425D142C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B542069-1A37-438F-908C-C5D55D0E6F4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04731B8-633B-45F3-B7C9-1BD7E3416DB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17013C9-2208-4608-BE2D-6DEFF1CC09A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9ED466C-BFFB-4A4E-83AD-5EDAFDB4EDE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9ECD5D2-A2D3-487D-86F7-AC7C1A5C1E6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457680" y="6356520"/>
            <a:ext cx="205740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9" name="PlaceHolder 3"/>
          <p:cNvSpPr>
            <a:spLocks noGrp="1"/>
          </p:cNvSpPr>
          <p:nvPr>
            <p:ph type="dt" idx="26"/>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370" name="PlaceHolder 4"/>
          <p:cNvSpPr>
            <a:spLocks noGrp="1"/>
          </p:cNvSpPr>
          <p:nvPr>
            <p:ph type="ftr" idx="27"/>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371" name="PlaceHolder 5"/>
          <p:cNvSpPr>
            <a:spLocks noGrp="1"/>
          </p:cNvSpPr>
          <p:nvPr>
            <p:ph type="sldNum" idx="2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64DE96-7EC0-487C-968F-1AA4E7CF52C6}"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0" name="PlaceHolder 3"/>
          <p:cNvSpPr>
            <a:spLocks noGrp="1"/>
          </p:cNvSpPr>
          <p:nvPr>
            <p:ph type="dt" idx="29"/>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411" name="PlaceHolder 4"/>
          <p:cNvSpPr>
            <a:spLocks noGrp="1"/>
          </p:cNvSpPr>
          <p:nvPr>
            <p:ph type="ftr" idx="30"/>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412" name="PlaceHolder 5"/>
          <p:cNvSpPr>
            <a:spLocks noGrp="1"/>
          </p:cNvSpPr>
          <p:nvPr>
            <p:ph type="sldNum" idx="31"/>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A744CB2-E28D-4620-84C7-2D857C0823C2}"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1" name="PlaceHolder 3"/>
          <p:cNvSpPr>
            <a:spLocks noGrp="1"/>
          </p:cNvSpPr>
          <p:nvPr>
            <p:ph type="dt" idx="32"/>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452" name="PlaceHolder 4"/>
          <p:cNvSpPr>
            <a:spLocks noGrp="1"/>
          </p:cNvSpPr>
          <p:nvPr>
            <p:ph type="ftr" idx="33"/>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453" name="PlaceHolder 5"/>
          <p:cNvSpPr>
            <a:spLocks noGrp="1"/>
          </p:cNvSpPr>
          <p:nvPr>
            <p:ph type="sldNum" idx="34"/>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3382E5-C80D-4B3F-A143-361B3D4C6ACE}"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5"/>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493" name="PlaceHolder 4"/>
          <p:cNvSpPr>
            <a:spLocks noGrp="1"/>
          </p:cNvSpPr>
          <p:nvPr>
            <p:ph type="ftr" idx="36"/>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494" name="PlaceHolder 5"/>
          <p:cNvSpPr>
            <a:spLocks noGrp="1"/>
          </p:cNvSpPr>
          <p:nvPr>
            <p:ph type="sldNum" idx="3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42E015D-9962-4CE5-8AFF-17C114AC3990}"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3" name="PlaceHolder 3"/>
          <p:cNvSpPr>
            <a:spLocks noGrp="1"/>
          </p:cNvSpPr>
          <p:nvPr>
            <p:ph type="dt" idx="3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4" name="PlaceHolder 4"/>
          <p:cNvSpPr>
            <a:spLocks noGrp="1"/>
          </p:cNvSpPr>
          <p:nvPr>
            <p:ph type="ftr" idx="3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5"/>
          <p:cNvSpPr>
            <a:spLocks noGrp="1"/>
          </p:cNvSpPr>
          <p:nvPr>
            <p:ph type="sldNum" idx="4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D7DC0A1-A165-47B7-8260-878A8F2B909F}"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4" name="PlaceHolder 3"/>
          <p:cNvSpPr>
            <a:spLocks noGrp="1"/>
          </p:cNvSpPr>
          <p:nvPr>
            <p:ph type="dt" idx="4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5" name="PlaceHolder 4"/>
          <p:cNvSpPr>
            <a:spLocks noGrp="1"/>
          </p:cNvSpPr>
          <p:nvPr>
            <p:ph type="ftr" idx="4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6" name="PlaceHolder 5"/>
          <p:cNvSpPr>
            <a:spLocks noGrp="1"/>
          </p:cNvSpPr>
          <p:nvPr>
            <p:ph type="sldNum" idx="4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F08B50-D57E-46EF-A99D-E4056CD2C219}"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15" name="PlaceHolder 3"/>
          <p:cNvSpPr>
            <a:spLocks noGrp="1"/>
          </p:cNvSpPr>
          <p:nvPr>
            <p:ph type="dt" idx="4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16" name="PlaceHolder 4"/>
          <p:cNvSpPr>
            <a:spLocks noGrp="1"/>
          </p:cNvSpPr>
          <p:nvPr>
            <p:ph type="ftr" idx="4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7" name="PlaceHolder 5"/>
          <p:cNvSpPr>
            <a:spLocks noGrp="1"/>
          </p:cNvSpPr>
          <p:nvPr>
            <p:ph type="sldNum" idx="4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BA3FC12-581F-47ED-8F38-D9701B3DF61A}"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56" name="PlaceHolder 3"/>
          <p:cNvSpPr>
            <a:spLocks noGrp="1"/>
          </p:cNvSpPr>
          <p:nvPr>
            <p:ph type="dt" idx="4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57" name="PlaceHolder 4"/>
          <p:cNvSpPr>
            <a:spLocks noGrp="1"/>
          </p:cNvSpPr>
          <p:nvPr>
            <p:ph type="ftr" idx="4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8" name="PlaceHolder 5"/>
          <p:cNvSpPr>
            <a:spLocks noGrp="1"/>
          </p:cNvSpPr>
          <p:nvPr>
            <p:ph type="sldNum" idx="4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44B978C-7519-487B-AA1E-7535AA5247AC}"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97" name="PlaceHolder 3"/>
          <p:cNvSpPr>
            <a:spLocks noGrp="1"/>
          </p:cNvSpPr>
          <p:nvPr>
            <p:ph type="dt" idx="5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98" name="PlaceHolder 4"/>
          <p:cNvSpPr>
            <a:spLocks noGrp="1"/>
          </p:cNvSpPr>
          <p:nvPr>
            <p:ph type="ftr" idx="5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PlaceHolder 5"/>
          <p:cNvSpPr>
            <a:spLocks noGrp="1"/>
          </p:cNvSpPr>
          <p:nvPr>
            <p:ph type="sldNum" idx="5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AD0168C-3275-48C4-9720-C53B05771B4D}"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3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38" name="PlaceHolder 3"/>
          <p:cNvSpPr>
            <a:spLocks noGrp="1"/>
          </p:cNvSpPr>
          <p:nvPr>
            <p:ph type="dt" idx="5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39" name="PlaceHolder 4"/>
          <p:cNvSpPr>
            <a:spLocks noGrp="1"/>
          </p:cNvSpPr>
          <p:nvPr>
            <p:ph type="ftr" idx="5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0" name="PlaceHolder 5"/>
          <p:cNvSpPr>
            <a:spLocks noGrp="1"/>
          </p:cNvSpPr>
          <p:nvPr>
            <p:ph type="sldNum" idx="5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D975A58-BEB7-465D-9D3B-41D36FA3FE2B}"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 name="PlaceHolder 3"/>
          <p:cNvSpPr>
            <a:spLocks noGrp="1"/>
          </p:cNvSpPr>
          <p:nvPr>
            <p:ph type="dt" idx="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25FB3C-DD05-40D6-8D82-F161B8C4B02E}"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7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79" name="PlaceHolder 3"/>
          <p:cNvSpPr>
            <a:spLocks noGrp="1"/>
          </p:cNvSpPr>
          <p:nvPr>
            <p:ph type="dt" idx="5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80" name="PlaceHolder 4"/>
          <p:cNvSpPr>
            <a:spLocks noGrp="1"/>
          </p:cNvSpPr>
          <p:nvPr>
            <p:ph type="ftr" idx="5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1" name="PlaceHolder 5"/>
          <p:cNvSpPr>
            <a:spLocks noGrp="1"/>
          </p:cNvSpPr>
          <p:nvPr>
            <p:ph type="sldNum" idx="5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F2E217B-5A86-4F45-8539-21342A26CB56}"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1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0" name="PlaceHolder 3"/>
          <p:cNvSpPr>
            <a:spLocks noGrp="1"/>
          </p:cNvSpPr>
          <p:nvPr>
            <p:ph type="dt" idx="5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21" name="PlaceHolder 4"/>
          <p:cNvSpPr>
            <a:spLocks noGrp="1"/>
          </p:cNvSpPr>
          <p:nvPr>
            <p:ph type="ftr" idx="6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2" name="PlaceHolder 5"/>
          <p:cNvSpPr>
            <a:spLocks noGrp="1"/>
          </p:cNvSpPr>
          <p:nvPr>
            <p:ph type="sldNum" idx="6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0758E90-3EDE-4C32-90D6-719087655394}"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1" name="PlaceHolder 3"/>
          <p:cNvSpPr>
            <a:spLocks noGrp="1"/>
          </p:cNvSpPr>
          <p:nvPr>
            <p:ph type="dt" idx="6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2" name="PlaceHolder 4"/>
          <p:cNvSpPr>
            <a:spLocks noGrp="1"/>
          </p:cNvSpPr>
          <p:nvPr>
            <p:ph type="ftr" idx="6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3" name="PlaceHolder 5"/>
          <p:cNvSpPr>
            <a:spLocks noGrp="1"/>
          </p:cNvSpPr>
          <p:nvPr>
            <p:ph type="sldNum" idx="6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487551-4903-4D6E-9040-E8369C86286C}"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02" name="PlaceHolder 3"/>
          <p:cNvSpPr>
            <a:spLocks noGrp="1"/>
          </p:cNvSpPr>
          <p:nvPr>
            <p:ph type="dt" idx="6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3" name="PlaceHolder 4"/>
          <p:cNvSpPr>
            <a:spLocks noGrp="1"/>
          </p:cNvSpPr>
          <p:nvPr>
            <p:ph type="ftr" idx="6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4" name="PlaceHolder 5"/>
          <p:cNvSpPr>
            <a:spLocks noGrp="1"/>
          </p:cNvSpPr>
          <p:nvPr>
            <p:ph type="sldNum" idx="6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6AABB6-F5C9-494B-B6E4-DC4CEA90B7FC}"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43" name="PlaceHolder 3"/>
          <p:cNvSpPr>
            <a:spLocks noGrp="1"/>
          </p:cNvSpPr>
          <p:nvPr>
            <p:ph type="dt" idx="6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4" name="PlaceHolder 4"/>
          <p:cNvSpPr>
            <a:spLocks noGrp="1"/>
          </p:cNvSpPr>
          <p:nvPr>
            <p:ph type="ftr" idx="6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5" name="PlaceHolder 5"/>
          <p:cNvSpPr>
            <a:spLocks noGrp="1"/>
          </p:cNvSpPr>
          <p:nvPr>
            <p:ph type="sldNum" idx="7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E8B0140-F454-4C0E-A130-2EAFC1355406}"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 name="PlaceHolder 3"/>
          <p:cNvSpPr>
            <a:spLocks noGrp="1"/>
          </p:cNvSpPr>
          <p:nvPr>
            <p:ph type="dt" idx="5"/>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83" name="PlaceHolder 4"/>
          <p:cNvSpPr>
            <a:spLocks noGrp="1"/>
          </p:cNvSpPr>
          <p:nvPr>
            <p:ph type="ftr" idx="6"/>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84" name="PlaceHolder 5"/>
          <p:cNvSpPr>
            <a:spLocks noGrp="1"/>
          </p:cNvSpPr>
          <p:nvPr>
            <p:ph type="sldNum" idx="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F0560A-86E2-4ECA-94F9-E4E593601384}"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3" name="PlaceHolder 3"/>
          <p:cNvSpPr>
            <a:spLocks noGrp="1"/>
          </p:cNvSpPr>
          <p:nvPr>
            <p:ph type="dt" idx="8"/>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124" name="PlaceHolder 4"/>
          <p:cNvSpPr>
            <a:spLocks noGrp="1"/>
          </p:cNvSpPr>
          <p:nvPr>
            <p:ph type="ftr" idx="9"/>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125" name="PlaceHolder 5"/>
          <p:cNvSpPr>
            <a:spLocks noGrp="1"/>
          </p:cNvSpPr>
          <p:nvPr>
            <p:ph type="sldNum" idx="10"/>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41BC57-5C54-4789-9F09-926FFCEB5F67}"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4" name="PlaceHolder 3"/>
          <p:cNvSpPr>
            <a:spLocks noGrp="1"/>
          </p:cNvSpPr>
          <p:nvPr>
            <p:ph type="dt" idx="11"/>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165" name="PlaceHolder 4"/>
          <p:cNvSpPr>
            <a:spLocks noGrp="1"/>
          </p:cNvSpPr>
          <p:nvPr>
            <p:ph type="ftr" idx="12"/>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166" name="PlaceHolder 5"/>
          <p:cNvSpPr>
            <a:spLocks noGrp="1"/>
          </p:cNvSpPr>
          <p:nvPr>
            <p:ph type="sldNum" idx="1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42E122-2F1F-4380-8FB1-0963224A5B87}"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5" name="PlaceHolder 3"/>
          <p:cNvSpPr>
            <a:spLocks noGrp="1"/>
          </p:cNvSpPr>
          <p:nvPr>
            <p:ph type="dt" idx="14"/>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206" name="PlaceHolder 4"/>
          <p:cNvSpPr>
            <a:spLocks noGrp="1"/>
          </p:cNvSpPr>
          <p:nvPr>
            <p:ph type="ftr" idx="15"/>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207" name="PlaceHolder 5"/>
          <p:cNvSpPr>
            <a:spLocks noGrp="1"/>
          </p:cNvSpPr>
          <p:nvPr>
            <p:ph type="sldNum" idx="1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F434F3-9AE1-4693-B4BA-096ECA76BC4D}"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6" name="PlaceHolder 3"/>
          <p:cNvSpPr>
            <a:spLocks noGrp="1"/>
          </p:cNvSpPr>
          <p:nvPr>
            <p:ph type="dt" idx="17"/>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247" name="PlaceHolder 4"/>
          <p:cNvSpPr>
            <a:spLocks noGrp="1"/>
          </p:cNvSpPr>
          <p:nvPr>
            <p:ph type="ftr" idx="18"/>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248" name="PlaceHolder 5"/>
          <p:cNvSpPr>
            <a:spLocks noGrp="1"/>
          </p:cNvSpPr>
          <p:nvPr>
            <p:ph type="sldNum" idx="1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3701E26-618F-47DC-B0D9-918BBDBAF251}"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7" name="PlaceHolder 3"/>
          <p:cNvSpPr>
            <a:spLocks noGrp="1"/>
          </p:cNvSpPr>
          <p:nvPr>
            <p:ph type="dt" idx="20"/>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288" name="PlaceHolder 4"/>
          <p:cNvSpPr>
            <a:spLocks noGrp="1"/>
          </p:cNvSpPr>
          <p:nvPr>
            <p:ph type="ftr" idx="21"/>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289" name="PlaceHolder 5"/>
          <p:cNvSpPr>
            <a:spLocks noGrp="1"/>
          </p:cNvSpPr>
          <p:nvPr>
            <p:ph type="sldNum" idx="2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DE1C549-2989-4F8D-8798-AFFDA6769BAB}"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8" name="PlaceHolder 3"/>
          <p:cNvSpPr>
            <a:spLocks noGrp="1"/>
          </p:cNvSpPr>
          <p:nvPr>
            <p:ph type="dt" idx="23"/>
          </p:nvPr>
        </p:nvSpPr>
        <p:spPr>
          <a:xfrm>
            <a:off x="628200" y="6356520"/>
            <a:ext cx="205740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898989"/>
                </a:solidFill>
                <a:latin typeface="Times New Roman"/>
              </a:rPr>
              <a:t>30.12.12</a:t>
            </a:r>
            <a:endParaRPr b="0" lang="en-US" sz="1200" spc="-1" strike="noStrike">
              <a:solidFill>
                <a:srgbClr val="000000"/>
              </a:solidFill>
              <a:latin typeface="Times New Roman"/>
            </a:endParaRPr>
          </a:p>
        </p:txBody>
      </p:sp>
      <p:sp>
        <p:nvSpPr>
          <p:cNvPr id="329" name="PlaceHolder 4"/>
          <p:cNvSpPr>
            <a:spLocks noGrp="1"/>
          </p:cNvSpPr>
          <p:nvPr>
            <p:ph type="ftr" idx="24"/>
          </p:nvPr>
        </p:nvSpPr>
        <p:spPr>
          <a:xfrm>
            <a:off x="3029040" y="6356520"/>
            <a:ext cx="308592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HS Biomechanik und Biologie menschlicher Bewegung: Arten der Lokomotion</a:t>
            </a:r>
            <a:endParaRPr b="0" lang="en-US" sz="2400" spc="-1" strike="noStrike">
              <a:solidFill>
                <a:srgbClr val="000000"/>
              </a:solidFill>
              <a:latin typeface="Times New Roman"/>
            </a:endParaRPr>
          </a:p>
        </p:txBody>
      </p:sp>
      <p:sp>
        <p:nvSpPr>
          <p:cNvPr id="330" name="PlaceHolder 5"/>
          <p:cNvSpPr>
            <a:spLocks noGrp="1"/>
          </p:cNvSpPr>
          <p:nvPr>
            <p:ph type="sldNum" idx="2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D7F9EC8-7A8A-478F-90E7-0DE656C82514}"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623880" y="1709280"/>
            <a:ext cx="7886880" cy="2853000"/>
          </a:xfrm>
          <a:prstGeom prst="rect">
            <a:avLst/>
          </a:prstGeom>
          <a:noFill/>
          <a:ln w="0">
            <a:noFill/>
          </a:ln>
        </p:spPr>
        <p:txBody>
          <a:bodyPr anchor="b">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6000" spc="-1" strike="noStrike">
                <a:solidFill>
                  <a:srgbClr val="ffffff"/>
                </a:solidFill>
                <a:latin typeface="Calibri Light"/>
              </a:rPr>
              <a:t>DDR/BRD</a:t>
            </a:r>
            <a:endParaRPr b="0" lang="en-US" sz="6000" spc="-1" strike="noStrike">
              <a:solidFill>
                <a:srgbClr val="000000"/>
              </a:solidFill>
              <a:latin typeface="Calibri Light"/>
            </a:endParaRPr>
          </a:p>
        </p:txBody>
      </p:sp>
      <p:sp>
        <p:nvSpPr>
          <p:cNvPr id="992" name="Text Box 2"/>
          <p:cNvSpPr/>
          <p:nvPr/>
        </p:nvSpPr>
        <p:spPr>
          <a:xfrm>
            <a:off x="900000" y="1731960"/>
            <a:ext cx="6985080" cy="2992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6000" spc="-1" strike="noStrike">
                <a:solidFill>
                  <a:srgbClr val="000000"/>
                </a:solidFill>
                <a:latin typeface="Arial"/>
              </a:rPr>
              <a:t>Ziviler Ungehorsam in Ost und West</a:t>
            </a:r>
            <a:endParaRPr b="0" lang="en-US" sz="6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628560" y="365040"/>
            <a:ext cx="7886880" cy="1325520"/>
          </a:xfrm>
          <a:prstGeom prst="rect">
            <a:avLst/>
          </a:prstGeom>
          <a:noFill/>
          <a:ln w="0">
            <a:noFill/>
          </a:ln>
        </p:spPr>
        <p:txBody>
          <a:bodyPr lIns="0" rIns="0" tIns="31680" bIns="0"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4400" spc="-1" strike="noStrike">
                <a:solidFill>
                  <a:srgbClr val="ffffff"/>
                </a:solidFill>
                <a:latin typeface="Calibri Light"/>
              </a:rPr>
              <a:t>Tod Ohnesorg</a:t>
            </a:r>
            <a:endParaRPr b="0" lang="en-US" sz="4400" spc="-1" strike="noStrike">
              <a:solidFill>
                <a:srgbClr val="000000"/>
              </a:solidFill>
              <a:latin typeface="Calibri Light"/>
            </a:endParaRPr>
          </a:p>
        </p:txBody>
      </p:sp>
      <p:sp>
        <p:nvSpPr>
          <p:cNvPr id="1012" name="Text Box 3"/>
          <p:cNvSpPr/>
          <p:nvPr/>
        </p:nvSpPr>
        <p:spPr>
          <a:xfrm>
            <a:off x="628560" y="1341360"/>
            <a:ext cx="8120160" cy="4751640"/>
          </a:xfrm>
          <a:prstGeom prst="rect">
            <a:avLst/>
          </a:prstGeom>
          <a:noFill/>
          <a:ln w="0">
            <a:noFill/>
          </a:ln>
        </p:spPr>
        <p:style>
          <a:lnRef idx="0"/>
          <a:fillRef idx="0"/>
          <a:effectRef idx="0"/>
          <a:fontRef idx="minor"/>
        </p:style>
        <p:txBody>
          <a:bodyPr lIns="90000" rIns="90000" tIns="60840" bIns="45000" anchor="t">
            <a:noAutofit/>
          </a:bodyPr>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Calibri"/>
              </a:rPr>
              <a:t>der Staatsbesuch des Schahs aus Persien in Berlin, dem Folterungen und Morde an kritischen Journalisten und politischen Gegnern nachgewiesen worden waren, führte am 2. Juni 1967 zu Gegendemonstrationen</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Calibri"/>
              </a:rPr>
              <a:t>die Polizei nahm sich vor, mit äußerster Härte gegen die Demonstranten vorzugehen: </a:t>
            </a:r>
            <a:r>
              <a:rPr b="0" i="1" lang="de-DE" sz="2400" spc="-1" strike="noStrike">
                <a:solidFill>
                  <a:srgbClr val="000000"/>
                </a:solidFill>
                <a:latin typeface="Calibri"/>
              </a:rPr>
              <a:t>"Heute können diese Burschen sich auf etwas gefasst machen, heute gibt´s Dresche!" </a:t>
            </a:r>
            <a:r>
              <a:rPr b="0" lang="de-DE" sz="2400" spc="-1" strike="noStrike">
                <a:solidFill>
                  <a:srgbClr val="000000"/>
                </a:solidFill>
                <a:latin typeface="Calibri"/>
              </a:rPr>
              <a:t>(Quelle: Der Spiegel 24/1967)</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Calibri"/>
              </a:rPr>
              <a:t>bei einer Demonstration vor der Deutschen Oper in Berlin wird Benno Ohnesorg von einem Polizisten in einem Berliner Hinterhof mit einem Pistolenschuss aus kurzer Distanz tödlich in den Hinterkopf getroffen</a:t>
            </a:r>
            <a:endParaRPr b="0" lang="en-US" sz="2400" spc="-1" strike="noStrike">
              <a:solidFill>
                <a:srgbClr val="ffffff"/>
              </a:solidFill>
              <a:latin typeface="Arial"/>
            </a:endParaRPr>
          </a:p>
          <a:p>
            <a:pPr marL="343080" indent="-34308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marL="343080" indent="-34308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013" name="Text Box 4"/>
          <p:cNvSpPr/>
          <p:nvPr/>
        </p:nvSpPr>
        <p:spPr>
          <a:xfrm>
            <a:off x="1042920" y="395280"/>
            <a:ext cx="712800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000" spc="-1" strike="noStrike">
                <a:solidFill>
                  <a:srgbClr val="000000"/>
                </a:solidFill>
                <a:latin typeface="Calibri Light"/>
              </a:rPr>
              <a:t>Tod des Benno Ohnesorg</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188640"/>
            <a:ext cx="7886880" cy="71892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4000" spc="-1" strike="noStrike">
                <a:solidFill>
                  <a:srgbClr val="000000"/>
                </a:solidFill>
                <a:latin typeface="Calibri"/>
              </a:rPr>
              <a:t>Ziviler Ungehorsam in Ost und West</a:t>
            </a:r>
            <a:endParaRPr b="0" lang="en-US" sz="4000" spc="-1" strike="noStrike">
              <a:solidFill>
                <a:srgbClr val="000000"/>
              </a:solidFill>
              <a:latin typeface="Calibri Light"/>
            </a:endParaRPr>
          </a:p>
        </p:txBody>
      </p:sp>
      <p:graphicFrame>
        <p:nvGraphicFramePr>
          <p:cNvPr id="1015" name=""/>
          <p:cNvGraphicFramePr/>
          <p:nvPr/>
        </p:nvGraphicFramePr>
        <p:xfrm>
          <a:off x="339840" y="1027080"/>
          <a:ext cx="8480160" cy="5727600"/>
        </p:xfrm>
        <a:graphic>
          <a:graphicData uri="http://schemas.openxmlformats.org/drawingml/2006/table">
            <a:tbl>
              <a:tblPr/>
              <a:tblGrid>
                <a:gridCol w="1830240"/>
                <a:gridCol w="3193920"/>
                <a:gridCol w="3456000"/>
              </a:tblGrid>
              <a:tr h="802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DD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BRD</a:t>
                      </a: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r>
              <a:tr h="73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rechtstat</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Tod des Matthias Domaschk in der Stasihaft</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Erschießung Benno Ohnesorgs durch einen Polizisten</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r>
              <a:tr h="1666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r>
              <a:tr h="136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ed6"/>
                    </a:solidFill>
                  </a:tcPr>
                </a:tc>
              </a:tr>
              <a:tr h="11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365040"/>
            <a:ext cx="7886880" cy="2632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Light"/>
              </a:rPr>
              <a:t>Beurteilung 1: </a:t>
            </a:r>
            <a:br>
              <a:rPr sz="3600"/>
            </a:br>
            <a:br>
              <a:rPr sz="3600"/>
            </a:br>
            <a:r>
              <a:rPr b="0" lang="de-DE" sz="2400" spc="-1" strike="noStrike">
                <a:solidFill>
                  <a:srgbClr val="000000"/>
                </a:solidFill>
                <a:latin typeface="Calibri Light"/>
              </a:rPr>
              <a:t>Ein junger Mensch ist durch staatliche Willkür ums Leben gekommen.</a:t>
            </a:r>
            <a:br>
              <a:rPr sz="2400"/>
            </a:br>
            <a:r>
              <a:rPr b="0" lang="de-DE" sz="2400" spc="-1" strike="noStrike">
                <a:solidFill>
                  <a:srgbClr val="000000"/>
                </a:solidFill>
                <a:latin typeface="Calibri Light"/>
              </a:rPr>
              <a:t>Wodurch unterscheiden sich West und Ost im Umgang mit dieser Unrechtstat?</a:t>
            </a:r>
            <a:endParaRPr b="0" lang="en-US" sz="2400" spc="-1" strike="noStrike">
              <a:solidFill>
                <a:srgbClr val="000000"/>
              </a:solidFill>
              <a:latin typeface="Calibri Light"/>
            </a:endParaRPr>
          </a:p>
        </p:txBody>
      </p:sp>
      <p:sp>
        <p:nvSpPr>
          <p:cNvPr id="1017" name=""/>
          <p:cNvSpPr txBox="1"/>
          <p:nvPr/>
        </p:nvSpPr>
        <p:spPr>
          <a:xfrm>
            <a:off x="607680" y="3500280"/>
            <a:ext cx="7886520" cy="2911680"/>
          </a:xfrm>
          <a:prstGeom prst="rect">
            <a:avLst/>
          </a:prstGeom>
          <a:noFill/>
          <a:ln w="0">
            <a:noFill/>
          </a:ln>
        </p:spPr>
        <p:txBody>
          <a:bodyPr lIns="90000" rIns="90000" tIns="66240" bIns="45000" anchor="t">
            <a:normAutofit/>
          </a:bodyPr>
          <a:p>
            <a:pPr marL="228600" indent="-228600">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400" spc="-1" strike="noStrike">
                <a:solidFill>
                  <a:srgbClr val="000000"/>
                </a:solidFill>
                <a:latin typeface="Arial"/>
                <a:ea typeface="Microsoft YaHei"/>
              </a:rPr>
              <a:t>Arbeite aus den Quellen heraus:</a:t>
            </a:r>
            <a:endParaRPr b="0" lang="en-US" sz="2400" spc="-1" strike="noStrike">
              <a:solidFill>
                <a:srgbClr val="000000"/>
              </a:solidFill>
              <a:latin typeface="Calibri"/>
            </a:endParaRPr>
          </a:p>
          <a:p>
            <a:pPr marL="228600" indent="-228600">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400" spc="-1" strike="noStrike">
                <a:solidFill>
                  <a:srgbClr val="000000"/>
                </a:solidFill>
                <a:latin typeface="Arial"/>
                <a:ea typeface="Microsoft YaHei"/>
              </a:rPr>
              <a:t>a.) die Reaktion des Umfeldes</a:t>
            </a:r>
            <a:endParaRPr b="0" lang="en-US" sz="2400" spc="-1" strike="noStrike">
              <a:solidFill>
                <a:srgbClr val="000000"/>
              </a:solidFill>
              <a:latin typeface="Calibri"/>
            </a:endParaRPr>
          </a:p>
          <a:p>
            <a:pPr marL="228600" indent="-228600">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400" spc="-1" strike="noStrike">
                <a:solidFill>
                  <a:srgbClr val="000000"/>
                </a:solidFill>
                <a:latin typeface="Arial"/>
                <a:ea typeface="Microsoft YaHei"/>
              </a:rPr>
              <a:t>b.) die Reaktion des Staates</a:t>
            </a:r>
            <a:endParaRPr b="0" lang="en-US" sz="2400" spc="-1" strike="noStrike">
              <a:solidFill>
                <a:srgbClr val="000000"/>
              </a:solidFill>
              <a:latin typeface="Calibri"/>
            </a:endParaRPr>
          </a:p>
          <a:p>
            <a:pPr marL="228600" indent="-228600">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400" spc="-1" strike="noStrike">
                <a:solidFill>
                  <a:srgbClr val="000000"/>
                </a:solidFill>
                <a:latin typeface="Arial"/>
                <a:ea typeface="Microsoft YaHei"/>
              </a:rPr>
              <a:t>c.) die Reaktion der Öffentlichke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4400" spc="-1" strike="noStrike">
                <a:solidFill>
                  <a:srgbClr val="ffffff"/>
                </a:solidFill>
                <a:latin typeface="Calibri Light"/>
              </a:rPr>
              <a:t>DDR/BRD</a:t>
            </a:r>
            <a:endParaRPr b="0" lang="en-US" sz="4400" spc="-1" strike="noStrike">
              <a:solidFill>
                <a:srgbClr val="000000"/>
              </a:solidFill>
              <a:latin typeface="Calibri Light"/>
            </a:endParaRPr>
          </a:p>
        </p:txBody>
      </p:sp>
      <p:sp>
        <p:nvSpPr>
          <p:cNvPr id="1019" name="Text Box 2"/>
          <p:cNvSpPr/>
          <p:nvPr/>
        </p:nvSpPr>
        <p:spPr>
          <a:xfrm>
            <a:off x="339840" y="189000"/>
            <a:ext cx="8464320" cy="7189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000" spc="-1" strike="noStrike">
                <a:solidFill>
                  <a:srgbClr val="000000"/>
                </a:solidFill>
                <a:latin typeface="Calibri"/>
              </a:rPr>
              <a:t>Ziviler Ungehorsam in Ost und West</a:t>
            </a:r>
            <a:endParaRPr b="0" lang="en-US" sz="4000" spc="-1" strike="noStrike">
              <a:solidFill>
                <a:srgbClr val="ffffff"/>
              </a:solidFill>
              <a:latin typeface="Arial"/>
            </a:endParaRPr>
          </a:p>
        </p:txBody>
      </p:sp>
      <p:graphicFrame>
        <p:nvGraphicFramePr>
          <p:cNvPr id="1020" name=""/>
          <p:cNvGraphicFramePr/>
          <p:nvPr/>
        </p:nvGraphicFramePr>
        <p:xfrm>
          <a:off x="339840" y="1027080"/>
          <a:ext cx="8480160" cy="5727600"/>
        </p:xfrm>
        <a:graphic>
          <a:graphicData uri="http://schemas.openxmlformats.org/drawingml/2006/table">
            <a:tbl>
              <a:tblPr/>
              <a:tblGrid>
                <a:gridCol w="1830240"/>
                <a:gridCol w="3193920"/>
                <a:gridCol w="3456000"/>
              </a:tblGrid>
              <a:tr h="802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DD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BRD</a:t>
                      </a: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r>
              <a:tr h="73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rechtstat</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Tod von Matthias Domaschks in der Stasihaft</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Erschießung Benno Ohnesorgs durch einen Polizisten</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r>
              <a:tr h="1666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aktionen des Umfeld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chock, Gefühl der Bedrohung durch den Staat</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Trauerfeier mit etwa 300 Teilnehmenden, </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weitere Proteste am Jahrestag (Aufstellen eines Denkmals, Aufkleben einer Todesanzeig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überall Trauerzüge und Massenkundgebungen mit etwa 100.000 Teilnehmenden</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Trauerzug ohne Grenzkontrolle durch die DDR nach Hannover</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roteste und Solidaritätskundgebungen auch in der DDR</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r>
              <a:tr h="136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aktionen des Staa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willkürliche Festnahmen und Verhöre der Protestierenden ohne klaren Straftatbestand</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Beseitigung aller Zeichen des Gedenken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unächst Vertuschung (als „Schädelbruch“)</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pätes Schuldeingeständnis und Rücktritt des verantwortlichen Oberbürgermeisters Albertz</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ed6"/>
                    </a:solidFill>
                  </a:tcPr>
                </a:tc>
              </a:tr>
              <a:tr h="11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aktionen der Öffentlichkeit</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keine Presseberichte</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r>
                        <a:rPr b="0" lang="de-DE" sz="1400" spc="-1" strike="noStrike">
                          <a:solidFill>
                            <a:srgbClr val="000000"/>
                          </a:solidFill>
                          <a:latin typeface="Calibri"/>
                        </a:rPr>
                        <a:t>Totschweige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resse kommentiert kritisch</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weitere Unruhen erwartet (hohe politische Aktivität)</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kzeptanz der Selbstkritik des Staate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250560" y="180720"/>
            <a:ext cx="4249800" cy="1592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Light"/>
              </a:rPr>
              <a:t>Annonce und Klebeaktion zum 1. Todestag am 12. April 1982</a:t>
            </a:r>
            <a:br>
              <a:rPr sz="2800"/>
            </a:br>
            <a:r>
              <a:rPr b="0" lang="de-DE" sz="1400" spc="-1" strike="noStrike">
                <a:solidFill>
                  <a:srgbClr val="000000"/>
                </a:solidFill>
                <a:latin typeface="Calibri Light"/>
              </a:rPr>
              <a:t>(aus: Freya Klier, Matthias Domaschk und der Jenauer Widerstand, Berlin 2007, S. 124)</a:t>
            </a:r>
            <a:endParaRPr b="0" lang="en-US" sz="1400" spc="-1" strike="noStrike">
              <a:solidFill>
                <a:srgbClr val="000000"/>
              </a:solidFill>
              <a:latin typeface="Calibri Light"/>
            </a:endParaRPr>
          </a:p>
        </p:txBody>
      </p:sp>
      <p:sp>
        <p:nvSpPr>
          <p:cNvPr id="1022" name="Rechteck 1"/>
          <p:cNvSpPr/>
          <p:nvPr/>
        </p:nvSpPr>
        <p:spPr>
          <a:xfrm>
            <a:off x="2411280" y="5091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https://www.jugendopposition.de/cache/images/7/152837-st-galerie.jpg?B5C5D </a:t>
            </a:r>
            <a:endParaRPr b="0" lang="en-US" sz="1800" spc="-1" strike="noStrike">
              <a:solidFill>
                <a:srgbClr val="ffffff"/>
              </a:solidFill>
              <a:latin typeface="Arial"/>
            </a:endParaRPr>
          </a:p>
        </p:txBody>
      </p:sp>
      <p:sp>
        <p:nvSpPr>
          <p:cNvPr id="1023" name="Rechteck 2"/>
          <p:cNvSpPr/>
          <p:nvPr/>
        </p:nvSpPr>
        <p:spPr>
          <a:xfrm>
            <a:off x="2411280" y="2852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https://www.jugendopposition.de/cache/images/8/152838-st-galerie.jpg?6C3B9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000" y="365040"/>
            <a:ext cx="8047080" cy="421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Light"/>
              </a:rPr>
              <a:t>Massendemonstrationen bei der Beerdigung Ohnesorgs am 9.6.1967 in Hannover</a:t>
            </a:r>
            <a:br>
              <a:rPr sz="2800"/>
            </a:br>
            <a:br>
              <a:rPr sz="2800"/>
            </a:br>
            <a:r>
              <a:rPr b="0" lang="de-DE" sz="2400" spc="-1" strike="noStrike">
                <a:solidFill>
                  <a:srgbClr val="000000"/>
                </a:solidFill>
                <a:latin typeface="Calibri Light"/>
              </a:rPr>
              <a:t>http://germanhistorydocs.ghi-dc.org/sub_image.cfm?image_id=2392 </a:t>
            </a:r>
            <a:br>
              <a:rPr sz="2400"/>
            </a:br>
            <a:br>
              <a:rPr sz="2800"/>
            </a:br>
            <a:br>
              <a:rPr sz="2800"/>
            </a:b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 Box 2"/>
          <p:cNvSpPr/>
          <p:nvPr/>
        </p:nvSpPr>
        <p:spPr>
          <a:xfrm>
            <a:off x="457200" y="476280"/>
            <a:ext cx="8137440" cy="7207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000" spc="-1" strike="noStrike">
                <a:solidFill>
                  <a:srgbClr val="000000"/>
                </a:solidFill>
                <a:latin typeface="Calibri"/>
              </a:rPr>
              <a:t>Ziviler Ungehorsam in Ost und West</a:t>
            </a:r>
            <a:endParaRPr b="0" lang="en-US" sz="4000" spc="-1" strike="noStrike">
              <a:solidFill>
                <a:srgbClr val="ffffff"/>
              </a:solidFill>
              <a:latin typeface="Arial"/>
            </a:endParaRPr>
          </a:p>
        </p:txBody>
      </p:sp>
      <p:graphicFrame>
        <p:nvGraphicFramePr>
          <p:cNvPr id="1026" name=""/>
          <p:cNvGraphicFramePr/>
          <p:nvPr/>
        </p:nvGraphicFramePr>
        <p:xfrm>
          <a:off x="457200" y="1413000"/>
          <a:ext cx="7975440" cy="5256000"/>
        </p:xfrm>
        <a:graphic>
          <a:graphicData uri="http://schemas.openxmlformats.org/drawingml/2006/table">
            <a:tbl>
              <a:tblPr/>
              <a:tblGrid>
                <a:gridCol w="1666800"/>
                <a:gridCol w="3240000"/>
                <a:gridCol w="3068640"/>
              </a:tblGrid>
              <a:tr h="949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DD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BRD</a:t>
                      </a: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r>
              <a:tr h="4306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Verschleierung und gewaltsame Unterdrückung einer kritischen und öffentlichen Aufarbeitung des Unrechts, keine Konsequenzen für die politisch Verantwortlichen</a:t>
                      </a:r>
                      <a:endParaRPr b="0" lang="en-US" sz="1800" spc="-1" strike="noStrike">
                        <a:solidFill>
                          <a:srgbClr val="ffffff"/>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Zäsur, Formierung der Friedensbewegung und Beginn vermehrter Ausreise- und Fluchtwelle</a:t>
                      </a:r>
                      <a:endParaRPr b="0" lang="en-US" sz="1800" spc="-1" strike="noStrike">
                        <a:solidFill>
                          <a:srgbClr val="ffffff"/>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eginn der „Exit-und-Voice-Bewegung“, die das Ende der DDR einläutete</a:t>
                      </a:r>
                      <a:endParaRPr b="0" lang="en-US" sz="1800" spc="-1" strike="noStrike">
                        <a:solidFill>
                          <a:srgbClr val="ffffff"/>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itische und öffentliche Aufarbeitung des Unrechts mit teilweise Konsequenzen für die politisch Verantwortlichen</a:t>
                      </a:r>
                      <a:endParaRPr b="0" lang="en-US" sz="1800" spc="-1" strike="noStrike">
                        <a:solidFill>
                          <a:srgbClr val="ffffff"/>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Zäsur, Beginn der 68er-Bewegung und der Liberalisierung der Gesellschaft</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4400" spc="-1" strike="noStrike">
                <a:solidFill>
                  <a:srgbClr val="ffffff"/>
                </a:solidFill>
                <a:latin typeface="Calibri Light"/>
              </a:rPr>
              <a:t>DDR/BRD</a:t>
            </a:r>
            <a:endParaRPr b="0" lang="en-US" sz="4400" spc="-1" strike="noStrike">
              <a:solidFill>
                <a:srgbClr val="000000"/>
              </a:solidFill>
              <a:latin typeface="Calibri Light"/>
            </a:endParaRPr>
          </a:p>
        </p:txBody>
      </p:sp>
      <p:sp>
        <p:nvSpPr>
          <p:cNvPr id="1028" name="Text Box 2"/>
          <p:cNvSpPr/>
          <p:nvPr/>
        </p:nvSpPr>
        <p:spPr>
          <a:xfrm>
            <a:off x="339840" y="96840"/>
            <a:ext cx="8464320" cy="66816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000" spc="-1" strike="noStrike">
                <a:solidFill>
                  <a:srgbClr val="000000"/>
                </a:solidFill>
                <a:latin typeface="Calibri"/>
              </a:rPr>
              <a:t>Vertiefungsaspekte</a:t>
            </a:r>
            <a:endParaRPr b="0" lang="en-US" sz="4000" spc="-1" strike="noStrike">
              <a:solidFill>
                <a:srgbClr val="ffffff"/>
              </a:solidFill>
              <a:latin typeface="Arial"/>
            </a:endParaRPr>
          </a:p>
        </p:txBody>
      </p:sp>
      <p:graphicFrame>
        <p:nvGraphicFramePr>
          <p:cNvPr id="1029" name=""/>
          <p:cNvGraphicFramePr/>
          <p:nvPr/>
        </p:nvGraphicFramePr>
        <p:xfrm>
          <a:off x="317520" y="765000"/>
          <a:ext cx="8647200" cy="5980320"/>
        </p:xfrm>
        <a:graphic>
          <a:graphicData uri="http://schemas.openxmlformats.org/drawingml/2006/table">
            <a:tbl>
              <a:tblPr/>
              <a:tblGrid>
                <a:gridCol w="1509840"/>
                <a:gridCol w="3411360"/>
                <a:gridCol w="3726000"/>
              </a:tblGrid>
              <a:tr h="51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DD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BR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d9a78"/>
                    </a:solidFill>
                  </a:tcPr>
                </a:tc>
              </a:tr>
              <a:tr h="2013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mgang mit Täter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keinerlei Strafverfolgung durch DDR-Behörden</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beteiligte Ex-Stasi-Mitarbeiter werden im Jahr 2000 wegen Freiheitsberaubung zu Geldstrafen verurteil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nklage des Schützen Karl-Heinz Kurras wegen fahrlässiger Tötung, die mit Freispruch beendet wurde, wobei festgestellt wurde, dass die Tötung zwar eindeutig rechtswidrig war und Kurras objektiv falsch, aber in vermeintlicher „putativer Notwehr“ gehandelt habe </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Empörung über das „Fascho“-Urteil</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ed6"/>
                    </a:solidFill>
                  </a:tcPr>
                </a:tc>
              </a:tr>
              <a:tr h="289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Gedenkkultu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m 1. Todestag (12.04.1982) Skulptur des Bildhauers Michael Blumhagen, die von der Stasi aber sofort entfernt wurde</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eit 2011 Ehrengrab auf dem Jenaer Nordfriedhof mit Grabstele</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m 35. Todestag (12. April 2016) Gedenkfeier</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um 60. Geburtstag (16. Juni 2017) Aufführung des Theaterstücks „Das verlorene Leben des Matthias D.“ in Jena</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in Jena Straße und Hörsaal nach Domaschk benann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eit Dezember 1990 Gedenktafel des österreichischen Künstlers Alfred Hrdlicka am Eingang zum U-Bahnhof neben der Deutschen Oper</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eit Dezember 2008 Informationstafel an der Krumme Straße 66/67</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ahlreiche Gedenkveranstaltungen zum 50. Todestag am 2.6.2017</a:t>
                      </a:r>
                      <a:endParaRPr b="0" lang="en-US" sz="1400" spc="-1" strike="noStrike">
                        <a:solidFill>
                          <a:srgbClr val="ffffff"/>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in Hannover Brücke nach Ohnesorg benann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c"/>
                    </a:solidFill>
                  </a:tcPr>
                </a:tc>
              </a:tr>
              <a:tr h="55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ed6"/>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ed6"/>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ed6"/>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Fußzeilenplatzhalter 4"/>
          <p:cNvSpPr/>
          <p:nvPr/>
        </p:nvSpPr>
        <p:spPr>
          <a:xfrm>
            <a:off x="3708360" y="676440"/>
            <a:ext cx="4718160" cy="95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Angela Merkel zum 25. Jahrestag des Mauerfalles, 04.11.2014</a:t>
            </a:r>
            <a:endParaRPr b="0" lang="en-US" sz="2000" spc="-1" strike="noStrike">
              <a:solidFill>
                <a:srgbClr val="ffffff"/>
              </a:solidFill>
              <a:latin typeface="Arial"/>
            </a:endParaRPr>
          </a:p>
        </p:txBody>
      </p:sp>
      <p:sp>
        <p:nvSpPr>
          <p:cNvPr id="1031" name="Ovale Legende 8"/>
          <p:cNvSpPr/>
          <p:nvPr/>
        </p:nvSpPr>
        <p:spPr>
          <a:xfrm>
            <a:off x="5148360" y="4273560"/>
            <a:ext cx="3456000" cy="2448000"/>
          </a:xfrm>
          <a:prstGeom prst="wedgeEllipseCallout">
            <a:avLst>
              <a:gd name="adj1" fmla="val 42550"/>
              <a:gd name="adj2" fmla="val -119675"/>
            </a:avLst>
          </a:prstGeom>
          <a:solidFill>
            <a:srgbClr val="1d9a78"/>
          </a:solidFill>
          <a:ln w="12600">
            <a:solidFill>
              <a:srgbClr val="127056"/>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Calibri"/>
              </a:rPr>
              <a:t>Kann man das so sehen?</a:t>
            </a:r>
            <a:endParaRPr b="0" lang="en-US" sz="2400" spc="-1" strike="noStrike">
              <a:solidFill>
                <a:srgbClr val="ffffff"/>
              </a:solidFill>
              <a:latin typeface="Arial"/>
            </a:endParaRPr>
          </a:p>
        </p:txBody>
      </p:sp>
      <p:sp>
        <p:nvSpPr>
          <p:cNvPr id="1032" name="PlaceHolder 1"/>
          <p:cNvSpPr>
            <a:spLocks noGrp="1"/>
          </p:cNvSpPr>
          <p:nvPr>
            <p:ph type="title"/>
          </p:nvPr>
        </p:nvSpPr>
        <p:spPr>
          <a:xfrm>
            <a:off x="430200" y="142560"/>
            <a:ext cx="7886880" cy="615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Beurteilung 2:</a:t>
            </a:r>
            <a:endParaRPr b="0" lang="en-US" sz="3600" spc="-1" strike="noStrike">
              <a:solidFill>
                <a:srgbClr val="000000"/>
              </a:solidFill>
              <a:latin typeface="Calibri Light"/>
            </a:endParaRPr>
          </a:p>
        </p:txBody>
      </p:sp>
      <p:pic>
        <p:nvPicPr>
          <p:cNvPr id="1033" name="Picture 7" descr="File:Angela Merkel (2008).jpg"/>
          <p:cNvPicPr/>
          <p:nvPr/>
        </p:nvPicPr>
        <p:blipFill>
          <a:blip r:embed="rId1"/>
          <a:stretch/>
        </p:blipFill>
        <p:spPr>
          <a:xfrm>
            <a:off x="366840" y="790560"/>
            <a:ext cx="2760480" cy="2068560"/>
          </a:xfrm>
          <a:prstGeom prst="rect">
            <a:avLst/>
          </a:prstGeom>
          <a:ln w="0">
            <a:noFill/>
          </a:ln>
        </p:spPr>
      </p:pic>
      <p:sp>
        <p:nvSpPr>
          <p:cNvPr id="1034" name="Ovale Legende 1"/>
          <p:cNvSpPr/>
          <p:nvPr/>
        </p:nvSpPr>
        <p:spPr>
          <a:xfrm>
            <a:off x="1747800" y="4024440"/>
            <a:ext cx="3168720" cy="2447640"/>
          </a:xfrm>
          <a:prstGeom prst="wedgeEllipseCallout">
            <a:avLst>
              <a:gd name="adj1" fmla="val -23185"/>
              <a:gd name="adj2" fmla="val -114907"/>
            </a:avLst>
          </a:prstGeom>
          <a:solidFill>
            <a:srgbClr val="b74919"/>
          </a:solidFill>
          <a:ln w="12600">
            <a:solidFill>
              <a:srgbClr val="86330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Calibri"/>
              </a:rPr>
              <a:t>“</a:t>
            </a:r>
            <a:r>
              <a:rPr b="0" lang="de-DE" sz="2400" spc="-1" strike="noStrike">
                <a:solidFill>
                  <a:srgbClr val="ffffff"/>
                </a:solidFill>
                <a:latin typeface="Calibri"/>
              </a:rPr>
              <a:t>Natürlich war die DDR ein Unrechtsstaat!“</a:t>
            </a:r>
            <a:endParaRPr b="0" lang="en-US" sz="2400" spc="-1" strike="noStrike">
              <a:solidFill>
                <a:srgbClr val="ffffff"/>
              </a:solidFill>
              <a:latin typeface="Arial"/>
            </a:endParaRPr>
          </a:p>
        </p:txBody>
      </p:sp>
      <p:sp>
        <p:nvSpPr>
          <p:cNvPr id="1035" name="Rechteck 2"/>
          <p:cNvSpPr/>
          <p:nvPr/>
        </p:nvSpPr>
        <p:spPr>
          <a:xfrm>
            <a:off x="347760" y="2955960"/>
            <a:ext cx="2063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Angela Merkel</a:t>
            </a:r>
            <a:r>
              <a:rPr b="0" lang="de-DE" sz="1200" spc="-1" strike="noStrike">
                <a:solidFill>
                  <a:srgbClr val="000000"/>
                </a:solidFill>
                <a:latin typeface="Arial"/>
              </a:rPr>
              <a:t> </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 </a:t>
            </a:r>
            <a:r>
              <a:rPr b="0" lang="he-IL" sz="1200" spc="-1" strike="noStrike">
                <a:solidFill>
                  <a:srgbClr val="000000"/>
                </a:solidFill>
                <a:latin typeface="Arial"/>
                <a:cs typeface="Arial"/>
              </a:rPr>
              <a:t>א</a:t>
            </a:r>
            <a:r>
              <a:rPr b="0" lang="he-IL" sz="1200" spc="-1" strike="noStrike">
                <a:solidFill>
                  <a:srgbClr val="000000"/>
                </a:solidFill>
                <a:latin typeface="Arial"/>
                <a:ea typeface="Arial"/>
              </a:rPr>
              <a:t> </a:t>
            </a:r>
            <a:r>
              <a:rPr b="0" lang="de-DE" sz="1200" spc="-1" strike="noStrike">
                <a:solidFill>
                  <a:srgbClr val="000000"/>
                </a:solidFill>
                <a:latin typeface="Arial"/>
              </a:rPr>
              <a:t> </a:t>
            </a:r>
            <a:r>
              <a:rPr b="0" lang="de-DE" sz="1200" spc="-1" strike="noStrike">
                <a:solidFill>
                  <a:srgbClr val="000000"/>
                </a:solidFill>
                <a:latin typeface="Arial"/>
              </a:rPr>
              <a:t>Aleph [CC BY-SA 2.5 (https://creativecommons.org/licenses/by-sa/2.5)], from Wikimedia Common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755640" y="304560"/>
            <a:ext cx="7616880" cy="125244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4400" spc="-1" strike="noStrike">
                <a:solidFill>
                  <a:srgbClr val="000000"/>
                </a:solidFill>
                <a:latin typeface="Calibri"/>
              </a:rPr>
              <a:t>Was ist ein „Unrechtsstaat“? </a:t>
            </a:r>
            <a:endParaRPr b="0" lang="en-US" sz="4400" spc="-1" strike="noStrike">
              <a:solidFill>
                <a:srgbClr val="000000"/>
              </a:solidFill>
              <a:latin typeface="Calibri Light"/>
            </a:endParaRPr>
          </a:p>
        </p:txBody>
      </p:sp>
      <p:sp>
        <p:nvSpPr>
          <p:cNvPr id="1037" name="Text Box 2"/>
          <p:cNvSpPr/>
          <p:nvPr/>
        </p:nvSpPr>
        <p:spPr>
          <a:xfrm>
            <a:off x="774720" y="2133720"/>
            <a:ext cx="7597800" cy="367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800" spc="-1" strike="noStrike">
                <a:solidFill>
                  <a:srgbClr val="000000"/>
                </a:solidFill>
                <a:latin typeface="Calibri"/>
              </a:rPr>
              <a:t>„</a:t>
            </a:r>
            <a:r>
              <a:rPr b="0" i="1" lang="de-DE" sz="2800" spc="-1" strike="noStrike">
                <a:solidFill>
                  <a:srgbClr val="000000"/>
                </a:solidFill>
                <a:latin typeface="Calibri"/>
              </a:rPr>
              <a:t>Kennzeichen eines Unrechtsstaates ist, dass es daran fehlt, dass die Verwirklichung des Rechts angestrebt und im Großen und Ganzen erreicht wird.“</a:t>
            </a:r>
            <a:endParaRPr b="0" lang="en-US" sz="2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Horst Sendler - Zeitschrift für Rechtspolitik 1993, S. 1ff.</a:t>
            </a:r>
            <a:endParaRPr b="0" lang="en-US" sz="16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Seite „Unrechtsstaat“. In: Wikipedia, Die freie Enzyklopädie. Bearbeitungsstand: 15. Februar 2017, 19:56 UTC. </a:t>
            </a:r>
            <a:r>
              <a:rPr b="0" lang="de-DE" sz="1600" spc="-1" strike="noStrike">
                <a:solidFill>
                  <a:srgbClr val="000000"/>
                </a:solidFill>
                <a:latin typeface="Arial"/>
              </a:rPr>
              <a:t>URL: https://de.wikipedia.org/w/index.php?title=Unrechtsstaat&amp;oldid=162682332 (abgerufen: 21. Februar 2017, 17:01 UTC)</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30120" y="115920"/>
            <a:ext cx="8191440" cy="976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Light"/>
              </a:rPr>
              <a:t>Didaktische Perspektivierung</a:t>
            </a:r>
            <a:endParaRPr b="0" lang="en-US" sz="3600" spc="-1" strike="noStrike">
              <a:solidFill>
                <a:srgbClr val="000000"/>
              </a:solidFill>
              <a:latin typeface="Calibri Light"/>
            </a:endParaRPr>
          </a:p>
        </p:txBody>
      </p:sp>
      <p:sp>
        <p:nvSpPr>
          <p:cNvPr id="994" name=""/>
          <p:cNvSpPr txBox="1"/>
          <p:nvPr/>
        </p:nvSpPr>
        <p:spPr>
          <a:xfrm>
            <a:off x="468000" y="1700280"/>
            <a:ext cx="8047080" cy="4681440"/>
          </a:xfrm>
          <a:prstGeom prst="rect">
            <a:avLst/>
          </a:prstGeom>
          <a:noFill/>
          <a:ln w="0">
            <a:noFill/>
          </a:ln>
        </p:spPr>
        <p:txBody>
          <a:bodyPr anchor="t">
            <a:normAutofit/>
          </a:bodyPr>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vergleichender Ansatz</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wertender Ansatz: War die DDR ein Unrechtssta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chronologische Schwerpunktverlagerung weg von Nachkriegsgeschichte hin zur Vorgeschichte des vereinten Deutschlands und Europa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emokratisierungsschübe in West (1968) und Ost (1980er-Jahre) als Liberalisierungsprozes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Fußzeilenplatzhalter 4"/>
          <p:cNvSpPr/>
          <p:nvPr/>
        </p:nvSpPr>
        <p:spPr>
          <a:xfrm>
            <a:off x="3708360" y="676440"/>
            <a:ext cx="4718160" cy="95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Angela Merkel zum 25. Jahrestag des Mauerfalles, 04.11.2014</a:t>
            </a:r>
            <a:endParaRPr b="0" lang="en-US" sz="2000" spc="-1" strike="noStrike">
              <a:solidFill>
                <a:srgbClr val="ffffff"/>
              </a:solidFill>
              <a:latin typeface="Arial"/>
            </a:endParaRPr>
          </a:p>
        </p:txBody>
      </p:sp>
      <p:sp>
        <p:nvSpPr>
          <p:cNvPr id="1039" name="PlaceHolder 1"/>
          <p:cNvSpPr>
            <a:spLocks noGrp="1"/>
          </p:cNvSpPr>
          <p:nvPr>
            <p:ph type="title"/>
          </p:nvPr>
        </p:nvSpPr>
        <p:spPr>
          <a:xfrm>
            <a:off x="430200" y="142560"/>
            <a:ext cx="7886880" cy="615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Beurteilung 2:</a:t>
            </a:r>
            <a:endParaRPr b="0" lang="en-US" sz="3600" spc="-1" strike="noStrike">
              <a:solidFill>
                <a:srgbClr val="000000"/>
              </a:solidFill>
              <a:latin typeface="Calibri Light"/>
            </a:endParaRPr>
          </a:p>
        </p:txBody>
      </p:sp>
      <p:pic>
        <p:nvPicPr>
          <p:cNvPr id="1040" name="Picture 7" descr="File:Angela Merkel (2008).jpg"/>
          <p:cNvPicPr/>
          <p:nvPr/>
        </p:nvPicPr>
        <p:blipFill>
          <a:blip r:embed="rId1"/>
          <a:stretch/>
        </p:blipFill>
        <p:spPr>
          <a:xfrm>
            <a:off x="366840" y="790560"/>
            <a:ext cx="2760480" cy="2068560"/>
          </a:xfrm>
          <a:prstGeom prst="rect">
            <a:avLst/>
          </a:prstGeom>
          <a:ln w="0">
            <a:noFill/>
          </a:ln>
        </p:spPr>
      </p:pic>
      <p:sp>
        <p:nvSpPr>
          <p:cNvPr id="1041" name="Rechteck 2"/>
          <p:cNvSpPr/>
          <p:nvPr/>
        </p:nvSpPr>
        <p:spPr>
          <a:xfrm>
            <a:off x="347760" y="2955960"/>
            <a:ext cx="2063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Angela Merkel</a:t>
            </a:r>
            <a:r>
              <a:rPr b="0" lang="de-DE" sz="1200" spc="-1" strike="noStrike">
                <a:solidFill>
                  <a:srgbClr val="000000"/>
                </a:solidFill>
                <a:latin typeface="Arial"/>
              </a:rPr>
              <a:t> </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 </a:t>
            </a:r>
            <a:r>
              <a:rPr b="0" lang="he-IL" sz="1200" spc="-1" strike="noStrike">
                <a:solidFill>
                  <a:srgbClr val="000000"/>
                </a:solidFill>
                <a:latin typeface="Arial"/>
                <a:cs typeface="Arial"/>
              </a:rPr>
              <a:t>א</a:t>
            </a:r>
            <a:r>
              <a:rPr b="0" lang="he-IL" sz="1200" spc="-1" strike="noStrike">
                <a:solidFill>
                  <a:srgbClr val="000000"/>
                </a:solidFill>
                <a:latin typeface="Arial"/>
                <a:ea typeface="Arial"/>
              </a:rPr>
              <a:t> </a:t>
            </a:r>
            <a:r>
              <a:rPr b="0" lang="de-DE" sz="1200" spc="-1" strike="noStrike">
                <a:solidFill>
                  <a:srgbClr val="000000"/>
                </a:solidFill>
                <a:latin typeface="Arial"/>
              </a:rPr>
              <a:t> </a:t>
            </a:r>
            <a:r>
              <a:rPr b="0" lang="de-DE" sz="1200" spc="-1" strike="noStrike">
                <a:solidFill>
                  <a:srgbClr val="000000"/>
                </a:solidFill>
                <a:latin typeface="Arial"/>
              </a:rPr>
              <a:t>Aleph [CC BY-SA 2.5 (https://creativecommons.org/licenses/by-sa/2.5)], from Wikimedia Commons</a:t>
            </a:r>
            <a:endParaRPr b="0" lang="en-US" sz="1200" spc="-1" strike="noStrike">
              <a:solidFill>
                <a:srgbClr val="ffffff"/>
              </a:solidFill>
              <a:latin typeface="Arial"/>
            </a:endParaRPr>
          </a:p>
        </p:txBody>
      </p:sp>
      <p:sp>
        <p:nvSpPr>
          <p:cNvPr id="1042" name="Ovale Legende 1"/>
          <p:cNvSpPr/>
          <p:nvPr/>
        </p:nvSpPr>
        <p:spPr>
          <a:xfrm>
            <a:off x="1747800" y="4024440"/>
            <a:ext cx="3168720" cy="2447640"/>
          </a:xfrm>
          <a:prstGeom prst="wedgeEllipseCallout">
            <a:avLst>
              <a:gd name="adj1" fmla="val -23185"/>
              <a:gd name="adj2" fmla="val -114907"/>
            </a:avLst>
          </a:prstGeom>
          <a:solidFill>
            <a:srgbClr val="b74919"/>
          </a:solidFill>
          <a:ln w="12600">
            <a:solidFill>
              <a:srgbClr val="86330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Calibri"/>
              </a:rPr>
              <a:t>“</a:t>
            </a:r>
            <a:r>
              <a:rPr b="0" lang="de-DE" sz="2400" spc="-1" strike="noStrike">
                <a:solidFill>
                  <a:srgbClr val="ffffff"/>
                </a:solidFill>
                <a:latin typeface="Calibri"/>
              </a:rPr>
              <a:t>Natürlich war die DDR ein Unrechtsstaat!“</a:t>
            </a:r>
            <a:endParaRPr b="0" lang="en-US" sz="2400" spc="-1" strike="noStrike">
              <a:solidFill>
                <a:srgbClr val="ffffff"/>
              </a:solidFill>
              <a:latin typeface="Arial"/>
            </a:endParaRPr>
          </a:p>
        </p:txBody>
      </p:sp>
      <p:sp>
        <p:nvSpPr>
          <p:cNvPr id="1043" name="Ovale Legende 7"/>
          <p:cNvSpPr/>
          <p:nvPr/>
        </p:nvSpPr>
        <p:spPr>
          <a:xfrm>
            <a:off x="5292720" y="2959200"/>
            <a:ext cx="3527280" cy="3512880"/>
          </a:xfrm>
          <a:prstGeom prst="wedgeEllipseCallout">
            <a:avLst>
              <a:gd name="adj1" fmla="val 15009"/>
              <a:gd name="adj2" fmla="val -91462"/>
            </a:avLst>
          </a:prstGeom>
          <a:solidFill>
            <a:srgbClr val="1d9a78"/>
          </a:solidFill>
          <a:ln w="12600">
            <a:solidFill>
              <a:srgbClr val="127056"/>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Calibri"/>
              </a:rPr>
              <a:t>Kann man das so sehen?</a:t>
            </a:r>
            <a:endParaRPr b="0" lang="en-US" sz="24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Calibri"/>
              </a:rPr>
              <a:t>Wodurch unterscheiden sich BRD und DDR im Umgang mit Opfern der Staatsgewal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alibri Light"/>
              </a:rPr>
              <a:t>Die DDR – ein „Unrechtsstaat“? Ein Vergleich mit der BRD</a:t>
            </a:r>
            <a:endParaRPr b="0" lang="en-US" sz="4400" spc="-1" strike="noStrike">
              <a:solidFill>
                <a:srgbClr val="000000"/>
              </a:solidFill>
              <a:latin typeface="Calibri Light"/>
            </a:endParaRPr>
          </a:p>
        </p:txBody>
      </p:sp>
      <p:sp>
        <p:nvSpPr>
          <p:cNvPr id="104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Calibri"/>
              </a:rPr>
              <a:t>Fazit:</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RD auf Grundgesetz verpflichtet, DDR auf Verfassung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Calibri"/>
              </a:rPr>
              <a:t> </a:t>
            </a:r>
            <a:r>
              <a:rPr b="0" lang="de-DE" sz="2000" spc="-1" strike="noStrike">
                <a:solidFill>
                  <a:srgbClr val="000000"/>
                </a:solidFill>
                <a:latin typeface="Calibri"/>
              </a:rPr>
              <a:t>Meinungs- und Versammlungsfreiheit in gesetzlichen Rahmen erlaubt</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RD: Erschießung des Benno Ohnesorg 1967, DDR: Tod des Matthias Domaschk 1981</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Calibri"/>
              </a:rPr>
              <a:t> </a:t>
            </a:r>
            <a:r>
              <a:rPr b="0" lang="de-DE" sz="2000" spc="-1" strike="noStrike">
                <a:solidFill>
                  <a:srgbClr val="000000"/>
                </a:solidFill>
                <a:latin typeface="Calibri"/>
              </a:rPr>
              <a:t>Staatliches Unrecht</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Reaktionen der BRD: (öffentliche Empörung, Diskussionen, (nur) teilweise Übernahme der Verantwortung (Rücktritt Albertz), Reaktionen der DDR (Verschleierung und Verfolgung der Protestierenden)</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Calibri"/>
              </a:rPr>
              <a:t> </a:t>
            </a:r>
            <a:r>
              <a:rPr b="0" lang="de-DE" sz="2000" spc="-1" strike="noStrike">
                <a:solidFill>
                  <a:srgbClr val="000000"/>
                </a:solidFill>
                <a:latin typeface="Calibri"/>
              </a:rPr>
              <a:t>Transparenz, Rolle der Öffentlichkeit, Rolle des Diskurses</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Fazit: Da die DDR nicht an der „Verwirklichung des Rechtes“ interessiert war, kann sie zu Recht als „Unrechtsstaat“ bezeichnet werd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Text Box 3"/>
          <p:cNvSpPr/>
          <p:nvPr/>
        </p:nvSpPr>
        <p:spPr>
          <a:xfrm>
            <a:off x="615960" y="1268280"/>
            <a:ext cx="7632720" cy="4537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000" spc="-1" strike="noStrike">
                <a:solidFill>
                  <a:srgbClr val="000000"/>
                </a:solidFill>
                <a:latin typeface="Calibri"/>
              </a:rPr>
              <a:t>Schlussdiskussion:</a:t>
            </a:r>
            <a:endParaRPr b="0" lang="en-US" sz="4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Wingdings"/>
                <a:ea typeface="Wingdings"/>
              </a:rPr>
              <a:t></a:t>
            </a:r>
            <a:r>
              <a:rPr b="0" lang="de-DE" sz="2400" spc="-1" strike="noStrike">
                <a:solidFill>
                  <a:srgbClr val="000000"/>
                </a:solidFill>
                <a:latin typeface="Calibri"/>
              </a:rPr>
              <a:t> </a:t>
            </a:r>
            <a:r>
              <a:rPr b="0" lang="de-DE" sz="2400" spc="-1" strike="noStrike">
                <a:solidFill>
                  <a:srgbClr val="000000"/>
                </a:solidFill>
                <a:latin typeface="Calibri"/>
              </a:rPr>
              <a:t>Wo seht ihr im Verhalten des Staates heute Unrecht?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Wingdings"/>
                <a:ea typeface="Wingdings"/>
              </a:rPr>
              <a:t></a:t>
            </a:r>
            <a:r>
              <a:rPr b="0" lang="de-DE" sz="2400" spc="-1" strike="noStrike">
                <a:solidFill>
                  <a:srgbClr val="000000"/>
                </a:solidFill>
                <a:latin typeface="Calibri"/>
              </a:rPr>
              <a:t> </a:t>
            </a:r>
            <a:r>
              <a:rPr b="0" lang="de-DE" sz="2400" spc="-1" strike="noStrike">
                <a:solidFill>
                  <a:srgbClr val="000000"/>
                </a:solidFill>
                <a:latin typeface="Calibri"/>
              </a:rPr>
              <a:t>Wie reagiert der Staat/ die Medien heute auf Unrec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alibri Light"/>
              </a:rPr>
              <a:t>Literatur</a:t>
            </a:r>
            <a:endParaRPr b="0" lang="en-US" sz="4400" spc="-1" strike="noStrike">
              <a:solidFill>
                <a:srgbClr val="000000"/>
              </a:solidFill>
              <a:latin typeface="Calibri Light"/>
            </a:endParaRPr>
          </a:p>
        </p:txBody>
      </p:sp>
      <p:sp>
        <p:nvSpPr>
          <p:cNvPr id="1048" name=""/>
          <p:cNvSpPr txBox="1"/>
          <p:nvPr/>
        </p:nvSpPr>
        <p:spPr>
          <a:xfrm>
            <a:off x="628560" y="1125360"/>
            <a:ext cx="7886880" cy="5051520"/>
          </a:xfrm>
          <a:prstGeom prst="rect">
            <a:avLst/>
          </a:prstGeom>
          <a:noFill/>
          <a:ln w="0">
            <a:noFill/>
          </a:ln>
        </p:spPr>
        <p:txBody>
          <a:bodyPr anchor="t">
            <a:normAutofit/>
          </a:bodyPr>
          <a:p>
            <a:pPr marL="358920" indent="-35892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Hildebrand, Gerold: Trauer, Wut und Anklage. Nach dem Tod von Matthias Domaschk, in: Horch und Guck. Zeitschrift der Gedenkstätte Museum in der „Runden Ecke“ Leipzig, Sonderheft 2003, S. 35-44 (</a:t>
            </a:r>
            <a:r>
              <a:rPr b="0" lang="de-DE" sz="2400" spc="-1" strike="noStrike" u="sng">
                <a:solidFill>
                  <a:srgbClr val="000000"/>
                </a:solidFill>
                <a:uFillTx/>
                <a:latin typeface="Calibri"/>
              </a:rPr>
              <a:t>http://www.horch-und-guck.info/hug/archiv/2000-2003/sonderheft-1/sh0106/</a:t>
            </a:r>
            <a:r>
              <a:rPr b="0" lang="de-DE" sz="2400" spc="-1" strike="noStrike">
                <a:solidFill>
                  <a:srgbClr val="000000"/>
                </a:solidFill>
                <a:latin typeface="Calibri"/>
              </a:rPr>
              <a:t>)</a:t>
            </a:r>
            <a:endParaRPr b="0" lang="en-US" sz="2400" spc="-1" strike="noStrike">
              <a:solidFill>
                <a:srgbClr val="000000"/>
              </a:solidFill>
              <a:latin typeface="Calibri"/>
            </a:endParaRPr>
          </a:p>
          <a:p>
            <a:pPr marL="358920" indent="-35892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Klier, Freya: Matthias Domaschk und der Jenaer Widerstand, Berlin 2007</a:t>
            </a:r>
            <a:endParaRPr b="0" lang="en-US" sz="2400" spc="-1" strike="noStrike">
              <a:solidFill>
                <a:srgbClr val="000000"/>
              </a:solidFill>
              <a:latin typeface="Calibri"/>
            </a:endParaRPr>
          </a:p>
          <a:p>
            <a:pPr marL="358920" indent="-35892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Michels, Eckard: Schahbesuch 1967: Fanal für die Studentenbewegung, Berlin 2017</a:t>
            </a:r>
            <a:endParaRPr b="0" lang="en-US" sz="2400" spc="-1" strike="noStrike">
              <a:solidFill>
                <a:srgbClr val="000000"/>
              </a:solidFill>
              <a:latin typeface="Calibri"/>
            </a:endParaRPr>
          </a:p>
          <a:p>
            <a:pPr marL="358920" indent="-35892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oukup, Uwe: Der 2. Juni 1967: Ein Schuss, der die Republik veränderte, Berlin 2017</a:t>
            </a:r>
            <a:endParaRPr b="0" lang="en-US" sz="2400" spc="-1" strike="noStrike">
              <a:solidFill>
                <a:srgbClr val="000000"/>
              </a:solidFill>
              <a:latin typeface="Calibri"/>
            </a:endParaRPr>
          </a:p>
          <a:p>
            <a:pPr marL="358920" indent="-358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30120" y="115920"/>
            <a:ext cx="819144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Light"/>
              </a:rPr>
              <a:t>Prozess- und inhaltsbezogene Kompetenzen</a:t>
            </a:r>
            <a:endParaRPr b="0" lang="en-US" sz="3600" spc="-1" strike="noStrike">
              <a:solidFill>
                <a:srgbClr val="000000"/>
              </a:solidFill>
              <a:latin typeface="Calibri Light"/>
            </a:endParaRPr>
          </a:p>
        </p:txBody>
      </p:sp>
      <p:sp>
        <p:nvSpPr>
          <p:cNvPr id="996" name=""/>
          <p:cNvSpPr txBox="1"/>
          <p:nvPr/>
        </p:nvSpPr>
        <p:spPr>
          <a:xfrm>
            <a:off x="628560" y="1091880"/>
            <a:ext cx="7886880" cy="5576760"/>
          </a:xfrm>
          <a:prstGeom prst="rect">
            <a:avLst/>
          </a:prstGeom>
          <a:noFill/>
          <a:ln w="0">
            <a:noFill/>
          </a:ln>
        </p:spPr>
        <p:txBody>
          <a:bodyPr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rozessbezogene Kompetenzen: Reflexionskompetenz</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4) Sach- und Werturteile analysieren, selbst formulieren und begründen</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 Deutungen aus verschiedenen Perspektiven erkennen, vergleichen und beurteilen (Dekonstruktion, Multiperspektivität, Kontroversität, Zeit- und Standortgebundenheit), auch unter Berücksichtigung der Geschichtskultur (zum Beispiel TV-Dokumentationen, historische Spielfilme, Museen, Gedenkstätten)</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7) Auswirkungen von politischen, wirtschaftlichen und gesellschaftlichen Strukturen und Prozessen auf die Lebens- und Erfahrungswelt der Menschen erläutern</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Inhaltsbezogene Kompetenzen:</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 das Demokratieverständnis der beiden deutschen Staaten vergleichen (Grundgesetz: Grundrechte, Mehrparteiensystem; Volksdemokratie: Einheitsliste)</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7) die Unterdrückung in der DDR in ihrer Auswirkung auf die Lebenswelt der Menschen erläutern und bewerten (Stasi, Mauer, Volksaufstand, </a:t>
            </a:r>
            <a:r>
              <a:rPr b="0" i="1" lang="de-DE" sz="1800" spc="-1" strike="noStrike">
                <a:solidFill>
                  <a:srgbClr val="000000"/>
                </a:solidFill>
                <a:latin typeface="Calibri"/>
              </a:rPr>
              <a:t>zum Beispiel „Republikflucht</a:t>
            </a:r>
            <a:r>
              <a:rPr b="0" lang="de-DE" sz="1800" spc="-1" strike="noStrike">
                <a:solidFill>
                  <a:srgbClr val="000000"/>
                </a:solidFill>
                <a:latin typeface="Calibri"/>
              </a:rPr>
              <a:t>“, </a:t>
            </a:r>
            <a:r>
              <a:rPr b="0" i="1" lang="de-DE" sz="1800" spc="-1" strike="noStrike">
                <a:solidFill>
                  <a:srgbClr val="000000"/>
                </a:solidFill>
                <a:latin typeface="Calibri"/>
              </a:rPr>
              <a:t>Jugendopposition</a:t>
            </a:r>
            <a:r>
              <a:rPr b="0" lang="de-DE" sz="1800" spc="-1" strike="noStrike">
                <a:solidFill>
                  <a:srgbClr val="000000"/>
                </a:solidFill>
                <a:latin typeface="Calibri"/>
              </a:rPr>
              <a:t>)</a:t>
            </a:r>
            <a:endParaRPr b="0" lang="en-US" sz="1800" spc="-1" strike="noStrike">
              <a:solidFill>
                <a:srgbClr val="000000"/>
              </a:solidFill>
              <a:latin typeface="Calibri"/>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8) Liberalisierungsprozesse und Emanzipationsbewegungen in der BRD und weltweit in den 1960er- und 1970er-Jahren charakterisieren und bewerten („1968“, Wertewandel: alternative Lebensformen, Pluralisieru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96">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6">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96">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4400" spc="-1" strike="noStrike">
                <a:solidFill>
                  <a:srgbClr val="ffffff"/>
                </a:solidFill>
                <a:latin typeface="Times New Roman"/>
              </a:rPr>
              <a:t>BRD/DDR?</a:t>
            </a:r>
            <a:endParaRPr b="0" lang="en-US" sz="4400" spc="-1" strike="noStrike">
              <a:solidFill>
                <a:srgbClr val="000000"/>
              </a:solidFill>
              <a:latin typeface="Calibri Light"/>
            </a:endParaRPr>
          </a:p>
        </p:txBody>
      </p:sp>
      <p:sp>
        <p:nvSpPr>
          <p:cNvPr id="998" name=""/>
          <p:cNvSpPr txBox="1"/>
          <p:nvPr/>
        </p:nvSpPr>
        <p:spPr>
          <a:xfrm>
            <a:off x="755640" y="259920"/>
            <a:ext cx="7454880" cy="865080"/>
          </a:xfrm>
          <a:prstGeom prst="rect">
            <a:avLst/>
          </a:prstGeom>
          <a:noFill/>
          <a:ln w="0">
            <a:noFill/>
          </a:ln>
        </p:spPr>
        <p:txBody>
          <a:bodyPr anchor="t">
            <a:normAutofit fontScale="33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Einstieg</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ea typeface="Microsoft YaHei"/>
              </a:rPr>
              <a:t>Foto von Matthias Domaschk beim Trampen zeigen ohne Namen</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icrosoft YaHei"/>
              </a:rPr>
              <a:t>(https://www.jugendopposition.de/themen/145407/biografie-matthias-domaschk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94920" y="333360"/>
            <a:ext cx="7056360" cy="72072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4000" spc="-1" strike="noStrike">
                <a:solidFill>
                  <a:srgbClr val="ffffff"/>
                </a:solidFill>
                <a:latin typeface="Times New Roman"/>
              </a:rPr>
              <a:t>BRD/DDR?</a:t>
            </a:r>
            <a:endParaRPr b="0" lang="en-US" sz="4000" spc="-1" strike="noStrike">
              <a:solidFill>
                <a:srgbClr val="000000"/>
              </a:solidFill>
              <a:latin typeface="Calibri Light"/>
            </a:endParaRPr>
          </a:p>
        </p:txBody>
      </p:sp>
      <p:sp>
        <p:nvSpPr>
          <p:cNvPr id="1000" name=""/>
          <p:cNvSpPr txBox="1"/>
          <p:nvPr/>
        </p:nvSpPr>
        <p:spPr>
          <a:xfrm>
            <a:off x="755280" y="259920"/>
            <a:ext cx="7777080" cy="45370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Einstieg</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ea typeface="Microsoft YaHei"/>
              </a:rPr>
              <a:t>Foto von Benno Ohnesorg in der Badehose ohne Namen</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icrosoft YaHei"/>
              </a:rPr>
              <a:t>(http://www.tagesspiegel.de/medien/benno-ohnesorg-fremder-freund/1213330.htm l)</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394920" y="333360"/>
            <a:ext cx="7056360" cy="72072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4000" spc="-1" strike="noStrike">
                <a:solidFill>
                  <a:srgbClr val="ffffff"/>
                </a:solidFill>
                <a:latin typeface="Times New Roman"/>
              </a:rPr>
              <a:t>BRD/DDR?</a:t>
            </a:r>
            <a:endParaRPr b="0" lang="en-US" sz="4000" spc="-1" strike="noStrike">
              <a:solidFill>
                <a:srgbClr val="000000"/>
              </a:solidFill>
              <a:latin typeface="Calibri Light"/>
            </a:endParaRPr>
          </a:p>
        </p:txBody>
      </p:sp>
      <p:sp>
        <p:nvSpPr>
          <p:cNvPr id="1002" name=""/>
          <p:cNvSpPr txBox="1"/>
          <p:nvPr/>
        </p:nvSpPr>
        <p:spPr>
          <a:xfrm>
            <a:off x="755280" y="259920"/>
            <a:ext cx="7777080" cy="45370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Einstieg</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ea typeface="Microsoft YaHei"/>
              </a:rPr>
              <a:t>Fotos von beiden zeigen</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394920" y="333360"/>
            <a:ext cx="7056360" cy="72072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4000" spc="-1" strike="noStrike">
                <a:solidFill>
                  <a:srgbClr val="ffffff"/>
                </a:solidFill>
                <a:latin typeface="Times New Roman"/>
              </a:rPr>
              <a:t>BRD/DDR?</a:t>
            </a:r>
            <a:endParaRPr b="0" lang="en-US" sz="4000" spc="-1" strike="noStrike">
              <a:solidFill>
                <a:srgbClr val="000000"/>
              </a:solidFill>
              <a:latin typeface="Calibri Light"/>
            </a:endParaRPr>
          </a:p>
        </p:txBody>
      </p:sp>
      <p:sp>
        <p:nvSpPr>
          <p:cNvPr id="1004" name="Text Box 4"/>
          <p:cNvSpPr/>
          <p:nvPr/>
        </p:nvSpPr>
        <p:spPr>
          <a:xfrm>
            <a:off x="395280" y="690480"/>
            <a:ext cx="4176720" cy="3292560"/>
          </a:xfrm>
          <a:prstGeom prst="rect">
            <a:avLst/>
          </a:prstGeom>
          <a:noFill/>
          <a:ln w="0">
            <a:noFill/>
          </a:ln>
        </p:spPr>
        <p:style>
          <a:lnRef idx="0"/>
          <a:fillRef idx="0"/>
          <a:effectRef idx="0"/>
          <a:fontRef idx="minor"/>
        </p:style>
        <p:txBody>
          <a:bodyPr lIns="90000" rIns="90000" tIns="68040" bIns="45000" anchor="t">
            <a:noAutofit/>
          </a:bodyPr>
          <a:p>
            <a:pP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ea typeface="Arial"/>
              </a:rPr>
              <a:t>Foto Matthias Domaschk</a:t>
            </a:r>
            <a:endParaRPr b="0" lang="en-US" sz="24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ist in der evangelischen Jugendgemeinde aktiv</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trägt lange Haare und Jimi Hendrix T-Shirts</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politisch aktiv</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wird aus der Schule geworfen</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wird mit 19 Jahren Vater, heiratet die Mutter seines Kindes nicht</a:t>
            </a:r>
            <a:endParaRPr b="0" lang="en-US" sz="1600" spc="-1" strike="noStrike">
              <a:solidFill>
                <a:srgbClr val="ffffff"/>
              </a:solidFill>
              <a:latin typeface="Arial"/>
            </a:endParaRPr>
          </a:p>
        </p:txBody>
      </p:sp>
      <p:sp>
        <p:nvSpPr>
          <p:cNvPr id="1005" name="Text Box 2"/>
          <p:cNvSpPr/>
          <p:nvPr/>
        </p:nvSpPr>
        <p:spPr>
          <a:xfrm>
            <a:off x="4643280" y="690480"/>
            <a:ext cx="4248360" cy="3292560"/>
          </a:xfrm>
          <a:prstGeom prst="rect">
            <a:avLst/>
          </a:prstGeom>
          <a:noFill/>
          <a:ln w="0">
            <a:noFill/>
          </a:ln>
        </p:spPr>
        <p:style>
          <a:lnRef idx="0"/>
          <a:fillRef idx="0"/>
          <a:effectRef idx="0"/>
          <a:fontRef idx="minor"/>
        </p:style>
        <p:txBody>
          <a:bodyPr lIns="90000" rIns="90000" tIns="66240" bIns="45000" anchor="t">
            <a:noAutofit/>
          </a:bodyPr>
          <a:p>
            <a:pP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ea typeface="Arial"/>
              </a:rPr>
              <a:t>Foto Benno Ohnesorg</a:t>
            </a:r>
            <a:endParaRPr b="0" lang="en-US" sz="24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nach mittlerem Schulabschluss zunächst Lehre zum Schaufensterdekorateur</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1960 Abitur nachgeholt, Studium</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Mitglied der evangelischen Studentengemeinde</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politisch kaum aktiv</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heiratet seine schwangere Freundin Christa</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10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94920" y="333360"/>
            <a:ext cx="7056360" cy="72072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4000" spc="-1" strike="noStrike">
                <a:solidFill>
                  <a:srgbClr val="ffffff"/>
                </a:solidFill>
                <a:latin typeface="Times New Roman"/>
              </a:rPr>
              <a:t>BRD/DDR?</a:t>
            </a:r>
            <a:endParaRPr b="0" lang="en-US" sz="4000" spc="-1" strike="noStrike">
              <a:solidFill>
                <a:srgbClr val="000000"/>
              </a:solidFill>
              <a:latin typeface="Calibri Light"/>
            </a:endParaRPr>
          </a:p>
        </p:txBody>
      </p:sp>
      <p:sp>
        <p:nvSpPr>
          <p:cNvPr id="1007" name="Text Box 4"/>
          <p:cNvSpPr/>
          <p:nvPr/>
        </p:nvSpPr>
        <p:spPr>
          <a:xfrm>
            <a:off x="395280" y="690480"/>
            <a:ext cx="4176720" cy="4683240"/>
          </a:xfrm>
          <a:prstGeom prst="rect">
            <a:avLst/>
          </a:prstGeom>
          <a:noFill/>
          <a:ln w="0">
            <a:noFill/>
          </a:ln>
        </p:spPr>
        <p:style>
          <a:lnRef idx="0"/>
          <a:fillRef idx="0"/>
          <a:effectRef idx="0"/>
          <a:fontRef idx="minor"/>
        </p:style>
        <p:txBody>
          <a:bodyPr lIns="90000" rIns="90000" tIns="68040" bIns="45000" anchor="t">
            <a:noAutofit/>
          </a:bodyPr>
          <a:p>
            <a:pP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ea typeface="Arial"/>
              </a:rPr>
              <a:t>Foto Matthias Domaschk</a:t>
            </a:r>
            <a:endParaRPr b="0" lang="en-US" sz="24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ist in der evangelischen Jugendgemeinde aktiv</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trägt lange Haare und Jimi Hendrix T-Shirts</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politisch aktiv</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wird aus der Schule geworfen</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wird mit 19 Jahren Vater, heiratet die Mutter seines Kindes nicht</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Arial"/>
                <a:ea typeface="Arial"/>
              </a:rPr>
              <a:t>= Ost</a:t>
            </a:r>
            <a:endParaRPr b="0" lang="en-US" sz="4000" spc="-1" strike="noStrike">
              <a:solidFill>
                <a:srgbClr val="ffffff"/>
              </a:solidFill>
              <a:latin typeface="Arial"/>
            </a:endParaRPr>
          </a:p>
        </p:txBody>
      </p:sp>
      <p:sp>
        <p:nvSpPr>
          <p:cNvPr id="1008" name="Text Box 2"/>
          <p:cNvSpPr/>
          <p:nvPr/>
        </p:nvSpPr>
        <p:spPr>
          <a:xfrm>
            <a:off x="4643280" y="690480"/>
            <a:ext cx="4248360" cy="4538880"/>
          </a:xfrm>
          <a:prstGeom prst="rect">
            <a:avLst/>
          </a:prstGeom>
          <a:noFill/>
          <a:ln w="0">
            <a:noFill/>
          </a:ln>
        </p:spPr>
        <p:style>
          <a:lnRef idx="0"/>
          <a:fillRef idx="0"/>
          <a:effectRef idx="0"/>
          <a:fontRef idx="minor"/>
        </p:style>
        <p:txBody>
          <a:bodyPr lIns="90000" rIns="90000" tIns="66240" bIns="45000" anchor="t">
            <a:noAutofit/>
          </a:bodyPr>
          <a:p>
            <a:pP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ea typeface="Arial"/>
              </a:rPr>
              <a:t>Foto Benno Ohnesorg</a:t>
            </a:r>
            <a:endParaRPr b="0" lang="en-US" sz="24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nach mittlerem Schulabschluss zunächst Lehre zum Schaufensterdekorateur</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1960 Abitur nachgeholt, Studium</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Mitglied der evangelischen Studentengemeinde</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politisch kaum aktiv</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heiratet seine schwangere Freundin Christa</a:t>
            </a: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Arial"/>
                <a:ea typeface="Arial"/>
              </a:rPr>
              <a:t>= West</a:t>
            </a:r>
            <a:endParaRPr b="0" lang="en-US" sz="4000" spc="-1" strike="noStrike">
              <a:solidFill>
                <a:srgbClr val="ffffff"/>
              </a:solidFill>
              <a:latin typeface="Arial"/>
            </a:endParaRPr>
          </a:p>
          <a:p>
            <a:pPr>
              <a:lnSpc>
                <a:spcPct val="10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10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Light"/>
              </a:rPr>
              <a:t>Tod des Matthias Domaschk</a:t>
            </a:r>
            <a:endParaRPr b="0" lang="en-US" sz="4000" spc="-1" strike="noStrike">
              <a:solidFill>
                <a:srgbClr val="000000"/>
              </a:solidFill>
              <a:latin typeface="Calibri Light"/>
            </a:endParaRPr>
          </a:p>
        </p:txBody>
      </p:sp>
      <p:sp>
        <p:nvSpPr>
          <p:cNvPr id="1010" name=""/>
          <p:cNvSpPr txBox="1"/>
          <p:nvPr/>
        </p:nvSpPr>
        <p:spPr>
          <a:xfrm>
            <a:off x="628560" y="1557360"/>
            <a:ext cx="7886880" cy="4751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m Freitag, den 10. April 1981, fuhren Matthias Domaschk und sein Freund Peter Rösch mit dem Abend-D-Zug nach Berlin zu einer Geburtstagsfeier</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Matthias Domaschk und Peter Rösch werden von der Staatssicherheit beim Umsteigen gegen 21 Uhr verhaftet und nahezu ohne Unterbrechung bis zum Sonntagmittag verhört – ohne brauchbares Ergebnis für die Stasi</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ährend der Freund gegen 12 Uhr am Sonntag, 12. April entlassen wird, wird Matthias Domaschk – der fünf Wochen später heiraten will, Vater einer vierjährigen Tochter ist und den seine Freunde als lebenslustigen Menschen beschreiben – erhängt in seiner Zelle aufgefunde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fan</dc:creator>
  <dc:description/>
  <dc:language>en-US</dc:language>
  <cp:lastModifiedBy>dirk</cp:lastModifiedBy>
  <dcterms:modified xsi:type="dcterms:W3CDTF">2018-11-28T18:11:25Z</dcterms:modified>
  <cp:revision>76</cp:revision>
  <dc:subject/>
  <dc:title>204_ziviler_ungehorsam_west_ost</dc:title>
</cp:coreProperties>
</file>