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2.wmf" ContentType="image/x-wmf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ultiplikatorentagung Gk Kursstu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2.-14.1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ter Krap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D44A3-4B2A-49AC-BB7D-0B5B83B4ABD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Überschriftenplatzhalt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ultiplikatorentagung Gk Kursstu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atumsplatzhalt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2.-14.1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ußzeilenplatzhalt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ter Krap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liennummernplatzhalt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FC88E-7C6C-489F-AEDE-B4E74703BB1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Überschriftenplatzhalt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ultiplikatorentagung Gk Kursstu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atumsplatzhalt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2.-14.1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ußzeilenplatzhalt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ter Krap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liennummernplatzhalt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05757-0238-4043-821F-B52C5773BD3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Überschriftenplatzhalt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ultiplikatorentagung Gk Kursstu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umsplatzhalt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2.-14.1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ußzeilenplatzhalt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ter Krap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liennummernplatzhalt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1EFDC-1151-4DB4-B831-3DBF31C3497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reits die Problemdefinition beruht auf einem Werturte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Überschriftenplatzhalt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ultiplikatorentagung Gk Kursstu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umsplatzhalt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2.-14.1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ußzeilenplatzhalt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ter Krap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F7317-C933-41A9-BF23-07A948CA82F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Überschriftenplatzhalt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ultiplikatorentagung Gk Kursstu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2.-14.1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ußzeilenplatzhalt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ter Krap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8DACD-8896-49EC-B0DA-3EBEC4C07E7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11D66-69F0-4C6A-97D3-97B939F762B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ter Krap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atumsplatzhalt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2.-14.1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Überschriftenplatzhalt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ultiplikatorentagung Gk Kursstu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f policy (§ 1 StWG) und politics hinweis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Überschriftenplatzhalt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ultiplikatorentagung Gk Kursstu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Datumsplatzhalt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2.-14.1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ußzeilenplatzhalt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ter Krap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liennummernplatzhalt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F0438-E60A-4D0D-8644-5D6637FD5CC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lity: EZ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Überschriftenplatzhalt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ultiplikatorentagung Gk Kursstu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Datumsplatzhalt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2.-14.1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ußzeilenplatzhalt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ter Krap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liennummernplatzhalt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CDDE0-8A3F-4C29-A79A-A7C993D5689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fernalisches Dreieck“ (Bofinger): Wo soll die Politik ansetzen, um es aufzubrec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Überschriftenplatzhalt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ultiplikatorentagung Gk Kursstu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Datumsplatzhalt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2.-14.1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ußzeilenplatzhalt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eter Krap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liennummernplatzhalt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83F0E-B5D9-4224-9405-98CBDFF0387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E65-C3A5-4179-9E98-2F644756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4DF-D3D2-4C41-9F47-5AA068A3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B70-8931-4916-A3E7-E1C6782A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F05-5A60-446C-9749-4FA529EE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7F7-765A-4894-82E8-A923A837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C15-B813-4591-A9D8-D4A3AF5E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0E6-B610-4407-A29D-C9CC99B5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0A8-4C73-487C-A20B-84779DF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043-8360-4C68-A299-04BD34CA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102-2491-4623-AE90-1DC9F34F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9C6-E3BD-405E-81F0-BFC4D9B9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EAD-05BC-4F96-B1CB-322B67A0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20.11.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85599-FF19-4E60-B51E-F330D31064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2130120"/>
            <a:ext cx="8143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r Bündelungsansatz – am Beispiel der Beschäftigungspoli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Peter Krap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Beitrag zur Multiplikatorentagu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Akademie Bad Wildbad</a:t>
            </a:r>
            <a:br>
              <a:rPr sz="3000"/>
            </a:b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12.-14. Dezember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152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Varianten der Unterrichtskonz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Bild 5" descr=""/>
          <p:cNvPicPr/>
          <p:nvPr/>
        </p:nvPicPr>
        <p:blipFill>
          <a:blip r:embed="rId1"/>
          <a:stretch/>
        </p:blipFill>
        <p:spPr>
          <a:xfrm>
            <a:off x="457200" y="949320"/>
            <a:ext cx="6654960" cy="5460840"/>
          </a:xfrm>
          <a:prstGeom prst="rect">
            <a:avLst/>
          </a:prstGeom>
          <a:ln w="0">
            <a:noFill/>
          </a:ln>
        </p:spPr>
      </p:pic>
      <p:sp>
        <p:nvSpPr>
          <p:cNvPr id="72" name="Textfeld 6"/>
          <p:cNvSpPr/>
          <p:nvPr/>
        </p:nvSpPr>
        <p:spPr>
          <a:xfrm>
            <a:off x="6975720" y="57722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gl. Skript S.6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ild 1" descr=""/>
          <p:cNvPicPr/>
          <p:nvPr/>
        </p:nvPicPr>
        <p:blipFill>
          <a:blip r:embed="rId1"/>
          <a:stretch/>
        </p:blipFill>
        <p:spPr>
          <a:xfrm>
            <a:off x="596880" y="0"/>
            <a:ext cx="793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310356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3. Der bündelungsansatz – </a:t>
            </a:r>
            <a:br>
              <a:rPr sz="4000"/>
            </a:br>
            <a:r>
              <a:rPr b="1" lang="de-DE" sz="4000" spc="-1" strike="noStrike">
                <a:solidFill>
                  <a:srgbClr val="0000ff"/>
                </a:solidFill>
                <a:latin typeface="Calibri"/>
              </a:rPr>
              <a:t>am beispiel des politikbereichs der beschäftigungspoliti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1474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Vorbemerkung: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Aktualität ist flüchtig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8298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Materialien im Beispiel zur Beschäfti-gungspolitik können und sollten daher laufend aktualisiert wer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sofern haben sie Demonstrations- und Platzhalterfunk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ie demonstrieren einen Ansatz (Bündelung) – sie konkurrieren nicht mit dem Schulb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Bild 6" descr=""/>
          <p:cNvPicPr/>
          <p:nvPr/>
        </p:nvPicPr>
        <p:blipFill>
          <a:blip r:embed="rId1"/>
          <a:stretch/>
        </p:blipFill>
        <p:spPr>
          <a:xfrm>
            <a:off x="0" y="369720"/>
            <a:ext cx="8859960" cy="5951880"/>
          </a:xfrm>
          <a:prstGeom prst="rect">
            <a:avLst/>
          </a:prstGeom>
          <a:ln w="0">
            <a:noFill/>
          </a:ln>
        </p:spPr>
      </p:pic>
      <p:sp>
        <p:nvSpPr>
          <p:cNvPr id="79" name="Textfeld 1"/>
          <p:cNvSpPr/>
          <p:nvPr/>
        </p:nvSpPr>
        <p:spPr>
          <a:xfrm>
            <a:off x="189000" y="61246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gl. Skript S. 7 f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Ziele – Aufgaben – Materialien: 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Kern der Unterrichtskonz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lang="de-DE" sz="2800" spc="-1" strike="noStrike">
                <a:solidFill>
                  <a:srgbClr val="ff0000"/>
                </a:solidFill>
                <a:latin typeface="Calibri"/>
              </a:rPr>
              <a:t>Leitfragen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sind durch </a:t>
            </a:r>
            <a:r>
              <a:rPr b="1" lang="de-DE" sz="2800" spc="-1" strike="noStrike">
                <a:solidFill>
                  <a:srgbClr val="ff0000"/>
                </a:solidFill>
                <a:latin typeface="Calibri"/>
              </a:rPr>
              <a:t>Aufgaben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orschläge erschlossen, denen </a:t>
            </a:r>
            <a:r>
              <a:rPr b="1" lang="de-DE" sz="2800" spc="-1" strike="noStrike">
                <a:solidFill>
                  <a:srgbClr val="ff0000"/>
                </a:solidFill>
                <a:latin typeface="Calibri"/>
              </a:rPr>
              <a:t>Ziele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zw.</a:t>
            </a:r>
            <a:r>
              <a:rPr b="1" lang="de-DE" sz="2800" spc="-1" strike="noStrike">
                <a:solidFill>
                  <a:srgbClr val="ff0000"/>
                </a:solidFill>
                <a:latin typeface="Calibri"/>
              </a:rPr>
              <a:t> Kompetenzen (Performanzbeschreibungen)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lang="de-DE" sz="2800" spc="-1" strike="noStrike">
                <a:solidFill>
                  <a:srgbClr val="ff0000"/>
                </a:solidFill>
                <a:latin typeface="Calibri"/>
              </a:rPr>
              <a:t>Materialien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aus dem Skript zugeordnet si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ie Aufgaben und Ziele verstehen sich 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uswahlangebot zur Konzipierung von AA bzw. LV in einem Lehrgang (abhängig vom Zeitbudget und der Lernstandsdiagnose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rwartungshoriziont für einen AA oder ein Projekt, in dem die SuS sich selbst ihre Aufgaben stel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monstration ausgewählter Schwerpunkte (Aufgabe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6160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hritt 1: Was ist? Aktuelle Entwicklungstre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Schritt 1: Was ist? Perspektivwechs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Schritt 1: Was ist? Analyse des Arbeitsmark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hritt 2: Möglichkeitserörterung: Der Handlungsrahmen der Sozialen Marktwirtscha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Schritt 2: Möglichkeitserörterung: Nationalstaat oder EU? Angebotspolitik oder Keyn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Schritt 3: Entscheidung: Was soll geschehen in der EU? (Wachstum durch – oder statt Sparen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Calibri"/>
              </a:rPr>
              <a:t>(3.1) Schritt 1 Was ist? Herausarbeiten von Entwicklungstrends (alle Politikbereich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076480"/>
            <a:ext cx="822960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stieg: aktuelle wirtschaftliche Situation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äkonzepte der SuS: Hypothesen –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rt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Überprüfung: „Schlaglichter der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tschaftspolitik“ (BMWi, Monatsberich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 1a, M 2a/b; alternativ M 1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Schlaglichter“ – Trend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feld 4"/>
          <p:cNvSpPr/>
          <p:nvPr/>
        </p:nvSpPr>
        <p:spPr>
          <a:xfrm>
            <a:off x="738720" y="1447920"/>
            <a:ext cx="726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fgabe: Vergleichen Sie die Aussagen des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MWi in den „Schlaglichtern“ und stellen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ie den Trend, der sich daraus ergibt, in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ichworten und grafisch d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701640" y="3554280"/>
            <a:ext cx="34639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ild 5" descr=""/>
          <p:cNvPicPr/>
          <p:nvPr/>
        </p:nvPicPr>
        <p:blipFill>
          <a:blip r:embed="rId1"/>
          <a:stretch/>
        </p:blipFill>
        <p:spPr>
          <a:xfrm>
            <a:off x="0" y="141120"/>
            <a:ext cx="8650440" cy="6243840"/>
          </a:xfrm>
          <a:prstGeom prst="rect">
            <a:avLst/>
          </a:prstGeom>
          <a:ln w="0">
            <a:noFill/>
          </a:ln>
        </p:spPr>
      </p:pic>
      <p:sp>
        <p:nvSpPr>
          <p:cNvPr id="90" name="Textfeld 1"/>
          <p:cNvSpPr/>
          <p:nvPr/>
        </p:nvSpPr>
        <p:spPr>
          <a:xfrm>
            <a:off x="6993000" y="63374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 1a, S. 13 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feld 1"/>
          <p:cNvSpPr/>
          <p:nvPr/>
        </p:nvSpPr>
        <p:spPr>
          <a:xfrm>
            <a:off x="138600" y="63295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Calibri"/>
              </a:rPr>
              <a:t>Vgl. „Schlaglichter“ 11/2012, S. 36, 3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0140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Herausforder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ösungsansatz: Bünde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ndelungsentwurf: Beschäftigungspolitik – sechs Demonstrati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flexion: Lassen sich Akteure und Systeme steuer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ndelungs-Bilanz“: Welche Standards haben wir erfasst, welche bleiben außen v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sbli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feld 3"/>
          <p:cNvSpPr/>
          <p:nvPr/>
        </p:nvSpPr>
        <p:spPr>
          <a:xfrm>
            <a:off x="582480" y="747720"/>
            <a:ext cx="1808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Bild 5" descr=""/>
          <p:cNvPicPr/>
          <p:nvPr/>
        </p:nvPicPr>
        <p:blipFill>
          <a:blip r:embed="rId1"/>
          <a:stretch/>
        </p:blipFill>
        <p:spPr>
          <a:xfrm>
            <a:off x="4437000" y="1824120"/>
            <a:ext cx="4508640" cy="1477800"/>
          </a:xfrm>
          <a:prstGeom prst="rect">
            <a:avLst/>
          </a:prstGeom>
          <a:ln w="0">
            <a:noFill/>
          </a:ln>
        </p:spPr>
      </p:pic>
      <p:sp>
        <p:nvSpPr>
          <p:cNvPr id="94" name="Textfeld 6"/>
          <p:cNvSpPr/>
          <p:nvPr/>
        </p:nvSpPr>
        <p:spPr>
          <a:xfrm flipH="1">
            <a:off x="7645320" y="5573880"/>
            <a:ext cx="460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Bild 8" descr=""/>
          <p:cNvPicPr/>
          <p:nvPr/>
        </p:nvPicPr>
        <p:blipFill>
          <a:blip r:embed="rId2"/>
          <a:stretch/>
        </p:blipFill>
        <p:spPr>
          <a:xfrm>
            <a:off x="4437000" y="3649680"/>
            <a:ext cx="4508640" cy="1308240"/>
          </a:xfrm>
          <a:prstGeom prst="rect">
            <a:avLst/>
          </a:prstGeom>
          <a:ln w="0">
            <a:noFill/>
          </a:ln>
        </p:spPr>
      </p:pic>
      <p:pic>
        <p:nvPicPr>
          <p:cNvPr id="96" name="Bild 10" descr=""/>
          <p:cNvPicPr/>
          <p:nvPr/>
        </p:nvPicPr>
        <p:blipFill>
          <a:blip r:embed="rId3"/>
          <a:stretch/>
        </p:blipFill>
        <p:spPr>
          <a:xfrm>
            <a:off x="144360" y="177840"/>
            <a:ext cx="4292640" cy="6680160"/>
          </a:xfrm>
          <a:prstGeom prst="rect">
            <a:avLst/>
          </a:prstGeom>
          <a:ln w="0">
            <a:noFill/>
          </a:ln>
        </p:spPr>
      </p:pic>
      <p:sp>
        <p:nvSpPr>
          <p:cNvPr id="97" name="Textfeld 11"/>
          <p:cNvSpPr/>
          <p:nvPr/>
        </p:nvSpPr>
        <p:spPr>
          <a:xfrm>
            <a:off x="5017320" y="552600"/>
            <a:ext cx="368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rwartete Lösung, weit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ührende Schritte; vgl M 2b, S. 1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400"/>
            </a:br>
            <a:r>
              <a:rPr b="1" lang="de-DE" sz="3400" spc="-1" strike="noStrike">
                <a:solidFill>
                  <a:srgbClr val="000000"/>
                </a:solidFill>
                <a:latin typeface="Calibri"/>
              </a:rPr>
              <a:t>(3.2) Schritt 1: Was ist? </a:t>
            </a:r>
            <a:br>
              <a:rPr sz="3400"/>
            </a:br>
            <a:r>
              <a:rPr b="1" lang="de-DE" sz="3400" spc="-1" strike="noStrike">
                <a:solidFill>
                  <a:srgbClr val="000000"/>
                </a:solidFill>
                <a:latin typeface="Calibri"/>
              </a:rPr>
              <a:t>Die Auswirkungen der Arbeitslosigkeit (Perspektivwechsel;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 3a – 4, S. 17 ff. </a:t>
            </a:r>
            <a:r>
              <a:rPr b="1" lang="de-DE" sz="3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79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as Schicksal arbeitslos zu sein: Arbeitslosigkeit ist demütigend (M 3a); Arbeitslosigkeit macht krank (M 3b, 3c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rbeitslosigkeit verursacht hohe Kosten für die Allgemeinheit (M 4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rbeitslosigkeit bleibt das Kardinalproblem der Wirtschaftspolitik – sowohl aus wert- als auch aus zweckrationaler Perspektive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Politikdidaktik 1994: 81 ff.)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3.3) Schritt 1: Was ist? Analyse von Bestands- und Stromgrößen des Arbeitsmarkts (M 5 –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feld 2"/>
          <p:cNvSpPr/>
          <p:nvPr/>
        </p:nvSpPr>
        <p:spPr>
          <a:xfrm>
            <a:off x="7299360" y="623088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kript S. 20 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feld 3"/>
          <p:cNvSpPr/>
          <p:nvPr/>
        </p:nvSpPr>
        <p:spPr>
          <a:xfrm>
            <a:off x="457200" y="57704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Bild 6" descr=""/>
          <p:cNvPicPr/>
          <p:nvPr/>
        </p:nvPicPr>
        <p:blipFill>
          <a:blip r:embed="rId1"/>
          <a:stretch/>
        </p:blipFill>
        <p:spPr>
          <a:xfrm>
            <a:off x="154080" y="1417680"/>
            <a:ext cx="8669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1544760"/>
            <a:ext cx="77724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3.4) Schritt 2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öglichkeitserörterung: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rin bestehen die Aufgaben und die Handlungsschranken des Staat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der Sozialen Marktwirtschaft?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 9 – 12, S. 23 – 2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1800" y="1404720"/>
            <a:ext cx="749484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feld 5"/>
          <p:cNvSpPr/>
          <p:nvPr/>
        </p:nvSpPr>
        <p:spPr>
          <a:xfrm>
            <a:off x="1195560" y="62755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feld 7"/>
          <p:cNvSpPr/>
          <p:nvPr/>
        </p:nvSpPr>
        <p:spPr>
          <a:xfrm>
            <a:off x="867240" y="46980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 10: Die Zugangsseite der Arbeitslosigkeit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S. 2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feld 1"/>
          <p:cNvSpPr/>
          <p:nvPr/>
        </p:nvSpPr>
        <p:spPr>
          <a:xfrm>
            <a:off x="836640" y="5629320"/>
            <a:ext cx="78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tor: Erik Lieberman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Bild 1" descr=""/>
          <p:cNvPicPr/>
          <p:nvPr/>
        </p:nvPicPr>
        <p:blipFill>
          <a:blip r:embed="rId1"/>
          <a:stretch/>
        </p:blipFill>
        <p:spPr>
          <a:xfrm>
            <a:off x="941400" y="1174680"/>
            <a:ext cx="6081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Bild 5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24440"/>
          </a:xfrm>
          <a:prstGeom prst="rect">
            <a:avLst/>
          </a:prstGeom>
          <a:ln w="0">
            <a:noFill/>
          </a:ln>
        </p:spPr>
      </p:pic>
      <p:sp>
        <p:nvSpPr>
          <p:cNvPr id="111" name="Textfeld 1"/>
          <p:cNvSpPr/>
          <p:nvPr/>
        </p:nvSpPr>
        <p:spPr>
          <a:xfrm>
            <a:off x="464400" y="149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 10, S. 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feld 1"/>
          <p:cNvSpPr/>
          <p:nvPr/>
        </p:nvSpPr>
        <p:spPr>
          <a:xfrm>
            <a:off x="420840" y="6332400"/>
            <a:ext cx="81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f Eucken beruft sich auch Florian Zinsmeister in: „Schlaglichter“ 11/2012, S. 13 – 2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(3.5) </a:t>
            </a:r>
            <a:r>
              <a:rPr b="1" lang="de-DE" sz="3800" spc="-1" strike="noStrike">
                <a:solidFill>
                  <a:srgbClr val="000000"/>
                </a:solidFill>
                <a:latin typeface="Calibri"/>
              </a:rPr>
              <a:t>Der Entscheidungsbaum zur Prozesspolitik (Schritt 2 / 3)</a:t>
            </a:r>
            <a:br>
              <a:rPr sz="38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M 13 – 19, S. 26 – 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31840"/>
            <a:ext cx="822960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Entscheidungsfragen – einige Beispie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Kann die Bundesregierung die wirtschaftliche Entwicklung </a:t>
            </a:r>
            <a:r>
              <a:rPr b="1" lang="de-DE" sz="3000" spc="-1" strike="noStrike">
                <a:solidFill>
                  <a:srgbClr val="ff0000"/>
                </a:solidFill>
                <a:latin typeface="Calibri"/>
              </a:rPr>
              <a:t>beeinflussen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? (M 13, S. 26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Soll der Staat </a:t>
            </a:r>
            <a:r>
              <a:rPr b="1" lang="de-DE" sz="3000" spc="-1" strike="noStrike">
                <a:solidFill>
                  <a:srgbClr val="ff0000"/>
                </a:solidFill>
                <a:latin typeface="Calibri"/>
              </a:rPr>
              <a:t>keynesianische (antizyklische) Konjunkturpolitik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betreiben? (M 14, S. 27 f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Soll der Staat </a:t>
            </a:r>
            <a:r>
              <a:rPr b="1" lang="de-DE" sz="3000" spc="-1" strike="noStrike">
                <a:solidFill>
                  <a:srgbClr val="ff0000"/>
                </a:solidFill>
                <a:latin typeface="Calibri"/>
              </a:rPr>
              <a:t>Angebotspolitik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zur Bekämpfung der systemischen Arbeitslosigkeit betreiben? (M 1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1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(3.6) Schritt 3: Entscheidung: 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Was soll geschehen in der EU?</a:t>
            </a:r>
            <a:br>
              <a:rPr sz="40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M 20 – 23, S. 33 – 3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18268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uS: „individuelle und kollektive Entscheidung“ (Petri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frontation mit der Position der Bundesregierung (M 16 a, b) sowie eines Kritikers (Bofinger, M 16 c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olitische Urteilsbildung (Bekräftigung oder Revision der urspünglichen Entscheidu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Kontroverse um die angemessene Wirtschaftspoliti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Merkel (M 16a): Wachstum durch Sparen in der Euroz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BMWi (M 16b): Vorrang für Ordnungspolitik, Verzicht auf kurzfristige Prozesspolit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Bofinger: Vorrang für Wachstum und Beschäftigung (M 16c); Sparen wirkt prozyklisch, d.h. rezessionsverschärfend (M 16d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000ff"/>
                </a:solidFill>
                <a:latin typeface="Calibri"/>
              </a:rPr>
              <a:t>Konsens: </a:t>
            </a:r>
            <a:r>
              <a:rPr b="0" lang="de-DE" sz="3000" spc="-1" strike="noStrike">
                <a:solidFill>
                  <a:srgbClr val="0000ff"/>
                </a:solidFill>
                <a:latin typeface="Calibri"/>
              </a:rPr>
              <a:t>Wirtschaftspolitik ist eine europäische Aufgabe.</a:t>
            </a:r>
            <a:r>
              <a:rPr b="0" lang="de-DE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2600" y="30445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Reflexion und Generalisierung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ssen sich Akteure und Systeme steuern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1. Die Herausford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e Herausforderung birgt Chancen und Proble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 komplettes Halbjahr als Schwerpunkt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mpetenzorientierung: Chance und Notwendigkeit (auch in der S 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fgabenformat wird weiter entwick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Bild 3" descr=""/>
          <p:cNvPicPr/>
          <p:nvPr/>
        </p:nvPicPr>
        <p:blipFill>
          <a:blip r:embed="rId1"/>
          <a:stretch/>
        </p:blipFill>
        <p:spPr>
          <a:xfrm>
            <a:off x="515880" y="642960"/>
            <a:ext cx="7980480" cy="5207040"/>
          </a:xfrm>
          <a:prstGeom prst="rect">
            <a:avLst/>
          </a:prstGeom>
          <a:ln w="0">
            <a:noFill/>
          </a:ln>
        </p:spPr>
      </p:pic>
      <p:sp>
        <p:nvSpPr>
          <p:cNvPr id="123" name="Textfeld 4"/>
          <p:cNvSpPr/>
          <p:nvPr/>
        </p:nvSpPr>
        <p:spPr>
          <a:xfrm>
            <a:off x="529560" y="611028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tor: Thomas Plassman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s zeigt die Fallanalyse zur Beschäftigungspoliti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rbeitsmarktmodell (M 5): Unternehmerische Handlungsfreiheit (M 9; Art. 2, 14 GG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omo oeconomicus: orientiert an seinem Nutzen, empfänglich für Anreiz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eynesianische Globalsteuerung gescheitert, u.a. an time-lags (Wirkung, Informati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009: Ausnahmesituation Finanzkrise erfordert und ermöglicht antizyklische Interventio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gebotspolitik praktiziert indirekte Steuerung durch Anreize und Ordnungspoliti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 komplexer die Gesellschaft, desto skeptischer wird ihre Steuerbarkeit beurteilt (vgl. z.B. Luhman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132876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5. „Bündelungs-Bilanz“: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welche standards haben wir erfasst, welche bleiben vorerst aussen vor?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2160" y="1328760"/>
            <a:ext cx="7772400" cy="376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Urteilen Sie selbst“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Was leistet der Bündelungsansatz? </a:t>
            </a: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M 26, S. 4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Bild 7" descr="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. Ausblick: zur Weiterentwicklung der Unterrichtskonz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ndeln der Politikbereiche durch den Fokus auf zentrale Probleme: „Infernalisches Dreieck“, Nachhaltigkei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ystematisierung der Grundbegriffe in den Standard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gleich: Schulbücher, aktuelle Bezüg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ption: Regionale Arbeitskreise (RAK) als Foren und Workshop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- und Quellennachw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kt 4"/>
          <p:cNvGraphicFramePr/>
          <p:nvPr/>
        </p:nvGraphicFramePr>
        <p:xfrm>
          <a:off x="839880" y="1703520"/>
          <a:ext cx="7723080" cy="35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03520"/>
                    <a:ext cx="77230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2. Lösungsansatz: Bünde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5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500" spc="-1" strike="noStrike">
                <a:solidFill>
                  <a:srgbClr val="000000"/>
                </a:solidFill>
                <a:latin typeface="Calibri"/>
              </a:rPr>
              <a:t>Ein paar Schritte zurück treten“ und den Blick auf das Wesentliche richten;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500" spc="-1" strike="noStrike">
                <a:solidFill>
                  <a:srgbClr val="000000"/>
                </a:solidFill>
                <a:latin typeface="Calibri"/>
              </a:rPr>
              <a:t>Zusammenhänge durch Leitfragen erschließen, um .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500" spc="-1" strike="noStrike">
                <a:solidFill>
                  <a:srgbClr val="000000"/>
                </a:solidFill>
                <a:latin typeface="Calibri"/>
              </a:rPr>
              <a:t>... (möglichst viele) Standards in einem roten Faden zu integrieren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500" spc="-1" strike="noStrike">
                <a:solidFill>
                  <a:srgbClr val="000000"/>
                </a:solidFill>
                <a:latin typeface="Calibri"/>
              </a:rPr>
              <a:t>Politikzyklus – 3-Schritt Modell politischer Entscheidungsprozesse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500" spc="-1" strike="noStrike">
                <a:solidFill>
                  <a:srgbClr val="000000"/>
                </a:solidFill>
                <a:latin typeface="Calibri"/>
              </a:rPr>
              <a:t>Fallanalysen fördern Kompetenzaufbau. </a:t>
            </a:r>
            <a:br>
              <a:rPr sz="3500"/>
            </a:b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Skript S. 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feld 4"/>
          <p:cNvSpPr/>
          <p:nvPr/>
        </p:nvSpPr>
        <p:spPr>
          <a:xfrm>
            <a:off x="7633080" y="4900680"/>
            <a:ext cx="11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etrik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010: 146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kript S. 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feld 1"/>
          <p:cNvSpPr/>
          <p:nvPr/>
        </p:nvSpPr>
        <p:spPr>
          <a:xfrm>
            <a:off x="6438960" y="825480"/>
            <a:ext cx="2585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Der Politikzyklus: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in Modell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politischer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ntscheidungs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proze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feld 1"/>
          <p:cNvSpPr/>
          <p:nvPr/>
        </p:nvSpPr>
        <p:spPr>
          <a:xfrm>
            <a:off x="3130560" y="32418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Schaubil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Bereiche der Wirtschaftspolitik (Was es zu bündeln gil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00340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chäftigungspolitik (incl. Fiskalpoliti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chstumspolit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ldpolit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kturpolit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nungspolit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kript S. 5; Überblick vgl. M 2a/b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Calibri"/>
              </a:rPr>
              <a:t>Diese Politikbereiche hängen zusammen (lassen sich also bündeln) ..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Bild 8" descr=""/>
          <p:cNvPicPr/>
          <p:nvPr/>
        </p:nvPicPr>
        <p:blipFill>
          <a:blip r:embed="rId1"/>
          <a:stretch/>
        </p:blipFill>
        <p:spPr>
          <a:xfrm>
            <a:off x="4175280" y="1855800"/>
            <a:ext cx="4194000" cy="4500720"/>
          </a:xfrm>
          <a:prstGeom prst="rect">
            <a:avLst/>
          </a:prstGeom>
          <a:ln w="0">
            <a:noFill/>
          </a:ln>
        </p:spPr>
      </p:pic>
      <p:sp>
        <p:nvSpPr>
          <p:cNvPr id="63" name="Textfeld 9"/>
          <p:cNvSpPr/>
          <p:nvPr/>
        </p:nvSpPr>
        <p:spPr>
          <a:xfrm>
            <a:off x="780120" y="2959200"/>
            <a:ext cx="347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...auf der Ebene national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rtschaftspoliti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...als Zielbeziehun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m „Magischen Viereck“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§ 1 St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feld 7"/>
          <p:cNvSpPr/>
          <p:nvPr/>
        </p:nvSpPr>
        <p:spPr>
          <a:xfrm>
            <a:off x="29520" y="1405080"/>
            <a:ext cx="246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...auf EU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ben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...sowie i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Auseinander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tzung mit ein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roblem“bündel“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Eurozone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Bild 9" descr=""/>
          <p:cNvPicPr/>
          <p:nvPr/>
        </p:nvPicPr>
        <p:blipFill>
          <a:blip r:embed="rId1"/>
          <a:stretch/>
        </p:blipFill>
        <p:spPr>
          <a:xfrm>
            <a:off x="2828880" y="241200"/>
            <a:ext cx="6134040" cy="6362640"/>
          </a:xfrm>
          <a:prstGeom prst="rect">
            <a:avLst/>
          </a:prstGeom>
          <a:ln w="0">
            <a:noFill/>
          </a:ln>
        </p:spPr>
      </p:pic>
      <p:sp>
        <p:nvSpPr>
          <p:cNvPr id="66" name="Textfeld 1"/>
          <p:cNvSpPr/>
          <p:nvPr/>
        </p:nvSpPr>
        <p:spPr>
          <a:xfrm>
            <a:off x="54360" y="5403960"/>
            <a:ext cx="3198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ettbewerbsregeln: Art. 101 ff. AEUV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Geldpolitik der EZB: Art. 282 Abs. 2 AEUV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irtschaftspolitik: Art. 120 ff. AEUV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...sowie auf EU-Ebe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5842080" y="615168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gl. M 2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Bild 3" descr=""/>
          <p:cNvPicPr/>
          <p:nvPr/>
        </p:nvPicPr>
        <p:blipFill>
          <a:blip r:embed="rId1"/>
          <a:stretch/>
        </p:blipFill>
        <p:spPr>
          <a:xfrm>
            <a:off x="1012680" y="1368360"/>
            <a:ext cx="69897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22:06:26Z</dcterms:created>
  <dc:creator>Peter Krapf</dc:creator>
  <dc:description/>
  <dc:language>en-US</dc:language>
  <cp:lastModifiedBy>Peter Krapf</cp:lastModifiedBy>
  <cp:lastPrinted>2012-12-04T09:50:36Z</cp:lastPrinted>
  <dcterms:modified xsi:type="dcterms:W3CDTF">2013-05-12T19:32:01Z</dcterms:modified>
  <cp:revision>108</cp:revision>
  <dc:subject/>
  <dc:title>PowerPoint-Präsentation</dc:title>
</cp:coreProperties>
</file>