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04240" cy="10234440"/>
          </a:xfrm>
          <a:custGeom>
            <a:avLst/>
            <a:gdLst>
              <a:gd name="textAreaLeft" fmla="*/ 360 w 7104240"/>
              <a:gd name="textAreaRight" fmla="*/ 7103880 w 71042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17">
                <a:moveTo>
                  <a:pt x="4" y="0"/>
                </a:moveTo>
                <a:arcTo wR="4" hR="4" stAng="16200000" swAng="-5400000"/>
                <a:lnTo>
                  <a:pt x="0" y="31113"/>
                </a:lnTo>
                <a:arcTo wR="4" hR="4" stAng="10800000" swAng="-5400000"/>
                <a:lnTo>
                  <a:pt x="21596" y="3111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993600" y="777600"/>
            <a:ext cx="5112000" cy="38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3081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021200" y="0"/>
            <a:ext cx="3081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721800"/>
            <a:ext cx="3081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20840" y="9721800"/>
            <a:ext cx="307980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1920"/>
                <a:tab algn="l" pos="2557440"/>
                <a:tab algn="l" pos="2984400"/>
                <a:tab algn="l" pos="3411360"/>
                <a:tab algn="l" pos="3838680"/>
                <a:tab algn="l" pos="4265640"/>
                <a:tab algn="l" pos="4692600"/>
                <a:tab algn="l" pos="5118120"/>
                <a:tab algn="l" pos="5545080"/>
                <a:tab algn="l" pos="5972040"/>
                <a:tab algn="l" pos="6399360"/>
                <a:tab algn="l" pos="6826320"/>
                <a:tab algn="l" pos="7253280"/>
                <a:tab algn="l" pos="7678800"/>
                <a:tab algn="l" pos="8105760"/>
                <a:tab algn="l" pos="85327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1920"/>
                <a:tab algn="l" pos="2557440"/>
                <a:tab algn="l" pos="2984400"/>
                <a:tab algn="l" pos="3411360"/>
                <a:tab algn="l" pos="3838680"/>
                <a:tab algn="l" pos="4265640"/>
                <a:tab algn="l" pos="4692600"/>
                <a:tab algn="l" pos="5118120"/>
                <a:tab algn="l" pos="5545080"/>
                <a:tab algn="l" pos="5972040"/>
                <a:tab algn="l" pos="6399360"/>
                <a:tab algn="l" pos="6826320"/>
                <a:tab algn="l" pos="7253280"/>
                <a:tab algn="l" pos="7678800"/>
                <a:tab algn="l" pos="8105760"/>
                <a:tab algn="l" pos="85327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C2A18-F7F6-4AB9-8DF5-B6314E5E8132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1200" y="9721800"/>
            <a:ext cx="3079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1920"/>
                <a:tab algn="l" pos="2557440"/>
                <a:tab algn="l" pos="2984400"/>
                <a:tab algn="l" pos="3411360"/>
                <a:tab algn="l" pos="3838680"/>
                <a:tab algn="l" pos="4265640"/>
                <a:tab algn="l" pos="4692600"/>
                <a:tab algn="l" pos="5118120"/>
                <a:tab algn="l" pos="5545080"/>
                <a:tab algn="l" pos="5972040"/>
                <a:tab algn="l" pos="6399360"/>
                <a:tab algn="l" pos="6826320"/>
                <a:tab algn="l" pos="7253280"/>
                <a:tab algn="l" pos="7678800"/>
                <a:tab algn="l" pos="8105760"/>
                <a:tab algn="l" pos="85327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EFEA5-BA28-4D98-9AEA-DA7C6429EB2D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"/>
          <p:cNvSpPr/>
          <p:nvPr/>
        </p:nvSpPr>
        <p:spPr>
          <a:xfrm>
            <a:off x="4021200" y="9721800"/>
            <a:ext cx="3081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4C969-12B7-4D8C-BA38-99D6A4FBDE22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039680" y="777960"/>
            <a:ext cx="5023080" cy="3836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4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021200" y="9721800"/>
            <a:ext cx="3079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1920"/>
                <a:tab algn="l" pos="2557440"/>
                <a:tab algn="l" pos="2984400"/>
                <a:tab algn="l" pos="3411360"/>
                <a:tab algn="l" pos="3838680"/>
                <a:tab algn="l" pos="4265640"/>
                <a:tab algn="l" pos="4692600"/>
                <a:tab algn="l" pos="5118120"/>
                <a:tab algn="l" pos="5545080"/>
                <a:tab algn="l" pos="5972040"/>
                <a:tab algn="l" pos="6399360"/>
                <a:tab algn="l" pos="6826320"/>
                <a:tab algn="l" pos="7253280"/>
                <a:tab algn="l" pos="7678800"/>
                <a:tab algn="l" pos="8105760"/>
                <a:tab algn="l" pos="85327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386EC-21BE-4B18-BC9F-4595C32B2051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4021200" y="9721800"/>
            <a:ext cx="3081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4CF8B-298C-47D2-B793-30CEE647A519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039680" y="777960"/>
            <a:ext cx="5023080" cy="3836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4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21200" y="9721800"/>
            <a:ext cx="3079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1920"/>
                <a:tab algn="l" pos="2557440"/>
                <a:tab algn="l" pos="2984400"/>
                <a:tab algn="l" pos="3411360"/>
                <a:tab algn="l" pos="3838680"/>
                <a:tab algn="l" pos="4265640"/>
                <a:tab algn="l" pos="4692600"/>
                <a:tab algn="l" pos="5118120"/>
                <a:tab algn="l" pos="5545080"/>
                <a:tab algn="l" pos="5972040"/>
                <a:tab algn="l" pos="6399360"/>
                <a:tab algn="l" pos="6826320"/>
                <a:tab algn="l" pos="7253280"/>
                <a:tab algn="l" pos="7678800"/>
                <a:tab algn="l" pos="8105760"/>
                <a:tab algn="l" pos="85327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60839-8513-412F-AEE9-847B169705C5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4021200" y="9721800"/>
            <a:ext cx="3081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C518B-DE42-4937-BD35-158A14EDA2E4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39680" y="777960"/>
            <a:ext cx="5023080" cy="38368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4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1200" y="9721800"/>
            <a:ext cx="3079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1920"/>
                <a:tab algn="l" pos="2557440"/>
                <a:tab algn="l" pos="2984400"/>
                <a:tab algn="l" pos="3411360"/>
                <a:tab algn="l" pos="3838680"/>
                <a:tab algn="l" pos="4265640"/>
                <a:tab algn="l" pos="4692600"/>
                <a:tab algn="l" pos="5118120"/>
                <a:tab algn="l" pos="5545080"/>
                <a:tab algn="l" pos="5972040"/>
                <a:tab algn="l" pos="6399360"/>
                <a:tab algn="l" pos="6826320"/>
                <a:tab algn="l" pos="7253280"/>
                <a:tab algn="l" pos="7678800"/>
                <a:tab algn="l" pos="8105760"/>
                <a:tab algn="l" pos="85327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CCA0E-D74E-4616-8742-381FD5F1E27E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4021200" y="9721800"/>
            <a:ext cx="3081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A0512-2BE9-4B36-86F5-FE6641F65D1C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039680" y="777960"/>
            <a:ext cx="5023080" cy="38368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4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021200" y="9721800"/>
            <a:ext cx="3079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1920"/>
                <a:tab algn="l" pos="2557440"/>
                <a:tab algn="l" pos="2984400"/>
                <a:tab algn="l" pos="3411360"/>
                <a:tab algn="l" pos="3838680"/>
                <a:tab algn="l" pos="4265640"/>
                <a:tab algn="l" pos="4692600"/>
                <a:tab algn="l" pos="5118120"/>
                <a:tab algn="l" pos="5545080"/>
                <a:tab algn="l" pos="5972040"/>
                <a:tab algn="l" pos="6399360"/>
                <a:tab algn="l" pos="6826320"/>
                <a:tab algn="l" pos="7253280"/>
                <a:tab algn="l" pos="7678800"/>
                <a:tab algn="l" pos="8105760"/>
                <a:tab algn="l" pos="85327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6F0D4-DFAC-42A8-A037-97BC6704A7FB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4021200" y="9721800"/>
            <a:ext cx="3081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6C856-AFA9-46B8-A51E-6417909F9EEE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039680" y="777960"/>
            <a:ext cx="5023080" cy="3836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4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21200" y="9721800"/>
            <a:ext cx="3079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1920"/>
                <a:tab algn="l" pos="2557440"/>
                <a:tab algn="l" pos="2984400"/>
                <a:tab algn="l" pos="3411360"/>
                <a:tab algn="l" pos="3838680"/>
                <a:tab algn="l" pos="4265640"/>
                <a:tab algn="l" pos="4692600"/>
                <a:tab algn="l" pos="5118120"/>
                <a:tab algn="l" pos="5545080"/>
                <a:tab algn="l" pos="5972040"/>
                <a:tab algn="l" pos="6399360"/>
                <a:tab algn="l" pos="6826320"/>
                <a:tab algn="l" pos="7253280"/>
                <a:tab algn="l" pos="7678800"/>
                <a:tab algn="l" pos="8105760"/>
                <a:tab algn="l" pos="85327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26110-0332-458D-8C1A-3AD8E5A729F5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4021200" y="9721800"/>
            <a:ext cx="3081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221B4-6ACB-4B5B-8BF3-3E42E83F9989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39680" y="777960"/>
            <a:ext cx="5023080" cy="38368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4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1200" y="9721800"/>
            <a:ext cx="3079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1920"/>
                <a:tab algn="l" pos="2557440"/>
                <a:tab algn="l" pos="2984400"/>
                <a:tab algn="l" pos="3411360"/>
                <a:tab algn="l" pos="3838680"/>
                <a:tab algn="l" pos="4265640"/>
                <a:tab algn="l" pos="4692600"/>
                <a:tab algn="l" pos="5118120"/>
                <a:tab algn="l" pos="5545080"/>
                <a:tab algn="l" pos="5972040"/>
                <a:tab algn="l" pos="6399360"/>
                <a:tab algn="l" pos="6826320"/>
                <a:tab algn="l" pos="7253280"/>
                <a:tab algn="l" pos="7678800"/>
                <a:tab algn="l" pos="8105760"/>
                <a:tab algn="l" pos="85327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A8689-4A61-47A3-BFE2-E3E1C1C58FA7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4021200" y="9721800"/>
            <a:ext cx="3081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64A66-F9B8-4159-A070-AAA94E6A6D16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039680" y="777960"/>
            <a:ext cx="5023080" cy="38368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4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021200" y="9721800"/>
            <a:ext cx="3079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1920"/>
                <a:tab algn="l" pos="2557440"/>
                <a:tab algn="l" pos="2984400"/>
                <a:tab algn="l" pos="3411360"/>
                <a:tab algn="l" pos="3838680"/>
                <a:tab algn="l" pos="4265640"/>
                <a:tab algn="l" pos="4692600"/>
                <a:tab algn="l" pos="5118120"/>
                <a:tab algn="l" pos="5545080"/>
                <a:tab algn="l" pos="5972040"/>
                <a:tab algn="l" pos="6399360"/>
                <a:tab algn="l" pos="6826320"/>
                <a:tab algn="l" pos="7253280"/>
                <a:tab algn="l" pos="7678800"/>
                <a:tab algn="l" pos="8105760"/>
                <a:tab algn="l" pos="85327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A6097-5762-4F09-85B4-23AE6B4A6C2C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"/>
          <p:cNvSpPr/>
          <p:nvPr/>
        </p:nvSpPr>
        <p:spPr>
          <a:xfrm>
            <a:off x="4021200" y="9721800"/>
            <a:ext cx="3081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305DC-9F2C-4BB8-8698-198C74C87E34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039680" y="777960"/>
            <a:ext cx="5023080" cy="3836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4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21200" y="9721800"/>
            <a:ext cx="3079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1920"/>
                <a:tab algn="l" pos="2557440"/>
                <a:tab algn="l" pos="2984400"/>
                <a:tab algn="l" pos="3411360"/>
                <a:tab algn="l" pos="3838680"/>
                <a:tab algn="l" pos="4265640"/>
                <a:tab algn="l" pos="4692600"/>
                <a:tab algn="l" pos="5118120"/>
                <a:tab algn="l" pos="5545080"/>
                <a:tab algn="l" pos="5972040"/>
                <a:tab algn="l" pos="6399360"/>
                <a:tab algn="l" pos="6826320"/>
                <a:tab algn="l" pos="7253280"/>
                <a:tab algn="l" pos="7678800"/>
                <a:tab algn="l" pos="8105760"/>
                <a:tab algn="l" pos="85327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DAA67-937F-4AE9-BCB1-9065BDE0E0CB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"/>
          <p:cNvSpPr/>
          <p:nvPr/>
        </p:nvSpPr>
        <p:spPr>
          <a:xfrm>
            <a:off x="4021200" y="9721800"/>
            <a:ext cx="3081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F7B88-2A9A-4C10-A389-D725A166AB37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039680" y="777960"/>
            <a:ext cx="5023080" cy="38368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4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21200" y="9721800"/>
            <a:ext cx="3079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1920"/>
                <a:tab algn="l" pos="2557440"/>
                <a:tab algn="l" pos="2984400"/>
                <a:tab algn="l" pos="3411360"/>
                <a:tab algn="l" pos="3838680"/>
                <a:tab algn="l" pos="4265640"/>
                <a:tab algn="l" pos="4692600"/>
                <a:tab algn="l" pos="5118120"/>
                <a:tab algn="l" pos="5545080"/>
                <a:tab algn="l" pos="5972040"/>
                <a:tab algn="l" pos="6399360"/>
                <a:tab algn="l" pos="6826320"/>
                <a:tab algn="l" pos="7253280"/>
                <a:tab algn="l" pos="7678800"/>
                <a:tab algn="l" pos="8105760"/>
                <a:tab algn="l" pos="85327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1E5C2-CB71-4B92-9266-DABF813AEBF3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4021200" y="9721800"/>
            <a:ext cx="3081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B82E5-F1ED-4032-A74F-28F208CCE667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039680" y="777960"/>
            <a:ext cx="5023080" cy="3836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4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021200" y="9721800"/>
            <a:ext cx="3079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1920"/>
                <a:tab algn="l" pos="2557440"/>
                <a:tab algn="l" pos="2984400"/>
                <a:tab algn="l" pos="3411360"/>
                <a:tab algn="l" pos="3838680"/>
                <a:tab algn="l" pos="4265640"/>
                <a:tab algn="l" pos="4692600"/>
                <a:tab algn="l" pos="5118120"/>
                <a:tab algn="l" pos="5545080"/>
                <a:tab algn="l" pos="5972040"/>
                <a:tab algn="l" pos="6399360"/>
                <a:tab algn="l" pos="6826320"/>
                <a:tab algn="l" pos="7253280"/>
                <a:tab algn="l" pos="7678800"/>
                <a:tab algn="l" pos="8105760"/>
                <a:tab algn="l" pos="85327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B90E9-4D36-48C4-8172-66AA9ADBE30C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"/>
          <p:cNvSpPr/>
          <p:nvPr/>
        </p:nvSpPr>
        <p:spPr>
          <a:xfrm>
            <a:off x="4021200" y="9721800"/>
            <a:ext cx="3081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0D73D-1E70-448B-81B8-918CE016DA07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039680" y="777960"/>
            <a:ext cx="5023080" cy="3836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4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21200" y="9721800"/>
            <a:ext cx="3079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1920"/>
                <a:tab algn="l" pos="2557440"/>
                <a:tab algn="l" pos="2984400"/>
                <a:tab algn="l" pos="3411360"/>
                <a:tab algn="l" pos="3838680"/>
                <a:tab algn="l" pos="4265640"/>
                <a:tab algn="l" pos="4692600"/>
                <a:tab algn="l" pos="5118120"/>
                <a:tab algn="l" pos="5545080"/>
                <a:tab algn="l" pos="5972040"/>
                <a:tab algn="l" pos="6399360"/>
                <a:tab algn="l" pos="6826320"/>
                <a:tab algn="l" pos="7253280"/>
                <a:tab algn="l" pos="7678800"/>
                <a:tab algn="l" pos="8105760"/>
                <a:tab algn="l" pos="85327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44A19-9599-420F-8F5B-D01752BD139E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4021200" y="9721800"/>
            <a:ext cx="3081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83EEC-F56C-43F7-938C-799CECC3E5E8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39680" y="777960"/>
            <a:ext cx="5023080" cy="3836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4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21200" y="9721800"/>
            <a:ext cx="3079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1920"/>
                <a:tab algn="l" pos="2557440"/>
                <a:tab algn="l" pos="2984400"/>
                <a:tab algn="l" pos="3411360"/>
                <a:tab algn="l" pos="3838680"/>
                <a:tab algn="l" pos="4265640"/>
                <a:tab algn="l" pos="4692600"/>
                <a:tab algn="l" pos="5118120"/>
                <a:tab algn="l" pos="5545080"/>
                <a:tab algn="l" pos="5972040"/>
                <a:tab algn="l" pos="6399360"/>
                <a:tab algn="l" pos="6826320"/>
                <a:tab algn="l" pos="7253280"/>
                <a:tab algn="l" pos="7678800"/>
                <a:tab algn="l" pos="8105760"/>
                <a:tab algn="l" pos="85327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B2202-B42A-4B82-9DA0-25E85871C9DE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"/>
          <p:cNvSpPr/>
          <p:nvPr/>
        </p:nvSpPr>
        <p:spPr>
          <a:xfrm>
            <a:off x="4021200" y="9721800"/>
            <a:ext cx="3081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EB561-2AB4-4BEF-957A-5F31F511A111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39680" y="777960"/>
            <a:ext cx="5023080" cy="38368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4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21200" y="9721800"/>
            <a:ext cx="3079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1920"/>
                <a:tab algn="l" pos="2557440"/>
                <a:tab algn="l" pos="2984400"/>
                <a:tab algn="l" pos="3411360"/>
                <a:tab algn="l" pos="3838680"/>
                <a:tab algn="l" pos="4265640"/>
                <a:tab algn="l" pos="4692600"/>
                <a:tab algn="l" pos="5118120"/>
                <a:tab algn="l" pos="5545080"/>
                <a:tab algn="l" pos="5972040"/>
                <a:tab algn="l" pos="6399360"/>
                <a:tab algn="l" pos="6826320"/>
                <a:tab algn="l" pos="7253280"/>
                <a:tab algn="l" pos="7678800"/>
                <a:tab algn="l" pos="8105760"/>
                <a:tab algn="l" pos="85327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B6997-C01E-4345-A5D4-6B25856EFDE1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4021200" y="9721800"/>
            <a:ext cx="3081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17D5F-C2B3-4D20-A3AE-56FAA2140323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039680" y="777960"/>
            <a:ext cx="5023080" cy="3836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4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21200" y="9721800"/>
            <a:ext cx="3079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1920"/>
                <a:tab algn="l" pos="2557440"/>
                <a:tab algn="l" pos="2984400"/>
                <a:tab algn="l" pos="3411360"/>
                <a:tab algn="l" pos="3838680"/>
                <a:tab algn="l" pos="4265640"/>
                <a:tab algn="l" pos="4692600"/>
                <a:tab algn="l" pos="5118120"/>
                <a:tab algn="l" pos="5545080"/>
                <a:tab algn="l" pos="5972040"/>
                <a:tab algn="l" pos="6399360"/>
                <a:tab algn="l" pos="6826320"/>
                <a:tab algn="l" pos="7253280"/>
                <a:tab algn="l" pos="7678800"/>
                <a:tab algn="l" pos="8105760"/>
                <a:tab algn="l" pos="85327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36092-7AF5-4AEA-89FF-F123635EAD7B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4021200" y="9721800"/>
            <a:ext cx="3081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97C4B-F405-4CAE-A14A-D4D5B13B95BA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039680" y="777960"/>
            <a:ext cx="5023080" cy="3836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4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1200" y="9721800"/>
            <a:ext cx="3079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1920"/>
                <a:tab algn="l" pos="2557440"/>
                <a:tab algn="l" pos="2984400"/>
                <a:tab algn="l" pos="3411360"/>
                <a:tab algn="l" pos="3838680"/>
                <a:tab algn="l" pos="4265640"/>
                <a:tab algn="l" pos="4692600"/>
                <a:tab algn="l" pos="5118120"/>
                <a:tab algn="l" pos="5545080"/>
                <a:tab algn="l" pos="5972040"/>
                <a:tab algn="l" pos="6399360"/>
                <a:tab algn="l" pos="6826320"/>
                <a:tab algn="l" pos="7253280"/>
                <a:tab algn="l" pos="7678800"/>
                <a:tab algn="l" pos="8105760"/>
                <a:tab algn="l" pos="85327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DEA37-16DC-423C-8B06-27B4F2C9B74D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"/>
          <p:cNvSpPr/>
          <p:nvPr/>
        </p:nvSpPr>
        <p:spPr>
          <a:xfrm>
            <a:off x="4021200" y="9721800"/>
            <a:ext cx="3081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D13B8-B457-4E91-BD96-0B588AF8B963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39680" y="777960"/>
            <a:ext cx="5023080" cy="3836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4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1200" y="9721800"/>
            <a:ext cx="3079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1920"/>
                <a:tab algn="l" pos="2557440"/>
                <a:tab algn="l" pos="2984400"/>
                <a:tab algn="l" pos="3411360"/>
                <a:tab algn="l" pos="3838680"/>
                <a:tab algn="l" pos="4265640"/>
                <a:tab algn="l" pos="4692600"/>
                <a:tab algn="l" pos="5118120"/>
                <a:tab algn="l" pos="5545080"/>
                <a:tab algn="l" pos="5972040"/>
                <a:tab algn="l" pos="6399360"/>
                <a:tab algn="l" pos="6826320"/>
                <a:tab algn="l" pos="7253280"/>
                <a:tab algn="l" pos="7678800"/>
                <a:tab algn="l" pos="8105760"/>
                <a:tab algn="l" pos="85327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E862A-7F47-48D1-B116-D333E65AFD8F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"/>
          <p:cNvSpPr/>
          <p:nvPr/>
        </p:nvSpPr>
        <p:spPr>
          <a:xfrm>
            <a:off x="4021200" y="9721800"/>
            <a:ext cx="3081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A135F-4E29-493B-A2A5-A606B6F678FC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039680" y="777960"/>
            <a:ext cx="5023080" cy="3836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4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21200" y="9721800"/>
            <a:ext cx="3079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1920"/>
                <a:tab algn="l" pos="2557440"/>
                <a:tab algn="l" pos="2984400"/>
                <a:tab algn="l" pos="3411360"/>
                <a:tab algn="l" pos="3838680"/>
                <a:tab algn="l" pos="4265640"/>
                <a:tab algn="l" pos="4692600"/>
                <a:tab algn="l" pos="5118120"/>
                <a:tab algn="l" pos="5545080"/>
                <a:tab algn="l" pos="5972040"/>
                <a:tab algn="l" pos="6399360"/>
                <a:tab algn="l" pos="6826320"/>
                <a:tab algn="l" pos="7253280"/>
                <a:tab algn="l" pos="7678800"/>
                <a:tab algn="l" pos="8105760"/>
                <a:tab algn="l" pos="85327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EEBC4-120F-479E-BA10-DE088BE6412F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4021200" y="9721800"/>
            <a:ext cx="3081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3F8E9-CB22-4F76-B762-51B181EDEB4C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039680" y="777960"/>
            <a:ext cx="5023080" cy="3836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4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1200" y="9721800"/>
            <a:ext cx="3079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1920"/>
                <a:tab algn="l" pos="2557440"/>
                <a:tab algn="l" pos="2984400"/>
                <a:tab algn="l" pos="3411360"/>
                <a:tab algn="l" pos="3838680"/>
                <a:tab algn="l" pos="4265640"/>
                <a:tab algn="l" pos="4692600"/>
                <a:tab algn="l" pos="5118120"/>
                <a:tab algn="l" pos="5545080"/>
                <a:tab algn="l" pos="5972040"/>
                <a:tab algn="l" pos="6399360"/>
                <a:tab algn="l" pos="6826320"/>
                <a:tab algn="l" pos="7253280"/>
                <a:tab algn="l" pos="7678800"/>
                <a:tab algn="l" pos="8105760"/>
                <a:tab algn="l" pos="85327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FC7EE-4A33-48C8-AB1F-F735551B19CC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"/>
          <p:cNvSpPr/>
          <p:nvPr/>
        </p:nvSpPr>
        <p:spPr>
          <a:xfrm>
            <a:off x="4021200" y="9721800"/>
            <a:ext cx="3081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A77D9-1B63-49AC-A2DA-27789CC7428E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39680" y="777960"/>
            <a:ext cx="5023080" cy="3836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4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1200" y="9721800"/>
            <a:ext cx="3079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1920"/>
                <a:tab algn="l" pos="2557440"/>
                <a:tab algn="l" pos="2984400"/>
                <a:tab algn="l" pos="3411360"/>
                <a:tab algn="l" pos="3838680"/>
                <a:tab algn="l" pos="4265640"/>
                <a:tab algn="l" pos="4692600"/>
                <a:tab algn="l" pos="5118120"/>
                <a:tab algn="l" pos="5545080"/>
                <a:tab algn="l" pos="5972040"/>
                <a:tab algn="l" pos="6399360"/>
                <a:tab algn="l" pos="6826320"/>
                <a:tab algn="l" pos="7253280"/>
                <a:tab algn="l" pos="7678800"/>
                <a:tab algn="l" pos="8105760"/>
                <a:tab algn="l" pos="85327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33B0D-365F-48A5-A079-0890A6FE7724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"/>
          <p:cNvSpPr/>
          <p:nvPr/>
        </p:nvSpPr>
        <p:spPr>
          <a:xfrm>
            <a:off x="4021200" y="9721800"/>
            <a:ext cx="30812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08544-533B-4C1C-8528-411960D87609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039680" y="777960"/>
            <a:ext cx="5023080" cy="38368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4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1C0F-479A-49CF-B345-57AB6F15F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9B95C-4620-4117-9AA7-E1D77CC05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F855-09FC-43D6-9259-2A60B2DCE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A99C-4189-4A83-9295-84D8337C0F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9134-6727-462F-884C-997ED3F535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9827-BEE0-4792-983D-4E3E5180B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3741-8D48-4222-9433-01B048824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D5D2-B53C-4AE8-9DEE-77D04672A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5644-4300-49D2-AD29-DCECFAAE2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E5F10-F091-4235-BEEF-3617868B4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BE67-5789-4105-95B3-ED1AD1D73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B87A-23E3-477F-BC30-78079F763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C791C-AF9A-491C-9059-821B49C31F37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hyperlink" Target="https://creativecommons.org/publicdomain/zero/1.0/deed.en" TargetMode="External"/><Relationship Id="rId4" Type="http://schemas.openxmlformats.org/officeDocument/2006/relationships/hyperlink" Target="https://commons.wikimedia.org/wiki/File:Johnny-automatic-scales-of-justice.svg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0" y="395280"/>
            <a:ext cx="100807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240" bIns="0" anchor="ctr">
            <a:normAutofit fontScale="84000"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RISPR-Cas9-Genedrive</a:t>
            </a:r>
            <a:br>
              <a:rPr sz="44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der Malariabekämpf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0" y="7226280"/>
            <a:ext cx="10080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rmAutofit fontScale="94000"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259000" y="2124000"/>
            <a:ext cx="5562720" cy="4199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3203640" y="6497640"/>
            <a:ext cx="36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Abbildung erstellt von Frank Harder – ZPG Biolog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03280" y="6983280"/>
            <a:ext cx="9144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40001_p_dilemmadiskussion_lehrer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ZPG Biologie 2020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Folie 1 /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144360" y="6983280"/>
            <a:ext cx="96472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0" y="179280"/>
            <a:ext cx="100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Material 5 – Anwendung CRISPR-Cas9 und homologe Rekombination am doublesex-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263520" y="896760"/>
            <a:ext cx="9553680" cy="2560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360360" y="4592520"/>
            <a:ext cx="3959280" cy="173988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iveau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tellte Sequenzen für guideRNA und für die homologe Rekombination sind schon vorgegeb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856120" y="4219560"/>
            <a:ext cx="3961080" cy="274536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iveau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 bestellende Sequenzen für guideRNA und für die homologe Rekombination müssen selber gefunden we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Material mit gestuften Hilf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-4680" y="3603600"/>
            <a:ext cx="1008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in zwei Niveaustuf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95200" y="6580080"/>
            <a:ext cx="42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NNENDIFFERENZIER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 flipH="1">
            <a:off x="6910200" y="3814920"/>
            <a:ext cx="108396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 flipH="1">
            <a:off x="2158920" y="3814920"/>
            <a:ext cx="93816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 flipV="1">
            <a:off x="7993080" y="3812760"/>
            <a:ext cx="1440" cy="407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2160720" y="3824280"/>
            <a:ext cx="1440" cy="768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404640" y="7128000"/>
            <a:ext cx="9144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40001_p_dilemmadiskussion_lehrer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ZPG Biologie 2020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Folie 10 /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>
            <a:off x="216000" y="7128000"/>
            <a:ext cx="964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0" y="179280"/>
            <a:ext cx="100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Material 6 – Funktionsweise eines CRISPR-Cas9-Genedrives am doublesex-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14200" y="693720"/>
            <a:ext cx="7628040" cy="32367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214200" y="4572000"/>
            <a:ext cx="54738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 der Kenntnis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 Material 5 und 6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404640" y="7128000"/>
            <a:ext cx="9144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40001_p_dilemmadiskussion_lehrer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ZPG Biologie 2020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Folie 11 /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216000" y="7128000"/>
            <a:ext cx="964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5977080" y="3997440"/>
            <a:ext cx="3655800" cy="2965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0" y="179280"/>
            <a:ext cx="100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Material 7 – Ergebnisse der Käfigexperimente mit genmanipulierten Anopheles-Müc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360360" y="1187280"/>
            <a:ext cx="9097920" cy="4292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647640" y="6399360"/>
            <a:ext cx="92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gleich der Mückenvererbung mit Gendrive-Mutation /ohne Gendrive-Mu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981160" y="5680080"/>
            <a:ext cx="4118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7f7f7f"/>
                </a:solidFill>
                <a:latin typeface="Arial"/>
              </a:rPr>
              <a:t>Abbildung erstellt von Frank Harder – ZPG Biologi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04640" y="7128000"/>
            <a:ext cx="9144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40001_p_dilemmadiskussion_lehrer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ZPG Biologie 2020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Folie 12 /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216000" y="7128000"/>
            <a:ext cx="964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4680" y="1619280"/>
            <a:ext cx="100807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24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eil 2- Dilemmadiskussion</a:t>
            </a:r>
            <a:br>
              <a:rPr sz="44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404640" y="7128000"/>
            <a:ext cx="9144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40001_p_dilemmadiskussion_lehrer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ZPG Biologie 2020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Folie 13 /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216000" y="7128000"/>
            <a:ext cx="964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720720" y="82440"/>
            <a:ext cx="3498840" cy="638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"/>
          <p:cNvSpPr/>
          <p:nvPr/>
        </p:nvSpPr>
        <p:spPr>
          <a:xfrm>
            <a:off x="576360" y="1008000"/>
            <a:ext cx="576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Das Dilem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2627280" y="1655640"/>
            <a:ext cx="6085080" cy="4103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404640" y="7128000"/>
            <a:ext cx="9144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40201_p_dilemmadiskussion_lehrer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ZPG Biologie 2020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Folie 14 /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216000" y="7128000"/>
            <a:ext cx="964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"/>
          <p:cNvPicPr/>
          <p:nvPr/>
        </p:nvPicPr>
        <p:blipFill>
          <a:blip r:embed="rId1"/>
          <a:stretch/>
        </p:blipFill>
        <p:spPr>
          <a:xfrm>
            <a:off x="720720" y="82440"/>
            <a:ext cx="3498840" cy="6382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"/>
          <p:cNvSpPr/>
          <p:nvPr/>
        </p:nvSpPr>
        <p:spPr>
          <a:xfrm>
            <a:off x="576360" y="1008000"/>
            <a:ext cx="576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Spontane Standortbestimm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3911760" y="1368360"/>
            <a:ext cx="3144600" cy="41259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404640" y="7128000"/>
            <a:ext cx="9144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40001_p_dilemmadiskussion_lehrer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ZPG Biologie 2020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Folie 15 /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216000" y="7128000"/>
            <a:ext cx="964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" descr=""/>
          <p:cNvPicPr/>
          <p:nvPr/>
        </p:nvPicPr>
        <p:blipFill>
          <a:blip r:embed="rId1"/>
          <a:stretch/>
        </p:blipFill>
        <p:spPr>
          <a:xfrm>
            <a:off x="720720" y="82440"/>
            <a:ext cx="3498840" cy="6382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"/>
          <p:cNvSpPr/>
          <p:nvPr/>
        </p:nvSpPr>
        <p:spPr>
          <a:xfrm>
            <a:off x="576360" y="1008000"/>
            <a:ext cx="576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Handlungsoptionen und Interessengru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2"/>
          <a:stretch/>
        </p:blipFill>
        <p:spPr>
          <a:xfrm>
            <a:off x="3755880" y="1387440"/>
            <a:ext cx="5245200" cy="43005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404640" y="7128000"/>
            <a:ext cx="9144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40001_p_dilemmadiskussion_lehrer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ZPG Biologie 2020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Folie 16 /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216000" y="7128000"/>
            <a:ext cx="964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1"/>
          <a:stretch/>
        </p:blipFill>
        <p:spPr>
          <a:xfrm>
            <a:off x="720720" y="82440"/>
            <a:ext cx="3498840" cy="63828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2"/>
          <p:cNvGrpSpPr/>
          <p:nvPr/>
        </p:nvGrpSpPr>
        <p:grpSpPr>
          <a:xfrm>
            <a:off x="576360" y="1584360"/>
            <a:ext cx="8205840" cy="2769840"/>
            <a:chOff x="576360" y="1584360"/>
            <a:chExt cx="8205840" cy="2769840"/>
          </a:xfrm>
        </p:grpSpPr>
        <p:sp>
          <p:nvSpPr>
            <p:cNvPr id="190" name="Rectangle 3"/>
            <p:cNvSpPr/>
            <p:nvPr/>
          </p:nvSpPr>
          <p:spPr>
            <a:xfrm>
              <a:off x="576360" y="1584360"/>
              <a:ext cx="57592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   </a:t>
              </a:r>
              <a:r>
                <a:rPr b="1" lang="de-CH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Argumen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1240" indent="-2840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sammel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1240" indent="-2840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gewichte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AutoShape 4"/>
            <p:cNvSpPr/>
            <p:nvPr/>
          </p:nvSpPr>
          <p:spPr>
            <a:xfrm>
              <a:off x="4103640" y="1871640"/>
              <a:ext cx="1582920" cy="244764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18000">
              <a:solidFill>
                <a:srgbClr val="a323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xperten-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komment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5"/>
            <p:cNvSpPr/>
            <p:nvPr/>
          </p:nvSpPr>
          <p:spPr>
            <a:xfrm>
              <a:off x="6191280" y="1871640"/>
              <a:ext cx="2590920" cy="1510560"/>
            </a:xfrm>
            <a:prstGeom prst="wedgeEllipseCallout">
              <a:avLst>
                <a:gd name="adj1" fmla="val -38449"/>
                <a:gd name="adj2" fmla="val 71898"/>
              </a:avLst>
            </a:prstGeom>
            <a:solidFill>
              <a:srgbClr val="dddddd"/>
            </a:solidFill>
            <a:ln w="18000">
              <a:solidFill>
                <a:srgbClr val="006d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xperten-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tervie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6"/>
            <p:cNvSpPr/>
            <p:nvPr/>
          </p:nvSpPr>
          <p:spPr>
            <a:xfrm>
              <a:off x="6191280" y="3960720"/>
              <a:ext cx="16542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666666"/>
                  </a:solidFill>
                  <a:latin typeface="Arial"/>
                </a:rPr>
                <a:t>Textarbei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Text Box 7"/>
          <p:cNvSpPr/>
          <p:nvPr/>
        </p:nvSpPr>
        <p:spPr>
          <a:xfrm>
            <a:off x="404640" y="7128000"/>
            <a:ext cx="9144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40201_p_dilemmadiskussion_lehrer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ZPG Biologie 2020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Folie 17 /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216000" y="7128000"/>
            <a:ext cx="964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720720" y="82440"/>
            <a:ext cx="3498840" cy="63828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2"/>
          <p:cNvGrpSpPr/>
          <p:nvPr/>
        </p:nvGrpSpPr>
        <p:grpSpPr>
          <a:xfrm>
            <a:off x="647640" y="1584360"/>
            <a:ext cx="8206920" cy="4102200"/>
            <a:chOff x="647640" y="1584360"/>
            <a:chExt cx="8206920" cy="4102200"/>
          </a:xfrm>
        </p:grpSpPr>
        <p:sp>
          <p:nvSpPr>
            <p:cNvPr id="198" name="Rectangle 3"/>
            <p:cNvSpPr/>
            <p:nvPr/>
          </p:nvSpPr>
          <p:spPr>
            <a:xfrm>
              <a:off x="647640" y="1584360"/>
              <a:ext cx="57582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   </a:t>
              </a:r>
              <a:r>
                <a:rPr b="1" lang="de-CH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Argumen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1240" indent="-2840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sammel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1240" indent="-2840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gewichte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9" name="Picture 4" descr=""/>
            <p:cNvPicPr/>
            <p:nvPr/>
          </p:nvPicPr>
          <p:blipFill>
            <a:blip r:embed="rId2"/>
            <a:stretch/>
          </p:blipFill>
          <p:spPr>
            <a:xfrm>
              <a:off x="4534560" y="2392200"/>
              <a:ext cx="3807360" cy="32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5"/>
            <p:cNvSpPr/>
            <p:nvPr/>
          </p:nvSpPr>
          <p:spPr>
            <a:xfrm>
              <a:off x="5183640" y="1654200"/>
              <a:ext cx="3670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   </a:t>
              </a:r>
              <a:r>
                <a:rPr b="1" lang="de-CH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Werte und Norme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Group 6"/>
            <p:cNvGrpSpPr/>
            <p:nvPr/>
          </p:nvGrpSpPr>
          <p:grpSpPr>
            <a:xfrm>
              <a:off x="3094560" y="1655640"/>
              <a:ext cx="1797840" cy="646200"/>
              <a:chOff x="3094560" y="1655640"/>
              <a:chExt cx="1797840" cy="646200"/>
            </a:xfrm>
          </p:grpSpPr>
          <p:sp>
            <p:nvSpPr>
              <p:cNvPr id="202" name="AutoShape 7"/>
              <p:cNvSpPr/>
              <p:nvPr/>
            </p:nvSpPr>
            <p:spPr>
              <a:xfrm flipH="1">
                <a:off x="3094200" y="1655640"/>
                <a:ext cx="861480" cy="646200"/>
              </a:xfrm>
              <a:custGeom>
                <a:avLst/>
                <a:gdLst>
                  <a:gd name="textAreaLeft" fmla="*/ 160200 w 861480"/>
                  <a:gd name="textAreaRight" fmla="*/ 725040 w 861480"/>
                  <a:gd name="textAreaTop" fmla="*/ 191880 h 646200"/>
                  <a:gd name="textAreaBottom" fmla="*/ 454320 h 64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200" y="0"/>
                    </a:moveTo>
                    <a:lnTo>
                      <a:pt x="21600" y="10800"/>
                    </a:lnTo>
                    <a:lnTo>
                      <a:pt x="13200" y="21800"/>
                    </a:lnTo>
                    <a:lnTo>
                      <a:pt x="13200" y="15200"/>
                    </a:lnTo>
                    <a:lnTo>
                      <a:pt x="4000" y="15200"/>
                    </a:lnTo>
                    <a:lnTo>
                      <a:pt x="4000" y="6400"/>
                    </a:lnTo>
                    <a:lnTo>
                      <a:pt x="13200" y="6400"/>
                    </a:lnTo>
                    <a:lnTo>
                      <a:pt x="13200" y="0"/>
                    </a:lnTo>
                    <a:moveTo>
                      <a:pt x="0" y="6400"/>
                    </a:moveTo>
                    <a:lnTo>
                      <a:pt x="0" y="15200"/>
                    </a:lnTo>
                    <a:lnTo>
                      <a:pt x="1000" y="15200"/>
                    </a:lnTo>
                    <a:lnTo>
                      <a:pt x="1000" y="6400"/>
                    </a:lnTo>
                    <a:lnTo>
                      <a:pt x="0" y="6400"/>
                    </a:lnTo>
                    <a:moveTo>
                      <a:pt x="2000" y="6400"/>
                    </a:moveTo>
                    <a:lnTo>
                      <a:pt x="2000" y="15200"/>
                    </a:lnTo>
                    <a:lnTo>
                      <a:pt x="3000" y="15200"/>
                    </a:lnTo>
                    <a:lnTo>
                      <a:pt x="3000" y="6400"/>
                    </a:lnTo>
                    <a:lnTo>
                      <a:pt x="2000" y="6400"/>
                    </a:lnTo>
                    <a:close/>
                  </a:path>
                </a:pathLst>
              </a:custGeom>
              <a:solidFill>
                <a:srgbClr val="dfcce4"/>
              </a:solidFill>
              <a:ln w="18000">
                <a:solidFill>
                  <a:srgbClr val="a3238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AutoShape 8"/>
              <p:cNvSpPr/>
              <p:nvPr/>
            </p:nvSpPr>
            <p:spPr>
              <a:xfrm>
                <a:off x="4030920" y="1655640"/>
                <a:ext cx="861480" cy="646200"/>
              </a:xfrm>
              <a:custGeom>
                <a:avLst/>
                <a:gdLst>
                  <a:gd name="textAreaLeft" fmla="*/ 160200 w 861480"/>
                  <a:gd name="textAreaRight" fmla="*/ 725040 w 861480"/>
                  <a:gd name="textAreaTop" fmla="*/ 191880 h 646200"/>
                  <a:gd name="textAreaBottom" fmla="*/ 454320 h 64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200" y="0"/>
                    </a:moveTo>
                    <a:lnTo>
                      <a:pt x="21600" y="10800"/>
                    </a:lnTo>
                    <a:lnTo>
                      <a:pt x="13200" y="21800"/>
                    </a:lnTo>
                    <a:lnTo>
                      <a:pt x="13200" y="15200"/>
                    </a:lnTo>
                    <a:lnTo>
                      <a:pt x="4000" y="15200"/>
                    </a:lnTo>
                    <a:lnTo>
                      <a:pt x="4000" y="6400"/>
                    </a:lnTo>
                    <a:lnTo>
                      <a:pt x="13200" y="6400"/>
                    </a:lnTo>
                    <a:lnTo>
                      <a:pt x="13200" y="0"/>
                    </a:lnTo>
                    <a:moveTo>
                      <a:pt x="0" y="6400"/>
                    </a:moveTo>
                    <a:lnTo>
                      <a:pt x="0" y="15200"/>
                    </a:lnTo>
                    <a:lnTo>
                      <a:pt x="1000" y="15200"/>
                    </a:lnTo>
                    <a:lnTo>
                      <a:pt x="1000" y="6400"/>
                    </a:lnTo>
                    <a:lnTo>
                      <a:pt x="0" y="6400"/>
                    </a:lnTo>
                    <a:moveTo>
                      <a:pt x="2000" y="6400"/>
                    </a:moveTo>
                    <a:lnTo>
                      <a:pt x="2000" y="15200"/>
                    </a:lnTo>
                    <a:lnTo>
                      <a:pt x="3000" y="15200"/>
                    </a:lnTo>
                    <a:lnTo>
                      <a:pt x="3000" y="6400"/>
                    </a:lnTo>
                    <a:lnTo>
                      <a:pt x="2000" y="6400"/>
                    </a:lnTo>
                    <a:close/>
                  </a:path>
                </a:pathLst>
              </a:custGeom>
              <a:solidFill>
                <a:srgbClr val="dfcce4"/>
              </a:solidFill>
              <a:ln w="18000">
                <a:solidFill>
                  <a:srgbClr val="a3238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Text Box 9"/>
          <p:cNvSpPr/>
          <p:nvPr/>
        </p:nvSpPr>
        <p:spPr>
          <a:xfrm>
            <a:off x="5256360" y="5786280"/>
            <a:ext cx="2519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cales of justice by Johnny_Automatic [</a:t>
            </a:r>
            <a:r>
              <a:rPr b="0" lang="de-DE" sz="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CC0 1.0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], via </a:t>
            </a:r>
            <a:r>
              <a:rPr b="0" lang="de-DE" sz="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ikimedia Common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04640" y="7128000"/>
            <a:ext cx="9144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40001_p_dilemmadiskussion_lehrer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ZPG Biologie 2020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Folie 18 /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216000" y="7128000"/>
            <a:ext cx="964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720720" y="82440"/>
            <a:ext cx="3498840" cy="638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5310360" y="1655640"/>
            <a:ext cx="3544560" cy="4653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503280" y="1295280"/>
            <a:ext cx="576108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Kompetentes Bewert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Arial"/>
                <a:ea typeface="Calibri"/>
              </a:rPr>
              <a:t>« einen Sachverhalt nach fachwissenschaftlichen oder fachmethodischen Kriterien oder einem persönlichen und gesellschaftlichen Wertebezug begründet einschätzen 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Arial"/>
                <a:ea typeface="Calibri"/>
              </a:rPr>
              <a:t>(Bildungsplan 2016, Operatoren)</a:t>
            </a:r>
            <a:r>
              <a:rPr b="0" i="1" lang="de-CH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404640" y="7128000"/>
            <a:ext cx="9144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40001_p_dilemmadiskussion_lehrer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ZPG Biologie 2020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Folie 19 /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216000" y="7128000"/>
            <a:ext cx="964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0" y="243000"/>
            <a:ext cx="100807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24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eriali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 rot="720000">
            <a:off x="8091000" y="1989000"/>
            <a:ext cx="1317600" cy="993960"/>
          </a:xfrm>
          <a:prstGeom prst="rect">
            <a:avLst/>
          </a:prstGeom>
          <a:ln w="0">
            <a:noFill/>
          </a:ln>
        </p:spPr>
      </p:pic>
      <p:sp>
        <p:nvSpPr>
          <p:cNvPr id="57" name="Line 3"/>
          <p:cNvSpPr/>
          <p:nvPr/>
        </p:nvSpPr>
        <p:spPr>
          <a:xfrm flipH="1">
            <a:off x="5951160" y="2948040"/>
            <a:ext cx="27000" cy="522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84280" y="1230480"/>
            <a:ext cx="9001080" cy="2495520"/>
          </a:xfrm>
          <a:prstGeom prst="rect">
            <a:avLst/>
          </a:prstGeom>
          <a:noFill/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66640" y="1359000"/>
            <a:ext cx="89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t der Genschere gegen Malaria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 rot="19740000">
            <a:off x="753840" y="2026800"/>
            <a:ext cx="1284120" cy="968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584280" y="1846440"/>
            <a:ext cx="896616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griff in die Sexualentwicklung von Anophelesmück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tels ei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RISPR-Cas9-Genedr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Molekularbiologische Grundla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3303720" y="3759120"/>
            <a:ext cx="1440" cy="1422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" name="AutoShape 11"/>
          <p:cNvCxnSpPr/>
          <p:nvPr/>
        </p:nvCxnSpPr>
        <p:spPr>
          <a:xfrm>
            <a:off x="3303720" y="5181120"/>
            <a:ext cx="274536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Text Box 14"/>
          <p:cNvSpPr/>
          <p:nvPr/>
        </p:nvSpPr>
        <p:spPr>
          <a:xfrm>
            <a:off x="3332160" y="53038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Bewertungskompeten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566640" y="3103560"/>
            <a:ext cx="252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800" spc="-1" strike="noStrike">
                <a:solidFill>
                  <a:srgbClr val="bfbfbf"/>
                </a:solidFill>
                <a:latin typeface="Arial"/>
              </a:rPr>
              <a:t>Abbildung erstellt von Frank Harder – ZPG Biologi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7074000" y="3146400"/>
            <a:ext cx="253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800" spc="-1" strike="noStrike">
                <a:solidFill>
                  <a:srgbClr val="bfbfbf"/>
                </a:solidFill>
                <a:latin typeface="Arial"/>
              </a:rPr>
              <a:t>Abbildung erstellt von Frank Harder – ZPG Biologi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Group 17"/>
          <p:cNvGrpSpPr/>
          <p:nvPr/>
        </p:nvGrpSpPr>
        <p:grpSpPr>
          <a:xfrm>
            <a:off x="6264360" y="4549680"/>
            <a:ext cx="3319200" cy="2352600"/>
            <a:chOff x="6264360" y="4549680"/>
            <a:chExt cx="3319200" cy="2352600"/>
          </a:xfrm>
        </p:grpSpPr>
        <p:sp>
          <p:nvSpPr>
            <p:cNvPr id="68" name="Rectangle 18"/>
            <p:cNvSpPr/>
            <p:nvPr/>
          </p:nvSpPr>
          <p:spPr>
            <a:xfrm>
              <a:off x="6264360" y="4549680"/>
              <a:ext cx="3319200" cy="2352600"/>
            </a:xfrm>
            <a:prstGeom prst="rect">
              <a:avLst/>
            </a:pr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9" name="Picture 19" descr=""/>
            <p:cNvPicPr/>
            <p:nvPr/>
          </p:nvPicPr>
          <p:blipFill>
            <a:blip r:embed="rId3"/>
            <a:stretch/>
          </p:blipFill>
          <p:spPr>
            <a:xfrm>
              <a:off x="6335640" y="4680000"/>
              <a:ext cx="1674720" cy="20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20"/>
            <p:cNvSpPr/>
            <p:nvPr/>
          </p:nvSpPr>
          <p:spPr>
            <a:xfrm>
              <a:off x="8064360" y="4896000"/>
              <a:ext cx="1366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 fontScale="85000"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Sawasdee"/>
                </a:rPr>
                <a:t>Dilemma-disku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Text Box 21"/>
          <p:cNvSpPr/>
          <p:nvPr/>
        </p:nvSpPr>
        <p:spPr>
          <a:xfrm>
            <a:off x="-98280" y="7186680"/>
            <a:ext cx="1008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rmAutofit fontScale="94000"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2"/>
          <p:cNvSpPr/>
          <p:nvPr/>
        </p:nvSpPr>
        <p:spPr>
          <a:xfrm>
            <a:off x="404640" y="7128000"/>
            <a:ext cx="9144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40001_p_dilemmadiskussion_lehrer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ZPG Biologie 2020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Folie 2 /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23"/>
          <p:cNvSpPr/>
          <p:nvPr/>
        </p:nvSpPr>
        <p:spPr>
          <a:xfrm>
            <a:off x="216000" y="7128000"/>
            <a:ext cx="964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720720" y="82440"/>
            <a:ext cx="3498840" cy="6382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647640" y="145908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Abgleich mit anderen Positionen und Wertehorizon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4319640" y="1316160"/>
            <a:ext cx="5245200" cy="43005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404640" y="7128000"/>
            <a:ext cx="9144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40001_p_dilemmadiskussion_lehrer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ZPG Biologie 2020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Folie 20 /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16000" y="7128000"/>
            <a:ext cx="964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0" y="243000"/>
            <a:ext cx="100807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24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ef413d"/>
                </a:solidFill>
                <a:latin typeface="Arial"/>
              </a:rPr>
              <a:t>Online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-Materiali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 rot="720000">
            <a:off x="8091000" y="1989000"/>
            <a:ext cx="1317600" cy="993960"/>
          </a:xfrm>
          <a:prstGeom prst="rect">
            <a:avLst/>
          </a:prstGeom>
          <a:ln w="0">
            <a:noFill/>
          </a:ln>
        </p:spPr>
      </p:pic>
      <p:sp>
        <p:nvSpPr>
          <p:cNvPr id="76" name="Line 3"/>
          <p:cNvSpPr/>
          <p:nvPr/>
        </p:nvSpPr>
        <p:spPr>
          <a:xfrm flipH="1">
            <a:off x="5951160" y="2948040"/>
            <a:ext cx="27000" cy="522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584280" y="1230480"/>
            <a:ext cx="9001080" cy="2495520"/>
          </a:xfrm>
          <a:prstGeom prst="rect">
            <a:avLst/>
          </a:prstGeom>
          <a:noFill/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 rot="19740000">
            <a:off x="753840" y="2026800"/>
            <a:ext cx="1284120" cy="968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584280" y="1846440"/>
            <a:ext cx="896616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griff in die Sexualentwicklung von Anophelesmück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tels ei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RISPR-Cas9-Genedr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Molekularbiologische Grundla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66640" y="3103560"/>
            <a:ext cx="252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800" spc="-1" strike="noStrike">
                <a:solidFill>
                  <a:srgbClr val="bfbfbf"/>
                </a:solidFill>
                <a:latin typeface="Arial"/>
              </a:rPr>
              <a:t>Abbildung erstellt von Frank Harder – ZPG Biologi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7074000" y="3146400"/>
            <a:ext cx="253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800" spc="-1" strike="noStrike">
                <a:solidFill>
                  <a:srgbClr val="bfbfbf"/>
                </a:solidFill>
                <a:latin typeface="Arial"/>
              </a:rPr>
              <a:t>Abbildung erstellt von Frank Harder – ZPG Biologi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9"/>
          <p:cNvGrpSpPr/>
          <p:nvPr/>
        </p:nvGrpSpPr>
        <p:grpSpPr>
          <a:xfrm>
            <a:off x="576360" y="3959280"/>
            <a:ext cx="9142200" cy="2352600"/>
            <a:chOff x="576360" y="3959280"/>
            <a:chExt cx="9142200" cy="2352600"/>
          </a:xfrm>
        </p:grpSpPr>
        <p:sp>
          <p:nvSpPr>
            <p:cNvPr id="83" name="Text Box 10"/>
            <p:cNvSpPr/>
            <p:nvPr/>
          </p:nvSpPr>
          <p:spPr>
            <a:xfrm>
              <a:off x="2376360" y="4146480"/>
              <a:ext cx="734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Mit der Genschere gegen Malaria?“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Text Box 11"/>
            <p:cNvSpPr/>
            <p:nvPr/>
          </p:nvSpPr>
          <p:spPr>
            <a:xfrm>
              <a:off x="4608360" y="530532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Arial"/>
                </a:rPr>
                <a:t>Bewertungskompeten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2"/>
            <p:cNvSpPr/>
            <p:nvPr/>
          </p:nvSpPr>
          <p:spPr>
            <a:xfrm>
              <a:off x="576360" y="3959280"/>
              <a:ext cx="9007200" cy="2352600"/>
            </a:xfrm>
            <a:prstGeom prst="rect">
              <a:avLst/>
            </a:pr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6" name="Picture 13" descr=""/>
            <p:cNvPicPr/>
            <p:nvPr/>
          </p:nvPicPr>
          <p:blipFill>
            <a:blip r:embed="rId3"/>
            <a:stretch/>
          </p:blipFill>
          <p:spPr>
            <a:xfrm>
              <a:off x="770040" y="4017960"/>
              <a:ext cx="225576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4"/>
            <p:cNvSpPr/>
            <p:nvPr/>
          </p:nvSpPr>
          <p:spPr>
            <a:xfrm>
              <a:off x="4751280" y="4809960"/>
              <a:ext cx="251784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ilemmadisku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Text Box 15"/>
          <p:cNvSpPr/>
          <p:nvPr/>
        </p:nvSpPr>
        <p:spPr>
          <a:xfrm>
            <a:off x="560520" y="140976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t der Genschere gegen Malaria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404640" y="7128000"/>
            <a:ext cx="9144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40001_p_dilemmadiskussion_lehrer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ZPG Biologie 2020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Folie 3 /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216000" y="7128000"/>
            <a:ext cx="964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0" y="395280"/>
            <a:ext cx="100807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24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ildungsplan-Anbind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 rot="720000">
            <a:off x="8459280" y="331920"/>
            <a:ext cx="1317600" cy="995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 rot="19740000">
            <a:off x="312480" y="364680"/>
            <a:ext cx="1390680" cy="105084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4"/>
          <p:cNvGrpSpPr/>
          <p:nvPr/>
        </p:nvGrpSpPr>
        <p:grpSpPr>
          <a:xfrm>
            <a:off x="150840" y="3852720"/>
            <a:ext cx="4294080" cy="3254400"/>
            <a:chOff x="150840" y="3852720"/>
            <a:chExt cx="4294080" cy="3254400"/>
          </a:xfrm>
        </p:grpSpPr>
        <p:sp>
          <p:nvSpPr>
            <p:cNvPr id="95" name="Rectangle 5"/>
            <p:cNvSpPr/>
            <p:nvPr/>
          </p:nvSpPr>
          <p:spPr>
            <a:xfrm>
              <a:off x="150840" y="3852720"/>
              <a:ext cx="4247640" cy="3254400"/>
            </a:xfrm>
            <a:prstGeom prst="rect">
              <a:avLst/>
            </a:prstGeom>
            <a:solidFill>
              <a:srgbClr val="fff5b7"/>
            </a:solidFill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tangle 6"/>
            <p:cNvSpPr/>
            <p:nvPr/>
          </p:nvSpPr>
          <p:spPr>
            <a:xfrm>
              <a:off x="161640" y="3925800"/>
              <a:ext cx="428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Arial"/>
                </a:rPr>
                <a:t>Leitgedanken zum Kompetenzerwerb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231840" y="4354560"/>
              <a:ext cx="4084200" cy="25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de-CH" sz="1200" spc="-1" strike="noStrike">
                  <a:solidFill>
                    <a:srgbClr val="000000"/>
                  </a:solidFill>
                  <a:latin typeface="Arial"/>
                </a:rPr>
                <a:t>Bei vielen gesellschaftsrelevanten Fragestellungen sind </a:t>
              </a:r>
              <a:r>
                <a:rPr b="1" i="1" lang="de-CH" sz="1200" spc="-1" strike="noStrike">
                  <a:solidFill>
                    <a:srgbClr val="ff0000"/>
                  </a:solidFill>
                  <a:latin typeface="Arial"/>
                </a:rPr>
                <a:t>biologische Kenntnisse Voraussetzung für eine fundierte Entscheidungsfindung.</a:t>
              </a:r>
              <a:r>
                <a:rPr b="1" i="1" lang="de-CH" sz="1200" spc="-1" strike="noStrike">
                  <a:solidFill>
                    <a:srgbClr val="000000"/>
                  </a:solidFill>
                  <a:latin typeface="Arial"/>
                </a:rPr>
                <a:t> Sie fließen in politische Diskussionen ein und helfen, Entscheidungen im Sinne einer nachhaltigen Entwicklung zu treffen. </a:t>
              </a:r>
              <a:r>
                <a:rPr b="1" i="1" lang="de-CH" sz="1200" spc="-1" strike="noStrike">
                  <a:solidFill>
                    <a:srgbClr val="ff0000"/>
                  </a:solidFill>
                  <a:latin typeface="Arial"/>
                </a:rPr>
                <a:t>Ohne Wissen um die molekularen Hintergründe </a:t>
              </a:r>
              <a:r>
                <a:rPr b="1" i="1" lang="de-CH" sz="1200" spc="-1" strike="noStrike">
                  <a:solidFill>
                    <a:srgbClr val="000000"/>
                  </a:solidFill>
                  <a:latin typeface="Arial"/>
                </a:rPr>
                <a:t>können Chancen und Risiken moderner biowissenschaftlicher Methoden </a:t>
              </a:r>
              <a:r>
                <a:rPr b="1" i="1" lang="de-CH" sz="1200" spc="-1" strike="noStrike">
                  <a:solidFill>
                    <a:srgbClr val="ff0000"/>
                  </a:solidFill>
                  <a:latin typeface="Arial"/>
                </a:rPr>
                <a:t>nicht fundiert bewertet werden</a:t>
              </a:r>
              <a:r>
                <a:rPr b="0" i="1" lang="de-CH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9"/>
          <p:cNvSpPr/>
          <p:nvPr/>
        </p:nvSpPr>
        <p:spPr>
          <a:xfrm>
            <a:off x="149400" y="1631880"/>
            <a:ext cx="9712080" cy="1968480"/>
          </a:xfrm>
          <a:prstGeom prst="rect">
            <a:avLst/>
          </a:prstGeom>
          <a:solidFill>
            <a:srgbClr val="dddddd"/>
          </a:solidFill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149400" y="1719360"/>
            <a:ext cx="96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PBKs - BEWERTUNGSKOMPETEN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247680" y="2178000"/>
            <a:ext cx="92660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Calibri"/>
              </a:rPr>
              <a:t>Anwendungen und Folgen biologischer Forschungsergebnisse unter dem Aspekt 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Calibri"/>
              </a:rPr>
              <a:t>... des Perspektivenwechsels beschreib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Calibri"/>
              </a:rPr>
              <a:t>... einer nachhaltigen Entwicklung beschreiben und beurteilen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Calibri"/>
              </a:rPr>
              <a:t>... der Verantwortung für die Natur beurteile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404640" y="7199280"/>
            <a:ext cx="9144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40001_p_dilemmadiskussion_lehrer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ZPG Biologie 2020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Folie 4 /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216000" y="7199280"/>
            <a:ext cx="96472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3"/>
          <a:stretch/>
        </p:blipFill>
        <p:spPr>
          <a:xfrm>
            <a:off x="5572080" y="3835440"/>
            <a:ext cx="4292640" cy="33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680" y="1619280"/>
            <a:ext cx="100807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24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eil 1- Molekulare Grundlagen</a:t>
            </a:r>
            <a:br>
              <a:rPr sz="44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04640" y="7128000"/>
            <a:ext cx="9144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40001_p_dilemmadiskussion_lehrer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ZPG Biologie 2020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Folie 5 /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216000" y="7128000"/>
            <a:ext cx="964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0" y="179280"/>
            <a:ext cx="100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Material 1 – Genetische Grundlagen der Sexualentwicklung bei </a:t>
            </a:r>
            <a:r>
              <a:rPr b="1" i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Anopheles gambia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87280" y="1409760"/>
            <a:ext cx="5905440" cy="511956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 rot="720000">
            <a:off x="8295840" y="1309680"/>
            <a:ext cx="1317600" cy="995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6119640" y="6659640"/>
            <a:ext cx="38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Abbildungen erstellt von Frank Harder – ZPG Biolog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3"/>
          <a:stretch/>
        </p:blipFill>
        <p:spPr>
          <a:xfrm rot="19740000">
            <a:off x="7074000" y="2825640"/>
            <a:ext cx="1317600" cy="995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4"/>
          <a:stretch/>
        </p:blipFill>
        <p:spPr>
          <a:xfrm rot="1860000">
            <a:off x="8078400" y="4789440"/>
            <a:ext cx="1317600" cy="993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404640" y="7128000"/>
            <a:ext cx="9144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40201_p_dilemmadiskussion_lehrer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ZPG Biologie 2020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Folie 6 /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216000" y="7128000"/>
            <a:ext cx="964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0" y="179280"/>
            <a:ext cx="100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Material 2 – Genetische Manipulation des doublesex-Gens von </a:t>
            </a:r>
            <a:r>
              <a:rPr b="1" i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Anopheles gambia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 rot="2520000">
            <a:off x="8381520" y="2552760"/>
            <a:ext cx="1317600" cy="993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 rot="19740000">
            <a:off x="7539120" y="1006560"/>
            <a:ext cx="1317600" cy="995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tretch/>
        </p:blipFill>
        <p:spPr>
          <a:xfrm rot="1860000">
            <a:off x="433080" y="5680080"/>
            <a:ext cx="1317600" cy="99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4"/>
          <a:stretch/>
        </p:blipFill>
        <p:spPr>
          <a:xfrm>
            <a:off x="287280" y="938160"/>
            <a:ext cx="6264360" cy="183060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</p:spPr>
      </p:pic>
      <p:pic>
        <p:nvPicPr>
          <p:cNvPr id="120" name="Picture 6" descr=""/>
          <p:cNvPicPr/>
          <p:nvPr/>
        </p:nvPicPr>
        <p:blipFill>
          <a:blip r:embed="rId5"/>
          <a:stretch/>
        </p:blipFill>
        <p:spPr>
          <a:xfrm rot="780000">
            <a:off x="5590800" y="3646440"/>
            <a:ext cx="3214800" cy="2703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201600" y="2884320"/>
            <a:ext cx="383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Abbildungen erstellt von Frank Harder – ZPG Biolog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08080" y="3884760"/>
            <a:ext cx="54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terial mit gestuften Hilf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NNENDIFFERENZIER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04640" y="7128000"/>
            <a:ext cx="9144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40001_p_dilemmadiskussion_lehrer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ZPG Biologie 2020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Folie 7 /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216000" y="7128000"/>
            <a:ext cx="964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179280"/>
            <a:ext cx="100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Material 3 – Grundsätzliche Funktionsweise von CRISPR-Cas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58760" y="636480"/>
            <a:ext cx="9275760" cy="4437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5446800" y="4935600"/>
            <a:ext cx="41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Abbildung erstellt von Frank Harder – ZPG Biolog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89080" y="5665680"/>
            <a:ext cx="927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thematisch gebunden →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andere CRISPR-Anwendungen einsetzb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82600" y="10638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sualisierungshilf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LIENFIGURI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04640" y="7128000"/>
            <a:ext cx="9144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40001_p_dilemmadiskussion_lehrer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ZPG Biologie 2020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Folie 8 /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216000" y="7128000"/>
            <a:ext cx="964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79280"/>
            <a:ext cx="100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  <a:ea typeface="Calibri"/>
              </a:rPr>
              <a:t>Material 4 – Anwendung von CRISPR-Cas9 und homologer Rekombin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206280" y="3343320"/>
            <a:ext cx="263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800" spc="-1" strike="noStrike">
                <a:solidFill>
                  <a:srgbClr val="7f7f7f"/>
                </a:solidFill>
                <a:latin typeface="Arial"/>
              </a:rPr>
              <a:t>Abbildung erstellt von Frank Harder – ZPG Biologi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0" y="6492960"/>
            <a:ext cx="10080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icht thematisch gebunden → für andere CRISPR-Anwendungen einsetzb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89080" y="925560"/>
            <a:ext cx="4608360" cy="2371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5472000" y="925560"/>
            <a:ext cx="4091040" cy="2395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3"/>
          <a:stretch/>
        </p:blipFill>
        <p:spPr>
          <a:xfrm>
            <a:off x="289080" y="3962520"/>
            <a:ext cx="4608360" cy="2371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4"/>
          <a:stretch/>
        </p:blipFill>
        <p:spPr>
          <a:xfrm>
            <a:off x="5364000" y="3968640"/>
            <a:ext cx="3756240" cy="23432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404640" y="7128000"/>
            <a:ext cx="9144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40201_p_dilemmadiskussion_lehrer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ZPG Biologie 2020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Folie 9 / 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216000" y="7128000"/>
            <a:ext cx="964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7410600" y="3395520"/>
            <a:ext cx="263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800" spc="-1" strike="noStrike">
                <a:solidFill>
                  <a:srgbClr val="7f7f7f"/>
                </a:solidFill>
                <a:latin typeface="Arial"/>
              </a:rPr>
              <a:t>Abbildung erstellt von Frank Harder – ZPG Biologi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233280" y="6299280"/>
            <a:ext cx="263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800" spc="-1" strike="noStrike">
                <a:solidFill>
                  <a:srgbClr val="7f7f7f"/>
                </a:solidFill>
                <a:latin typeface="Arial"/>
              </a:rPr>
              <a:t>Abbildung erstellt von Frank Harder – ZPG Biologi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5380200" y="6319800"/>
            <a:ext cx="263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800" spc="-1" strike="noStrike">
                <a:solidFill>
                  <a:srgbClr val="7f7f7f"/>
                </a:solidFill>
                <a:latin typeface="Arial"/>
              </a:rPr>
              <a:t>Abbildung erstellt von Frank Harder – ZPG Biologi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feld 14"/>
          <p:cNvSpPr/>
          <p:nvPr/>
        </p:nvSpPr>
        <p:spPr>
          <a:xfrm>
            <a:off x="2868480" y="3267000"/>
            <a:ext cx="26035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njektion einer DNA haltigen Lösung in den Vorkern eines einzelligen Mausembryos“ @dkfz.d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feld 16"/>
          <p:cNvSpPr/>
          <p:nvPr/>
        </p:nvSpPr>
        <p:spPr>
          <a:xfrm>
            <a:off x="2868480" y="3651120"/>
            <a:ext cx="375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vgl. </a:t>
            </a:r>
            <a:r>
              <a:rPr b="0" lang="de-DE" sz="800" spc="-1" strike="noStrike">
                <a:solidFill>
                  <a:srgbClr val="000081"/>
                </a:solidFill>
                <a:latin typeface="Arial"/>
                <a:ea typeface="Times New Roman"/>
              </a:rPr>
              <a:t>https://www.dkfz.de/de/transgen-service/Methoden/DNAMikroinjektion.htm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17:47:05Z</dcterms:created>
  <dc:creator>Rico Lippold</dc:creator>
  <dc:description/>
  <dc:language>en-US</dc:language>
  <cp:lastModifiedBy>Frank Harder</cp:lastModifiedBy>
  <cp:lastPrinted>2021-03-26T07:04:22Z</cp:lastPrinted>
  <dcterms:modified xsi:type="dcterms:W3CDTF">2021-03-26T07:04:30Z</dcterms:modified>
  <cp:revision>181</cp:revision>
  <dc:subject/>
  <dc:title>Genetik</dc:title>
</cp:coreProperties>
</file>