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B27-2DCD-4B50-A9FA-A00F3B35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543-500B-4AC9-984D-9400ED1C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D99-FCD7-4D76-A950-EFDD3CA5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8C6-9ACF-40EF-A28C-6E2CE8F2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16A-E922-403B-8037-CE5A6CBF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C16-1B02-446E-8CF7-4B3A9D9B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758-2D2E-4A8C-9E6F-0A53A009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2FA-084D-422A-9FB4-5F73EE91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C8F-BE94-42DD-89C8-CF633822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810-4E22-4A09-978D-6CB2E9F1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3E1-5E76-4FA7-AB39-3D16CC4F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70A-6045-4E99-9957-6C2BE666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6F5096-5995-4EFC-A415-06BF0B715A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Line 2"/>
          <p:cNvSpPr/>
          <p:nvPr/>
        </p:nvSpPr>
        <p:spPr>
          <a:xfrm>
            <a:off x="2286000" y="-135000"/>
            <a:ext cx="1440" cy="712800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Line 3"/>
          <p:cNvSpPr/>
          <p:nvPr/>
        </p:nvSpPr>
        <p:spPr>
          <a:xfrm>
            <a:off x="4572000" y="-135000"/>
            <a:ext cx="1440" cy="712800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>
            <a:off x="6858000" y="-135000"/>
            <a:ext cx="1440" cy="712800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 rot="10800000">
            <a:off x="4716360" y="2828880"/>
            <a:ext cx="205416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lutplasm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(flüssige Bestandteil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716360" y="3573360"/>
            <a:ext cx="2051280" cy="27057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zte Se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USAUFGAB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ge hier etwas Kleber auf 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lebe das buddy book in de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ohef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 rot="10800000">
            <a:off x="7019640" y="280728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Zusammensetzung des Blu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6877080" y="3573360"/>
            <a:ext cx="205092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buddy 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Bl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von: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hteck 9"/>
          <p:cNvSpPr/>
          <p:nvPr/>
        </p:nvSpPr>
        <p:spPr>
          <a:xfrm>
            <a:off x="4643280" y="2349360"/>
            <a:ext cx="1008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hteck 22"/>
          <p:cNvSpPr/>
          <p:nvPr/>
        </p:nvSpPr>
        <p:spPr>
          <a:xfrm>
            <a:off x="5724360" y="2349360"/>
            <a:ext cx="1008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Gerade Verbindung 11"/>
          <p:cNvSpPr/>
          <p:nvPr/>
        </p:nvSpPr>
        <p:spPr>
          <a:xfrm flipH="1" flipV="1">
            <a:off x="5148000" y="270792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Gerade Verbindung 13"/>
          <p:cNvSpPr/>
          <p:nvPr/>
        </p:nvSpPr>
        <p:spPr>
          <a:xfrm flipV="1">
            <a:off x="6084720" y="270792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hteck 27"/>
          <p:cNvSpPr/>
          <p:nvPr/>
        </p:nvSpPr>
        <p:spPr>
          <a:xfrm rot="10800000">
            <a:off x="4642920" y="115560"/>
            <a:ext cx="1008360" cy="20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Aufgabe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hteck 28"/>
          <p:cNvSpPr/>
          <p:nvPr/>
        </p:nvSpPr>
        <p:spPr>
          <a:xfrm rot="10800000">
            <a:off x="5724000" y="115560"/>
            <a:ext cx="1008360" cy="20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Aufgabe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1" descr=""/>
          <p:cNvPicPr/>
          <p:nvPr/>
        </p:nvPicPr>
        <p:blipFill>
          <a:blip r:embed="rId1"/>
          <a:stretch/>
        </p:blipFill>
        <p:spPr>
          <a:xfrm rot="10800000">
            <a:off x="8175600" y="549360"/>
            <a:ext cx="968400" cy="1936800"/>
          </a:xfrm>
          <a:prstGeom prst="rect">
            <a:avLst/>
          </a:prstGeom>
          <a:ln w="0">
            <a:noFill/>
          </a:ln>
        </p:spPr>
      </p:pic>
      <p:sp>
        <p:nvSpPr>
          <p:cNvPr id="56" name="Geschweifte Klammer links 14"/>
          <p:cNvSpPr/>
          <p:nvPr/>
        </p:nvSpPr>
        <p:spPr>
          <a:xfrm>
            <a:off x="8172360" y="54936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792000"/>
              <a:gd name="textAreaBottom" fmla="*/ 7866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Geschweifte Klammer links 31"/>
          <p:cNvSpPr/>
          <p:nvPr/>
        </p:nvSpPr>
        <p:spPr>
          <a:xfrm>
            <a:off x="8172360" y="1341360"/>
            <a:ext cx="216000" cy="107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079640"/>
              <a:gd name="textAreaBottom" fmla="*/ 10742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hteck 32"/>
          <p:cNvSpPr/>
          <p:nvPr/>
        </p:nvSpPr>
        <p:spPr>
          <a:xfrm rot="10800000">
            <a:off x="7020000" y="1483920"/>
            <a:ext cx="1008000" cy="7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_____ 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hteck 33"/>
          <p:cNvSpPr/>
          <p:nvPr/>
        </p:nvSpPr>
        <p:spPr>
          <a:xfrm rot="10800000">
            <a:off x="7020000" y="549360"/>
            <a:ext cx="100800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_____ 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 rot="10800000">
            <a:off x="2410920" y="2756160"/>
            <a:ext cx="205452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lutzellen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feste Bestandteil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hteck 37"/>
          <p:cNvSpPr/>
          <p:nvPr/>
        </p:nvSpPr>
        <p:spPr>
          <a:xfrm rot="10800000">
            <a:off x="2700360" y="1915920"/>
            <a:ext cx="151128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_______ Blutzell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= Erythrocyt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hteck 38"/>
          <p:cNvSpPr/>
          <p:nvPr/>
        </p:nvSpPr>
        <p:spPr>
          <a:xfrm rot="10800000">
            <a:off x="2700360" y="1125360"/>
            <a:ext cx="151128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_______ Blutzell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= 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hteck 39"/>
          <p:cNvSpPr/>
          <p:nvPr/>
        </p:nvSpPr>
        <p:spPr>
          <a:xfrm rot="10800000">
            <a:off x="2700360" y="332640"/>
            <a:ext cx="15112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Blut- 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= 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 rot="10800000">
            <a:off x="179280" y="2628360"/>
            <a:ext cx="205416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ote Blutkörperch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(________________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hteck 41"/>
          <p:cNvSpPr/>
          <p:nvPr/>
        </p:nvSpPr>
        <p:spPr>
          <a:xfrm rot="10800000">
            <a:off x="250920" y="1989000"/>
            <a:ext cx="180000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Anzahl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_________ / mm</a:t>
            </a:r>
            <a:r>
              <a:rPr b="0" lang="de-DE" sz="1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hteck 42"/>
          <p:cNvSpPr/>
          <p:nvPr/>
        </p:nvSpPr>
        <p:spPr>
          <a:xfrm rot="10800000">
            <a:off x="250920" y="404280"/>
            <a:ext cx="1800000" cy="144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Aufgabe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08000" y="3573360"/>
            <a:ext cx="205416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Weiße Blutkörperch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(________________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hteck 44"/>
          <p:cNvSpPr/>
          <p:nvPr/>
        </p:nvSpPr>
        <p:spPr>
          <a:xfrm>
            <a:off x="250920" y="4365720"/>
            <a:ext cx="180000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Anzahl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_________ / mm</a:t>
            </a:r>
            <a:r>
              <a:rPr b="0" lang="de-DE" sz="1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hteck 45"/>
          <p:cNvSpPr/>
          <p:nvPr/>
        </p:nvSpPr>
        <p:spPr>
          <a:xfrm>
            <a:off x="250920" y="5013360"/>
            <a:ext cx="1800000" cy="144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Aufgabe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411280" y="3573360"/>
            <a:ext cx="20545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lutplättc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(________________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hteck 48"/>
          <p:cNvSpPr/>
          <p:nvPr/>
        </p:nvSpPr>
        <p:spPr>
          <a:xfrm>
            <a:off x="2556000" y="4365720"/>
            <a:ext cx="180000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Anzahl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_________ / mm</a:t>
            </a:r>
            <a:r>
              <a:rPr b="0" lang="de-DE" sz="1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hteck 49"/>
          <p:cNvSpPr/>
          <p:nvPr/>
        </p:nvSpPr>
        <p:spPr>
          <a:xfrm>
            <a:off x="2556000" y="5013360"/>
            <a:ext cx="1800000" cy="144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Aufgabe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ry</dc:creator>
  <dc:description/>
  <dc:language>en-US</dc:language>
  <cp:lastModifiedBy>Janette Jober</cp:lastModifiedBy>
  <cp:lastPrinted>2015-12-07T21:43:29Z</cp:lastPrinted>
  <dcterms:modified xsi:type="dcterms:W3CDTF">2016-05-20T08:55:28Z</dcterms:modified>
  <cp:revision>8</cp:revision>
  <dc:subject/>
  <dc:title>Folie 1</dc:title>
</cp:coreProperties>
</file>