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2320" y="773280"/>
            <a:ext cx="4952880" cy="37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21400"/>
            <a:ext cx="498456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EE1B-4B0F-4C37-A615-6D171037A4D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D785-0CBA-444C-B390-524D53D9C19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22320" y="773280"/>
            <a:ext cx="4952880" cy="37144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06480" y="4721400"/>
            <a:ext cx="4984560" cy="449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E3F2-B69B-4672-A750-D2A2C058FE7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22320" y="773280"/>
            <a:ext cx="4952880" cy="37144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06480" y="4721400"/>
            <a:ext cx="4984560" cy="449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B9E1-EA41-4621-AF1A-7462B35DEFA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22320" y="773280"/>
            <a:ext cx="4952880" cy="37144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6480" y="4721400"/>
            <a:ext cx="49845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114-567A-41DF-9E02-293F9EF6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052F-A25A-435C-AF0F-7E4FC62E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4242-FF23-4DA9-9658-BC717DFA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99D8-72A8-4C02-A4C3-27012900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2A73-5FC0-4882-927C-7FD09822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DC32-F1B0-4D03-95FC-87239CC7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0B97-B23B-41D7-9A6C-C1325E9B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10F9-D45E-4A75-AF73-1CBEAD57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202-E197-42D5-8DEA-0CFD96FD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1F7-1F5C-4D80-BD85-A94ACD0A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8F30-0F5A-4B6F-B9DE-3D1DDC0A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7BA5-1945-4169-8306-1971771E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3FAB-E427-4910-B98D-B873C279A4F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5003640" y="1773360"/>
            <a:ext cx="2081520" cy="14302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 rot="3922200">
            <a:off x="2253960" y="49208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3851280" y="3284640"/>
            <a:ext cx="2081160" cy="143028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7"/>
          <p:cNvSpPr/>
          <p:nvPr/>
        </p:nvSpPr>
        <p:spPr>
          <a:xfrm rot="10800000">
            <a:off x="5011560" y="3284280"/>
            <a:ext cx="2081520" cy="1431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1219320" y="380880"/>
            <a:ext cx="64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ösung des Dreieck-Dom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32"/>
          <p:cNvSpPr/>
          <p:nvPr/>
        </p:nvSpPr>
        <p:spPr>
          <a:xfrm>
            <a:off x="1692360" y="3063960"/>
            <a:ext cx="2081160" cy="143172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36"/>
          <p:cNvSpPr/>
          <p:nvPr/>
        </p:nvSpPr>
        <p:spPr>
          <a:xfrm>
            <a:off x="1547640" y="3284640"/>
            <a:ext cx="2081520" cy="143028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7"/>
          <p:cNvSpPr/>
          <p:nvPr/>
        </p:nvSpPr>
        <p:spPr>
          <a:xfrm rot="10800000">
            <a:off x="3850920" y="1773000"/>
            <a:ext cx="2081160" cy="14302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38"/>
          <p:cNvSpPr/>
          <p:nvPr/>
        </p:nvSpPr>
        <p:spPr>
          <a:xfrm rot="10800000">
            <a:off x="6156000" y="1773000"/>
            <a:ext cx="2081160" cy="14302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7"/>
          <p:cNvSpPr/>
          <p:nvPr/>
        </p:nvSpPr>
        <p:spPr>
          <a:xfrm rot="10800000">
            <a:off x="2700000" y="3290400"/>
            <a:ext cx="2081160" cy="142884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2700360" y="1773360"/>
            <a:ext cx="2081160" cy="143028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feld 30"/>
          <p:cNvSpPr/>
          <p:nvPr/>
        </p:nvSpPr>
        <p:spPr>
          <a:xfrm>
            <a:off x="3638880" y="24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feld 31"/>
          <p:cNvSpPr/>
          <p:nvPr/>
        </p:nvSpPr>
        <p:spPr>
          <a:xfrm>
            <a:off x="4790880" y="2103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feld 32"/>
          <p:cNvSpPr/>
          <p:nvPr/>
        </p:nvSpPr>
        <p:spPr>
          <a:xfrm>
            <a:off x="5943240" y="24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feld 33"/>
          <p:cNvSpPr/>
          <p:nvPr/>
        </p:nvSpPr>
        <p:spPr>
          <a:xfrm>
            <a:off x="7095600" y="2031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feld 34"/>
          <p:cNvSpPr/>
          <p:nvPr/>
        </p:nvSpPr>
        <p:spPr>
          <a:xfrm>
            <a:off x="2414880" y="39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feld 35"/>
          <p:cNvSpPr/>
          <p:nvPr/>
        </p:nvSpPr>
        <p:spPr>
          <a:xfrm>
            <a:off x="3638880" y="35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feld 36"/>
          <p:cNvSpPr/>
          <p:nvPr/>
        </p:nvSpPr>
        <p:spPr>
          <a:xfrm>
            <a:off x="4862880" y="400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feld 37"/>
          <p:cNvSpPr/>
          <p:nvPr/>
        </p:nvSpPr>
        <p:spPr>
          <a:xfrm>
            <a:off x="6019560" y="35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2"/>
          <p:cNvGrpSpPr/>
          <p:nvPr/>
        </p:nvGrpSpPr>
        <p:grpSpPr>
          <a:xfrm>
            <a:off x="685800" y="3505320"/>
            <a:ext cx="3598920" cy="3236760"/>
            <a:chOff x="685800" y="3505320"/>
            <a:chExt cx="3598920" cy="3236760"/>
          </a:xfrm>
        </p:grpSpPr>
        <p:sp>
          <p:nvSpPr>
            <p:cNvPr id="68" name="AutoShape 3"/>
            <p:cNvSpPr/>
            <p:nvPr/>
          </p:nvSpPr>
          <p:spPr>
            <a:xfrm>
              <a:off x="685800" y="3505320"/>
              <a:ext cx="3598920" cy="3095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4"/>
            <p:cNvSpPr/>
            <p:nvPr/>
          </p:nvSpPr>
          <p:spPr>
            <a:xfrm rot="14380200">
              <a:off x="2158920" y="4859280"/>
              <a:ext cx="25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upil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5"/>
            <p:cNvSpPr/>
            <p:nvPr/>
          </p:nvSpPr>
          <p:spPr>
            <a:xfrm>
              <a:off x="1219320" y="6381720"/>
              <a:ext cx="25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Ziliarmusk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6"/>
            <p:cNvSpPr/>
            <p:nvPr/>
          </p:nvSpPr>
          <p:spPr>
            <a:xfrm rot="7172400">
              <a:off x="519840" y="4965480"/>
              <a:ext cx="251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7"/>
          <p:cNvGrpSpPr/>
          <p:nvPr/>
        </p:nvGrpSpPr>
        <p:grpSpPr>
          <a:xfrm>
            <a:off x="4572000" y="3502080"/>
            <a:ext cx="3598920" cy="3240000"/>
            <a:chOff x="4572000" y="3502080"/>
            <a:chExt cx="3598920" cy="3240000"/>
          </a:xfrm>
        </p:grpSpPr>
        <p:sp>
          <p:nvSpPr>
            <p:cNvPr id="73" name="AutoShape 8"/>
            <p:cNvSpPr/>
            <p:nvPr/>
          </p:nvSpPr>
          <p:spPr>
            <a:xfrm>
              <a:off x="4572000" y="3502080"/>
              <a:ext cx="3598920" cy="3095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9"/>
            <p:cNvSpPr/>
            <p:nvPr/>
          </p:nvSpPr>
          <p:spPr>
            <a:xfrm rot="14380200">
              <a:off x="5905440" y="4860720"/>
              <a:ext cx="25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derha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10"/>
            <p:cNvSpPr/>
            <p:nvPr/>
          </p:nvSpPr>
          <p:spPr>
            <a:xfrm>
              <a:off x="5105520" y="6381720"/>
              <a:ext cx="25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linder Fle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1"/>
            <p:cNvSpPr/>
            <p:nvPr/>
          </p:nvSpPr>
          <p:spPr>
            <a:xfrm rot="7172400">
              <a:off x="4475880" y="4962240"/>
              <a:ext cx="251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Erregungsleitung zum Gehir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12"/>
          <p:cNvGrpSpPr/>
          <p:nvPr/>
        </p:nvGrpSpPr>
        <p:grpSpPr>
          <a:xfrm>
            <a:off x="2629080" y="228600"/>
            <a:ext cx="3598560" cy="3200400"/>
            <a:chOff x="2629080" y="228600"/>
            <a:chExt cx="3598560" cy="3200400"/>
          </a:xfrm>
        </p:grpSpPr>
        <p:sp>
          <p:nvSpPr>
            <p:cNvPr id="78" name="AutoShape 13"/>
            <p:cNvSpPr/>
            <p:nvPr/>
          </p:nvSpPr>
          <p:spPr>
            <a:xfrm>
              <a:off x="2629080" y="228600"/>
              <a:ext cx="3598560" cy="3095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4"/>
            <p:cNvSpPr/>
            <p:nvPr/>
          </p:nvSpPr>
          <p:spPr>
            <a:xfrm rot="14380200">
              <a:off x="3997800" y="1591920"/>
              <a:ext cx="251964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Regenbogenhaut (Iri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5"/>
            <p:cNvSpPr/>
            <p:nvPr/>
          </p:nvSpPr>
          <p:spPr>
            <a:xfrm>
              <a:off x="3162240" y="3068640"/>
              <a:ext cx="2518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ichtbrech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6"/>
            <p:cNvSpPr/>
            <p:nvPr/>
          </p:nvSpPr>
          <p:spPr>
            <a:xfrm rot="7172400">
              <a:off x="2463120" y="1689120"/>
              <a:ext cx="251964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22"/>
          <p:cNvGrpSpPr/>
          <p:nvPr/>
        </p:nvGrpSpPr>
        <p:grpSpPr>
          <a:xfrm>
            <a:off x="1748160" y="1906200"/>
            <a:ext cx="4479120" cy="4662360"/>
            <a:chOff x="1748160" y="1906200"/>
            <a:chExt cx="4479120" cy="4662360"/>
          </a:xfrm>
        </p:grpSpPr>
        <p:sp>
          <p:nvSpPr>
            <p:cNvPr id="83" name="AutoShape 23"/>
            <p:cNvSpPr/>
            <p:nvPr/>
          </p:nvSpPr>
          <p:spPr>
            <a:xfrm rot="17990400">
              <a:off x="2186640" y="2689560"/>
              <a:ext cx="3598920" cy="3095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24"/>
            <p:cNvSpPr/>
            <p:nvPr/>
          </p:nvSpPr>
          <p:spPr>
            <a:xfrm rot="10770600">
              <a:off x="3047760" y="3507480"/>
              <a:ext cx="25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i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25"/>
            <p:cNvSpPr/>
            <p:nvPr/>
          </p:nvSpPr>
          <p:spPr>
            <a:xfrm rot="17990400">
              <a:off x="4184640" y="4802040"/>
              <a:ext cx="25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ehner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26"/>
            <p:cNvSpPr/>
            <p:nvPr/>
          </p:nvSpPr>
          <p:spPr>
            <a:xfrm rot="3562800">
              <a:off x="2307600" y="4714560"/>
              <a:ext cx="25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Runde Öffnung in der Ir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Rectangle 4"/>
          <p:cNvSpPr/>
          <p:nvPr/>
        </p:nvSpPr>
        <p:spPr>
          <a:xfrm rot="3600000">
            <a:off x="2311200" y="5011560"/>
            <a:ext cx="25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1"/>
          <p:cNvSpPr/>
          <p:nvPr/>
        </p:nvSpPr>
        <p:spPr>
          <a:xfrm rot="7172400">
            <a:off x="2433240" y="1769400"/>
            <a:ext cx="25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laskör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1"/>
          <p:cNvSpPr/>
          <p:nvPr/>
        </p:nvSpPr>
        <p:spPr>
          <a:xfrm rot="7172400">
            <a:off x="590040" y="4793760"/>
            <a:ext cx="25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imp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feld 24"/>
          <p:cNvSpPr/>
          <p:nvPr/>
        </p:nvSpPr>
        <p:spPr>
          <a:xfrm>
            <a:off x="4215240" y="198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feld 25"/>
          <p:cNvSpPr/>
          <p:nvPr/>
        </p:nvSpPr>
        <p:spPr>
          <a:xfrm>
            <a:off x="2271240" y="5157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feld 26"/>
          <p:cNvSpPr/>
          <p:nvPr/>
        </p:nvSpPr>
        <p:spPr>
          <a:xfrm rot="3600000">
            <a:off x="4216320" y="422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feld 27"/>
          <p:cNvSpPr/>
          <p:nvPr/>
        </p:nvSpPr>
        <p:spPr>
          <a:xfrm rot="14400000">
            <a:off x="6085800" y="5086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2"/>
          <p:cNvGrpSpPr/>
          <p:nvPr/>
        </p:nvGrpSpPr>
        <p:grpSpPr>
          <a:xfrm>
            <a:off x="3048120" y="152280"/>
            <a:ext cx="3598920" cy="3095640"/>
            <a:chOff x="3048120" y="152280"/>
            <a:chExt cx="3598920" cy="3095640"/>
          </a:xfrm>
        </p:grpSpPr>
        <p:sp>
          <p:nvSpPr>
            <p:cNvPr id="95" name="AutoShape 13"/>
            <p:cNvSpPr/>
            <p:nvPr/>
          </p:nvSpPr>
          <p:spPr>
            <a:xfrm>
              <a:off x="3048120" y="152280"/>
              <a:ext cx="3598920" cy="3095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14"/>
            <p:cNvSpPr/>
            <p:nvPr/>
          </p:nvSpPr>
          <p:spPr>
            <a:xfrm rot="14380200">
              <a:off x="4254480" y="1536480"/>
              <a:ext cx="25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5"/>
            <p:cNvSpPr/>
            <p:nvPr/>
          </p:nvSpPr>
          <p:spPr>
            <a:xfrm>
              <a:off x="3635280" y="2808360"/>
              <a:ext cx="25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ugenmuskel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6"/>
            <p:cNvSpPr/>
            <p:nvPr/>
          </p:nvSpPr>
          <p:spPr>
            <a:xfrm rot="7172400">
              <a:off x="3009240" y="1612440"/>
              <a:ext cx="25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700" spc="-1" strike="noStrike">
                  <a:solidFill>
                    <a:srgbClr val="000000"/>
                  </a:solidFill>
                  <a:latin typeface="Arial"/>
                </a:rPr>
                <a:t>Reizaufnahme 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700" spc="-1" strike="noStrike">
                  <a:solidFill>
                    <a:srgbClr val="000000"/>
                  </a:solidFill>
                  <a:latin typeface="Arial"/>
                </a:rPr>
                <a:t>Signalwandlun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18"/>
          <p:cNvGrpSpPr/>
          <p:nvPr/>
        </p:nvGrpSpPr>
        <p:grpSpPr>
          <a:xfrm>
            <a:off x="2131920" y="1808280"/>
            <a:ext cx="4507200" cy="4680000"/>
            <a:chOff x="2131920" y="1808280"/>
            <a:chExt cx="4507200" cy="4680000"/>
          </a:xfrm>
        </p:grpSpPr>
        <p:sp>
          <p:nvSpPr>
            <p:cNvPr id="100" name="AutoShape 19"/>
            <p:cNvSpPr/>
            <p:nvPr/>
          </p:nvSpPr>
          <p:spPr>
            <a:xfrm rot="17990400">
              <a:off x="2585880" y="2582280"/>
              <a:ext cx="3598920" cy="3131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 rot="10770600">
              <a:off x="3678120" y="3439440"/>
              <a:ext cx="25484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ugenbeweg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21"/>
            <p:cNvSpPr/>
            <p:nvPr/>
          </p:nvSpPr>
          <p:spPr>
            <a:xfrm rot="17990400">
              <a:off x="4328640" y="4702680"/>
              <a:ext cx="251964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22"/>
            <p:cNvSpPr/>
            <p:nvPr/>
          </p:nvSpPr>
          <p:spPr>
            <a:xfrm rot="3562800">
              <a:off x="2742480" y="4669560"/>
              <a:ext cx="251928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sorgung mit Nährstoff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Line 23"/>
          <p:cNvSpPr/>
          <p:nvPr/>
        </p:nvSpPr>
        <p:spPr>
          <a:xfrm flipV="1">
            <a:off x="2819520" y="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4"/>
          <p:cNvSpPr/>
          <p:nvPr/>
        </p:nvSpPr>
        <p:spPr>
          <a:xfrm rot="3630600">
            <a:off x="991800" y="145872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5"/>
          <p:cNvSpPr/>
          <p:nvPr/>
        </p:nvSpPr>
        <p:spPr>
          <a:xfrm rot="14400000">
            <a:off x="4947840" y="16916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rnha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26"/>
          <p:cNvGrpSpPr/>
          <p:nvPr/>
        </p:nvGrpSpPr>
        <p:grpSpPr>
          <a:xfrm>
            <a:off x="212400" y="-1432800"/>
            <a:ext cx="4506480" cy="4679640"/>
            <a:chOff x="212400" y="-1432800"/>
            <a:chExt cx="4506480" cy="4679640"/>
          </a:xfrm>
        </p:grpSpPr>
        <p:sp>
          <p:nvSpPr>
            <p:cNvPr id="108" name="AutoShape 27"/>
            <p:cNvSpPr/>
            <p:nvPr/>
          </p:nvSpPr>
          <p:spPr>
            <a:xfrm rot="17990400">
              <a:off x="666000" y="-658080"/>
              <a:ext cx="3598920" cy="31309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8"/>
            <p:cNvSpPr/>
            <p:nvPr/>
          </p:nvSpPr>
          <p:spPr>
            <a:xfrm rot="10770600">
              <a:off x="1551600" y="177480"/>
              <a:ext cx="2548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9"/>
            <p:cNvSpPr/>
            <p:nvPr/>
          </p:nvSpPr>
          <p:spPr>
            <a:xfrm rot="17990400">
              <a:off x="2455560" y="1415160"/>
              <a:ext cx="251964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Netzha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30"/>
            <p:cNvSpPr/>
            <p:nvPr/>
          </p:nvSpPr>
          <p:spPr>
            <a:xfrm rot="3562800">
              <a:off x="931680" y="1382040"/>
              <a:ext cx="251928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Regulation des Lichteinfal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31"/>
          <p:cNvGrpSpPr/>
          <p:nvPr/>
        </p:nvGrpSpPr>
        <p:grpSpPr>
          <a:xfrm>
            <a:off x="4070160" y="-1455120"/>
            <a:ext cx="4506120" cy="4679640"/>
            <a:chOff x="4070160" y="-1455120"/>
            <a:chExt cx="4506120" cy="4679640"/>
          </a:xfrm>
        </p:grpSpPr>
        <p:sp>
          <p:nvSpPr>
            <p:cNvPr id="113" name="AutoShape 32"/>
            <p:cNvSpPr/>
            <p:nvPr/>
          </p:nvSpPr>
          <p:spPr>
            <a:xfrm rot="17990400">
              <a:off x="4523760" y="-680400"/>
              <a:ext cx="3598920" cy="31305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33"/>
            <p:cNvSpPr/>
            <p:nvPr/>
          </p:nvSpPr>
          <p:spPr>
            <a:xfrm rot="10770600">
              <a:off x="5452200" y="155160"/>
              <a:ext cx="2547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4"/>
            <p:cNvSpPr/>
            <p:nvPr/>
          </p:nvSpPr>
          <p:spPr>
            <a:xfrm rot="17990400">
              <a:off x="6309360" y="1392840"/>
              <a:ext cx="251964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35"/>
            <p:cNvSpPr/>
            <p:nvPr/>
          </p:nvSpPr>
          <p:spPr>
            <a:xfrm rot="3562800">
              <a:off x="4704120" y="1432800"/>
              <a:ext cx="251928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chutz und Lichtbrech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Rectangle 29"/>
          <p:cNvSpPr/>
          <p:nvPr/>
        </p:nvSpPr>
        <p:spPr>
          <a:xfrm rot="17990400">
            <a:off x="4399560" y="4655520"/>
            <a:ext cx="251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genbra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1"/>
          <p:cNvSpPr/>
          <p:nvPr/>
        </p:nvSpPr>
        <p:spPr>
          <a:xfrm rot="17990400">
            <a:off x="6256800" y="1332720"/>
            <a:ext cx="251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 rot="17990400">
            <a:off x="6329520" y="1190520"/>
            <a:ext cx="25192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gen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0"/>
          <p:cNvSpPr/>
          <p:nvPr/>
        </p:nvSpPr>
        <p:spPr>
          <a:xfrm rot="10770600">
            <a:off x="1693440" y="199800"/>
            <a:ext cx="2548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indeha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20"/>
          <p:cNvSpPr/>
          <p:nvPr/>
        </p:nvSpPr>
        <p:spPr>
          <a:xfrm rot="10770600">
            <a:off x="5622480" y="-15840"/>
            <a:ext cx="2548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ederha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feld 29"/>
          <p:cNvSpPr/>
          <p:nvPr/>
        </p:nvSpPr>
        <p:spPr>
          <a:xfrm>
            <a:off x="471924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feld 30"/>
          <p:cNvSpPr/>
          <p:nvPr/>
        </p:nvSpPr>
        <p:spPr>
          <a:xfrm rot="3600000">
            <a:off x="6630480" y="731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feld 31"/>
          <p:cNvSpPr/>
          <p:nvPr/>
        </p:nvSpPr>
        <p:spPr>
          <a:xfrm rot="3600000">
            <a:off x="2669760" y="804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feld 32"/>
          <p:cNvSpPr/>
          <p:nvPr/>
        </p:nvSpPr>
        <p:spPr>
          <a:xfrm rot="18000000">
            <a:off x="4645800" y="4077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11:33:22Z</dcterms:created>
  <dc:creator>x</dc:creator>
  <dc:description/>
  <dc:language>en-US</dc:language>
  <cp:lastModifiedBy>claudia dreher</cp:lastModifiedBy>
  <cp:lastPrinted>2016-07-26T10:27:57Z</cp:lastPrinted>
  <dcterms:modified xsi:type="dcterms:W3CDTF">2016-10-09T07:36:12Z</dcterms:modified>
  <cp:revision>68</cp:revision>
  <dc:subject/>
  <dc:title>PowerPoint-Präsentation</dc:title>
</cp:coreProperties>
</file>