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6AB-53D6-4C65-A39A-B4DB72602F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de Fotos: Hunor Ka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55A-51ED-4B3A-A6BF-27DB8C5F73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de Fotos: Hunor Ka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44C-1742-4652-97AF-8BE2C4B027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146-15FA-4CAE-8618-D1681DBA2B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CA6-D236-43E0-91E7-7EA4A9F4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E87-C037-4DBE-899E-268507A6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298-1A29-4766-8709-DF1AC38A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420-D40C-49AE-B4F4-58232A0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F3A-2F72-41F5-B0CD-50376D9F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5FD-5FD9-4736-A196-C8B3E78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6D6-187A-412D-AA39-DE03D3E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370-4074-4FA3-9CC2-6EE3BE76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442-D3F3-4941-93B6-4E1CBED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753-38AC-435C-9178-30375FA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4A1-DF4B-4133-B3B5-B3979110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5F4-D1BB-4D06-B0D0-EF4C68C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76C-50B4-4051-9976-375EB1DD453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ld 13" descr="815C98C2-BFA1-4CE9-9A38-889274DD8C15 1.png"/>
          <p:cNvPicPr/>
          <p:nvPr/>
        </p:nvPicPr>
        <p:blipFill>
          <a:blip r:embed="rId1"/>
          <a:stretch/>
        </p:blipFill>
        <p:spPr>
          <a:xfrm>
            <a:off x="272880" y="0"/>
            <a:ext cx="9371160" cy="65246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30"/>
          <p:cNvSpPr/>
          <p:nvPr/>
        </p:nvSpPr>
        <p:spPr>
          <a:xfrm>
            <a:off x="200160" y="115920"/>
            <a:ext cx="51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Hier oben im Felsen ist eine versteinerte Muschel!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30"/>
          <p:cNvSpPr/>
          <p:nvPr/>
        </p:nvSpPr>
        <p:spPr>
          <a:xfrm>
            <a:off x="57240" y="1197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ann muss der Felsen vor langer Zeit unter Wasser gewesen sein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30"/>
          <p:cNvSpPr/>
          <p:nvPr/>
        </p:nvSpPr>
        <p:spPr>
          <a:xfrm>
            <a:off x="2073240" y="213372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as ist nur ein Stein, der zufällig aussieht wie eine Muschel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30"/>
          <p:cNvSpPr/>
          <p:nvPr/>
        </p:nvSpPr>
        <p:spPr>
          <a:xfrm>
            <a:off x="5097600" y="4365720"/>
            <a:ext cx="215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ie heutigen Muscheln im Meer haben auch etwas damit zu tun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0"/>
          <p:cNvSpPr/>
          <p:nvPr/>
        </p:nvSpPr>
        <p:spPr>
          <a:xfrm>
            <a:off x="7184880" y="155736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ie Muscheln, die ich kenne, sehen aber etwas anders aus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erade Verbindung 3"/>
          <p:cNvSpPr/>
          <p:nvPr/>
        </p:nvSpPr>
        <p:spPr>
          <a:xfrm>
            <a:off x="920880" y="2565360"/>
            <a:ext cx="28872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12"/>
          <p:cNvSpPr/>
          <p:nvPr/>
        </p:nvSpPr>
        <p:spPr>
          <a:xfrm flipH="1">
            <a:off x="3224160" y="3429000"/>
            <a:ext cx="2160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Gerade Verbindung 14"/>
          <p:cNvSpPr/>
          <p:nvPr/>
        </p:nvSpPr>
        <p:spPr>
          <a:xfrm flipH="1" flipV="1">
            <a:off x="4881600" y="4005000"/>
            <a:ext cx="50328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Gerade Verbindung 16"/>
          <p:cNvSpPr/>
          <p:nvPr/>
        </p:nvSpPr>
        <p:spPr>
          <a:xfrm flipH="1" flipV="1">
            <a:off x="7977240" y="2637000"/>
            <a:ext cx="28728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hteck 1"/>
          <p:cNvSpPr/>
          <p:nvPr/>
        </p:nvSpPr>
        <p:spPr>
          <a:xfrm rot="5400000">
            <a:off x="9199800" y="5418720"/>
            <a:ext cx="117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101_p_beleg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1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10101_p_beleg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Seite 2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47680" y="169920"/>
            <a:ext cx="93852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012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m Biosaal sind jeweils zwei Präparate ausgestellt – zusammen mit einem Foto eines Foss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arbeite an jeder Station folgende Aufgab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ild 1" descr="typische Station.jpg"/>
          <p:cNvPicPr/>
          <p:nvPr/>
        </p:nvPicPr>
        <p:blipFill>
          <a:blip r:embed="rId1"/>
          <a:stretch/>
        </p:blipFill>
        <p:spPr>
          <a:xfrm>
            <a:off x="4016520" y="1700280"/>
            <a:ext cx="5655960" cy="4560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72880" y="1773360"/>
            <a:ext cx="37436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0120" bIns="4068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rdne eines der  Präparate dem Fossilfoto passend z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gründe deine Zuordnung in Stichwor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reuze alle korrekten Sätze an, die du durch deine Beobachtungen lernen könn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 rot="5400000">
            <a:off x="8892720" y="5425560"/>
            <a:ext cx="96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hteck 13"/>
          <p:cNvSpPr/>
          <p:nvPr/>
        </p:nvSpPr>
        <p:spPr>
          <a:xfrm>
            <a:off x="0" y="-27000"/>
            <a:ext cx="9906120" cy="6885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eck 1"/>
          <p:cNvSpPr/>
          <p:nvPr/>
        </p:nvSpPr>
        <p:spPr>
          <a:xfrm rot="5400000">
            <a:off x="6571080" y="3131640"/>
            <a:ext cx="642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Von Kunsthistorisches Museum Wien, Bilddatenbank., Gemeinfrei, https://commons.wikimedia.org/w/index.php?curid=52213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ild 1" descr="Bernhard_Strigel_003b.jpg"/>
          <p:cNvPicPr/>
          <p:nvPr/>
        </p:nvPicPr>
        <p:blipFill>
          <a:blip r:embed="rId1"/>
          <a:stretch/>
        </p:blipFill>
        <p:spPr>
          <a:xfrm>
            <a:off x="3008160" y="-1539720"/>
            <a:ext cx="6626520" cy="7972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9"/>
          <p:cNvSpPr/>
          <p:nvPr/>
        </p:nvSpPr>
        <p:spPr>
          <a:xfrm>
            <a:off x="168120" y="6534000"/>
            <a:ext cx="9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10101_p_belege.ppt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                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fbfbf"/>
                </a:solidFill>
                <a:latin typeface="Calibri"/>
                <a:ea typeface="ヒラギノ角ゴ Pro W3"/>
              </a:rPr>
              <a:t>                           Seite 3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47680" y="169920"/>
            <a:ext cx="276048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012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enn Lebewesen ähnlich sind, folgern wir gewöhnlich daraus, dass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5:31:49Z</dcterms:created>
  <dc:creator>Huni</dc:creator>
  <dc:description/>
  <dc:language>en-US</dc:language>
  <cp:lastModifiedBy>Hunor Karsa</cp:lastModifiedBy>
  <cp:lastPrinted>2014-03-16T09:38:59Z</cp:lastPrinted>
  <dcterms:modified xsi:type="dcterms:W3CDTF">2018-10-11T08:47:49Z</dcterms:modified>
  <cp:revision>258</cp:revision>
  <dc:subject/>
  <dc:title>Folie 1</dc:title>
</cp:coreProperties>
</file>