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D12-FFCE-4DE7-9BBC-E0BB90AB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78E-ACA4-41DE-AF75-394B3DA5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CB97-5EA9-4CB1-AC02-620F378A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FFF4-5888-48AF-8F39-1CCC902B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806-2656-4F91-8E51-789CBDD5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A71-1D4B-4C1F-AD59-C916DD8A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BFF-33A0-403D-B7EF-59642F57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859-087B-4C53-BB29-BD5CBADA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7BC-FA81-473F-A38E-0FA6C1ED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397-45C8-457F-BA17-5ABFB972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E8E-D284-4FBD-8F91-57956EBD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28C-C3E3-40B9-A1FB-D294B628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BFF2-F88B-491F-B584-904E3C7A3B69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9"/>
          <p:cNvSpPr/>
          <p:nvPr/>
        </p:nvSpPr>
        <p:spPr>
          <a:xfrm>
            <a:off x="168120" y="6534000"/>
            <a:ext cx="962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10104_ta_textkarte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Seite 1 von 2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30320" y="58680"/>
            <a:ext cx="959796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  <a:ea typeface="Calibri"/>
              </a:rPr>
              <a:t>Ähnlichkeit</a:t>
            </a:r>
            <a:endParaRPr b="0" lang="en-US" sz="13800" spc="-1" strike="noStrike">
              <a:solidFill>
                <a:srgbClr val="000000"/>
              </a:solidFill>
              <a:latin typeface="Hilde"/>
            </a:endParaRPr>
          </a:p>
          <a:p>
            <a:pPr algn="ctr">
              <a:lnSpc>
                <a:spcPct val="100000"/>
              </a:lnSpc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  <a:ea typeface="Calibri"/>
              </a:rPr>
              <a:t>Veränderung</a:t>
            </a:r>
            <a:endParaRPr b="0" lang="en-US" sz="138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130320" y="58680"/>
            <a:ext cx="959796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  <a:ea typeface="Calibri"/>
              </a:rPr>
              <a:t>Verwandtschaft</a:t>
            </a:r>
            <a:endParaRPr b="0" lang="en-US" sz="11000" spc="-1" strike="noStrike">
              <a:solidFill>
                <a:srgbClr val="000000"/>
              </a:solidFill>
              <a:latin typeface="Hilde"/>
            </a:endParaRPr>
          </a:p>
          <a:p>
            <a:pPr algn="ctr"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  <a:ea typeface="Calibri"/>
              </a:rPr>
              <a:t>gemeinsamer Vorfahr</a:t>
            </a:r>
            <a:endParaRPr b="0" lang="en-US" sz="1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4" name="Text Box 59"/>
          <p:cNvSpPr/>
          <p:nvPr/>
        </p:nvSpPr>
        <p:spPr>
          <a:xfrm>
            <a:off x="168120" y="6534000"/>
            <a:ext cx="962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10104_ta_textkarte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Seite 2 von 2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4:09:47Z</dcterms:created>
  <dc:creator>Huni</dc:creator>
  <dc:description/>
  <dc:language>en-US</dc:language>
  <cp:lastModifiedBy>Hunor Karsa</cp:lastModifiedBy>
  <cp:lastPrinted>2017-11-29T15:35:11Z</cp:lastPrinted>
  <dcterms:modified xsi:type="dcterms:W3CDTF">2018-06-10T13:16:05Z</dcterms:modified>
  <cp:revision>176</cp:revision>
  <dc:subject/>
  <dc:title>Folie 1</dc:title>
</cp:coreProperties>
</file>