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1F0FD-E80C-4370-85E3-D0A02F7E0F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r (von vielen), der sich dazu viele Gedanken gemacht hat und versucht hat das zu erklären, war Charles Da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m schönsten kann man sein Erklärungsmodell mitten im Atlantik nachvollzie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ngländer Thomas Vernon Wollaston war um 1850 auf Madeira zur Erholu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5C4E2-E734-4467-90BB-F1BA7E48C4F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uch das ist eine Kreuzotter: diese ist schwar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B4906-E1A2-4822-845B-F373711D2AC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 Schwarzwald kommen die braunen Kreuzottern eher im Tal vor, die schwarzen eher auf den Hochfläch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e kam es daz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E9259-D0D7-43A8-9DA0-261FE8A786B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iert anhand eurer gelben Markierungen aus, ob ihr eine Erklärung finden kön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C96A8-17C0-46BE-8186-B6DA69F2B17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 Hilfe braucht, kann nach vorne spicken, hier gibt es ein paar Id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F2928-EEE3-4F5A-AA74-F8D62C2FEE0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ar auch Naturforscher und merk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7571F-8F8F-48DE-A05A-7BD525EC3D7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den 550 Käferarten auf Madeira haben 200 so unvollkommene Flügel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43B58-8B28-486C-B605-ABF06935D7A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s sie nicht fliegen könn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982F2-9D2B-4491-B974-C5ED5BCEDF8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dere Käfer hingegen haben deutlich stärker entwickelte Flügel, als ihre Verwandten auf dem Festland. Wie kam es daz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B002E-1E38-42AE-88A6-A148283FD86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an geht davon aus, dass Käfer mit normal langen Flügeln die Insel besiedel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FB7B0-829F-42A2-B859-79D1F21405C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e kam es daz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0D09E-6C56-4FCC-8904-A8831C5FFBF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56838-6A99-4A98-B5C8-0596DBAEB4F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 erkennt diese Schl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Kreuzo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eschlitzte Pupi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aun mit Zickzack-Muster auf dem Rüc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39D70-1F6E-4CF2-A14C-DEE6F25F49A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B3E-C812-4016-A191-6B6CF30D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637-7045-47E8-B519-A8F800E2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681BE-A0BF-4143-9FCE-D2861CD4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44C6B-9D4D-46F6-9D7E-9785D53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205C-796A-436A-A286-BEB6E2D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77E5-43BF-4D2E-8566-0B645E0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CBBB-85FD-4964-83CD-9739C28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640C9-48D1-474A-BCFB-547D294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43F92-1B1B-4763-8763-FF5C0C98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3B763-9232-423C-9FA5-76872FA0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61A26-E5B9-4656-82DC-9639DB17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08CE-ACCC-4449-8A67-FE85706F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B4C-CA7D-48FE-80BD-A95CB133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D4CE0-DE79-49F2-87C8-A9453D8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97BF-4659-4C07-B784-DD9A527B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5E180-EA82-4B11-AE41-D0B01C6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B682-2ACC-40A3-8CCE-C7EBB96F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2F48C-1539-4325-9ADB-3737C99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A9E2-48C8-40A2-A73D-C158A5E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F40B8-9CDD-4EA2-A3B4-5CCE306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BE0C-8319-49A0-BC10-24BCE28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F6C2C-60CE-4BEB-BB26-B29AB92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7B725-74BA-4EB8-BF3C-B83CCDB0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FD7-A5F0-4A4E-93E9-D9E0891F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D3F47-8A46-42DB-9E46-0A707814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A355-6129-49DC-A3D8-9A75E395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10D43-DB8F-4836-96D1-1C4CC59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7792E-8AD0-46A2-8D5A-215218CB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9CA5-C52A-4014-8441-DC15D04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594E-D3BA-4970-9C8C-7355BEB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5047-264F-49DD-8CF8-665462D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190C9-B0FC-42F2-99A3-FBA7388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F83EF-46F3-4FA9-9DBB-96693C1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B759-9D9B-4E3B-B463-CEC86EF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AC1-2D70-4E5E-A219-5877D1DC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A92F-8357-4AA8-AF29-101D4F5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F034-9438-4A68-B5F3-0E1E265F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739E-B2F3-42CE-9E05-E0072963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C1081-A6FA-41AD-B694-B8624BF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77553-0BED-42EF-92BB-6B413626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31CCF-0AA5-4F84-AFB6-E1A8A35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62290-0214-4FD1-92A5-CA49819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8B523-9462-4853-A87D-77DF877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3F1E-A041-4F9D-B6B2-3C688F3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3A319-C7DD-45C4-9651-C2F68307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5854-73A8-470C-878D-E574F6E2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CCD06-E658-4848-9912-287ABBD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9D0E8-FFEC-4C9F-862A-BA622487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305F9-64DE-482D-918F-B0969BA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EDC36-FE64-4EBB-9B17-D93E48ED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603B8-E31E-4CFB-A291-1857A722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1DDDA-9F85-46F9-AD6D-B05F99B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97FC8-1FBC-4D26-8DA7-F45CEAE4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65B24-C055-42D1-ADFB-E3F9AAE9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940FC-CA40-434A-A4BE-F7057538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81D1F-6C29-4C6F-A282-FE191F8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DD4-B4C4-4EC5-8BFC-44448D0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43906-90CF-4490-BD3E-9BA840C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ABDFC-1195-4666-BEB4-12E30CA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55424-A831-41E4-9CDD-89A7B5C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B5380-80FA-4BBF-A48C-AE501D3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A8235-F272-460D-86CB-967E559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78813-ED64-49CF-ADEC-D10968AC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58718-7A07-4CC4-956E-EAA19A1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C9877-61BB-4D28-A57E-DC52B41A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4BFC0-CB4A-4396-975E-1C09A03E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CCFCF-7886-49F1-AF53-F328E06F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9398-7006-4967-B9DC-ADEA8F9B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220EC-7109-4301-BB98-5FC241C1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45632-5914-456F-BF89-E2CA889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C9F0E-628C-4FA9-8675-F194DFF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330B3-9110-478E-A0B8-0982196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C7842-3ADE-4026-96E1-887D510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5981A-8D45-48CE-8F66-7056EE5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5AF02-69CF-46B5-89DA-CC9BBDB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C2468-075C-4F95-A8B2-6EECB82A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37756-8C57-4B1B-A583-7B43BE1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8041-F38D-4803-B261-6E9152A4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514-6BF7-4875-8F60-1F26136A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338C-8199-4673-92D9-D0FFBA1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E98-C4FF-4026-8EAA-4CDC4A7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1324-A449-4386-86B1-9BFAD7D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523D-9DFE-4E9C-A73D-47115F82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E34-D9CB-4C2D-8167-7469F3F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AEFC-8E94-452D-8A5B-27493DE0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D82E-46BC-4AA6-9A48-D9F6B25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FC3A-4778-42F6-8369-CF00273A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F5C6-979D-4328-AEF5-12F7BA9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98F1-4F8F-4756-8E0F-1092317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F9FE-233C-42A0-8667-D53913C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2C6C-AA96-40D4-86D4-1711863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72C-A818-4B8F-B2A1-D407E8FB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8114-A63B-48C1-8BAE-41C9C0E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8357-892A-495A-A149-341EF2B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6B28-809E-4534-9855-B6AE25A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F590-35E4-4CD1-B50C-6593207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4AF9-F652-4512-924F-774ED1A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A783-D866-4157-8AA1-3FECD4FD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E62E-CE1D-4AF6-B759-48DACB44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EB0C-3301-4543-AD76-A77E4263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C94E-E405-4292-88B4-6432DAB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CEA5-D201-47BA-BD24-0788A6D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5D8-2B51-463E-8FCB-2C056E3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F235-E814-4968-8CF1-C8E4D58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F9CD-23B3-484E-B4BE-F71A2FDA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6839-70C1-4C26-BE32-88CA903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29FB-C94B-4C17-8859-A71D0D2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FC13-7B12-42BA-943E-E175608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BCBC-A2C8-4838-B8B5-80426C82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0491-49CD-406E-89F1-993BC49C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BC85-76BB-49B7-9CF5-2D9F4B09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7326-14BE-4216-A67A-8C9625F0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F8DA-E409-4452-A582-C7AB645C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392-99BE-432B-9964-96983D05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0451-79B6-4DDE-8598-8D5187D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9597-825E-4623-9B5B-7593286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54A4-8963-4EEB-A6DC-761C1595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264D-130D-4A30-A8C9-F328056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282D-AC53-4C61-915C-3EE6CC4A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5DFAD-87AC-4EDB-AFBD-8D27DD1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42AF-5F2A-4177-90FF-A9FA600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B503-4D68-44B8-BC95-F5A5B054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C6CA-636B-4091-8B7E-F90856D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98E0-5BF4-4720-83D3-7A14242C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E66-6781-4A9B-8EB2-054189E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BCED-F5DD-431B-AB70-3F7F92CC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E4C6-0E09-423B-9589-4C4168EE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0B47-70EB-4367-B258-E8CA736F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4387-DC13-45D9-83B1-61A4BFFA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DC28-3B50-4BCD-B388-C950A8C3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4E8C-4BE4-4E8B-B224-0CC51390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FB42-9562-462A-B628-24ACDE9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5A08-E3CB-4FA1-B4C7-1D19DD11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1EE3-3CB0-44F5-891D-E0FBBC3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C4F5-BC4A-473B-B1E4-9F0AB5A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514-8A28-461F-B54C-1F1CB49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8DBD-056A-470B-AD3E-D308DDE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B078-57B7-4D50-9C57-2495DBAA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E9FC-7821-4028-933D-9421E2AE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B43B-CCC5-48FC-85F8-8B5D8948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B67F-B5C6-433D-AF50-9003C22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9294-417C-4724-95A7-0F25DAEB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2DDE-EC51-4755-9259-17ED03B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014C-351A-430A-9A3D-73B17D87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CA4FB-968C-409C-9B47-12D80EC2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C07C9-0920-4970-B770-2204FD1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2F8-2027-47CC-815C-9356994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EF75-D646-4D9E-B417-DFFCB3E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DEF36-252E-46FE-969E-B6730DC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4826-0A4F-44C2-9BEB-161B2DB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A281-AA3E-439E-A7C8-377D1BB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BED93-3FD2-44A5-A5B9-A3C527A6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78364-53E5-4BD3-9CC3-FD37BEDE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B40B-2D28-4FAB-93B0-2C59124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1A98-23A3-462D-8F7E-155FB37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B2FA0-3E50-4C49-AA12-3331D62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C0A6-252E-44AB-BCA0-69039A1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F7A-1306-4CE2-8D83-049EA2A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BC18-663E-4561-9F1E-B6997DCD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1842-2097-484D-BB9E-F2840F6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992F-095F-4D85-B65F-075D46F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D9DB-2D80-4707-9787-D223CAE6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73F1-12BE-445A-A569-0DC748A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F5F0-5D50-4A93-964A-535B4AF7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4F77-B403-40F6-BE12-15E63F77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D95C2-CE79-45D7-8FC3-9F1C73F8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12D71-2BAC-44B3-AACF-428EAD2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FE1C1-8565-436F-A837-160E420A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75F82-6EDD-4684-9605-1B2CF0E81A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874CE-21A1-4D1A-B7D6-41B8490E2E3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A7904-27B3-4FC6-B83E-472305D5378F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4DE75-E361-4304-8F84-A57A12DA70DB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3829E-7941-4435-ACFB-53D740F3129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0769B-A032-48F5-8517-91C70620D8C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E2A58-079E-461B-AB53-405AA4F97F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67D2-3D5D-4CD8-861F-21AC0F58CF01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8CC89-D011-4E75-AFA0-5A05234389AD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2BF9E-34A0-4734-AF5A-0D4ACE1088C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E8CFC-3BFA-4C06-B9F2-61DB6701597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EE610-DB58-484F-9CA0-20982503C26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9AF7C-4EFF-4BD1-9300-3231D524C723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79017-0720-4C36-9870-C81D4CB2CB0A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creativecommons.org/publicdomain/zero/1.0/deed.d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creativecommons.org/publicdomain/zero/1.0/deed.d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jpeg"/><Relationship Id="rId3" Type="http://schemas.openxmlformats.org/officeDocument/2006/relationships/hyperlink" Target="https://creativecommons.org/publicdomain/zero/1.0/deed.de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Bild 20" descr="Madeira 2.png"/>
          <p:cNvPicPr/>
          <p:nvPr/>
        </p:nvPicPr>
        <p:blipFill>
          <a:blip r:embed="rId1"/>
          <a:stretch/>
        </p:blipFill>
        <p:spPr>
          <a:xfrm rot="151800">
            <a:off x="520560" y="1168200"/>
            <a:ext cx="8850600" cy="3684600"/>
          </a:xfrm>
          <a:prstGeom prst="rect">
            <a:avLst/>
          </a:prstGeom>
          <a:ln w="0">
            <a:noFill/>
          </a:ln>
        </p:spPr>
      </p:pic>
      <p:pic>
        <p:nvPicPr>
          <p:cNvPr id="582" name="Bild 2" descr="Madeira 1.png"/>
          <p:cNvPicPr/>
          <p:nvPr/>
        </p:nvPicPr>
        <p:blipFill>
          <a:blip r:embed="rId2"/>
          <a:stretch/>
        </p:blipFill>
        <p:spPr>
          <a:xfrm>
            <a:off x="304920" y="1185840"/>
            <a:ext cx="9144000" cy="45115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59"/>
          <p:cNvSpPr/>
          <p:nvPr/>
        </p:nvSpPr>
        <p:spPr>
          <a:xfrm rot="5400000">
            <a:off x="8214480" y="479232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0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Bild 1" descr="hell-notter-2104041_1920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390384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9"/>
          <p:cNvSpPr/>
          <p:nvPr/>
        </p:nvSpPr>
        <p:spPr>
          <a:xfrm>
            <a:off x="4259160" y="3868560"/>
            <a:ext cx="486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verändert nach: winterseitler, </a:t>
            </a:r>
            <a:r>
              <a:rPr b="0" lang="nb-NO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C0 1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, https://pixabay.com/de/höllenotter-kreuzotter-schwarz-natur-2104041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1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uppierung 13"/>
          <p:cNvGrpSpPr/>
          <p:nvPr/>
        </p:nvGrpSpPr>
        <p:grpSpPr>
          <a:xfrm>
            <a:off x="-68400" y="50760"/>
            <a:ext cx="9212760" cy="6655680"/>
            <a:chOff x="-68400" y="50760"/>
            <a:chExt cx="9212760" cy="6655680"/>
          </a:xfrm>
        </p:grpSpPr>
        <p:sp>
          <p:nvSpPr>
            <p:cNvPr id="641" name="Freihandform 1"/>
            <p:cNvSpPr/>
            <p:nvPr/>
          </p:nvSpPr>
          <p:spPr>
            <a:xfrm>
              <a:off x="-360" y="1447920"/>
              <a:ext cx="9144720" cy="3827520"/>
            </a:xfrm>
            <a:custGeom>
              <a:avLst/>
              <a:gdLst/>
              <a:ahLst/>
              <a:rect l="l" t="t" r="r" b="b"/>
              <a:pathLst>
                <a:path w="7002042" h="3225823">
                  <a:moveTo>
                    <a:pt x="0" y="3039556"/>
                  </a:moveTo>
                  <a:cubicBezTo>
                    <a:pt x="14111" y="3042378"/>
                    <a:pt x="28139" y="3050389"/>
                    <a:pt x="42334" y="3048023"/>
                  </a:cubicBezTo>
                  <a:cubicBezTo>
                    <a:pt x="145147" y="3030888"/>
                    <a:pt x="66534" y="3010935"/>
                    <a:pt x="127000" y="3031089"/>
                  </a:cubicBezTo>
                  <a:cubicBezTo>
                    <a:pt x="140452" y="3025708"/>
                    <a:pt x="184974" y="3005689"/>
                    <a:pt x="203200" y="3005689"/>
                  </a:cubicBezTo>
                  <a:cubicBezTo>
                    <a:pt x="234373" y="3005689"/>
                    <a:pt x="265289" y="3011334"/>
                    <a:pt x="296334" y="3014156"/>
                  </a:cubicBezTo>
                  <a:cubicBezTo>
                    <a:pt x="323970" y="3027974"/>
                    <a:pt x="349616" y="3042792"/>
                    <a:pt x="381000" y="3048023"/>
                  </a:cubicBezTo>
                  <a:cubicBezTo>
                    <a:pt x="491403" y="3066423"/>
                    <a:pt x="450028" y="3054098"/>
                    <a:pt x="508000" y="3073423"/>
                  </a:cubicBezTo>
                  <a:cubicBezTo>
                    <a:pt x="522111" y="3087534"/>
                    <a:pt x="534369" y="3103782"/>
                    <a:pt x="550334" y="3115756"/>
                  </a:cubicBezTo>
                  <a:cubicBezTo>
                    <a:pt x="556291" y="3120223"/>
                    <a:pt x="606819" y="3132071"/>
                    <a:pt x="609600" y="3132689"/>
                  </a:cubicBezTo>
                  <a:cubicBezTo>
                    <a:pt x="623648" y="3135811"/>
                    <a:pt x="637973" y="3137666"/>
                    <a:pt x="651934" y="3141156"/>
                  </a:cubicBezTo>
                  <a:cubicBezTo>
                    <a:pt x="660592" y="3143321"/>
                    <a:pt x="668753" y="3147171"/>
                    <a:pt x="677334" y="3149623"/>
                  </a:cubicBezTo>
                  <a:cubicBezTo>
                    <a:pt x="688522" y="3152820"/>
                    <a:pt x="699911" y="3155267"/>
                    <a:pt x="711200" y="3158089"/>
                  </a:cubicBezTo>
                  <a:cubicBezTo>
                    <a:pt x="725311" y="3166556"/>
                    <a:pt x="739841" y="3174361"/>
                    <a:pt x="753534" y="3183489"/>
                  </a:cubicBezTo>
                  <a:cubicBezTo>
                    <a:pt x="774653" y="3197568"/>
                    <a:pt x="786591" y="3214973"/>
                    <a:pt x="812800" y="3217356"/>
                  </a:cubicBezTo>
                  <a:cubicBezTo>
                    <a:pt x="866276" y="3222218"/>
                    <a:pt x="920045" y="3223001"/>
                    <a:pt x="973667" y="3225823"/>
                  </a:cubicBezTo>
                  <a:cubicBezTo>
                    <a:pt x="996245" y="3223001"/>
                    <a:pt x="1019606" y="3223894"/>
                    <a:pt x="1041400" y="3217356"/>
                  </a:cubicBezTo>
                  <a:cubicBezTo>
                    <a:pt x="1049046" y="3215062"/>
                    <a:pt x="1051692" y="3204851"/>
                    <a:pt x="1058334" y="3200423"/>
                  </a:cubicBezTo>
                  <a:cubicBezTo>
                    <a:pt x="1068835" y="3193422"/>
                    <a:pt x="1080599" y="3188461"/>
                    <a:pt x="1092200" y="3183489"/>
                  </a:cubicBezTo>
                  <a:cubicBezTo>
                    <a:pt x="1100403" y="3179973"/>
                    <a:pt x="1109052" y="3177587"/>
                    <a:pt x="1117600" y="3175023"/>
                  </a:cubicBezTo>
                  <a:cubicBezTo>
                    <a:pt x="1137280" y="3169119"/>
                    <a:pt x="1156777" y="3162394"/>
                    <a:pt x="1176867" y="3158089"/>
                  </a:cubicBezTo>
                  <a:cubicBezTo>
                    <a:pt x="1241979" y="3144136"/>
                    <a:pt x="1358088" y="3143525"/>
                    <a:pt x="1405467" y="3141156"/>
                  </a:cubicBezTo>
                  <a:cubicBezTo>
                    <a:pt x="1413934" y="3138334"/>
                    <a:pt x="1422286" y="3135141"/>
                    <a:pt x="1430867" y="3132689"/>
                  </a:cubicBezTo>
                  <a:cubicBezTo>
                    <a:pt x="1505286" y="3111427"/>
                    <a:pt x="1429234" y="3136057"/>
                    <a:pt x="1490134" y="3115756"/>
                  </a:cubicBezTo>
                  <a:cubicBezTo>
                    <a:pt x="1518356" y="3118578"/>
                    <a:pt x="1546923" y="3118996"/>
                    <a:pt x="1574800" y="3124223"/>
                  </a:cubicBezTo>
                  <a:cubicBezTo>
                    <a:pt x="1592344" y="3127512"/>
                    <a:pt x="1607771" y="3140307"/>
                    <a:pt x="1625600" y="3141156"/>
                  </a:cubicBezTo>
                  <a:lnTo>
                    <a:pt x="1803400" y="3149623"/>
                  </a:lnTo>
                  <a:cubicBezTo>
                    <a:pt x="1817511" y="3152445"/>
                    <a:pt x="1831773" y="3154599"/>
                    <a:pt x="1845734" y="3158089"/>
                  </a:cubicBezTo>
                  <a:cubicBezTo>
                    <a:pt x="1854392" y="3160253"/>
                    <a:pt x="1862209" y="3166556"/>
                    <a:pt x="1871134" y="3166556"/>
                  </a:cubicBezTo>
                  <a:cubicBezTo>
                    <a:pt x="1916377" y="3166556"/>
                    <a:pt x="1961426" y="3160599"/>
                    <a:pt x="2006600" y="3158089"/>
                  </a:cubicBezTo>
                  <a:lnTo>
                    <a:pt x="2175934" y="3149623"/>
                  </a:lnTo>
                  <a:cubicBezTo>
                    <a:pt x="2184401" y="3143978"/>
                    <a:pt x="2193193" y="3138794"/>
                    <a:pt x="2201334" y="3132689"/>
                  </a:cubicBezTo>
                  <a:cubicBezTo>
                    <a:pt x="2215791" y="3121846"/>
                    <a:pt x="2228343" y="3108400"/>
                    <a:pt x="2243667" y="3098823"/>
                  </a:cubicBezTo>
                  <a:cubicBezTo>
                    <a:pt x="2251235" y="3094093"/>
                    <a:pt x="2260600" y="3093178"/>
                    <a:pt x="2269067" y="3090356"/>
                  </a:cubicBezTo>
                  <a:cubicBezTo>
                    <a:pt x="2283178" y="3079067"/>
                    <a:pt x="2296943" y="3067332"/>
                    <a:pt x="2311400" y="3056489"/>
                  </a:cubicBezTo>
                  <a:cubicBezTo>
                    <a:pt x="2330632" y="3042065"/>
                    <a:pt x="2353496" y="3031327"/>
                    <a:pt x="2370667" y="3014156"/>
                  </a:cubicBezTo>
                  <a:cubicBezTo>
                    <a:pt x="2391881" y="2992942"/>
                    <a:pt x="2411934" y="2970423"/>
                    <a:pt x="2429934" y="2946423"/>
                  </a:cubicBezTo>
                  <a:cubicBezTo>
                    <a:pt x="2437507" y="2936326"/>
                    <a:pt x="2439118" y="2922519"/>
                    <a:pt x="2446867" y="2912556"/>
                  </a:cubicBezTo>
                  <a:cubicBezTo>
                    <a:pt x="2459119" y="2896804"/>
                    <a:pt x="2476059" y="2885241"/>
                    <a:pt x="2489200" y="2870223"/>
                  </a:cubicBezTo>
                  <a:cubicBezTo>
                    <a:pt x="2515614" y="2840036"/>
                    <a:pt x="2532025" y="2799339"/>
                    <a:pt x="2565400" y="2777089"/>
                  </a:cubicBezTo>
                  <a:cubicBezTo>
                    <a:pt x="2573867" y="2771445"/>
                    <a:pt x="2583605" y="2767351"/>
                    <a:pt x="2590800" y="2760156"/>
                  </a:cubicBezTo>
                  <a:cubicBezTo>
                    <a:pt x="2614831" y="2736126"/>
                    <a:pt x="2635483" y="2708928"/>
                    <a:pt x="2658534" y="2683956"/>
                  </a:cubicBezTo>
                  <a:cubicBezTo>
                    <a:pt x="2669363" y="2672225"/>
                    <a:pt x="2681111" y="2661378"/>
                    <a:pt x="2692400" y="2650089"/>
                  </a:cubicBezTo>
                  <a:cubicBezTo>
                    <a:pt x="2712877" y="2588660"/>
                    <a:pt x="2698247" y="2622502"/>
                    <a:pt x="2777067" y="2531556"/>
                  </a:cubicBezTo>
                  <a:cubicBezTo>
                    <a:pt x="2787523" y="2519491"/>
                    <a:pt x="2801132" y="2510291"/>
                    <a:pt x="2810934" y="2497689"/>
                  </a:cubicBezTo>
                  <a:cubicBezTo>
                    <a:pt x="2821037" y="2484699"/>
                    <a:pt x="2827206" y="2469048"/>
                    <a:pt x="2836334" y="2455356"/>
                  </a:cubicBezTo>
                  <a:cubicBezTo>
                    <a:pt x="2844161" y="2443615"/>
                    <a:pt x="2852798" y="2432410"/>
                    <a:pt x="2861734" y="2421489"/>
                  </a:cubicBezTo>
                  <a:cubicBezTo>
                    <a:pt x="2888348" y="2388961"/>
                    <a:pt x="2915020" y="2362727"/>
                    <a:pt x="2937934" y="2328356"/>
                  </a:cubicBezTo>
                  <a:cubicBezTo>
                    <a:pt x="2947062" y="2314664"/>
                    <a:pt x="2953769" y="2299414"/>
                    <a:pt x="2963334" y="2286023"/>
                  </a:cubicBezTo>
                  <a:cubicBezTo>
                    <a:pt x="2967974" y="2279527"/>
                    <a:pt x="2975689" y="2275629"/>
                    <a:pt x="2980267" y="2269089"/>
                  </a:cubicBezTo>
                  <a:cubicBezTo>
                    <a:pt x="3045451" y="2175968"/>
                    <a:pt x="2998190" y="2225764"/>
                    <a:pt x="3039534" y="2184423"/>
                  </a:cubicBezTo>
                  <a:cubicBezTo>
                    <a:pt x="3050823" y="2161845"/>
                    <a:pt x="3060275" y="2138251"/>
                    <a:pt x="3073400" y="2116689"/>
                  </a:cubicBezTo>
                  <a:cubicBezTo>
                    <a:pt x="3099854" y="2073229"/>
                    <a:pt x="3141977" y="2037956"/>
                    <a:pt x="3158067" y="1989689"/>
                  </a:cubicBezTo>
                  <a:cubicBezTo>
                    <a:pt x="3171738" y="1948677"/>
                    <a:pt x="3161942" y="1971942"/>
                    <a:pt x="3191934" y="1921956"/>
                  </a:cubicBezTo>
                  <a:cubicBezTo>
                    <a:pt x="3200948" y="1885898"/>
                    <a:pt x="3207297" y="1855048"/>
                    <a:pt x="3225800" y="1820356"/>
                  </a:cubicBezTo>
                  <a:cubicBezTo>
                    <a:pt x="3325832" y="1632799"/>
                    <a:pt x="3223018" y="1859789"/>
                    <a:pt x="3293534" y="1718756"/>
                  </a:cubicBezTo>
                  <a:cubicBezTo>
                    <a:pt x="3363318" y="1579187"/>
                    <a:pt x="3276796" y="1734118"/>
                    <a:pt x="3344334" y="1608689"/>
                  </a:cubicBezTo>
                  <a:cubicBezTo>
                    <a:pt x="3355121" y="1588655"/>
                    <a:pt x="3367413" y="1569457"/>
                    <a:pt x="3378200" y="1549423"/>
                  </a:cubicBezTo>
                  <a:cubicBezTo>
                    <a:pt x="3387176" y="1532754"/>
                    <a:pt x="3394534" y="1515243"/>
                    <a:pt x="3403600" y="1498623"/>
                  </a:cubicBezTo>
                  <a:cubicBezTo>
                    <a:pt x="3411480" y="1484176"/>
                    <a:pt x="3421256" y="1470809"/>
                    <a:pt x="3429000" y="1456289"/>
                  </a:cubicBezTo>
                  <a:cubicBezTo>
                    <a:pt x="3550113" y="1229205"/>
                    <a:pt x="3424944" y="1462971"/>
                    <a:pt x="3488267" y="1329289"/>
                  </a:cubicBezTo>
                  <a:cubicBezTo>
                    <a:pt x="3507178" y="1289367"/>
                    <a:pt x="3527778" y="1250267"/>
                    <a:pt x="3547534" y="1210756"/>
                  </a:cubicBezTo>
                  <a:cubicBezTo>
                    <a:pt x="3553178" y="1199467"/>
                    <a:pt x="3560476" y="1188863"/>
                    <a:pt x="3564467" y="1176889"/>
                  </a:cubicBezTo>
                  <a:cubicBezTo>
                    <a:pt x="3570111" y="1159956"/>
                    <a:pt x="3573418" y="1142054"/>
                    <a:pt x="3581400" y="1126089"/>
                  </a:cubicBezTo>
                  <a:cubicBezTo>
                    <a:pt x="3593307" y="1102275"/>
                    <a:pt x="3610235" y="1081305"/>
                    <a:pt x="3623734" y="1058356"/>
                  </a:cubicBezTo>
                  <a:cubicBezTo>
                    <a:pt x="3638466" y="1033311"/>
                    <a:pt x="3652291" y="1007739"/>
                    <a:pt x="3666067" y="982156"/>
                  </a:cubicBezTo>
                  <a:cubicBezTo>
                    <a:pt x="3672051" y="971043"/>
                    <a:pt x="3676506" y="959112"/>
                    <a:pt x="3683000" y="948289"/>
                  </a:cubicBezTo>
                  <a:cubicBezTo>
                    <a:pt x="3718862" y="888518"/>
                    <a:pt x="3758484" y="831009"/>
                    <a:pt x="3793067" y="770489"/>
                  </a:cubicBezTo>
                  <a:cubicBezTo>
                    <a:pt x="3804356" y="750734"/>
                    <a:pt x="3813983" y="729931"/>
                    <a:pt x="3826934" y="711223"/>
                  </a:cubicBezTo>
                  <a:cubicBezTo>
                    <a:pt x="3839481" y="693100"/>
                    <a:pt x="3856042" y="678057"/>
                    <a:pt x="3869267" y="660423"/>
                  </a:cubicBezTo>
                  <a:cubicBezTo>
                    <a:pt x="3889937" y="632863"/>
                    <a:pt x="3910039" y="604820"/>
                    <a:pt x="3928534" y="575756"/>
                  </a:cubicBezTo>
                  <a:cubicBezTo>
                    <a:pt x="3948289" y="544712"/>
                    <a:pt x="3961781" y="508642"/>
                    <a:pt x="3987800" y="482623"/>
                  </a:cubicBezTo>
                  <a:lnTo>
                    <a:pt x="4055534" y="414889"/>
                  </a:lnTo>
                  <a:cubicBezTo>
                    <a:pt x="4095067" y="375356"/>
                    <a:pt x="4065075" y="402026"/>
                    <a:pt x="4106334" y="372556"/>
                  </a:cubicBezTo>
                  <a:cubicBezTo>
                    <a:pt x="4117817" y="364354"/>
                    <a:pt x="4127305" y="352887"/>
                    <a:pt x="4140200" y="347156"/>
                  </a:cubicBezTo>
                  <a:cubicBezTo>
                    <a:pt x="4153350" y="341311"/>
                    <a:pt x="4168486" y="341811"/>
                    <a:pt x="4182534" y="338689"/>
                  </a:cubicBezTo>
                  <a:cubicBezTo>
                    <a:pt x="4193893" y="336165"/>
                    <a:pt x="4205111" y="333045"/>
                    <a:pt x="4216400" y="330223"/>
                  </a:cubicBezTo>
                  <a:cubicBezTo>
                    <a:pt x="4224867" y="333045"/>
                    <a:pt x="4233088" y="336753"/>
                    <a:pt x="4241800" y="338689"/>
                  </a:cubicBezTo>
                  <a:cubicBezTo>
                    <a:pt x="4258558" y="342413"/>
                    <a:pt x="4276526" y="341128"/>
                    <a:pt x="4292600" y="347156"/>
                  </a:cubicBezTo>
                  <a:cubicBezTo>
                    <a:pt x="4300074" y="349959"/>
                    <a:pt x="4301961" y="361565"/>
                    <a:pt x="4309534" y="364089"/>
                  </a:cubicBezTo>
                  <a:cubicBezTo>
                    <a:pt x="4336838" y="373190"/>
                    <a:pt x="4394200" y="381023"/>
                    <a:pt x="4394200" y="381023"/>
                  </a:cubicBezTo>
                  <a:cubicBezTo>
                    <a:pt x="4457157" y="428240"/>
                    <a:pt x="4404842" y="398267"/>
                    <a:pt x="4521200" y="414889"/>
                  </a:cubicBezTo>
                  <a:cubicBezTo>
                    <a:pt x="4530035" y="416151"/>
                    <a:pt x="4538019" y="420904"/>
                    <a:pt x="4546600" y="423356"/>
                  </a:cubicBezTo>
                  <a:cubicBezTo>
                    <a:pt x="4557789" y="426553"/>
                    <a:pt x="4569178" y="429001"/>
                    <a:pt x="4580467" y="431823"/>
                  </a:cubicBezTo>
                  <a:cubicBezTo>
                    <a:pt x="4644311" y="410541"/>
                    <a:pt x="4565615" y="439249"/>
                    <a:pt x="4631267" y="406423"/>
                  </a:cubicBezTo>
                  <a:cubicBezTo>
                    <a:pt x="4639249" y="402432"/>
                    <a:pt x="4648685" y="401947"/>
                    <a:pt x="4656667" y="397956"/>
                  </a:cubicBezTo>
                  <a:cubicBezTo>
                    <a:pt x="4665768" y="393405"/>
                    <a:pt x="4672966" y="385574"/>
                    <a:pt x="4682067" y="381023"/>
                  </a:cubicBezTo>
                  <a:cubicBezTo>
                    <a:pt x="4690049" y="377032"/>
                    <a:pt x="4699485" y="376547"/>
                    <a:pt x="4707467" y="372556"/>
                  </a:cubicBezTo>
                  <a:cubicBezTo>
                    <a:pt x="4716568" y="368005"/>
                    <a:pt x="4723514" y="359631"/>
                    <a:pt x="4732867" y="355623"/>
                  </a:cubicBezTo>
                  <a:cubicBezTo>
                    <a:pt x="4743563" y="351039"/>
                    <a:pt x="4755545" y="350353"/>
                    <a:pt x="4766734" y="347156"/>
                  </a:cubicBezTo>
                  <a:cubicBezTo>
                    <a:pt x="4825842" y="330267"/>
                    <a:pt x="4750259" y="344671"/>
                    <a:pt x="4851400" y="330223"/>
                  </a:cubicBezTo>
                  <a:cubicBezTo>
                    <a:pt x="4871899" y="323390"/>
                    <a:pt x="4942353" y="299087"/>
                    <a:pt x="4961467" y="296356"/>
                  </a:cubicBezTo>
                  <a:cubicBezTo>
                    <a:pt x="5000681" y="290754"/>
                    <a:pt x="5040489" y="290711"/>
                    <a:pt x="5080000" y="287889"/>
                  </a:cubicBezTo>
                  <a:cubicBezTo>
                    <a:pt x="5119723" y="272000"/>
                    <a:pt x="5137038" y="263405"/>
                    <a:pt x="5181600" y="254023"/>
                  </a:cubicBezTo>
                  <a:cubicBezTo>
                    <a:pt x="5215197" y="246950"/>
                    <a:pt x="5250187" y="246521"/>
                    <a:pt x="5283200" y="237089"/>
                  </a:cubicBezTo>
                  <a:lnTo>
                    <a:pt x="5342467" y="220156"/>
                  </a:lnTo>
                  <a:cubicBezTo>
                    <a:pt x="5364954" y="214160"/>
                    <a:pt x="5387748" y="209346"/>
                    <a:pt x="5410200" y="203223"/>
                  </a:cubicBezTo>
                  <a:cubicBezTo>
                    <a:pt x="5418810" y="200875"/>
                    <a:pt x="5426849" y="196506"/>
                    <a:pt x="5435600" y="194756"/>
                  </a:cubicBezTo>
                  <a:cubicBezTo>
                    <a:pt x="5455169" y="190842"/>
                    <a:pt x="5475111" y="189111"/>
                    <a:pt x="5494867" y="186289"/>
                  </a:cubicBezTo>
                  <a:cubicBezTo>
                    <a:pt x="5503334" y="183467"/>
                    <a:pt x="5511686" y="180275"/>
                    <a:pt x="5520267" y="177823"/>
                  </a:cubicBezTo>
                  <a:cubicBezTo>
                    <a:pt x="5548171" y="169851"/>
                    <a:pt x="5567363" y="166710"/>
                    <a:pt x="5596467" y="160889"/>
                  </a:cubicBezTo>
                  <a:cubicBezTo>
                    <a:pt x="5711182" y="165301"/>
                    <a:pt x="5877199" y="167537"/>
                    <a:pt x="5994400" y="186289"/>
                  </a:cubicBezTo>
                  <a:cubicBezTo>
                    <a:pt x="6006863" y="188283"/>
                    <a:pt x="6016449" y="198791"/>
                    <a:pt x="6028267" y="203223"/>
                  </a:cubicBezTo>
                  <a:cubicBezTo>
                    <a:pt x="6061744" y="215777"/>
                    <a:pt x="6118575" y="217333"/>
                    <a:pt x="6146800" y="220156"/>
                  </a:cubicBezTo>
                  <a:cubicBezTo>
                    <a:pt x="6155267" y="217334"/>
                    <a:pt x="6163275" y="211689"/>
                    <a:pt x="6172200" y="211689"/>
                  </a:cubicBezTo>
                  <a:cubicBezTo>
                    <a:pt x="6218800" y="211689"/>
                    <a:pt x="6213474" y="219892"/>
                    <a:pt x="6248400" y="228623"/>
                  </a:cubicBezTo>
                  <a:cubicBezTo>
                    <a:pt x="6262361" y="232113"/>
                    <a:pt x="6276623" y="234267"/>
                    <a:pt x="6290734" y="237089"/>
                  </a:cubicBezTo>
                  <a:cubicBezTo>
                    <a:pt x="6330245" y="222978"/>
                    <a:pt x="6368926" y="206282"/>
                    <a:pt x="6409267" y="194756"/>
                  </a:cubicBezTo>
                  <a:cubicBezTo>
                    <a:pt x="6428455" y="189274"/>
                    <a:pt x="6448900" y="189859"/>
                    <a:pt x="6468534" y="186289"/>
                  </a:cubicBezTo>
                  <a:cubicBezTo>
                    <a:pt x="6494962" y="181484"/>
                    <a:pt x="6582472" y="153801"/>
                    <a:pt x="6587067" y="152423"/>
                  </a:cubicBezTo>
                  <a:cubicBezTo>
                    <a:pt x="6592711" y="146778"/>
                    <a:pt x="6597155" y="139596"/>
                    <a:pt x="6604000" y="135489"/>
                  </a:cubicBezTo>
                  <a:cubicBezTo>
                    <a:pt x="6611653" y="130897"/>
                    <a:pt x="6621114" y="130337"/>
                    <a:pt x="6629400" y="127023"/>
                  </a:cubicBezTo>
                  <a:cubicBezTo>
                    <a:pt x="6649356" y="119041"/>
                    <a:pt x="6668276" y="108420"/>
                    <a:pt x="6688667" y="101623"/>
                  </a:cubicBezTo>
                  <a:cubicBezTo>
                    <a:pt x="6736955" y="85527"/>
                    <a:pt x="6721451" y="100970"/>
                    <a:pt x="6764867" y="84689"/>
                  </a:cubicBezTo>
                  <a:cubicBezTo>
                    <a:pt x="6776685" y="80257"/>
                    <a:pt x="6787133" y="72728"/>
                    <a:pt x="6798734" y="67756"/>
                  </a:cubicBezTo>
                  <a:cubicBezTo>
                    <a:pt x="6806937" y="64240"/>
                    <a:pt x="6816152" y="63280"/>
                    <a:pt x="6824134" y="59289"/>
                  </a:cubicBezTo>
                  <a:cubicBezTo>
                    <a:pt x="6833235" y="54738"/>
                    <a:pt x="6840699" y="47404"/>
                    <a:pt x="6849534" y="42356"/>
                  </a:cubicBezTo>
                  <a:cubicBezTo>
                    <a:pt x="6860492" y="36094"/>
                    <a:pt x="6871311" y="29050"/>
                    <a:pt x="6883400" y="25423"/>
                  </a:cubicBezTo>
                  <a:cubicBezTo>
                    <a:pt x="6899843" y="20490"/>
                    <a:pt x="6917310" y="20027"/>
                    <a:pt x="6934200" y="16956"/>
                  </a:cubicBezTo>
                  <a:cubicBezTo>
                    <a:pt x="6948359" y="14382"/>
                    <a:pt x="6962573" y="11979"/>
                    <a:pt x="6976534" y="8489"/>
                  </a:cubicBezTo>
                  <a:cubicBezTo>
                    <a:pt x="6997459" y="3258"/>
                    <a:pt x="7017315" y="-7666"/>
                    <a:pt x="6985000" y="8489"/>
                  </a:cubicBezTo>
                </a:path>
              </a:pathLst>
            </a:custGeom>
            <a:noFill/>
            <a:ln w="57240">
              <a:solidFill>
                <a:srgbClr val="7536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Bild 5" descr="hell-notter-2104041_1920.jpg"/>
            <p:cNvPicPr/>
            <p:nvPr/>
          </p:nvPicPr>
          <p:blipFill>
            <a:blip r:embed="rId1"/>
            <a:stretch/>
          </p:blipFill>
          <p:spPr>
            <a:xfrm>
              <a:off x="50040" y="50760"/>
              <a:ext cx="4716360" cy="201420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643" name="Text Box 59"/>
            <p:cNvSpPr/>
            <p:nvPr/>
          </p:nvSpPr>
          <p:spPr>
            <a:xfrm>
              <a:off x="-68400" y="2048040"/>
              <a:ext cx="4870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verändert nach: winterseitler, </a:t>
              </a:r>
              <a:r>
                <a:rPr b="0" lang="nb-NO" sz="8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CC0 1.0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, https://pixabay.com/de/höllenotter-kreuzotter-schwarz-natur-2104041/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Text Box 59"/>
            <p:cNvSpPr/>
            <p:nvPr/>
          </p:nvSpPr>
          <p:spPr>
            <a:xfrm>
              <a:off x="7603200" y="6247440"/>
              <a:ext cx="154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von: H. Karsa, ZPG Biologie 2018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5" name="Bild 8" descr="05 20 Grzedy - Wydmy_009.jpg"/>
            <p:cNvPicPr/>
            <p:nvPr/>
          </p:nvPicPr>
          <p:blipFill>
            <a:blip r:embed="rId3"/>
            <a:stretch/>
          </p:blipFill>
          <p:spPr>
            <a:xfrm>
              <a:off x="5028840" y="3159360"/>
              <a:ext cx="4064400" cy="3096360"/>
            </a:xfrm>
            <a:prstGeom prst="rect">
              <a:avLst/>
            </a:prstGeom>
            <a:ln w="57240">
              <a:solidFill>
                <a:srgbClr val="753612"/>
              </a:solidFill>
              <a:miter/>
            </a:ln>
          </p:spPr>
        </p:pic>
        <p:cxnSp>
          <p:nvCxnSpPr>
            <p:cNvPr id="646" name="Gerade Verbindung mit Pfeil 10"/>
            <p:cNvCxnSpPr/>
            <p:nvPr/>
          </p:nvCxnSpPr>
          <p:spPr>
            <a:xfrm>
              <a:off x="4750920" y="482040"/>
              <a:ext cx="2117520" cy="11523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Gerade Verbindung mit Pfeil 12"/>
            <p:cNvCxnSpPr>
              <a:stCxn id="645" idx="1"/>
            </p:cNvCxnSpPr>
            <p:nvPr/>
          </p:nvCxnSpPr>
          <p:spPr>
            <a:xfrm flipH="1">
              <a:off x="1946160" y="4707360"/>
              <a:ext cx="3082680" cy="348480"/>
            </a:xfrm>
            <a:prstGeom prst="straightConnector1">
              <a:avLst/>
            </a:prstGeom>
            <a:ln w="57240">
              <a:solidFill>
                <a:srgbClr val="753612"/>
              </a:solidFill>
              <a:miter/>
              <a:tailEnd len="med" type="arrow" w="med"/>
            </a:ln>
          </p:spPr>
        </p:cxnSp>
        <p:sp>
          <p:nvSpPr>
            <p:cNvPr id="648" name="Textfeld 14"/>
            <p:cNvSpPr/>
            <p:nvPr/>
          </p:nvSpPr>
          <p:spPr>
            <a:xfrm>
              <a:off x="3148560" y="2125440"/>
              <a:ext cx="1007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500" spc="-1" strike="noStrike">
                  <a:solidFill>
                    <a:srgbClr val="008000"/>
                  </a:solidFill>
                  <a:latin typeface="Calibri"/>
                </a:rPr>
                <a:t>?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Bild 21" descr="Note 11.10.2018.pdf"/>
          <p:cNvPicPr/>
          <p:nvPr/>
        </p:nvPicPr>
        <p:blipFill>
          <a:blip r:embed="rId1"/>
          <a:stretch/>
        </p:blipFill>
        <p:spPr>
          <a:xfrm>
            <a:off x="4761000" y="-484200"/>
            <a:ext cx="4707000" cy="6012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2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ihandform 4"/>
          <p:cNvSpPr/>
          <p:nvPr/>
        </p:nvSpPr>
        <p:spPr>
          <a:xfrm>
            <a:off x="-39600" y="638280"/>
            <a:ext cx="3849480" cy="1611360"/>
          </a:xfrm>
          <a:custGeom>
            <a:avLst/>
            <a:gdLst/>
            <a:ahLst/>
            <a:rect l="l" t="t" r="r" b="b"/>
            <a:pathLst>
              <a:path w="7002042" h="3225823">
                <a:moveTo>
                  <a:pt x="0" y="3039556"/>
                </a:moveTo>
                <a:cubicBezTo>
                  <a:pt x="14111" y="3042378"/>
                  <a:pt x="28139" y="3050389"/>
                  <a:pt x="42334" y="3048023"/>
                </a:cubicBezTo>
                <a:cubicBezTo>
                  <a:pt x="145147" y="3030888"/>
                  <a:pt x="66534" y="3010935"/>
                  <a:pt x="127000" y="3031089"/>
                </a:cubicBezTo>
                <a:cubicBezTo>
                  <a:pt x="140452" y="3025708"/>
                  <a:pt x="184974" y="3005689"/>
                  <a:pt x="203200" y="3005689"/>
                </a:cubicBezTo>
                <a:cubicBezTo>
                  <a:pt x="234373" y="3005689"/>
                  <a:pt x="265289" y="3011334"/>
                  <a:pt x="296334" y="3014156"/>
                </a:cubicBezTo>
                <a:cubicBezTo>
                  <a:pt x="323970" y="3027974"/>
                  <a:pt x="349616" y="3042792"/>
                  <a:pt x="381000" y="3048023"/>
                </a:cubicBezTo>
                <a:cubicBezTo>
                  <a:pt x="491403" y="3066423"/>
                  <a:pt x="450028" y="3054098"/>
                  <a:pt x="508000" y="3073423"/>
                </a:cubicBezTo>
                <a:cubicBezTo>
                  <a:pt x="522111" y="3087534"/>
                  <a:pt x="534369" y="3103782"/>
                  <a:pt x="550334" y="3115756"/>
                </a:cubicBezTo>
                <a:cubicBezTo>
                  <a:pt x="556291" y="3120223"/>
                  <a:pt x="606819" y="3132071"/>
                  <a:pt x="609600" y="3132689"/>
                </a:cubicBezTo>
                <a:cubicBezTo>
                  <a:pt x="623648" y="3135811"/>
                  <a:pt x="637973" y="3137666"/>
                  <a:pt x="651934" y="3141156"/>
                </a:cubicBezTo>
                <a:cubicBezTo>
                  <a:pt x="660592" y="3143321"/>
                  <a:pt x="668753" y="3147171"/>
                  <a:pt x="677334" y="3149623"/>
                </a:cubicBezTo>
                <a:cubicBezTo>
                  <a:pt x="688522" y="3152820"/>
                  <a:pt x="699911" y="3155267"/>
                  <a:pt x="711200" y="3158089"/>
                </a:cubicBezTo>
                <a:cubicBezTo>
                  <a:pt x="725311" y="3166556"/>
                  <a:pt x="739841" y="3174361"/>
                  <a:pt x="753534" y="3183489"/>
                </a:cubicBezTo>
                <a:cubicBezTo>
                  <a:pt x="774653" y="3197568"/>
                  <a:pt x="786591" y="3214973"/>
                  <a:pt x="812800" y="3217356"/>
                </a:cubicBezTo>
                <a:cubicBezTo>
                  <a:pt x="866276" y="3222218"/>
                  <a:pt x="920045" y="3223001"/>
                  <a:pt x="973667" y="3225823"/>
                </a:cubicBezTo>
                <a:cubicBezTo>
                  <a:pt x="996245" y="3223001"/>
                  <a:pt x="1019606" y="3223894"/>
                  <a:pt x="1041400" y="3217356"/>
                </a:cubicBezTo>
                <a:cubicBezTo>
                  <a:pt x="1049046" y="3215062"/>
                  <a:pt x="1051692" y="3204851"/>
                  <a:pt x="1058334" y="3200423"/>
                </a:cubicBezTo>
                <a:cubicBezTo>
                  <a:pt x="1068835" y="3193422"/>
                  <a:pt x="1080599" y="3188461"/>
                  <a:pt x="1092200" y="3183489"/>
                </a:cubicBezTo>
                <a:cubicBezTo>
                  <a:pt x="1100403" y="3179973"/>
                  <a:pt x="1109052" y="3177587"/>
                  <a:pt x="1117600" y="3175023"/>
                </a:cubicBezTo>
                <a:cubicBezTo>
                  <a:pt x="1137280" y="3169119"/>
                  <a:pt x="1156777" y="3162394"/>
                  <a:pt x="1176867" y="3158089"/>
                </a:cubicBezTo>
                <a:cubicBezTo>
                  <a:pt x="1241979" y="3144136"/>
                  <a:pt x="1358088" y="3143525"/>
                  <a:pt x="1405467" y="3141156"/>
                </a:cubicBezTo>
                <a:cubicBezTo>
                  <a:pt x="1413934" y="3138334"/>
                  <a:pt x="1422286" y="3135141"/>
                  <a:pt x="1430867" y="3132689"/>
                </a:cubicBezTo>
                <a:cubicBezTo>
                  <a:pt x="1505286" y="3111427"/>
                  <a:pt x="1429234" y="3136057"/>
                  <a:pt x="1490134" y="3115756"/>
                </a:cubicBezTo>
                <a:cubicBezTo>
                  <a:pt x="1518356" y="3118578"/>
                  <a:pt x="1546923" y="3118996"/>
                  <a:pt x="1574800" y="3124223"/>
                </a:cubicBezTo>
                <a:cubicBezTo>
                  <a:pt x="1592344" y="3127512"/>
                  <a:pt x="1607771" y="3140307"/>
                  <a:pt x="1625600" y="3141156"/>
                </a:cubicBezTo>
                <a:lnTo>
                  <a:pt x="1803400" y="3149623"/>
                </a:lnTo>
                <a:cubicBezTo>
                  <a:pt x="1817511" y="3152445"/>
                  <a:pt x="1831773" y="3154599"/>
                  <a:pt x="1845734" y="3158089"/>
                </a:cubicBezTo>
                <a:cubicBezTo>
                  <a:pt x="1854392" y="3160253"/>
                  <a:pt x="1862209" y="3166556"/>
                  <a:pt x="1871134" y="3166556"/>
                </a:cubicBezTo>
                <a:cubicBezTo>
                  <a:pt x="1916377" y="3166556"/>
                  <a:pt x="1961426" y="3160599"/>
                  <a:pt x="2006600" y="3158089"/>
                </a:cubicBezTo>
                <a:lnTo>
                  <a:pt x="2175934" y="3149623"/>
                </a:lnTo>
                <a:cubicBezTo>
                  <a:pt x="2184401" y="3143978"/>
                  <a:pt x="2193193" y="3138794"/>
                  <a:pt x="2201334" y="3132689"/>
                </a:cubicBezTo>
                <a:cubicBezTo>
                  <a:pt x="2215791" y="3121846"/>
                  <a:pt x="2228343" y="3108400"/>
                  <a:pt x="2243667" y="3098823"/>
                </a:cubicBezTo>
                <a:cubicBezTo>
                  <a:pt x="2251235" y="3094093"/>
                  <a:pt x="2260600" y="3093178"/>
                  <a:pt x="2269067" y="3090356"/>
                </a:cubicBezTo>
                <a:cubicBezTo>
                  <a:pt x="2283178" y="3079067"/>
                  <a:pt x="2296943" y="3067332"/>
                  <a:pt x="2311400" y="3056489"/>
                </a:cubicBezTo>
                <a:cubicBezTo>
                  <a:pt x="2330632" y="3042065"/>
                  <a:pt x="2353496" y="3031327"/>
                  <a:pt x="2370667" y="3014156"/>
                </a:cubicBezTo>
                <a:cubicBezTo>
                  <a:pt x="2391881" y="2992942"/>
                  <a:pt x="2411934" y="2970423"/>
                  <a:pt x="2429934" y="2946423"/>
                </a:cubicBezTo>
                <a:cubicBezTo>
                  <a:pt x="2437507" y="2936326"/>
                  <a:pt x="2439118" y="2922519"/>
                  <a:pt x="2446867" y="2912556"/>
                </a:cubicBezTo>
                <a:cubicBezTo>
                  <a:pt x="2459119" y="2896804"/>
                  <a:pt x="2476059" y="2885241"/>
                  <a:pt x="2489200" y="2870223"/>
                </a:cubicBezTo>
                <a:cubicBezTo>
                  <a:pt x="2515614" y="2840036"/>
                  <a:pt x="2532025" y="2799339"/>
                  <a:pt x="2565400" y="2777089"/>
                </a:cubicBezTo>
                <a:cubicBezTo>
                  <a:pt x="2573867" y="2771445"/>
                  <a:pt x="2583605" y="2767351"/>
                  <a:pt x="2590800" y="2760156"/>
                </a:cubicBezTo>
                <a:cubicBezTo>
                  <a:pt x="2614831" y="2736126"/>
                  <a:pt x="2635483" y="2708928"/>
                  <a:pt x="2658534" y="2683956"/>
                </a:cubicBezTo>
                <a:cubicBezTo>
                  <a:pt x="2669363" y="2672225"/>
                  <a:pt x="2681111" y="2661378"/>
                  <a:pt x="2692400" y="2650089"/>
                </a:cubicBezTo>
                <a:cubicBezTo>
                  <a:pt x="2712877" y="2588660"/>
                  <a:pt x="2698247" y="2622502"/>
                  <a:pt x="2777067" y="2531556"/>
                </a:cubicBezTo>
                <a:cubicBezTo>
                  <a:pt x="2787523" y="2519491"/>
                  <a:pt x="2801132" y="2510291"/>
                  <a:pt x="2810934" y="2497689"/>
                </a:cubicBezTo>
                <a:cubicBezTo>
                  <a:pt x="2821037" y="2484699"/>
                  <a:pt x="2827206" y="2469048"/>
                  <a:pt x="2836334" y="2455356"/>
                </a:cubicBezTo>
                <a:cubicBezTo>
                  <a:pt x="2844161" y="2443615"/>
                  <a:pt x="2852798" y="2432410"/>
                  <a:pt x="2861734" y="2421489"/>
                </a:cubicBezTo>
                <a:cubicBezTo>
                  <a:pt x="2888348" y="2388961"/>
                  <a:pt x="2915020" y="2362727"/>
                  <a:pt x="2937934" y="2328356"/>
                </a:cubicBezTo>
                <a:cubicBezTo>
                  <a:pt x="2947062" y="2314664"/>
                  <a:pt x="2953769" y="2299414"/>
                  <a:pt x="2963334" y="2286023"/>
                </a:cubicBezTo>
                <a:cubicBezTo>
                  <a:pt x="2967974" y="2279527"/>
                  <a:pt x="2975689" y="2275629"/>
                  <a:pt x="2980267" y="2269089"/>
                </a:cubicBezTo>
                <a:cubicBezTo>
                  <a:pt x="3045451" y="2175968"/>
                  <a:pt x="2998190" y="2225764"/>
                  <a:pt x="3039534" y="2184423"/>
                </a:cubicBezTo>
                <a:cubicBezTo>
                  <a:pt x="3050823" y="2161845"/>
                  <a:pt x="3060275" y="2138251"/>
                  <a:pt x="3073400" y="2116689"/>
                </a:cubicBezTo>
                <a:cubicBezTo>
                  <a:pt x="3099854" y="2073229"/>
                  <a:pt x="3141977" y="2037956"/>
                  <a:pt x="3158067" y="1989689"/>
                </a:cubicBezTo>
                <a:cubicBezTo>
                  <a:pt x="3171738" y="1948677"/>
                  <a:pt x="3161942" y="1971942"/>
                  <a:pt x="3191934" y="1921956"/>
                </a:cubicBezTo>
                <a:cubicBezTo>
                  <a:pt x="3200948" y="1885898"/>
                  <a:pt x="3207297" y="1855048"/>
                  <a:pt x="3225800" y="1820356"/>
                </a:cubicBezTo>
                <a:cubicBezTo>
                  <a:pt x="3325832" y="1632799"/>
                  <a:pt x="3223018" y="1859789"/>
                  <a:pt x="3293534" y="1718756"/>
                </a:cubicBezTo>
                <a:cubicBezTo>
                  <a:pt x="3363318" y="1579187"/>
                  <a:pt x="3276796" y="1734118"/>
                  <a:pt x="3344334" y="1608689"/>
                </a:cubicBezTo>
                <a:cubicBezTo>
                  <a:pt x="3355121" y="1588655"/>
                  <a:pt x="3367413" y="1569457"/>
                  <a:pt x="3378200" y="1549423"/>
                </a:cubicBezTo>
                <a:cubicBezTo>
                  <a:pt x="3387176" y="1532754"/>
                  <a:pt x="3394534" y="1515243"/>
                  <a:pt x="3403600" y="1498623"/>
                </a:cubicBezTo>
                <a:cubicBezTo>
                  <a:pt x="3411480" y="1484176"/>
                  <a:pt x="3421256" y="1470809"/>
                  <a:pt x="3429000" y="1456289"/>
                </a:cubicBezTo>
                <a:cubicBezTo>
                  <a:pt x="3550113" y="1229205"/>
                  <a:pt x="3424944" y="1462971"/>
                  <a:pt x="3488267" y="1329289"/>
                </a:cubicBezTo>
                <a:cubicBezTo>
                  <a:pt x="3507178" y="1289367"/>
                  <a:pt x="3527778" y="1250267"/>
                  <a:pt x="3547534" y="1210756"/>
                </a:cubicBezTo>
                <a:cubicBezTo>
                  <a:pt x="3553178" y="1199467"/>
                  <a:pt x="3560476" y="1188863"/>
                  <a:pt x="3564467" y="1176889"/>
                </a:cubicBezTo>
                <a:cubicBezTo>
                  <a:pt x="3570111" y="1159956"/>
                  <a:pt x="3573418" y="1142054"/>
                  <a:pt x="3581400" y="1126089"/>
                </a:cubicBezTo>
                <a:cubicBezTo>
                  <a:pt x="3593307" y="1102275"/>
                  <a:pt x="3610235" y="1081305"/>
                  <a:pt x="3623734" y="1058356"/>
                </a:cubicBezTo>
                <a:cubicBezTo>
                  <a:pt x="3638466" y="1033311"/>
                  <a:pt x="3652291" y="1007739"/>
                  <a:pt x="3666067" y="982156"/>
                </a:cubicBezTo>
                <a:cubicBezTo>
                  <a:pt x="3672051" y="971043"/>
                  <a:pt x="3676506" y="959112"/>
                  <a:pt x="3683000" y="948289"/>
                </a:cubicBezTo>
                <a:cubicBezTo>
                  <a:pt x="3718862" y="888518"/>
                  <a:pt x="3758484" y="831009"/>
                  <a:pt x="3793067" y="770489"/>
                </a:cubicBezTo>
                <a:cubicBezTo>
                  <a:pt x="3804356" y="750734"/>
                  <a:pt x="3813983" y="729931"/>
                  <a:pt x="3826934" y="711223"/>
                </a:cubicBezTo>
                <a:cubicBezTo>
                  <a:pt x="3839481" y="693100"/>
                  <a:pt x="3856042" y="678057"/>
                  <a:pt x="3869267" y="660423"/>
                </a:cubicBezTo>
                <a:cubicBezTo>
                  <a:pt x="3889937" y="632863"/>
                  <a:pt x="3910039" y="604820"/>
                  <a:pt x="3928534" y="575756"/>
                </a:cubicBezTo>
                <a:cubicBezTo>
                  <a:pt x="3948289" y="544712"/>
                  <a:pt x="3961781" y="508642"/>
                  <a:pt x="3987800" y="482623"/>
                </a:cubicBezTo>
                <a:lnTo>
                  <a:pt x="4055534" y="414889"/>
                </a:lnTo>
                <a:cubicBezTo>
                  <a:pt x="4095067" y="375356"/>
                  <a:pt x="4065075" y="402026"/>
                  <a:pt x="4106334" y="372556"/>
                </a:cubicBezTo>
                <a:cubicBezTo>
                  <a:pt x="4117817" y="364354"/>
                  <a:pt x="4127305" y="352887"/>
                  <a:pt x="4140200" y="347156"/>
                </a:cubicBezTo>
                <a:cubicBezTo>
                  <a:pt x="4153350" y="341311"/>
                  <a:pt x="4168486" y="341811"/>
                  <a:pt x="4182534" y="338689"/>
                </a:cubicBezTo>
                <a:cubicBezTo>
                  <a:pt x="4193893" y="336165"/>
                  <a:pt x="4205111" y="333045"/>
                  <a:pt x="4216400" y="330223"/>
                </a:cubicBezTo>
                <a:cubicBezTo>
                  <a:pt x="4224867" y="333045"/>
                  <a:pt x="4233088" y="336753"/>
                  <a:pt x="4241800" y="338689"/>
                </a:cubicBezTo>
                <a:cubicBezTo>
                  <a:pt x="4258558" y="342413"/>
                  <a:pt x="4276526" y="341128"/>
                  <a:pt x="4292600" y="347156"/>
                </a:cubicBezTo>
                <a:cubicBezTo>
                  <a:pt x="4300074" y="349959"/>
                  <a:pt x="4301961" y="361565"/>
                  <a:pt x="4309534" y="364089"/>
                </a:cubicBezTo>
                <a:cubicBezTo>
                  <a:pt x="4336838" y="373190"/>
                  <a:pt x="4394200" y="381023"/>
                  <a:pt x="4394200" y="381023"/>
                </a:cubicBezTo>
                <a:cubicBezTo>
                  <a:pt x="4457157" y="428240"/>
                  <a:pt x="4404842" y="398267"/>
                  <a:pt x="4521200" y="414889"/>
                </a:cubicBezTo>
                <a:cubicBezTo>
                  <a:pt x="4530035" y="416151"/>
                  <a:pt x="4538019" y="420904"/>
                  <a:pt x="4546600" y="423356"/>
                </a:cubicBezTo>
                <a:cubicBezTo>
                  <a:pt x="4557789" y="426553"/>
                  <a:pt x="4569178" y="429001"/>
                  <a:pt x="4580467" y="431823"/>
                </a:cubicBezTo>
                <a:cubicBezTo>
                  <a:pt x="4644311" y="410541"/>
                  <a:pt x="4565615" y="439249"/>
                  <a:pt x="4631267" y="406423"/>
                </a:cubicBezTo>
                <a:cubicBezTo>
                  <a:pt x="4639249" y="402432"/>
                  <a:pt x="4648685" y="401947"/>
                  <a:pt x="4656667" y="397956"/>
                </a:cubicBezTo>
                <a:cubicBezTo>
                  <a:pt x="4665768" y="393405"/>
                  <a:pt x="4672966" y="385574"/>
                  <a:pt x="4682067" y="381023"/>
                </a:cubicBezTo>
                <a:cubicBezTo>
                  <a:pt x="4690049" y="377032"/>
                  <a:pt x="4699485" y="376547"/>
                  <a:pt x="4707467" y="372556"/>
                </a:cubicBezTo>
                <a:cubicBezTo>
                  <a:pt x="4716568" y="368005"/>
                  <a:pt x="4723514" y="359631"/>
                  <a:pt x="4732867" y="355623"/>
                </a:cubicBezTo>
                <a:cubicBezTo>
                  <a:pt x="4743563" y="351039"/>
                  <a:pt x="4755545" y="350353"/>
                  <a:pt x="4766734" y="347156"/>
                </a:cubicBezTo>
                <a:cubicBezTo>
                  <a:pt x="4825842" y="330267"/>
                  <a:pt x="4750259" y="344671"/>
                  <a:pt x="4851400" y="330223"/>
                </a:cubicBezTo>
                <a:cubicBezTo>
                  <a:pt x="4871899" y="323390"/>
                  <a:pt x="4942353" y="299087"/>
                  <a:pt x="4961467" y="296356"/>
                </a:cubicBezTo>
                <a:cubicBezTo>
                  <a:pt x="5000681" y="290754"/>
                  <a:pt x="5040489" y="290711"/>
                  <a:pt x="5080000" y="287889"/>
                </a:cubicBezTo>
                <a:cubicBezTo>
                  <a:pt x="5119723" y="272000"/>
                  <a:pt x="5137038" y="263405"/>
                  <a:pt x="5181600" y="254023"/>
                </a:cubicBezTo>
                <a:cubicBezTo>
                  <a:pt x="5215197" y="246950"/>
                  <a:pt x="5250187" y="246521"/>
                  <a:pt x="5283200" y="237089"/>
                </a:cubicBezTo>
                <a:lnTo>
                  <a:pt x="5342467" y="220156"/>
                </a:lnTo>
                <a:cubicBezTo>
                  <a:pt x="5364954" y="214160"/>
                  <a:pt x="5387748" y="209346"/>
                  <a:pt x="5410200" y="203223"/>
                </a:cubicBezTo>
                <a:cubicBezTo>
                  <a:pt x="5418810" y="200875"/>
                  <a:pt x="5426849" y="196506"/>
                  <a:pt x="5435600" y="194756"/>
                </a:cubicBezTo>
                <a:cubicBezTo>
                  <a:pt x="5455169" y="190842"/>
                  <a:pt x="5475111" y="189111"/>
                  <a:pt x="5494867" y="186289"/>
                </a:cubicBezTo>
                <a:cubicBezTo>
                  <a:pt x="5503334" y="183467"/>
                  <a:pt x="5511686" y="180275"/>
                  <a:pt x="5520267" y="177823"/>
                </a:cubicBezTo>
                <a:cubicBezTo>
                  <a:pt x="5548171" y="169851"/>
                  <a:pt x="5567363" y="166710"/>
                  <a:pt x="5596467" y="160889"/>
                </a:cubicBezTo>
                <a:cubicBezTo>
                  <a:pt x="5711182" y="165301"/>
                  <a:pt x="5877199" y="167537"/>
                  <a:pt x="5994400" y="186289"/>
                </a:cubicBezTo>
                <a:cubicBezTo>
                  <a:pt x="6006863" y="188283"/>
                  <a:pt x="6016449" y="198791"/>
                  <a:pt x="6028267" y="203223"/>
                </a:cubicBezTo>
                <a:cubicBezTo>
                  <a:pt x="6061744" y="215777"/>
                  <a:pt x="6118575" y="217333"/>
                  <a:pt x="6146800" y="220156"/>
                </a:cubicBezTo>
                <a:cubicBezTo>
                  <a:pt x="6155267" y="217334"/>
                  <a:pt x="6163275" y="211689"/>
                  <a:pt x="6172200" y="211689"/>
                </a:cubicBezTo>
                <a:cubicBezTo>
                  <a:pt x="6218800" y="211689"/>
                  <a:pt x="6213474" y="219892"/>
                  <a:pt x="6248400" y="228623"/>
                </a:cubicBezTo>
                <a:cubicBezTo>
                  <a:pt x="6262361" y="232113"/>
                  <a:pt x="6276623" y="234267"/>
                  <a:pt x="6290734" y="237089"/>
                </a:cubicBezTo>
                <a:cubicBezTo>
                  <a:pt x="6330245" y="222978"/>
                  <a:pt x="6368926" y="206282"/>
                  <a:pt x="6409267" y="194756"/>
                </a:cubicBezTo>
                <a:cubicBezTo>
                  <a:pt x="6428455" y="189274"/>
                  <a:pt x="6448900" y="189859"/>
                  <a:pt x="6468534" y="186289"/>
                </a:cubicBezTo>
                <a:cubicBezTo>
                  <a:pt x="6494962" y="181484"/>
                  <a:pt x="6582472" y="153801"/>
                  <a:pt x="6587067" y="152423"/>
                </a:cubicBezTo>
                <a:cubicBezTo>
                  <a:pt x="6592711" y="146778"/>
                  <a:pt x="6597155" y="139596"/>
                  <a:pt x="6604000" y="135489"/>
                </a:cubicBezTo>
                <a:cubicBezTo>
                  <a:pt x="6611653" y="130897"/>
                  <a:pt x="6621114" y="130337"/>
                  <a:pt x="6629400" y="127023"/>
                </a:cubicBezTo>
                <a:cubicBezTo>
                  <a:pt x="6649356" y="119041"/>
                  <a:pt x="6668276" y="108420"/>
                  <a:pt x="6688667" y="101623"/>
                </a:cubicBezTo>
                <a:cubicBezTo>
                  <a:pt x="6736955" y="85527"/>
                  <a:pt x="6721451" y="100970"/>
                  <a:pt x="6764867" y="84689"/>
                </a:cubicBezTo>
                <a:cubicBezTo>
                  <a:pt x="6776685" y="80257"/>
                  <a:pt x="6787133" y="72728"/>
                  <a:pt x="6798734" y="67756"/>
                </a:cubicBezTo>
                <a:cubicBezTo>
                  <a:pt x="6806937" y="64240"/>
                  <a:pt x="6816152" y="63280"/>
                  <a:pt x="6824134" y="59289"/>
                </a:cubicBezTo>
                <a:cubicBezTo>
                  <a:pt x="6833235" y="54738"/>
                  <a:pt x="6840699" y="47404"/>
                  <a:pt x="6849534" y="42356"/>
                </a:cubicBezTo>
                <a:cubicBezTo>
                  <a:pt x="6860492" y="36094"/>
                  <a:pt x="6871311" y="29050"/>
                  <a:pt x="6883400" y="25423"/>
                </a:cubicBezTo>
                <a:cubicBezTo>
                  <a:pt x="6899843" y="20490"/>
                  <a:pt x="6917310" y="20027"/>
                  <a:pt x="6934200" y="16956"/>
                </a:cubicBezTo>
                <a:cubicBezTo>
                  <a:pt x="6948359" y="14382"/>
                  <a:pt x="6962573" y="11979"/>
                  <a:pt x="6976534" y="8489"/>
                </a:cubicBezTo>
                <a:cubicBezTo>
                  <a:pt x="6997459" y="3258"/>
                  <a:pt x="7017315" y="-7666"/>
                  <a:pt x="6985000" y="8489"/>
                </a:cubicBezTo>
              </a:path>
            </a:pathLst>
          </a:custGeom>
          <a:noFill/>
          <a:ln w="57240">
            <a:solidFill>
              <a:srgbClr val="7536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Bild 5" descr="hell-notter-2104041_1920.jpg"/>
          <p:cNvPicPr/>
          <p:nvPr/>
        </p:nvPicPr>
        <p:blipFill>
          <a:blip r:embed="rId2"/>
          <a:stretch/>
        </p:blipFill>
        <p:spPr>
          <a:xfrm>
            <a:off x="54000" y="60480"/>
            <a:ext cx="1984320" cy="84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3" name="Text Box 59"/>
          <p:cNvSpPr/>
          <p:nvPr/>
        </p:nvSpPr>
        <p:spPr>
          <a:xfrm>
            <a:off x="3240" y="90180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verändert nach: winterseitler, </a:t>
            </a:r>
            <a:r>
              <a:rPr b="0" lang="nb-NO" sz="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C0 1.0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</a:rPr>
              <a:t>, https://pixabay.com/de/höllenotter-kreuzotter-schwarz-natur-2104041/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59"/>
          <p:cNvSpPr/>
          <p:nvPr/>
        </p:nvSpPr>
        <p:spPr>
          <a:xfrm rot="5400000">
            <a:off x="3349800" y="1839960"/>
            <a:ext cx="13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n: H. Karsa, ZPG Biologie 2018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Bild 8" descr="05 20 Grzedy - Wydmy_009.jpg"/>
          <p:cNvPicPr/>
          <p:nvPr/>
        </p:nvPicPr>
        <p:blipFill>
          <a:blip r:embed="rId4"/>
          <a:stretch/>
        </p:blipFill>
        <p:spPr>
          <a:xfrm>
            <a:off x="2297160" y="1355760"/>
            <a:ext cx="1709640" cy="1303200"/>
          </a:xfrm>
          <a:prstGeom prst="rect">
            <a:avLst/>
          </a:prstGeom>
          <a:ln w="57240">
            <a:solidFill>
              <a:srgbClr val="753612"/>
            </a:solidFill>
            <a:miter/>
          </a:ln>
        </p:spPr>
      </p:pic>
      <p:cxnSp>
        <p:nvCxnSpPr>
          <p:cNvPr id="656" name="Gerade Verbindung mit Pfeil 9"/>
          <p:cNvCxnSpPr/>
          <p:nvPr/>
        </p:nvCxnSpPr>
        <p:spPr>
          <a:xfrm>
            <a:off x="2031840" y="242640"/>
            <a:ext cx="891360" cy="48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7" name="Gerade Verbindung mit Pfeil 10"/>
          <p:cNvCxnSpPr>
            <a:stCxn id="655" idx="1"/>
          </p:cNvCxnSpPr>
          <p:nvPr/>
        </p:nvCxnSpPr>
        <p:spPr>
          <a:xfrm flipH="1">
            <a:off x="863280" y="2006640"/>
            <a:ext cx="1434240" cy="76680"/>
          </a:xfrm>
          <a:prstGeom prst="straightConnector1">
            <a:avLst/>
          </a:prstGeom>
          <a:ln w="57240">
            <a:solidFill>
              <a:srgbClr val="753612"/>
            </a:solidFill>
            <a:miter/>
            <a:tailEnd len="med" type="arrow" w="med"/>
          </a:ln>
        </p:spPr>
      </p:cxnSp>
      <p:sp>
        <p:nvSpPr>
          <p:cNvPr id="658" name="Textfeld 4"/>
          <p:cNvSpPr/>
          <p:nvPr/>
        </p:nvSpPr>
        <p:spPr>
          <a:xfrm>
            <a:off x="168120" y="2994120"/>
            <a:ext cx="625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hwarzbraune Kreuzo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ind in den Schwarzw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ngewandert. Erstelle ein Wirkungsgefüge, was mit 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 der Kreuzottern im Laufe vieler Generationen nach der Theorie Darwins passieren wi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59"/>
          <p:cNvSpPr/>
          <p:nvPr/>
        </p:nvSpPr>
        <p:spPr>
          <a:xfrm rot="5400000">
            <a:off x="8346240" y="3278880"/>
            <a:ext cx="75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ZPG Biologie 2018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Bild 2" descr="AF7C8412-D24C-4912-ADA5-471D6ED2B39D 1 Kop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3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feld 18"/>
          <p:cNvSpPr/>
          <p:nvPr/>
        </p:nvSpPr>
        <p:spPr>
          <a:xfrm>
            <a:off x="6637320" y="4638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alibri"/>
              </a:rPr>
              <a:t>Hilf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9"/>
          <p:cNvSpPr/>
          <p:nvPr/>
        </p:nvSpPr>
        <p:spPr>
          <a:xfrm rot="5400000">
            <a:off x="8310240" y="299700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4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feld 4"/>
          <p:cNvSpPr/>
          <p:nvPr/>
        </p:nvSpPr>
        <p:spPr>
          <a:xfrm>
            <a:off x="203040" y="77760"/>
            <a:ext cx="87202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alibri"/>
                <a:ea typeface="Calibri"/>
              </a:rPr>
              <a:t>Richtig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oder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falsch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e Kreuzottern bekommen deutlich mehr Nachkommen als nötig, um den Bestand zu er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5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feld 4"/>
          <p:cNvSpPr/>
          <p:nvPr/>
        </p:nvSpPr>
        <p:spPr>
          <a:xfrm>
            <a:off x="203040" y="77760"/>
            <a:ext cx="8720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alibri"/>
                <a:ea typeface="Calibri"/>
              </a:rPr>
              <a:t>Richtig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oder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falsch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Die Kreuzottern bekommen deutlich mehr Nachkommen als nötig, um den Bestand zu er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Ökosystemen wie denen im Schwarzwald sind die Ressourcen begrenzt (z. B. Nahrungsangebot, Unterschlupfmöglichkeit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feld 3"/>
          <p:cNvSpPr/>
          <p:nvPr/>
        </p:nvSpPr>
        <p:spPr>
          <a:xfrm>
            <a:off x="203040" y="77760"/>
            <a:ext cx="872028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alibri"/>
                <a:ea typeface="Calibri"/>
              </a:rPr>
              <a:t>Richtig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oder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falsch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Die Kreuzottern bekommen deutlich mehr Nachkommen als nötig, um den Bestand zu er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In Ökosystemen wie denen im Schwarzwald sind die Ressourcen begrenzt (z. B. Nahrungsangebot, Unterschlupfmöglichkeit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e Population der Kreuzottern im Schwarzwald bleibt in der Regel gleich groß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6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feld 7"/>
          <p:cNvSpPr/>
          <p:nvPr/>
        </p:nvSpPr>
        <p:spPr>
          <a:xfrm>
            <a:off x="203040" y="77760"/>
            <a:ext cx="872028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alibri"/>
                <a:ea typeface="Calibri"/>
              </a:rPr>
              <a:t>Richtig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oder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falsch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Die Kreuzottern bekommen deutlich mehr Nachkommen als nötig, um den Bestand zu er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In Ökosystemen wie denen im Schwarzwald sind die Ressourcen begrenzt (z. B. Nahrungsangebot, Unterschlupfmöglichkeit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f7f7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  <a:ea typeface="Calibri"/>
              </a:rPr>
              <a:t>Die Population der Kreuzottern im Schwarzwald bleibt in der Regel gleich groß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hteck 1"/>
          <p:cNvSpPr/>
          <p:nvPr/>
        </p:nvSpPr>
        <p:spPr>
          <a:xfrm rot="20913600">
            <a:off x="3321000" y="1830240"/>
            <a:ext cx="510696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  <a:ea typeface="Calibri"/>
              </a:rPr>
              <a:t>zu viele Nachkom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hteck 4"/>
          <p:cNvSpPr/>
          <p:nvPr/>
        </p:nvSpPr>
        <p:spPr>
          <a:xfrm rot="397800">
            <a:off x="2695320" y="3630600"/>
            <a:ext cx="5162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  <a:ea typeface="Calibri"/>
              </a:rPr>
              <a:t>begrenzte Ressour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hteck 5"/>
          <p:cNvSpPr/>
          <p:nvPr/>
        </p:nvSpPr>
        <p:spPr>
          <a:xfrm rot="21115200">
            <a:off x="2692080" y="5330520"/>
            <a:ext cx="6203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  <a:ea typeface="Calibri"/>
              </a:rPr>
              <a:t>gleichbleibende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7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bgerundetes Rechteck 1"/>
          <p:cNvSpPr/>
          <p:nvPr/>
        </p:nvSpPr>
        <p:spPr>
          <a:xfrm>
            <a:off x="252360" y="755640"/>
            <a:ext cx="8707320" cy="1758960"/>
          </a:xfrm>
          <a:prstGeom prst="roundRect">
            <a:avLst>
              <a:gd name="adj" fmla="val 1384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Gruppierung 3"/>
          <p:cNvGrpSpPr/>
          <p:nvPr/>
        </p:nvGrpSpPr>
        <p:grpSpPr>
          <a:xfrm>
            <a:off x="252360" y="2711520"/>
            <a:ext cx="8707320" cy="3832200"/>
            <a:chOff x="252360" y="2711520"/>
            <a:chExt cx="8707320" cy="3832200"/>
          </a:xfrm>
        </p:grpSpPr>
        <p:sp>
          <p:nvSpPr>
            <p:cNvPr id="677" name="Abgerundetes Rechteck 16"/>
            <p:cNvSpPr/>
            <p:nvPr/>
          </p:nvSpPr>
          <p:spPr>
            <a:xfrm>
              <a:off x="252360" y="2711520"/>
              <a:ext cx="41860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Abgerundetes Rechteck 17"/>
            <p:cNvSpPr/>
            <p:nvPr/>
          </p:nvSpPr>
          <p:spPr>
            <a:xfrm>
              <a:off x="252360" y="4722840"/>
              <a:ext cx="41860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Abgerundetes Rechteck 18"/>
            <p:cNvSpPr/>
            <p:nvPr/>
          </p:nvSpPr>
          <p:spPr>
            <a:xfrm>
              <a:off x="4771800" y="2711520"/>
              <a:ext cx="41878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bgerundetes Rechteck 19"/>
            <p:cNvSpPr/>
            <p:nvPr/>
          </p:nvSpPr>
          <p:spPr>
            <a:xfrm>
              <a:off x="4771800" y="4722840"/>
              <a:ext cx="41878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1" name="Rechteck 2" descr=""/>
          <p:cNvPicPr/>
          <p:nvPr/>
        </p:nvPicPr>
        <p:blipFill>
          <a:blip r:embed="rId1"/>
          <a:stretch/>
        </p:blipFill>
        <p:spPr>
          <a:xfrm>
            <a:off x="1736640" y="-165240"/>
            <a:ext cx="5608800" cy="1798920"/>
          </a:xfrm>
          <a:prstGeom prst="rect">
            <a:avLst/>
          </a:prstGeom>
          <a:ln w="0">
            <a:noFill/>
          </a:ln>
        </p:spPr>
      </p:pic>
      <p:pic>
        <p:nvPicPr>
          <p:cNvPr id="682" name="Rechteck 21" descr=""/>
          <p:cNvPicPr/>
          <p:nvPr/>
        </p:nvPicPr>
        <p:blipFill>
          <a:blip r:embed="rId2"/>
          <a:stretch/>
        </p:blipFill>
        <p:spPr>
          <a:xfrm>
            <a:off x="317520" y="2633760"/>
            <a:ext cx="609480" cy="1487520"/>
          </a:xfrm>
          <a:prstGeom prst="rect">
            <a:avLst/>
          </a:prstGeom>
          <a:ln w="0">
            <a:noFill/>
          </a:ln>
        </p:spPr>
      </p:pic>
      <p:pic>
        <p:nvPicPr>
          <p:cNvPr id="683" name="Rechteck 22" descr=""/>
          <p:cNvPicPr/>
          <p:nvPr/>
        </p:nvPicPr>
        <p:blipFill>
          <a:blip r:embed="rId3"/>
          <a:stretch/>
        </p:blipFill>
        <p:spPr>
          <a:xfrm>
            <a:off x="4883040" y="2646360"/>
            <a:ext cx="554040" cy="1487520"/>
          </a:xfrm>
          <a:prstGeom prst="rect">
            <a:avLst/>
          </a:prstGeom>
          <a:ln w="0">
            <a:noFill/>
          </a:ln>
        </p:spPr>
      </p:pic>
      <p:pic>
        <p:nvPicPr>
          <p:cNvPr id="684" name="Rechteck 24" descr=""/>
          <p:cNvPicPr/>
          <p:nvPr/>
        </p:nvPicPr>
        <p:blipFill>
          <a:blip r:embed="rId4"/>
          <a:stretch/>
        </p:blipFill>
        <p:spPr>
          <a:xfrm>
            <a:off x="378000" y="4675320"/>
            <a:ext cx="579240" cy="1493640"/>
          </a:xfrm>
          <a:prstGeom prst="rect">
            <a:avLst/>
          </a:prstGeom>
          <a:ln w="0">
            <a:noFill/>
          </a:ln>
        </p:spPr>
      </p:pic>
      <p:pic>
        <p:nvPicPr>
          <p:cNvPr id="685" name="Rechteck 25" descr=""/>
          <p:cNvPicPr/>
          <p:nvPr/>
        </p:nvPicPr>
        <p:blipFill>
          <a:blip r:embed="rId5"/>
          <a:stretch/>
        </p:blipFill>
        <p:spPr>
          <a:xfrm>
            <a:off x="4913280" y="4687920"/>
            <a:ext cx="628560" cy="1493640"/>
          </a:xfrm>
          <a:prstGeom prst="rect">
            <a:avLst/>
          </a:prstGeom>
          <a:ln w="0">
            <a:noFill/>
          </a:ln>
        </p:spPr>
      </p:pic>
      <p:sp>
        <p:nvSpPr>
          <p:cNvPr id="686" name="Rechteck 3"/>
          <p:cNvSpPr/>
          <p:nvPr/>
        </p:nvSpPr>
        <p:spPr>
          <a:xfrm>
            <a:off x="517680" y="95580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Zu viele Nachkommen, begrenzte Ressourcen, gleichbleibende Population - was lässt sich daraus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 folg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hteck 12"/>
          <p:cNvSpPr/>
          <p:nvPr/>
        </p:nvSpPr>
        <p:spPr>
          <a:xfrm>
            <a:off x="982800" y="279576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Die Überproduktion von Nachkommen führt zwischen den Kreuzottern zu Konkurrenz, einem Wettbewerb um Nahrung, Lebensraum und Geschlechtspartn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hteck 13"/>
          <p:cNvSpPr/>
          <p:nvPr/>
        </p:nvSpPr>
        <p:spPr>
          <a:xfrm>
            <a:off x="982800" y="482112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Durch den Wettbewerb sterben die meisten Nachkommen der Kreuzott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hteck 14"/>
          <p:cNvSpPr/>
          <p:nvPr/>
        </p:nvSpPr>
        <p:spPr>
          <a:xfrm>
            <a:off x="5568840" y="2970360"/>
            <a:ext cx="33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Die Kreuzottern haben sehr unterschiedliche Nachkom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hteck 15"/>
          <p:cNvSpPr/>
          <p:nvPr/>
        </p:nvSpPr>
        <p:spPr>
          <a:xfrm>
            <a:off x="5568840" y="4856040"/>
            <a:ext cx="32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Nur ein kleiner Teil der Kreuzottern wird alt genug und kann sich fortpflanz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Seite 18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19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Bild 1" descr="Madeira 2.png"/>
          <p:cNvPicPr/>
          <p:nvPr/>
        </p:nvPicPr>
        <p:blipFill>
          <a:blip r:embed="rId1"/>
          <a:stretch/>
        </p:blipFill>
        <p:spPr>
          <a:xfrm rot="151800">
            <a:off x="520560" y="1168200"/>
            <a:ext cx="8850600" cy="3684600"/>
          </a:xfrm>
          <a:prstGeom prst="rect">
            <a:avLst/>
          </a:prstGeom>
          <a:ln w="0">
            <a:noFill/>
          </a:ln>
        </p:spPr>
      </p:pic>
      <p:pic>
        <p:nvPicPr>
          <p:cNvPr id="586" name="Bild 3" descr="Datei_001.png"/>
          <p:cNvPicPr/>
          <p:nvPr/>
        </p:nvPicPr>
        <p:blipFill>
          <a:blip r:embed="rId2"/>
          <a:stretch/>
        </p:blipFill>
        <p:spPr>
          <a:xfrm rot="309000">
            <a:off x="104760" y="137592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2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9"/>
          <p:cNvSpPr/>
          <p:nvPr/>
        </p:nvSpPr>
        <p:spPr>
          <a:xfrm rot="5400000">
            <a:off x="8214480" y="479232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Abgerundetes Rechteck 1"/>
          <p:cNvSpPr/>
          <p:nvPr/>
        </p:nvSpPr>
        <p:spPr>
          <a:xfrm>
            <a:off x="252360" y="755640"/>
            <a:ext cx="8707320" cy="1758960"/>
          </a:xfrm>
          <a:prstGeom prst="roundRect">
            <a:avLst>
              <a:gd name="adj" fmla="val 1384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Gruppierung 3"/>
          <p:cNvGrpSpPr/>
          <p:nvPr/>
        </p:nvGrpSpPr>
        <p:grpSpPr>
          <a:xfrm>
            <a:off x="252360" y="2711520"/>
            <a:ext cx="8707320" cy="3832200"/>
            <a:chOff x="252360" y="2711520"/>
            <a:chExt cx="8707320" cy="3832200"/>
          </a:xfrm>
        </p:grpSpPr>
        <p:sp>
          <p:nvSpPr>
            <p:cNvPr id="695" name="Abgerundetes Rechteck 16"/>
            <p:cNvSpPr/>
            <p:nvPr/>
          </p:nvSpPr>
          <p:spPr>
            <a:xfrm>
              <a:off x="252360" y="2711520"/>
              <a:ext cx="41860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Abgerundetes Rechteck 17"/>
            <p:cNvSpPr/>
            <p:nvPr/>
          </p:nvSpPr>
          <p:spPr>
            <a:xfrm>
              <a:off x="252360" y="4722840"/>
              <a:ext cx="41860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Abgerundetes Rechteck 18"/>
            <p:cNvSpPr/>
            <p:nvPr/>
          </p:nvSpPr>
          <p:spPr>
            <a:xfrm>
              <a:off x="4771800" y="2711520"/>
              <a:ext cx="41878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Abgerundetes Rechteck 19"/>
            <p:cNvSpPr/>
            <p:nvPr/>
          </p:nvSpPr>
          <p:spPr>
            <a:xfrm>
              <a:off x="4771800" y="4722840"/>
              <a:ext cx="4187880" cy="182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9" name="Rechteck 21" descr=""/>
          <p:cNvPicPr/>
          <p:nvPr/>
        </p:nvPicPr>
        <p:blipFill>
          <a:blip r:embed="rId1"/>
          <a:stretch/>
        </p:blipFill>
        <p:spPr>
          <a:xfrm>
            <a:off x="317520" y="2633760"/>
            <a:ext cx="609480" cy="1487520"/>
          </a:xfrm>
          <a:prstGeom prst="rect">
            <a:avLst/>
          </a:prstGeom>
          <a:ln w="0">
            <a:noFill/>
          </a:ln>
        </p:spPr>
      </p:pic>
      <p:pic>
        <p:nvPicPr>
          <p:cNvPr id="700" name="Rechteck 22" descr=""/>
          <p:cNvPicPr/>
          <p:nvPr/>
        </p:nvPicPr>
        <p:blipFill>
          <a:blip r:embed="rId2"/>
          <a:stretch/>
        </p:blipFill>
        <p:spPr>
          <a:xfrm>
            <a:off x="4883040" y="2646360"/>
            <a:ext cx="554040" cy="1487520"/>
          </a:xfrm>
          <a:prstGeom prst="rect">
            <a:avLst/>
          </a:prstGeom>
          <a:ln w="0">
            <a:noFill/>
          </a:ln>
        </p:spPr>
      </p:pic>
      <p:pic>
        <p:nvPicPr>
          <p:cNvPr id="701" name="Rechteck 24" descr=""/>
          <p:cNvPicPr/>
          <p:nvPr/>
        </p:nvPicPr>
        <p:blipFill>
          <a:blip r:embed="rId3"/>
          <a:stretch/>
        </p:blipFill>
        <p:spPr>
          <a:xfrm>
            <a:off x="378000" y="4675320"/>
            <a:ext cx="579240" cy="1493640"/>
          </a:xfrm>
          <a:prstGeom prst="rect">
            <a:avLst/>
          </a:prstGeom>
          <a:ln w="0">
            <a:noFill/>
          </a:ln>
        </p:spPr>
      </p:pic>
      <p:pic>
        <p:nvPicPr>
          <p:cNvPr id="702" name="Rechteck 25" descr=""/>
          <p:cNvPicPr/>
          <p:nvPr/>
        </p:nvPicPr>
        <p:blipFill>
          <a:blip r:embed="rId4"/>
          <a:stretch/>
        </p:blipFill>
        <p:spPr>
          <a:xfrm>
            <a:off x="4913280" y="4687920"/>
            <a:ext cx="628560" cy="1493640"/>
          </a:xfrm>
          <a:prstGeom prst="rect">
            <a:avLst/>
          </a:prstGeom>
          <a:ln w="0">
            <a:noFill/>
          </a:ln>
        </p:spPr>
      </p:pic>
      <p:sp>
        <p:nvSpPr>
          <p:cNvPr id="703" name="Rechteck 3"/>
          <p:cNvSpPr/>
          <p:nvPr/>
        </p:nvSpPr>
        <p:spPr>
          <a:xfrm>
            <a:off x="517680" y="95580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Zu viele Nachkommen, begrenzte Ressourcen, gleichbleibende Population - was lässt sich daraus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 folg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Seite 20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Abgerundetes Rechteck 20"/>
          <p:cNvSpPr/>
          <p:nvPr/>
        </p:nvSpPr>
        <p:spPr>
          <a:xfrm>
            <a:off x="4772160" y="2732040"/>
            <a:ext cx="4187520" cy="1800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Rechteck 23" descr=""/>
          <p:cNvPicPr/>
          <p:nvPr/>
        </p:nvPicPr>
        <p:blipFill>
          <a:blip r:embed="rId5"/>
          <a:stretch/>
        </p:blipFill>
        <p:spPr>
          <a:xfrm>
            <a:off x="1736640" y="-165240"/>
            <a:ext cx="5608800" cy="1798920"/>
          </a:xfrm>
          <a:prstGeom prst="rect">
            <a:avLst/>
          </a:prstGeom>
          <a:ln w="0">
            <a:noFill/>
          </a:ln>
        </p:spPr>
      </p:pic>
      <p:sp>
        <p:nvSpPr>
          <p:cNvPr id="707" name="Rechteck 12"/>
          <p:cNvSpPr/>
          <p:nvPr/>
        </p:nvSpPr>
        <p:spPr>
          <a:xfrm>
            <a:off x="982800" y="279576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Die Überproduktion von Nachkommen führt zwischen den Kreuzottern zu Konkurrenz, einem Wettbewerb um Nahrung, Lebensraum und Geschlechtspartn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hteck 13"/>
          <p:cNvSpPr/>
          <p:nvPr/>
        </p:nvSpPr>
        <p:spPr>
          <a:xfrm>
            <a:off x="982800" y="482112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Durch den Wettbewerb sterben die meisten Nachkommen der Kreuzott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hteck 14"/>
          <p:cNvSpPr/>
          <p:nvPr/>
        </p:nvSpPr>
        <p:spPr>
          <a:xfrm>
            <a:off x="5568840" y="2970360"/>
            <a:ext cx="33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Die Kreuzottern haben sehr unterschiedliche Nachkom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hteck 15"/>
          <p:cNvSpPr/>
          <p:nvPr/>
        </p:nvSpPr>
        <p:spPr>
          <a:xfrm>
            <a:off x="5568840" y="4856040"/>
            <a:ext cx="32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Nur ein kleiner Teil der Kreuzottern wird alt genug und kann sich fortpflanz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                            Seite 21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Bild 1" descr="Datei_001.png"/>
          <p:cNvPicPr/>
          <p:nvPr/>
        </p:nvPicPr>
        <p:blipFill>
          <a:blip r:embed="rId1"/>
          <a:stretch/>
        </p:blipFill>
        <p:spPr>
          <a:xfrm>
            <a:off x="0" y="304920"/>
            <a:ext cx="5329080" cy="6257880"/>
          </a:xfrm>
          <a:prstGeom prst="rect">
            <a:avLst/>
          </a:prstGeom>
          <a:ln w="0">
            <a:noFill/>
          </a:ln>
        </p:spPr>
      </p:pic>
      <p:sp>
        <p:nvSpPr>
          <p:cNvPr id="713" name="Textfeld 3"/>
          <p:cNvSpPr/>
          <p:nvPr/>
        </p:nvSpPr>
        <p:spPr>
          <a:xfrm>
            <a:off x="3429000" y="30492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Graue Schnecken sind in ein Gebiet eingewandert, in welchem der Boden fast schwarz mit weißen Steinen ist. Vögel suchen mit dem Auge nach den Schnecken um sie zu fress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feld 4"/>
          <p:cNvSpPr/>
          <p:nvPr/>
        </p:nvSpPr>
        <p:spPr>
          <a:xfrm>
            <a:off x="5605560" y="3071880"/>
            <a:ext cx="347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Erstelle ein Wirkungs-gefüge, was mit der Population der Schnecken im Laufe vieler Generationen nach der Theorie Darwins passieren wi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Seite 22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59"/>
          <p:cNvSpPr/>
          <p:nvPr/>
        </p:nvSpPr>
        <p:spPr>
          <a:xfrm rot="16200000">
            <a:off x="-71280" y="2928960"/>
            <a:ext cx="966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Bild 1" descr="Madeira 2.png"/>
          <p:cNvPicPr/>
          <p:nvPr/>
        </p:nvPicPr>
        <p:blipFill>
          <a:blip r:embed="rId1"/>
          <a:stretch/>
        </p:blipFill>
        <p:spPr>
          <a:xfrm rot="151800">
            <a:off x="520560" y="1168200"/>
            <a:ext cx="8850600" cy="3684600"/>
          </a:xfrm>
          <a:prstGeom prst="rect">
            <a:avLst/>
          </a:prstGeom>
          <a:ln w="0">
            <a:noFill/>
          </a:ln>
        </p:spPr>
      </p:pic>
      <p:pic>
        <p:nvPicPr>
          <p:cNvPr id="590" name="Bild 3" descr="Datei_001.png"/>
          <p:cNvPicPr/>
          <p:nvPr/>
        </p:nvPicPr>
        <p:blipFill>
          <a:blip r:embed="rId2"/>
          <a:stretch/>
        </p:blipFill>
        <p:spPr>
          <a:xfrm rot="309000">
            <a:off x="104760" y="1375920"/>
            <a:ext cx="9144000" cy="4848480"/>
          </a:xfrm>
          <a:prstGeom prst="rect">
            <a:avLst/>
          </a:prstGeom>
          <a:ln w="0">
            <a:noFill/>
          </a:ln>
        </p:spPr>
      </p:pic>
      <p:pic>
        <p:nvPicPr>
          <p:cNvPr id="591" name="Bild 4" descr="mini.png"/>
          <p:cNvPicPr/>
          <p:nvPr/>
        </p:nvPicPr>
        <p:blipFill>
          <a:blip r:embed="rId3"/>
          <a:stretch/>
        </p:blipFill>
        <p:spPr>
          <a:xfrm rot="2317800">
            <a:off x="2241360" y="3163680"/>
            <a:ext cx="976320" cy="9824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3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59"/>
          <p:cNvSpPr/>
          <p:nvPr/>
        </p:nvSpPr>
        <p:spPr>
          <a:xfrm rot="5400000">
            <a:off x="8214480" y="479232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Bild 2" descr="Lupe.png"/>
          <p:cNvPicPr/>
          <p:nvPr/>
        </p:nvPicPr>
        <p:blipFill>
          <a:blip r:embed="rId1"/>
          <a:stretch/>
        </p:blipFill>
        <p:spPr>
          <a:xfrm>
            <a:off x="-3540240" y="0"/>
            <a:ext cx="12287520" cy="10685520"/>
          </a:xfrm>
          <a:prstGeom prst="rect">
            <a:avLst/>
          </a:prstGeom>
          <a:ln w="0">
            <a:noFill/>
          </a:ln>
        </p:spPr>
      </p:pic>
      <p:pic>
        <p:nvPicPr>
          <p:cNvPr id="595" name="Bild 4" descr="mini.png"/>
          <p:cNvPicPr/>
          <p:nvPr/>
        </p:nvPicPr>
        <p:blipFill>
          <a:blip r:embed="rId2"/>
          <a:stretch/>
        </p:blipFill>
        <p:spPr>
          <a:xfrm rot="2317800">
            <a:off x="3400200" y="1625400"/>
            <a:ext cx="3421080" cy="3443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4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9"/>
          <p:cNvSpPr/>
          <p:nvPr/>
        </p:nvSpPr>
        <p:spPr>
          <a:xfrm rot="5400000">
            <a:off x="8107200" y="324288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Bild 4" descr="mini.png"/>
          <p:cNvPicPr/>
          <p:nvPr/>
        </p:nvPicPr>
        <p:blipFill>
          <a:blip r:embed="rId1"/>
          <a:stretch/>
        </p:blipFill>
        <p:spPr>
          <a:xfrm rot="2974800">
            <a:off x="709200" y="1152000"/>
            <a:ext cx="3419640" cy="3441960"/>
          </a:xfrm>
          <a:prstGeom prst="rect">
            <a:avLst/>
          </a:prstGeom>
          <a:ln w="0">
            <a:noFill/>
          </a:ln>
        </p:spPr>
      </p:pic>
      <p:pic>
        <p:nvPicPr>
          <p:cNvPr id="599" name="Bild 1" descr="riesig.png"/>
          <p:cNvPicPr/>
          <p:nvPr/>
        </p:nvPicPr>
        <p:blipFill>
          <a:blip r:embed="rId2"/>
          <a:stretch/>
        </p:blipFill>
        <p:spPr>
          <a:xfrm rot="18393000">
            <a:off x="3081240" y="2175840"/>
            <a:ext cx="6723000" cy="39038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5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59"/>
          <p:cNvSpPr/>
          <p:nvPr/>
        </p:nvSpPr>
        <p:spPr>
          <a:xfrm rot="5400000">
            <a:off x="7723440" y="3632400"/>
            <a:ext cx="966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Bild 1" descr="Madeira 2.png"/>
          <p:cNvPicPr/>
          <p:nvPr/>
        </p:nvPicPr>
        <p:blipFill>
          <a:blip r:embed="rId1"/>
          <a:stretch/>
        </p:blipFill>
        <p:spPr>
          <a:xfrm rot="151800">
            <a:off x="520560" y="1168200"/>
            <a:ext cx="8850600" cy="3684600"/>
          </a:xfrm>
          <a:prstGeom prst="rect">
            <a:avLst/>
          </a:prstGeom>
          <a:ln w="0">
            <a:noFill/>
          </a:ln>
        </p:spPr>
      </p:pic>
      <p:pic>
        <p:nvPicPr>
          <p:cNvPr id="603" name="Bild 2" descr="normal.png"/>
          <p:cNvPicPr/>
          <p:nvPr/>
        </p:nvPicPr>
        <p:blipFill>
          <a:blip r:embed="rId2"/>
          <a:stretch/>
        </p:blipFill>
        <p:spPr>
          <a:xfrm rot="13035000">
            <a:off x="5472000" y="236160"/>
            <a:ext cx="3741840" cy="25956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6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59"/>
          <p:cNvSpPr/>
          <p:nvPr/>
        </p:nvSpPr>
        <p:spPr>
          <a:xfrm rot="5400000">
            <a:off x="8214480" y="479232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7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uppierung 15"/>
          <p:cNvGrpSpPr/>
          <p:nvPr/>
        </p:nvGrpSpPr>
        <p:grpSpPr>
          <a:xfrm>
            <a:off x="1577880" y="476280"/>
            <a:ext cx="6801120" cy="5378400"/>
            <a:chOff x="1577880" y="476280"/>
            <a:chExt cx="6801120" cy="5378400"/>
          </a:xfrm>
        </p:grpSpPr>
        <p:pic>
          <p:nvPicPr>
            <p:cNvPr id="608" name="Bild 2" descr="normal.png"/>
            <p:cNvPicPr/>
            <p:nvPr/>
          </p:nvPicPr>
          <p:blipFill>
            <a:blip r:embed="rId1"/>
            <a:stretch/>
          </p:blipFill>
          <p:spPr>
            <a:xfrm>
              <a:off x="3460320" y="476280"/>
              <a:ext cx="222876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Bild 4" descr="mini.png"/>
            <p:cNvPicPr/>
            <p:nvPr/>
          </p:nvPicPr>
          <p:blipFill>
            <a:blip r:embed="rId2"/>
            <a:stretch/>
          </p:blipFill>
          <p:spPr>
            <a:xfrm>
              <a:off x="1577880" y="4351320"/>
              <a:ext cx="1479240" cy="14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Bild 1" descr="riesig.png"/>
            <p:cNvPicPr/>
            <p:nvPr/>
          </p:nvPicPr>
          <p:blipFill>
            <a:blip r:embed="rId3"/>
            <a:stretch/>
          </p:blipFill>
          <p:spPr>
            <a:xfrm>
              <a:off x="5470200" y="4165560"/>
              <a:ext cx="2908800" cy="168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11" name="Gerade Verbindung mit Pfeil 2"/>
            <p:cNvCxnSpPr/>
            <p:nvPr/>
          </p:nvCxnSpPr>
          <p:spPr>
            <a:xfrm flipH="1">
              <a:off x="2403000" y="2115720"/>
              <a:ext cx="2177280" cy="2235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2" name="Gerade Verbindung mit Pfeil 8"/>
            <p:cNvCxnSpPr/>
            <p:nvPr/>
          </p:nvCxnSpPr>
          <p:spPr>
            <a:xfrm>
              <a:off x="4579560" y="2115720"/>
              <a:ext cx="2253240" cy="2229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13" name="Textfeld 14"/>
            <p:cNvSpPr/>
            <p:nvPr/>
          </p:nvSpPr>
          <p:spPr>
            <a:xfrm>
              <a:off x="3148920" y="2125440"/>
              <a:ext cx="1007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500" spc="-1" strike="noStrike">
                  <a:solidFill>
                    <a:srgbClr val="008000"/>
                  </a:solidFill>
                  <a:latin typeface="Calibri"/>
                </a:rPr>
                <a:t>?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feld 16"/>
            <p:cNvSpPr/>
            <p:nvPr/>
          </p:nvSpPr>
          <p:spPr>
            <a:xfrm>
              <a:off x="5206680" y="2125440"/>
              <a:ext cx="10076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1500" spc="-1" strike="noStrike">
                  <a:solidFill>
                    <a:srgbClr val="008000"/>
                  </a:solidFill>
                  <a:latin typeface="Calibri"/>
                </a:rPr>
                <a:t>?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Text Box 59"/>
          <p:cNvSpPr/>
          <p:nvPr/>
        </p:nvSpPr>
        <p:spPr>
          <a:xfrm rot="5400000">
            <a:off x="8214480" y="4792320"/>
            <a:ext cx="96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8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7" name="Gruppierung 1"/>
          <p:cNvGrpSpPr/>
          <p:nvPr/>
        </p:nvGrpSpPr>
        <p:grpSpPr>
          <a:xfrm>
            <a:off x="3699000" y="2494080"/>
            <a:ext cx="5241960" cy="3747960"/>
            <a:chOff x="3699000" y="2494080"/>
            <a:chExt cx="5241960" cy="3747960"/>
          </a:xfrm>
        </p:grpSpPr>
        <p:pic>
          <p:nvPicPr>
            <p:cNvPr id="618" name="Bild 1" descr="Wirkungsgefüge.jpg"/>
            <p:cNvPicPr/>
            <p:nvPr/>
          </p:nvPicPr>
          <p:blipFill>
            <a:blip r:embed="rId1"/>
            <a:stretch/>
          </p:blipFill>
          <p:spPr>
            <a:xfrm>
              <a:off x="4768200" y="2494080"/>
              <a:ext cx="417276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"/>
            <p:cNvSpPr/>
            <p:nvPr/>
          </p:nvSpPr>
          <p:spPr>
            <a:xfrm>
              <a:off x="3704760" y="2747520"/>
              <a:ext cx="14461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46800" anchor="ctr">
              <a:spAutoFit/>
            </a:bodyPr>
            <a:p>
              <a:pPr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95760"/>
                  <a:tab algn="l" pos="525312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ff"/>
                  </a:solidFill>
                  <a:latin typeface="Calibri"/>
                  <a:ea typeface="ヒラギノ角ゴ Pro W3"/>
                </a:rPr>
                <a:t>Ursach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1"/>
            <p:cNvSpPr/>
            <p:nvPr/>
          </p:nvSpPr>
          <p:spPr>
            <a:xfrm>
              <a:off x="4389120" y="3999240"/>
              <a:ext cx="14461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46800" anchor="ctr">
              <a:spAutoFit/>
            </a:bodyPr>
            <a:p>
              <a:pPr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95760"/>
                  <a:tab algn="l" pos="525312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alibri"/>
                  <a:ea typeface="ヒラギノ角ゴ Pro W3"/>
                </a:rPr>
                <a:t>Wirku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Rechteck 7"/>
            <p:cNvSpPr/>
            <p:nvPr/>
          </p:nvSpPr>
          <p:spPr>
            <a:xfrm>
              <a:off x="3699000" y="2681280"/>
              <a:ext cx="1579680" cy="6109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hteck 8"/>
            <p:cNvSpPr/>
            <p:nvPr/>
          </p:nvSpPr>
          <p:spPr>
            <a:xfrm>
              <a:off x="4357800" y="3917880"/>
              <a:ext cx="1822320" cy="612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1"/>
          <p:cNvSpPr/>
          <p:nvPr/>
        </p:nvSpPr>
        <p:spPr>
          <a:xfrm>
            <a:off x="233280" y="3634560"/>
            <a:ext cx="361008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46800" anchor="ctr">
            <a:sp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  <a:ea typeface="Calibri"/>
              </a:rPr>
              <a:t>Versuche die Frage zu beantworten, indem du aus den Kärtchen ein Wirkungsgefüge erstell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4" name="Gruppierung 10"/>
          <p:cNvGrpSpPr/>
          <p:nvPr/>
        </p:nvGrpSpPr>
        <p:grpSpPr>
          <a:xfrm>
            <a:off x="233280" y="384120"/>
            <a:ext cx="2908440" cy="2300400"/>
            <a:chOff x="233280" y="384120"/>
            <a:chExt cx="2908440" cy="2300400"/>
          </a:xfrm>
        </p:grpSpPr>
        <p:pic>
          <p:nvPicPr>
            <p:cNvPr id="625" name="Bild 2" descr="normal.png"/>
            <p:cNvPicPr/>
            <p:nvPr/>
          </p:nvPicPr>
          <p:blipFill>
            <a:blip r:embed="rId2"/>
            <a:stretch/>
          </p:blipFill>
          <p:spPr>
            <a:xfrm>
              <a:off x="1038240" y="384120"/>
              <a:ext cx="953280" cy="66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Bild 4" descr="mini.png"/>
            <p:cNvPicPr/>
            <p:nvPr/>
          </p:nvPicPr>
          <p:blipFill>
            <a:blip r:embed="rId3"/>
            <a:stretch/>
          </p:blipFill>
          <p:spPr>
            <a:xfrm>
              <a:off x="233280" y="2041560"/>
              <a:ext cx="6325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Bild 1" descr="riesig.png"/>
            <p:cNvPicPr/>
            <p:nvPr/>
          </p:nvPicPr>
          <p:blipFill>
            <a:blip r:embed="rId4"/>
            <a:stretch/>
          </p:blipFill>
          <p:spPr>
            <a:xfrm>
              <a:off x="1897920" y="1962000"/>
              <a:ext cx="1243800" cy="722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28" name="Gerade Verbindung mit Pfeil 14"/>
            <p:cNvCxnSpPr/>
            <p:nvPr/>
          </p:nvCxnSpPr>
          <p:spPr>
            <a:xfrm flipH="1">
              <a:off x="585360" y="1085400"/>
              <a:ext cx="932400" cy="95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9" name="Gerade Verbindung mit Pfeil 15"/>
            <p:cNvCxnSpPr/>
            <p:nvPr/>
          </p:nvCxnSpPr>
          <p:spPr>
            <a:xfrm>
              <a:off x="1517760" y="1085760"/>
              <a:ext cx="962640" cy="953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0" name="Textfeld 16"/>
            <p:cNvSpPr/>
            <p:nvPr/>
          </p:nvSpPr>
          <p:spPr>
            <a:xfrm>
              <a:off x="905040" y="1089360"/>
              <a:ext cx="430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4800" spc="-1" strike="noStrike">
                  <a:solidFill>
                    <a:srgbClr val="008000"/>
                  </a:solidFill>
                  <a:latin typeface="Calibri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Textfeld 17"/>
            <p:cNvSpPr/>
            <p:nvPr/>
          </p:nvSpPr>
          <p:spPr>
            <a:xfrm>
              <a:off x="1785240" y="1089360"/>
              <a:ext cx="430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4800" spc="-1" strike="noStrike">
                  <a:solidFill>
                    <a:srgbClr val="008000"/>
                  </a:solidFill>
                  <a:latin typeface="Calibri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Textfeld 18"/>
          <p:cNvSpPr/>
          <p:nvPr/>
        </p:nvSpPr>
        <p:spPr>
          <a:xfrm>
            <a:off x="2884320" y="1089000"/>
            <a:ext cx="53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alibri"/>
              </a:rPr>
              <a:t>Wie kam es dazu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59"/>
          <p:cNvSpPr/>
          <p:nvPr/>
        </p:nvSpPr>
        <p:spPr>
          <a:xfrm>
            <a:off x="168120" y="6534000"/>
            <a:ext cx="87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201_p_darwi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Seite 9 von 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59"/>
          <p:cNvSpPr/>
          <p:nvPr/>
        </p:nvSpPr>
        <p:spPr>
          <a:xfrm rot="16200000">
            <a:off x="-190080" y="54108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on: H. Karsa, ZPG Biologie 2018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Bild 3" descr="05 20 Grzedy - Wydmy_009.jpg"/>
          <p:cNvPicPr/>
          <p:nvPr/>
        </p:nvPicPr>
        <p:blipFill>
          <a:blip r:embed="rId1"/>
          <a:stretch/>
        </p:blipFill>
        <p:spPr>
          <a:xfrm>
            <a:off x="566640" y="0"/>
            <a:ext cx="85773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5T10:11:30Z</dcterms:created>
  <dc:creator>Hunor Karsa</dc:creator>
  <dc:description/>
  <dc:language>en-US</dc:language>
  <cp:lastModifiedBy>Hunor Karsa</cp:lastModifiedBy>
  <dcterms:modified xsi:type="dcterms:W3CDTF">2018-10-12T08:46:38Z</dcterms:modified>
  <cp:revision>47</cp:revision>
  <dc:subject/>
  <dc:title>PowerPoint-Präsentation</dc:title>
</cp:coreProperties>
</file>