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38F-0562-44E6-AFBB-CC403049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18-47EC-4523-8E64-9FADAA0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D88-0544-4B1C-BCB6-D3BBDAE1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818-B44B-4BD3-A9E8-7631F017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640-AEAE-4B40-A067-2D88427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94F-5ED7-449A-857A-97FE90D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C87-452F-40DD-A510-73A27676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D7A-8B97-4BE3-8140-9DAA559A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C5B-5DD0-48B6-8244-0AA631B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E05-15DB-42A3-AC52-8E1465D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92F-63C4-402D-9F97-BFD8162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6FD-4DC8-4DF2-B2DC-2B06509A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A4374-B4EE-43CE-8FB6-A8B765EAEE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2" descr="Cartoon Landgang.jpg"/>
          <p:cNvPicPr/>
          <p:nvPr/>
        </p:nvPicPr>
        <p:blipFill>
          <a:blip r:embed="rId1"/>
          <a:stretch/>
        </p:blipFill>
        <p:spPr>
          <a:xfrm>
            <a:off x="-27000" y="-101520"/>
            <a:ext cx="9171000" cy="7434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10301_cartoon_landgang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              Seite 1 von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hteck 1" descr=""/>
          <p:cNvPicPr/>
          <p:nvPr/>
        </p:nvPicPr>
        <p:blipFill>
          <a:blip r:embed="rId2"/>
          <a:stretch/>
        </p:blipFill>
        <p:spPr>
          <a:xfrm>
            <a:off x="8607600" y="324000"/>
            <a:ext cx="591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5T10:11:30Z</dcterms:created>
  <dc:creator>Hunor Karsa</dc:creator>
  <dc:description/>
  <dc:language>en-US</dc:language>
  <cp:lastModifiedBy>Admin</cp:lastModifiedBy>
  <dcterms:modified xsi:type="dcterms:W3CDTF">2018-09-24T19:06:46Z</dcterms:modified>
  <cp:revision>29</cp:revision>
  <dc:subject/>
  <dc:title>PowerPoint-Präsentation</dc:title>
</cp:coreProperties>
</file>