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4EE-01ED-4E1E-8711-FBD5F2C9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292-C1D3-4927-B0A2-EA2B7CF1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CA6-8D4E-494D-B405-E00E8DE9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B48-0A7A-4FA4-AAE0-440924B4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0B3-0753-4A36-9536-43FEBEB5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435-684E-4C49-9CC9-7B002FD9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DEC-D077-43F2-B68A-8B7362F7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217-7AAF-45F5-A2E7-745B54CF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712-EAEB-4687-BD1C-DBAB9FE0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8BA-C3E3-44F0-8939-40CF9478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C0D-1348-40FF-A93D-EE32B2DE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13C-7B12-4DDE-AC00-6BAA799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D65F0-8067-47AF-A60B-1A8C6F63D7E1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creativecommons.org/licenses/by-sa/3.0/de/" TargetMode="External"/><Relationship Id="rId2" Type="http://schemas.openxmlformats.org/officeDocument/2006/relationships/hyperlink" Target="https://commons.wikimedia.org/wiki/File:Micromet3m.jp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creativecommons.org/licenses/by-sa/3.0/de/" TargetMode="External"/><Relationship Id="rId2" Type="http://schemas.openxmlformats.org/officeDocument/2006/relationships/hyperlink" Target="https://de.wikipedia.org/wiki/Datei:Elektronenmikroskop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s://creativecommons.org/publicdomain/zero/1.0/deed.de" TargetMode="External"/><Relationship Id="rId5" Type="http://schemas.openxmlformats.org/officeDocument/2006/relationships/hyperlink" Target="https://commons.wikimedia.org/wiki/File:DNA_Under_electron_microscope_Image_3576B-PH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reativecommons.org/publicdomain/zero/1.0/deed.de" TargetMode="External"/><Relationship Id="rId2" Type="http://schemas.openxmlformats.org/officeDocument/2006/relationships/hyperlink" Target="https://commons.wikimedia.org/wiki/File:DNA_Under_electron_microscope_Image_3576B-PH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en.wikipedia.org/wiki/Photo_51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59280" y="3959280"/>
            <a:ext cx="38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ourier New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Courier New"/>
              </a:rPr>
              <a:t>Micromet3m“ von Dolbunov (eigenes Werk) [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CC-BY-SA 3.0</a:t>
            </a:r>
            <a:r>
              <a:rPr b="0" lang="de-DE" sz="800" spc="-1" strike="noStrike">
                <a:solidFill>
                  <a:srgbClr val="000000"/>
                </a:solidFill>
                <a:latin typeface="Courier New"/>
              </a:rPr>
              <a:t>], via 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Courier New"/>
                <a:hlinkClick r:id="rId2"/>
              </a:rPr>
              <a:t>Wikimedia Comm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36560" y="331920"/>
            <a:ext cx="4519800" cy="3616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87640" y="4056120"/>
            <a:ext cx="3311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ourier New"/>
              </a:rPr>
              <a:t>Foto: A. Theil-Sch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079640" y="2588760"/>
            <a:ext cx="502920" cy="1731960"/>
          </a:xfrm>
          <a:prstGeom prst="line">
            <a:avLst/>
          </a:prstGeom>
          <a:ln w="3600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00360" y="2517480"/>
            <a:ext cx="576000" cy="1803240"/>
          </a:xfrm>
          <a:prstGeom prst="line">
            <a:avLst/>
          </a:prstGeom>
          <a:ln w="3600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664000" y="1438200"/>
            <a:ext cx="720720" cy="2882880"/>
          </a:xfrm>
          <a:prstGeom prst="line">
            <a:avLst/>
          </a:prstGeom>
          <a:ln w="3600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68360" y="5111640"/>
            <a:ext cx="74152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marL="503280" indent="-35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enne die mit Pfeilen gekennzeichneten Struktu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 indent="-35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läutere die Abbildu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240600" y="360360"/>
            <a:ext cx="2974680" cy="3527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360" y="71722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1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ilfekar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40000" y="1440000"/>
            <a:ext cx="7197480" cy="5830560"/>
            <a:chOff x="1440000" y="1440000"/>
            <a:chExt cx="7197480" cy="583056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40000" y="1440000"/>
              <a:ext cx="719748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327640" y="7008840"/>
              <a:ext cx="3309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Courier New"/>
                </a:rPr>
                <a:t>Foto: A. Theil-Schieb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44360" y="7174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10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ilfekart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975040" y="965160"/>
            <a:ext cx="4294080" cy="6065640"/>
            <a:chOff x="2975040" y="965160"/>
            <a:chExt cx="4294080" cy="60656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2975040" y="965160"/>
              <a:ext cx="4294080" cy="57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959280" y="6769080"/>
              <a:ext cx="3309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Courier New"/>
                </a:rPr>
                <a:t>Foto: A. Theil-Schieb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4360" y="7174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11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ausaufga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79640" y="1871640"/>
            <a:ext cx="78483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marL="412920" indent="-412920">
              <a:lnSpc>
                <a:spcPct val="93000"/>
              </a:lnSpc>
              <a:spcBef>
                <a:spcPts val="2276"/>
              </a:spcBef>
              <a:spcAft>
                <a:spcPts val="227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Haltet euer DNA-Modell in der korrekten Raumstruktur vor das Poster mit den zentralen Begriffen und Redewendungen der Stu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3000"/>
              </a:lnSpc>
              <a:spcBef>
                <a:spcPts val="2276"/>
              </a:spcBef>
              <a:spcAft>
                <a:spcPts val="227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Macht nun ein Foto mit eurem Han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3000"/>
              </a:lnSpc>
              <a:spcBef>
                <a:spcPts val="2276"/>
              </a:spcBef>
              <a:spcAft>
                <a:spcPts val="227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Erläutert mit Hilfe dieses Fotos einem Freund oder Familienmitglied die Struktur des DNA-Molekü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3000"/>
              </a:lnSpc>
              <a:spcBef>
                <a:spcPts val="2276"/>
              </a:spcBef>
              <a:spcAft>
                <a:spcPts val="22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360" y="7174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12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400720" y="216000"/>
            <a:ext cx="3924000" cy="6589440"/>
            <a:chOff x="5400720" y="216000"/>
            <a:chExt cx="3924000" cy="6589440"/>
          </a:xfrm>
        </p:grpSpPr>
        <p:sp>
          <p:nvSpPr>
            <p:cNvPr id="51" name=""/>
            <p:cNvSpPr/>
            <p:nvPr/>
          </p:nvSpPr>
          <p:spPr>
            <a:xfrm>
              <a:off x="5832360" y="6164280"/>
              <a:ext cx="179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Courier New"/>
                </a:rPr>
                <a:t>„</a:t>
              </a:r>
              <a:r>
                <a:rPr b="0" lang="de-DE" sz="800" spc="-1" strike="noStrike">
                  <a:solidFill>
                    <a:srgbClr val="000000"/>
                  </a:solidFill>
                  <a:latin typeface="Courier New"/>
                </a:rPr>
                <a:t>Elektronenmikroskop“ von Stahlkocher (eigenes Werk) [</a:t>
              </a:r>
              <a:r>
                <a:rPr b="0" lang="de-DE" sz="800" spc="-1" strike="noStrike" u="sng">
                  <a:solidFill>
                    <a:srgbClr val="ccccff"/>
                  </a:solidFill>
                  <a:uFillTx/>
                  <a:latin typeface="Courier New"/>
                  <a:hlinkClick r:id="rId1"/>
                </a:rPr>
                <a:t>CC-BY-SA 3.0</a:t>
              </a:r>
              <a:r>
                <a:rPr b="0" lang="de-DE" sz="800" spc="-1" strike="noStrike">
                  <a:solidFill>
                    <a:srgbClr val="000000"/>
                  </a:solidFill>
                  <a:latin typeface="Courier New"/>
                </a:rPr>
                <a:t>], via </a:t>
              </a:r>
              <a:r>
                <a:rPr b="0" lang="de-DE" sz="800" spc="-1" strike="noStrike" u="sng">
                  <a:solidFill>
                    <a:srgbClr val="ccccff"/>
                  </a:solidFill>
                  <a:uFillTx/>
                  <a:latin typeface="Courier New"/>
                  <a:hlinkClick r:id="rId2"/>
                </a:rPr>
                <a:t>Wikimedia Commons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7776720" y="216000"/>
              <a:ext cx="1548000" cy="64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400720" y="5256360"/>
              <a:ext cx="237600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ransmissions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lektrone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ikroskop (TE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840720" y="4102200"/>
              <a:ext cx="862560" cy="1154160"/>
            </a:xfrm>
            <a:prstGeom prst="line">
              <a:avLst/>
            </a:prstGeom>
            <a:ln w="3600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20720" y="712800"/>
            <a:ext cx="5830560" cy="4374720"/>
            <a:chOff x="720720" y="712800"/>
            <a:chExt cx="5830560" cy="4374720"/>
          </a:xfrm>
        </p:grpSpPr>
        <p:sp>
          <p:nvSpPr>
            <p:cNvPr id="56" name=""/>
            <p:cNvSpPr/>
            <p:nvPr/>
          </p:nvSpPr>
          <p:spPr>
            <a:xfrm>
              <a:off x="1295280" y="4752360"/>
              <a:ext cx="5256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Courier New"/>
                </a:rPr>
                <a:t>„</a:t>
              </a:r>
              <a:r>
                <a:rPr b="0" lang="de-DE" sz="800" spc="-1" strike="noStrike">
                  <a:solidFill>
                    <a:srgbClr val="000000"/>
                  </a:solidFill>
                  <a:latin typeface="Courier New"/>
                </a:rPr>
                <a:t>DNA under an electron microscope“ von [Unknown][</a:t>
              </a:r>
              <a:r>
                <a:rPr b="0" lang="de-DE" sz="800" spc="-1" strike="noStrike" u="sng">
                  <a:solidFill>
                    <a:srgbClr val="ccccff"/>
                  </a:solidFill>
                  <a:uFillTx/>
                  <a:latin typeface="Courier New"/>
                  <a:hlinkClick r:id="rId4"/>
                </a:rPr>
                <a:t>CC0</a:t>
              </a:r>
              <a:r>
                <a:rPr b="0" lang="de-DE" sz="800" spc="-1" strike="noStrike">
                  <a:solidFill>
                    <a:srgbClr val="000000"/>
                  </a:solidFill>
                  <a:latin typeface="Courier New"/>
                </a:rPr>
                <a:t>], via </a:t>
              </a:r>
              <a:r>
                <a:rPr b="0" lang="de-DE" sz="800" spc="-1" strike="noStrike" u="sng">
                  <a:solidFill>
                    <a:srgbClr val="ccccff"/>
                  </a:solidFill>
                  <a:uFillTx/>
                  <a:latin typeface="Courier New"/>
                  <a:hlinkClick r:id="rId5"/>
                </a:rPr>
                <a:t>Wikimedia Comm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720720" y="712800"/>
              <a:ext cx="5758920" cy="38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>
              <a:off x="866880" y="3929760"/>
              <a:ext cx="78876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953080" y="1655640"/>
              <a:ext cx="10065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de-DE" sz="2200" spc="-1" strike="noStrike">
                  <a:solidFill>
                    <a:srgbClr val="ff6600"/>
                  </a:solidFill>
                  <a:latin typeface="Arial"/>
                </a:rPr>
                <a:t>D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878560" y="2059200"/>
              <a:ext cx="433440" cy="747720"/>
            </a:xfrm>
            <a:prstGeom prst="line">
              <a:avLst/>
            </a:prstGeom>
            <a:ln w="3600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44360" y="7174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2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47640" y="5477040"/>
            <a:ext cx="85676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ormuliere noch offene Fragen zur Struktur des DNA-Molekü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016000" y="747720"/>
            <a:ext cx="5830920" cy="4374720"/>
            <a:chOff x="2016000" y="747720"/>
            <a:chExt cx="5830920" cy="4374720"/>
          </a:xfrm>
        </p:grpSpPr>
        <p:sp>
          <p:nvSpPr>
            <p:cNvPr id="64" name=""/>
            <p:cNvSpPr/>
            <p:nvPr/>
          </p:nvSpPr>
          <p:spPr>
            <a:xfrm>
              <a:off x="2592360" y="4787280"/>
              <a:ext cx="5254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Courier New"/>
                </a:rPr>
                <a:t>„</a:t>
              </a:r>
              <a:r>
                <a:rPr b="0" lang="de-DE" sz="800" spc="-1" strike="noStrike">
                  <a:solidFill>
                    <a:srgbClr val="000000"/>
                  </a:solidFill>
                  <a:latin typeface="Courier New"/>
                </a:rPr>
                <a:t>DNA under an electron microscope“ von [Unknown][</a:t>
              </a:r>
              <a:r>
                <a:rPr b="0" lang="de-DE" sz="800" spc="-1" strike="noStrike" u="sng">
                  <a:solidFill>
                    <a:srgbClr val="ccccff"/>
                  </a:solidFill>
                  <a:uFillTx/>
                  <a:latin typeface="Courier New"/>
                  <a:hlinkClick r:id="rId1"/>
                </a:rPr>
                <a:t>CC0</a:t>
              </a:r>
              <a:r>
                <a:rPr b="0" lang="de-DE" sz="800" spc="-1" strike="noStrike">
                  <a:solidFill>
                    <a:srgbClr val="000000"/>
                  </a:solidFill>
                  <a:latin typeface="Courier New"/>
                </a:rPr>
                <a:t>], via </a:t>
              </a:r>
              <a:r>
                <a:rPr b="0" lang="de-DE" sz="800" spc="-1" strike="noStrike" u="sng">
                  <a:solidFill>
                    <a:srgbClr val="ccccff"/>
                  </a:solidFill>
                  <a:uFillTx/>
                  <a:latin typeface="Courier New"/>
                  <a:hlinkClick r:id="rId2"/>
                </a:rPr>
                <a:t>Wikimedia Comm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2016000" y="747720"/>
              <a:ext cx="5757840" cy="38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2162160" y="3964680"/>
              <a:ext cx="789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248000" y="1690560"/>
              <a:ext cx="10065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de-DE" sz="2200" spc="-1" strike="noStrike">
                  <a:solidFill>
                    <a:srgbClr val="ff6600"/>
                  </a:solidFill>
                  <a:latin typeface="Arial"/>
                </a:rPr>
                <a:t>D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174920" y="2094120"/>
              <a:ext cx="433080" cy="747720"/>
            </a:xfrm>
            <a:prstGeom prst="line">
              <a:avLst/>
            </a:prstGeom>
            <a:ln w="3600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44360" y="7174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3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20720" y="1008000"/>
            <a:ext cx="8567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standteile und Struktur des DNA-Molekü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00360" y="2160720"/>
            <a:ext cx="26020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987"/>
              </a:spcBef>
              <a:spcAft>
                <a:spcPts val="19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Arial"/>
                <a:ea typeface="Noto Sans CJK SC Regular"/>
              </a:rPr>
              <a:t>&gt;&gt; Arbeitsbl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360" y="7174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4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716040" y="216000"/>
            <a:ext cx="8717040" cy="6694200"/>
            <a:chOff x="716040" y="216000"/>
            <a:chExt cx="8717040" cy="6694200"/>
          </a:xfrm>
        </p:grpSpPr>
        <p:sp>
          <p:nvSpPr>
            <p:cNvPr id="74" name=""/>
            <p:cNvSpPr/>
            <p:nvPr/>
          </p:nvSpPr>
          <p:spPr>
            <a:xfrm>
              <a:off x="716040" y="216000"/>
              <a:ext cx="8042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Meilensteine der DNA-Forschu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-1755000" y="3426120"/>
              <a:ext cx="6293160" cy="674640"/>
            </a:xfrm>
            <a:prstGeom prst="rightArrow">
              <a:avLst>
                <a:gd name="adj1" fmla="val 24944"/>
                <a:gd name="adj2" fmla="val 61238"/>
              </a:avLst>
            </a:prstGeom>
            <a:solidFill>
              <a:srgbClr val="5e2750"/>
            </a:solidFill>
            <a:ln w="36000">
              <a:solidFill>
                <a:srgbClr val="7721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62120" y="5757840"/>
              <a:ext cx="337824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18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iedrich Miescher isoliert eine Substanz mit unbekannter Funktion aus den Zellkernen von Eiterzellen. Er bezeichnet sie als 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Nuclei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14640" y="4541760"/>
              <a:ext cx="358128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19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hoebus Levene beschreibt den Aufbau dieser Substanz aus vier unterschiedlichen Bausteinen, den 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Nukleotid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 Die Substanz wird nun nach ihrer chemischen Zusammensetzung als 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bezeichne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67160" y="3460680"/>
              <a:ext cx="29052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19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swald Avery weist nach, dass die Übertragung erblicher Information auf der Weitergabe von DNA beruh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18240" y="1754280"/>
              <a:ext cx="34462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1952 / 19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rwin Chargaff zeigt, dass in einem DNA-Molekül die Nukleotide A und T sowie C und G stets in exakt gleicher Menge vorliege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osalind Franklin gelingen Röntgenaufnahmen des DNA-Moleküls, die auf dessen räumliche Struktur schließen lasse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68960" y="617400"/>
              <a:ext cx="23641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19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James Watson und Francis Crick beschreiben den Aufbau und die räumliche Struktur des DNA-Molekül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44360" y="7174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5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7280" y="720720"/>
            <a:ext cx="2879640" cy="2879640"/>
          </a:xfrm>
          <a:prstGeom prst="rect">
            <a:avLst/>
          </a:prstGeom>
          <a:noFill/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86040" bIns="54000" anchor="ctr">
            <a:noAutofit/>
          </a:bodyPr>
          <a:p>
            <a:pPr algn="ctr">
              <a:lnSpc>
                <a:spcPct val="93000"/>
              </a:lnSpc>
              <a:spcBef>
                <a:spcPts val="1701"/>
              </a:spcBef>
              <a:spcAft>
                <a:spcPts val="1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%A = %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01"/>
              </a:spcBef>
              <a:spcAft>
                <a:spcPts val="1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01"/>
              </a:spcBef>
              <a:spcAft>
                <a:spcPts val="1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%G = %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0360" y="720720"/>
            <a:ext cx="2879640" cy="2879640"/>
          </a:xfrm>
          <a:prstGeom prst="rect">
            <a:avLst/>
          </a:prstGeom>
          <a:noFill/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12000" y="720720"/>
            <a:ext cx="2879640" cy="2879640"/>
          </a:xfrm>
          <a:prstGeom prst="rect">
            <a:avLst/>
          </a:prstGeom>
          <a:noFill/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3787920"/>
            <a:ext cx="28796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b. 3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00360" y="3787920"/>
            <a:ext cx="28796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b. 3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12000" y="3787920"/>
            <a:ext cx="287964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b. 3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___; lässt auf einen regelmäßigen B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ieß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64000" y="801720"/>
            <a:ext cx="1079640" cy="2662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199280" y="863640"/>
            <a:ext cx="2160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Bild online zu sehen 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 u="sng">
                <a:solidFill>
                  <a:srgbClr val="ccccff"/>
                </a:solidFill>
                <a:uFillTx/>
                <a:latin typeface="Courier New"/>
                <a:hlinkClick r:id="rId2"/>
              </a:rPr>
              <a:t>https://en.wikipedia.org/wiki/Photo_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[Urheberrechtslage in Deutschland unkla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360" y="7174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6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11640" y="728640"/>
            <a:ext cx="395928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rbeitsauftrag</a:t>
            </a:r>
            <a:br>
              <a:rPr sz="4400"/>
            </a:br>
            <a:br>
              <a:rPr sz="44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nstruier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äumliches Modell des DNA-Molekül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s Maisbausteinen und Zahnstoch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3400" y="720720"/>
            <a:ext cx="4189680" cy="5587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40000" y="6432480"/>
            <a:ext cx="3311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ourier New"/>
              </a:rPr>
              <a:t>Foto: A. Theil-Sch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360" y="7174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7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9040" y="3887640"/>
            <a:ext cx="2173320" cy="28990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87280" y="287280"/>
            <a:ext cx="4030560" cy="3809880"/>
            <a:chOff x="287280" y="287280"/>
            <a:chExt cx="4030560" cy="3809880"/>
          </a:xfrm>
        </p:grpSpPr>
        <p:sp>
          <p:nvSpPr>
            <p:cNvPr id="97" name=""/>
            <p:cNvSpPr/>
            <p:nvPr/>
          </p:nvSpPr>
          <p:spPr>
            <a:xfrm>
              <a:off x="287280" y="1273320"/>
              <a:ext cx="4030560" cy="28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marL="378000" indent="-378000">
                <a:lnSpc>
                  <a:spcPct val="93000"/>
                </a:lnSpc>
                <a:spcBef>
                  <a:spcPts val="1137"/>
                </a:spcBef>
                <a:spcAft>
                  <a:spcPts val="1137"/>
                </a:spcAft>
                <a:buClr>
                  <a:srgbClr val="000000"/>
                </a:buClr>
                <a:buFont typeface="Arial"/>
                <a:buAutoNum type="arabicParenR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Dein Molekülmodell muss aus 12 Nukleotiden besteh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8000" indent="-378000">
                <a:lnSpc>
                  <a:spcPct val="93000"/>
                </a:lnSpc>
                <a:spcBef>
                  <a:spcPts val="1137"/>
                </a:spcBef>
                <a:spcAft>
                  <a:spcPts val="1137"/>
                </a:spcAft>
                <a:buClr>
                  <a:srgbClr val="000000"/>
                </a:buClr>
                <a:buFont typeface="Arial"/>
                <a:buAutoNum type="arabicParenR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Dein Molekülmodell muss vier Arten von Nukleotiden enthalt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8000" indent="-378000">
                <a:lnSpc>
                  <a:spcPct val="93000"/>
                </a:lnSpc>
                <a:spcBef>
                  <a:spcPts val="1137"/>
                </a:spcBef>
                <a:spcAft>
                  <a:spcPts val="1137"/>
                </a:spcAft>
                <a:buClr>
                  <a:srgbClr val="000000"/>
                </a:buClr>
                <a:buFont typeface="Arial"/>
                <a:buAutoNum type="arabicParenR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Jedes Nukleotid muss mit mindestens zwei, aber höchstens drei anderen Nukleotiden verbunden sei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7280" y="287280"/>
              <a:ext cx="359892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4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Arial"/>
                </a:rPr>
                <a:t>Vorgabe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543640" y="291960"/>
            <a:ext cx="4030560" cy="7169400"/>
            <a:chOff x="5543640" y="291960"/>
            <a:chExt cx="4030560" cy="7169400"/>
          </a:xfrm>
        </p:grpSpPr>
        <p:sp>
          <p:nvSpPr>
            <p:cNvPr id="100" name=""/>
            <p:cNvSpPr/>
            <p:nvPr/>
          </p:nvSpPr>
          <p:spPr>
            <a:xfrm>
              <a:off x="5543640" y="1278000"/>
              <a:ext cx="4030560" cy="61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marL="378000" indent="-378000">
                <a:lnSpc>
                  <a:spcPct val="93000"/>
                </a:lnSpc>
                <a:spcBef>
                  <a:spcPts val="1137"/>
                </a:spcBef>
                <a:spcAft>
                  <a:spcPts val="1137"/>
                </a:spcAft>
                <a:buClr>
                  <a:srgbClr val="000000"/>
                </a:buClr>
                <a:buFont typeface="Arial"/>
                <a:buAutoNum type="arabicParenR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Fertige zunächst eine Skizze 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8000" indent="-378000">
                <a:lnSpc>
                  <a:spcPct val="93000"/>
                </a:lnSpc>
                <a:spcBef>
                  <a:spcPts val="1137"/>
                </a:spcBef>
                <a:spcAft>
                  <a:spcPts val="1137"/>
                </a:spcAft>
                <a:buClr>
                  <a:srgbClr val="000000"/>
                </a:buClr>
                <a:buFont typeface="Arial"/>
                <a:buAutoNum type="arabicParenR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Überschlage deinen Materialbedarf (Maisbausteine pro Farbe, Zahnstoch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8000" indent="-378000">
                <a:lnSpc>
                  <a:spcPct val="93000"/>
                </a:lnSpc>
                <a:spcBef>
                  <a:spcPts val="1137"/>
                </a:spcBef>
                <a:spcAft>
                  <a:spcPts val="1137"/>
                </a:spcAft>
                <a:buClr>
                  <a:srgbClr val="000000"/>
                </a:buClr>
                <a:buFont typeface="Arial"/>
                <a:buAutoNum type="arabicParenR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Hole entsprechend deiner Vorüberlegungen Baumaterial, ein nasses Tuch und ein Plastikmesser am P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8000" indent="-378000">
                <a:lnSpc>
                  <a:spcPct val="93000"/>
                </a:lnSpc>
                <a:spcBef>
                  <a:spcPts val="1137"/>
                </a:spcBef>
                <a:spcAft>
                  <a:spcPts val="1137"/>
                </a:spcAft>
                <a:buClr>
                  <a:srgbClr val="000000"/>
                </a:buClr>
                <a:buFont typeface="Arial"/>
                <a:buAutoNum type="arabicParenR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Wenn dein Modell fertig ist, finde zwei weitere Schüler, die ebenfalls fertig sind.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Baut eure drei Modelle zu einem gemeinsamen Molekülmodell zusamm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8000" indent="-378000">
                <a:lnSpc>
                  <a:spcPct val="93000"/>
                </a:lnSpc>
                <a:spcBef>
                  <a:spcPts val="1137"/>
                </a:spcBef>
                <a:spcAft>
                  <a:spcPts val="1137"/>
                </a:spcAft>
                <a:buClr>
                  <a:srgbClr val="000000"/>
                </a:buClr>
                <a:buFont typeface="Arial"/>
                <a:buAutoNum type="arabicParenR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Probiert mögliche Raumstrukturen aus, die euer Modell zulässt. Welche Form könnt ihr am ehesten mit dem Röntgenbild von Rosalind Franklin zur Deckung bringe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43640" y="291960"/>
              <a:ext cx="359892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4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Arial"/>
                </a:rPr>
                <a:t>Vorgehe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808360" y="4103640"/>
            <a:ext cx="2879640" cy="1584360"/>
          </a:xfrm>
          <a:prstGeom prst="wedgeEllipseCallout">
            <a:avLst>
              <a:gd name="adj1" fmla="val -53574"/>
              <a:gd name="adj2" fmla="val 64791"/>
            </a:avLst>
          </a:prstGeom>
          <a:noFill/>
          <a:ln w="36000">
            <a:solidFill>
              <a:srgbClr val="ff950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97560" bIns="630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Sawasdee"/>
              </a:rPr>
              <a:t>Du kommst nicht wei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Sawasdee"/>
              </a:rPr>
              <a:t>Am Pult findest d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Sawasdee"/>
              </a:rPr>
              <a:t>Hilfekart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360" y="7174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8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2000" y="431280"/>
            <a:ext cx="77043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ilfekar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0000" y="1224000"/>
            <a:ext cx="7199280" cy="5405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27640" y="6719760"/>
            <a:ext cx="3311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ourier New"/>
              </a:rPr>
              <a:t>Foto: A. Theil-Sch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360" y="7174080"/>
            <a:ext cx="972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301_p_dna_struktu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9 v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8T09:33:30Z</dcterms:created>
  <dc:creator/>
  <dc:description/>
  <dc:language>en-US</dc:language>
  <cp:lastModifiedBy/>
  <dcterms:modified xsi:type="dcterms:W3CDTF">2018-10-03T10:43:02Z</dcterms:modified>
  <cp:revision>89</cp:revision>
  <dc:subject/>
  <dc:title/>
</cp:coreProperties>
</file>