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108-B596-4E36-B741-049A9239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556-5FEA-4C83-AEA3-DFB9E937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F95-525C-4479-9826-53918D25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AB9-717D-449C-8E80-B4EF9882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2DF-71A8-42B7-BCD8-A951EF7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6B6-1A46-440E-B597-F95DF43E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1FD-3881-4B1B-B913-70445D63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7E1-D0BF-4440-B4EF-F602938C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DBB-5BC9-4CD8-9F19-B9EE43C2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255-215D-45DE-9851-21F643FE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A76-F24A-4DC8-87B4-5661CF48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C3D-B0A9-4A39-AEF3-BED29A7C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C559F-077C-4D5F-812D-01AF75797817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creativecommons.org/publicdomain/zero/1.0/" TargetMode="External"/><Relationship Id="rId3" Type="http://schemas.openxmlformats.org/officeDocument/2006/relationships/hyperlink" Target="https://openclipart.org/detail/135991/bicycle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creativecommons.org/licenses/by-sa/3.0/de/" TargetMode="External"/><Relationship Id="rId4" Type="http://schemas.openxmlformats.org/officeDocument/2006/relationships/hyperlink" Target="https://de.wikipedia.org/wiki/Datei:Kippe.jpg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23960" y="1152360"/>
            <a:ext cx="2154960" cy="4473360"/>
            <a:chOff x="723960" y="1152360"/>
            <a:chExt cx="2154960" cy="4473360"/>
          </a:xfrm>
        </p:grpSpPr>
        <p:grpSp>
          <p:nvGrpSpPr>
            <p:cNvPr id="42" name=""/>
            <p:cNvGrpSpPr/>
            <p:nvPr/>
          </p:nvGrpSpPr>
          <p:grpSpPr>
            <a:xfrm>
              <a:off x="723960" y="1152360"/>
              <a:ext cx="2154960" cy="1076400"/>
              <a:chOff x="723960" y="1152360"/>
              <a:chExt cx="2154960" cy="1076400"/>
            </a:xfrm>
          </p:grpSpPr>
          <p:sp>
            <p:nvSpPr>
              <p:cNvPr id="43" name=""/>
              <p:cNvSpPr/>
              <p:nvPr/>
            </p:nvSpPr>
            <p:spPr>
              <a:xfrm>
                <a:off x="723960" y="1152360"/>
                <a:ext cx="268200" cy="1076400"/>
              </a:xfrm>
              <a:prstGeom prst="rect">
                <a:avLst/>
              </a:prstGeom>
              <a:solidFill>
                <a:srgbClr val="c500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65160" y="1422360"/>
                <a:ext cx="1670760" cy="538200"/>
              </a:xfrm>
              <a:prstGeom prst="rect">
                <a:avLst/>
              </a:prstGeom>
              <a:solidFill>
                <a:srgbClr val="c500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6240" bIns="45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</a:tabLst>
                </a:pPr>
                <a:r>
                  <a:rPr b="1" lang="de-DE" sz="24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342160" y="1422360"/>
                <a:ext cx="536760" cy="538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723960" y="2284920"/>
              <a:ext cx="1346400" cy="1076040"/>
              <a:chOff x="723960" y="2284920"/>
              <a:chExt cx="1346400" cy="1076040"/>
            </a:xfrm>
          </p:grpSpPr>
          <p:sp>
            <p:nvSpPr>
              <p:cNvPr id="47" name=""/>
              <p:cNvSpPr/>
              <p:nvPr/>
            </p:nvSpPr>
            <p:spPr>
              <a:xfrm>
                <a:off x="723960" y="2284920"/>
                <a:ext cx="268200" cy="1076040"/>
              </a:xfrm>
              <a:prstGeom prst="rect">
                <a:avLst/>
              </a:prstGeom>
              <a:solidFill>
                <a:srgbClr val="72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65160" y="2554560"/>
                <a:ext cx="833760" cy="536760"/>
              </a:xfrm>
              <a:prstGeom prst="rect">
                <a:avLst/>
              </a:prstGeom>
              <a:solidFill>
                <a:srgbClr val="72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6240" bIns="45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de-DE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1654200" y="2674800"/>
                <a:ext cx="536760" cy="295200"/>
              </a:xfrm>
              <a:prstGeom prst="triangle">
                <a:avLst>
                  <a:gd name="adj" fmla="val 50000"/>
                </a:avLst>
              </a:prstGeom>
              <a:solidFill>
                <a:srgbClr val="72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723960" y="3417120"/>
              <a:ext cx="1373400" cy="1076400"/>
              <a:chOff x="723960" y="3417120"/>
              <a:chExt cx="1373400" cy="1076400"/>
            </a:xfrm>
          </p:grpSpPr>
          <p:sp>
            <p:nvSpPr>
              <p:cNvPr id="51" name=""/>
              <p:cNvSpPr/>
              <p:nvPr/>
            </p:nvSpPr>
            <p:spPr>
              <a:xfrm>
                <a:off x="723960" y="3417120"/>
                <a:ext cx="268560" cy="1076400"/>
              </a:xfrm>
              <a:prstGeom prst="rect">
                <a:avLst/>
              </a:prstGeom>
              <a:solidFill>
                <a:srgbClr val="314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65520" y="3686760"/>
                <a:ext cx="834480" cy="536760"/>
              </a:xfrm>
              <a:prstGeom prst="rect">
                <a:avLst/>
              </a:prstGeom>
              <a:solidFill>
                <a:srgbClr val="314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6240" bIns="45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de-DE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59880" y="3686760"/>
                <a:ext cx="537480" cy="536760"/>
              </a:xfrm>
              <a:prstGeom prst="ellipse">
                <a:avLst/>
              </a:prstGeom>
              <a:solidFill>
                <a:srgbClr val="314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23960" y="4549320"/>
              <a:ext cx="1346400" cy="1076400"/>
              <a:chOff x="723960" y="4549320"/>
              <a:chExt cx="1346400" cy="1076400"/>
            </a:xfrm>
          </p:grpSpPr>
          <p:sp>
            <p:nvSpPr>
              <p:cNvPr id="55" name=""/>
              <p:cNvSpPr/>
              <p:nvPr/>
            </p:nvSpPr>
            <p:spPr>
              <a:xfrm>
                <a:off x="723960" y="4549320"/>
                <a:ext cx="268200" cy="1076400"/>
              </a:xfrm>
              <a:prstGeom prst="rect">
                <a:avLst/>
              </a:prstGeom>
              <a:solidFill>
                <a:srgbClr val="72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65160" y="4819320"/>
                <a:ext cx="833760" cy="537840"/>
              </a:xfrm>
              <a:prstGeom prst="rect">
                <a:avLst/>
              </a:prstGeom>
              <a:solidFill>
                <a:srgbClr val="72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6240" bIns="45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de-DE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1653840" y="4940640"/>
                <a:ext cx="537840" cy="295200"/>
              </a:xfrm>
              <a:prstGeom prst="triangle">
                <a:avLst>
                  <a:gd name="adj" fmla="val 50000"/>
                </a:avLst>
              </a:prstGeom>
              <a:solidFill>
                <a:srgbClr val="72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5256360" y="1152360"/>
            <a:ext cx="431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marL="358920" indent="-35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nimm die Skizze in dein H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üge dem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NA-Einzelstra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vier weitere Nukleotide hin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gänze die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kleotidsequenz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zum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NA-Doppelstra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640" y="5832360"/>
            <a:ext cx="1728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rafik: A. Theil-Sch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360" y="71992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30304_p_dna_eigenschaf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ite 1 v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27640" y="1152360"/>
            <a:ext cx="431964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marL="358920" indent="-35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Übernimm die Skizze in dein H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Füge dem </a:t>
            </a:r>
            <a:r>
              <a:rPr b="1" lang="de-DE" sz="2200" spc="-1" strike="noStrike">
                <a:solidFill>
                  <a:srgbClr val="b2b2b2"/>
                </a:solidFill>
                <a:latin typeface="Arial"/>
              </a:rPr>
              <a:t>DNA-Einzelstrang</a:t>
            </a: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 vier weitere Nukleotide hin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Ergänze die </a:t>
            </a:r>
            <a:r>
              <a:rPr b="1" lang="de-DE" sz="2200" spc="-1" strike="noStrike">
                <a:solidFill>
                  <a:srgbClr val="b2b2b2"/>
                </a:solidFill>
                <a:latin typeface="Arial"/>
              </a:rPr>
              <a:t>Nukleotidsequenz</a:t>
            </a: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 zum </a:t>
            </a:r>
            <a:r>
              <a:rPr b="1" lang="de-DE" sz="2200" spc="-1" strike="noStrike">
                <a:solidFill>
                  <a:srgbClr val="b2b2b2"/>
                </a:solidFill>
                <a:latin typeface="Arial"/>
              </a:rPr>
              <a:t>DNA-Doppelstrang</a:t>
            </a: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fasse eine Legende zu deiner Skizze, die alle auf dieser Folie fett gedruckten Begriffe enthä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118960" y="2281320"/>
            <a:ext cx="1902960" cy="1074600"/>
            <a:chOff x="2118960" y="2281320"/>
            <a:chExt cx="1902960" cy="1074600"/>
          </a:xfrm>
        </p:grpSpPr>
        <p:sp>
          <p:nvSpPr>
            <p:cNvPr id="63" name=""/>
            <p:cNvSpPr/>
            <p:nvPr/>
          </p:nvSpPr>
          <p:spPr>
            <a:xfrm flipH="1">
              <a:off x="3754800" y="2281320"/>
              <a:ext cx="266760" cy="1074600"/>
            </a:xfrm>
            <a:prstGeom prst="rect">
              <a:avLst/>
            </a:prstGeom>
            <a:solidFill>
              <a:srgbClr val="ff95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146320" y="2550960"/>
              <a:ext cx="1639440" cy="536760"/>
            </a:xfrm>
            <a:prstGeom prst="rect">
              <a:avLst/>
            </a:prstGeom>
            <a:solidFill>
              <a:srgbClr val="ff95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5400000">
              <a:off x="1983600" y="2684160"/>
              <a:ext cx="536760" cy="266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792080" y="3409920"/>
            <a:ext cx="2230200" cy="1074600"/>
            <a:chOff x="1792080" y="3409920"/>
            <a:chExt cx="2230200" cy="1074600"/>
          </a:xfrm>
        </p:grpSpPr>
        <p:sp>
          <p:nvSpPr>
            <p:cNvPr id="67" name=""/>
            <p:cNvSpPr/>
            <p:nvPr/>
          </p:nvSpPr>
          <p:spPr>
            <a:xfrm flipH="1">
              <a:off x="3755880" y="3409920"/>
              <a:ext cx="266400" cy="1074600"/>
            </a:xfrm>
            <a:prstGeom prst="rect">
              <a:avLst/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93040" y="3679920"/>
              <a:ext cx="1665000" cy="563400"/>
            </a:xfrm>
            <a:prstGeom prst="rect">
              <a:avLst/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791720" y="3679920"/>
              <a:ext cx="563400" cy="56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0720" y="1152360"/>
            <a:ext cx="2149560" cy="4462560"/>
            <a:chOff x="720720" y="1152360"/>
            <a:chExt cx="2149560" cy="4462560"/>
          </a:xfrm>
        </p:grpSpPr>
        <p:grpSp>
          <p:nvGrpSpPr>
            <p:cNvPr id="71" name=""/>
            <p:cNvGrpSpPr/>
            <p:nvPr/>
          </p:nvGrpSpPr>
          <p:grpSpPr>
            <a:xfrm>
              <a:off x="720720" y="1152360"/>
              <a:ext cx="2149560" cy="1074960"/>
              <a:chOff x="720720" y="1152360"/>
              <a:chExt cx="2149560" cy="1074960"/>
            </a:xfrm>
          </p:grpSpPr>
          <p:sp>
            <p:nvSpPr>
              <p:cNvPr id="72" name=""/>
              <p:cNvSpPr/>
              <p:nvPr/>
            </p:nvSpPr>
            <p:spPr>
              <a:xfrm>
                <a:off x="720720" y="1152360"/>
                <a:ext cx="266760" cy="1074960"/>
              </a:xfrm>
              <a:prstGeom prst="rect">
                <a:avLst/>
              </a:prstGeom>
              <a:solidFill>
                <a:srgbClr val="c500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61920" y="1420920"/>
                <a:ext cx="1665360" cy="536400"/>
              </a:xfrm>
              <a:prstGeom prst="rect">
                <a:avLst/>
              </a:prstGeom>
              <a:solidFill>
                <a:srgbClr val="c500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6240" bIns="45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</a:tabLst>
                </a:pPr>
                <a:r>
                  <a:rPr b="1" lang="de-DE" sz="24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33520" y="1420920"/>
                <a:ext cx="536760" cy="53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20720" y="2281320"/>
              <a:ext cx="1342440" cy="1074600"/>
              <a:chOff x="720720" y="2281320"/>
              <a:chExt cx="1342440" cy="1074600"/>
            </a:xfrm>
          </p:grpSpPr>
          <p:sp>
            <p:nvSpPr>
              <p:cNvPr id="76" name=""/>
              <p:cNvSpPr/>
              <p:nvPr/>
            </p:nvSpPr>
            <p:spPr>
              <a:xfrm>
                <a:off x="720720" y="2281320"/>
                <a:ext cx="266760" cy="1074600"/>
              </a:xfrm>
              <a:prstGeom prst="rect">
                <a:avLst/>
              </a:prstGeom>
              <a:solidFill>
                <a:srgbClr val="72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61920" y="2550960"/>
                <a:ext cx="833040" cy="536760"/>
              </a:xfrm>
              <a:prstGeom prst="rect">
                <a:avLst/>
              </a:prstGeom>
              <a:solidFill>
                <a:srgbClr val="72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6240" bIns="45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de-DE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47360" y="2670480"/>
                <a:ext cx="536760" cy="294120"/>
              </a:xfrm>
              <a:prstGeom prst="triangle">
                <a:avLst>
                  <a:gd name="adj" fmla="val 50000"/>
                </a:avLst>
              </a:prstGeom>
              <a:solidFill>
                <a:srgbClr val="72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20720" y="3409920"/>
              <a:ext cx="1370160" cy="1074600"/>
              <a:chOff x="720720" y="3409920"/>
              <a:chExt cx="1370160" cy="1074600"/>
            </a:xfrm>
          </p:grpSpPr>
          <p:sp>
            <p:nvSpPr>
              <p:cNvPr id="80" name=""/>
              <p:cNvSpPr/>
              <p:nvPr/>
            </p:nvSpPr>
            <p:spPr>
              <a:xfrm>
                <a:off x="720720" y="3409920"/>
                <a:ext cx="266760" cy="1074600"/>
              </a:xfrm>
              <a:prstGeom prst="rect">
                <a:avLst/>
              </a:prstGeom>
              <a:solidFill>
                <a:srgbClr val="314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61920" y="3679920"/>
                <a:ext cx="831960" cy="536400"/>
              </a:xfrm>
              <a:prstGeom prst="rect">
                <a:avLst/>
              </a:prstGeom>
              <a:solidFill>
                <a:srgbClr val="314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6240" bIns="45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de-DE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554120" y="3679920"/>
                <a:ext cx="536760" cy="536400"/>
              </a:xfrm>
              <a:prstGeom prst="ellipse">
                <a:avLst/>
              </a:prstGeom>
              <a:solidFill>
                <a:srgbClr val="314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20720" y="4540320"/>
              <a:ext cx="1908000" cy="1074600"/>
              <a:chOff x="720720" y="4540320"/>
              <a:chExt cx="1908000" cy="1074600"/>
            </a:xfrm>
          </p:grpSpPr>
          <p:sp>
            <p:nvSpPr>
              <p:cNvPr id="84" name=""/>
              <p:cNvSpPr/>
              <p:nvPr/>
            </p:nvSpPr>
            <p:spPr>
              <a:xfrm>
                <a:off x="720720" y="4540320"/>
                <a:ext cx="266760" cy="1074600"/>
              </a:xfrm>
              <a:prstGeom prst="rect">
                <a:avLst/>
              </a:prstGeom>
              <a:solidFill>
                <a:srgbClr val="ff9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61920" y="4808520"/>
                <a:ext cx="1639800" cy="536760"/>
              </a:xfrm>
              <a:prstGeom prst="rect">
                <a:avLst/>
              </a:prstGeom>
              <a:solidFill>
                <a:srgbClr val="ff9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6240" bIns="45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</a:tabLst>
                </a:pPr>
                <a:r>
                  <a:rPr b="1" lang="de-DE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6200000">
                <a:off x="2226960" y="4943160"/>
                <a:ext cx="536760" cy="266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2655720" y="4540320"/>
            <a:ext cx="1365120" cy="1074600"/>
            <a:chOff x="2655720" y="4540320"/>
            <a:chExt cx="1365120" cy="1074600"/>
          </a:xfrm>
        </p:grpSpPr>
        <p:sp>
          <p:nvSpPr>
            <p:cNvPr id="88" name=""/>
            <p:cNvSpPr/>
            <p:nvPr/>
          </p:nvSpPr>
          <p:spPr>
            <a:xfrm flipH="1">
              <a:off x="3753720" y="4540320"/>
              <a:ext cx="266760" cy="1074600"/>
            </a:xfrm>
            <a:prstGeom prst="rect">
              <a:avLst/>
            </a:prstGeom>
            <a:solidFill>
              <a:srgbClr val="729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947320" y="4808520"/>
              <a:ext cx="831960" cy="536760"/>
            </a:xfrm>
            <a:prstGeom prst="rect">
              <a:avLst/>
            </a:prstGeom>
            <a:solidFill>
              <a:srgbClr val="729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2547720" y="4916160"/>
              <a:ext cx="536760" cy="320760"/>
            </a:xfrm>
            <a:prstGeom prst="triangle">
              <a:avLst>
                <a:gd name="adj" fmla="val 50000"/>
              </a:avLst>
            </a:prstGeom>
            <a:solidFill>
              <a:srgbClr val="729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720720" y="5975280"/>
            <a:ext cx="3311640" cy="601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, T und G,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mplementär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Nuk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655360" y="1152360"/>
            <a:ext cx="1365480" cy="1074960"/>
            <a:chOff x="2655360" y="1152360"/>
            <a:chExt cx="1365480" cy="1074960"/>
          </a:xfrm>
        </p:grpSpPr>
        <p:sp>
          <p:nvSpPr>
            <p:cNvPr id="93" name=""/>
            <p:cNvSpPr/>
            <p:nvPr/>
          </p:nvSpPr>
          <p:spPr>
            <a:xfrm flipH="1">
              <a:off x="3753720" y="1152360"/>
              <a:ext cx="266760" cy="1074960"/>
            </a:xfrm>
            <a:prstGeom prst="rect">
              <a:avLst/>
            </a:prstGeom>
            <a:solidFill>
              <a:srgbClr val="31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947320" y="1420920"/>
              <a:ext cx="831960" cy="536400"/>
            </a:xfrm>
            <a:prstGeom prst="rect">
              <a:avLst/>
            </a:prstGeom>
            <a:solidFill>
              <a:srgbClr val="31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655000" y="1420920"/>
              <a:ext cx="536760" cy="536400"/>
            </a:xfrm>
            <a:prstGeom prst="ellipse">
              <a:avLst/>
            </a:prstGeom>
            <a:solidFill>
              <a:srgbClr val="31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47640" y="6696000"/>
            <a:ext cx="1728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rafik: A. Theil-Sch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360" y="7201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30304_p_dna_eigenschaf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ite 2 v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0000" y="3456000"/>
            <a:ext cx="7199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orm Follows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pezifischer Bau des DNA-Molekü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72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pezifische Eigenschaften des DNA-Molekül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87880" y="936720"/>
            <a:ext cx="3408120" cy="1944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696000" y="2303640"/>
            <a:ext cx="172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cycle“ von Jiro (eigenes Werk) [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C0 1.0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], via 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Openclipart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, bearbeit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360" y="7201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30304_p_dna_eigenschaf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ite 3 v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05040" y="258840"/>
            <a:ext cx="1435320" cy="1434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>
            <a:off x="2952720" y="1477800"/>
            <a:ext cx="2664000" cy="936720"/>
          </a:xfrm>
          <a:custGeom>
            <a:avLst/>
            <a:gdLst>
              <a:gd name="textAreaLeft" fmla="*/ 333000 w 2664000"/>
              <a:gd name="textAreaRight" fmla="*/ 2331000 w 266400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9fcf"/>
          </a:solidFill>
          <a:ln w="3600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8064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linke S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24720" y="1477800"/>
            <a:ext cx="2663640" cy="936720"/>
          </a:xfrm>
          <a:custGeom>
            <a:avLst/>
            <a:gdLst>
              <a:gd name="textAreaLeft" fmla="*/ 333000 w 2663640"/>
              <a:gd name="textAreaRight" fmla="*/ 2331000 w 266364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8080"/>
          </a:solidFill>
          <a:ln w="36000">
            <a:solidFill>
              <a:srgbClr val="c500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8064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echte S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199280" y="2541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95640" y="2414520"/>
            <a:ext cx="24480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50920" indent="-250920">
              <a:lnSpc>
                <a:spcPct val="93000"/>
              </a:lnSpc>
              <a:spcAft>
                <a:spcPts val="5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e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NA-Modell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8 Nukleotidpa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0360" y="2414520"/>
            <a:ext cx="2592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50920" indent="-250920">
              <a:lnSpc>
                <a:spcPct val="93000"/>
              </a:lnSpc>
              <a:spcAft>
                <a:spcPts val="5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e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NA-Modell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8 Nukleotidpa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040360" y="4464000"/>
            <a:ext cx="2590920" cy="2684160"/>
            <a:chOff x="5040360" y="4464000"/>
            <a:chExt cx="2590920" cy="2684160"/>
          </a:xfrm>
        </p:grpSpPr>
        <p:grpSp>
          <p:nvGrpSpPr>
            <p:cNvPr id="109" name=""/>
            <p:cNvGrpSpPr/>
            <p:nvPr/>
          </p:nvGrpSpPr>
          <p:grpSpPr>
            <a:xfrm>
              <a:off x="5045040" y="4464000"/>
              <a:ext cx="2081160" cy="1641600"/>
              <a:chOff x="5045040" y="4464000"/>
              <a:chExt cx="2081160" cy="1641600"/>
            </a:xfrm>
          </p:grpSpPr>
          <p:pic>
            <p:nvPicPr>
              <p:cNvPr id="11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5040" y="4464000"/>
                <a:ext cx="1258920" cy="125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62600" y="4843080"/>
                <a:ext cx="1263600" cy="1262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5040360" y="5891760"/>
              <a:ext cx="2590920" cy="12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marL="250920" indent="-250920">
                <a:lnSpc>
                  <a:spcPct val="93000"/>
                </a:lnSpc>
                <a:spcAft>
                  <a:spcPts val="575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ateria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50920" indent="-250920">
                <a:lnSpc>
                  <a:spcPct val="93000"/>
                </a:lnSpc>
                <a:spcAft>
                  <a:spcPts val="575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B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03280" y="4032360"/>
            <a:ext cx="9144000" cy="1440"/>
          </a:xfrm>
          <a:prstGeom prst="line">
            <a:avLst/>
          </a:prstGeom>
          <a:ln cap="rnd" w="54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00000">
            <a:off x="-54000" y="665280"/>
            <a:ext cx="2592360" cy="1224000"/>
          </a:xfrm>
          <a:prstGeom prst="ellipse">
            <a:avLst/>
          </a:prstGeom>
          <a:solidFill>
            <a:srgbClr val="aea79f"/>
          </a:solidFill>
          <a:ln w="36000">
            <a:solidFill>
              <a:srgbClr val="2c001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pezialisierungs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00000">
            <a:off x="-92160" y="4697280"/>
            <a:ext cx="2592360" cy="1224000"/>
          </a:xfrm>
          <a:prstGeom prst="ellipse">
            <a:avLst/>
          </a:prstGeom>
          <a:solidFill>
            <a:srgbClr val="aea79f"/>
          </a:solidFill>
          <a:ln w="36000">
            <a:solidFill>
              <a:srgbClr val="2c001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ustausch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80360" y="6635880"/>
            <a:ext cx="1728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rafik: A. Theil-Sch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360" y="7201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30304_p_dna_eigenschaf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ite 4 v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9960" y="258840"/>
            <a:ext cx="3110040" cy="622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64360" y="6635880"/>
            <a:ext cx="1728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rafik: A. Theil-Sch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20720" y="720720"/>
            <a:ext cx="3673440" cy="4608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20720" y="5440320"/>
            <a:ext cx="3672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ippe“ von Plenz (eigenes Werk) [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C-BY-SA 3.0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], via 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ikimedia Comm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360" y="7201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30304_p_dna_eigenschaf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ite 5 v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ilfekar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rot="16200000">
            <a:off x="2351880" y="310320"/>
            <a:ext cx="5472000" cy="7299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983280" y="6840360"/>
            <a:ext cx="17290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oto: A. Theil-Sch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360" y="7201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30304_p_dna_eigenschaf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ite 6 v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ilfekar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2949480"/>
            <a:ext cx="864072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358920" indent="-3589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ckhams Rasiermess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auch [...] Sparsamkeitsprinz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…] Das nach Wilhelm von Ockham (1288–1347) benannte Prinzip findet seine Anwendung in der Wissenschaftstheorie und der wissenschaftlichen Methodik. Vereinfacht ausgedrückt besagt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 mehreren möglichen Erklärungen für ein und denselben Sachverhalt ist die einfachste Theorie allen anderen vorzuzie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Theorie ist einfach, wenn sie möglichst wenige Variablen und Hypothesen enthält und wenn diese in klaren logischen Beziehungen zueinander stehen, aus denen der zu erklärende Sachverhalt logisch fol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72360" y="360360"/>
            <a:ext cx="2160720" cy="1511280"/>
          </a:xfrm>
          <a:prstGeom prst="cloudCallout">
            <a:avLst>
              <a:gd name="adj1" fmla="val -66111"/>
              <a:gd name="adj2" fmla="val 67944"/>
            </a:avLst>
          </a:prstGeom>
          <a:solidFill>
            <a:srgbClr val="729fcf"/>
          </a:solidFill>
          <a:ln w="3600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Wel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Hypo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timm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0720" y="6480000"/>
            <a:ext cx="4608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ourier New"/>
              </a:rPr>
              <a:t>Quelle: https://de.wikipedia.org/wiki/Ockhams_Rasiermes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360" y="7201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30304_p_dna_eigenschaf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ite 7 v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6:56:32Z</dcterms:created>
  <dc:creator/>
  <dc:description/>
  <dc:language>en-US</dc:language>
  <cp:lastModifiedBy/>
  <dcterms:modified xsi:type="dcterms:W3CDTF">2018-10-03T10:56:34Z</dcterms:modified>
  <cp:revision>40</cp:revision>
  <dc:subject/>
  <dc:title/>
</cp:coreProperties>
</file>