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6B53-0647-4445-BB8D-AB090749EF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3A9E-1389-4BF0-AA39-33AF2A353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830E-4F58-4C67-AEE4-34D50A8EC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6742-1532-4549-8999-EECE20B78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03CF-EBC8-45FC-A91F-9B418BF3A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07EC-A087-48EF-9419-F2AEFC659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76D3-EE2C-4E93-86C8-3941B9CB8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85CE-2EFD-44CB-AE57-AFCAA7718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C0E-41D5-4FC8-8EA6-27104966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7B2-4D9E-4925-B095-B97C2C89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1BF-C60C-4B09-BDC3-B4A49F16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BEE-8403-4D2E-9FBD-4AD7C0CD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20F-D3D5-4A8F-A133-0A7B1B66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FD2-F1D1-41C6-ABEF-454328A7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390-FBB3-4301-8B3C-7B994B7D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A36-712B-499B-B0B6-204035B6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4E6-5AE8-46E8-9B9B-1BC9FB02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A9A-A99B-474B-9E70-2BC4E0FA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FB3-4F80-49A2-85C9-D16556B4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FA6-A687-488B-9EC0-DC872F89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ACED-F55F-4EDE-B113-A7CD921807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C79C-9840-4C1F-857D-4675C7443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ild 1" descr="Weide.jpg"/>
          <p:cNvPicPr/>
          <p:nvPr/>
        </p:nvPicPr>
        <p:blipFill>
          <a:blip r:embed="rId1"/>
          <a:stretch/>
        </p:blipFill>
        <p:spPr>
          <a:xfrm>
            <a:off x="3557520" y="6324480"/>
            <a:ext cx="291168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01680" y="272880"/>
          <a:ext cx="6264360" cy="9361800"/>
        </p:xfrm>
        <a:graphic>
          <a:graphicData uri="http://schemas.openxmlformats.org/drawingml/2006/table">
            <a:tbl>
              <a:tblPr/>
              <a:tblGrid>
                <a:gridCol w="3132000"/>
                <a:gridCol w="3132360"/>
              </a:tblGrid>
              <a:tr h="18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feld 2"/>
          <p:cNvSpPr/>
          <p:nvPr/>
        </p:nvSpPr>
        <p:spPr>
          <a:xfrm>
            <a:off x="5199120" y="4448160"/>
            <a:ext cx="1295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12.1.1995 werden die ersten acht Wölfe im Yellowstone-Nationalpark wieder eingeführ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73"/>
          <p:cNvSpPr/>
          <p:nvPr/>
        </p:nvSpPr>
        <p:spPr>
          <a:xfrm>
            <a:off x="374760" y="871560"/>
            <a:ext cx="1439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Die Wapitis ändern ihr Verhalten und meiden eher Täler und Schlucht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75"/>
          <p:cNvSpPr/>
          <p:nvPr/>
        </p:nvSpPr>
        <p:spPr>
          <a:xfrm>
            <a:off x="4848120" y="320760"/>
            <a:ext cx="1727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Biber bauen Dämme, stauen das Flusswasser 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76"/>
          <p:cNvSpPr/>
          <p:nvPr/>
        </p:nvSpPr>
        <p:spPr>
          <a:xfrm>
            <a:off x="1166760" y="3710160"/>
            <a:ext cx="22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Sträucher mit Beer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77"/>
          <p:cNvSpPr/>
          <p:nvPr/>
        </p:nvSpPr>
        <p:spPr>
          <a:xfrm>
            <a:off x="3830760" y="2938320"/>
            <a:ext cx="25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Anzahl der Aasfresser nimmt zu (Weißkopfseeadler, Raben, Bär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80"/>
          <p:cNvSpPr/>
          <p:nvPr/>
        </p:nvSpPr>
        <p:spPr>
          <a:xfrm>
            <a:off x="590400" y="6618240"/>
            <a:ext cx="2374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Kojoten werden von Wölfen gejagt. Kojoten ernähren sich v. a. von kleinen Säugetier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82"/>
          <p:cNvSpPr/>
          <p:nvPr/>
        </p:nvSpPr>
        <p:spPr>
          <a:xfrm>
            <a:off x="3695760" y="8713800"/>
            <a:ext cx="259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Es gibt mehr Kaninchen und Mä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Bild 2" descr="Wapitis.jpg"/>
          <p:cNvPicPr/>
          <p:nvPr/>
        </p:nvPicPr>
        <p:blipFill>
          <a:blip r:embed="rId2"/>
          <a:stretch/>
        </p:blipFill>
        <p:spPr>
          <a:xfrm>
            <a:off x="446040" y="8267760"/>
            <a:ext cx="2865600" cy="1293840"/>
          </a:xfrm>
          <a:prstGeom prst="rect">
            <a:avLst/>
          </a:prstGeom>
          <a:ln w="0">
            <a:noFill/>
          </a:ln>
        </p:spPr>
      </p:pic>
      <p:pic>
        <p:nvPicPr>
          <p:cNvPr id="58" name="Bild 6" descr="Biber"/>
          <p:cNvPicPr/>
          <p:nvPr/>
        </p:nvPicPr>
        <p:blipFill>
          <a:blip r:embed="rId3"/>
          <a:stretch/>
        </p:blipFill>
        <p:spPr>
          <a:xfrm>
            <a:off x="3470400" y="719280"/>
            <a:ext cx="3001680" cy="1355760"/>
          </a:xfrm>
          <a:prstGeom prst="rect">
            <a:avLst/>
          </a:prstGeom>
          <a:ln w="0">
            <a:noFill/>
          </a:ln>
        </p:spPr>
      </p:pic>
      <p:pic>
        <p:nvPicPr>
          <p:cNvPr id="59" name="Bild 7" descr="beaver-147073_960_720.png"/>
          <p:cNvPicPr/>
          <p:nvPr/>
        </p:nvPicPr>
        <p:blipFill>
          <a:blip r:embed="rId4"/>
          <a:stretch/>
        </p:blipFill>
        <p:spPr>
          <a:xfrm>
            <a:off x="3975120" y="849240"/>
            <a:ext cx="81432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Bild 38" descr="PSM_V10_D704_The_elk_or_wapiti.jpg"/>
          <p:cNvPicPr/>
          <p:nvPr/>
        </p:nvPicPr>
        <p:blipFill>
          <a:blip r:embed="rId5"/>
          <a:stretch/>
        </p:blipFill>
        <p:spPr>
          <a:xfrm>
            <a:off x="1670040" y="344520"/>
            <a:ext cx="1628640" cy="1587600"/>
          </a:xfrm>
          <a:prstGeom prst="rect">
            <a:avLst/>
          </a:prstGeom>
          <a:ln w="0">
            <a:noFill/>
          </a:ln>
        </p:spPr>
      </p:pic>
      <p:pic>
        <p:nvPicPr>
          <p:cNvPr id="61" name="Bild 2" descr="Talveränderung"/>
          <p:cNvPicPr/>
          <p:nvPr/>
        </p:nvPicPr>
        <p:blipFill>
          <a:blip r:embed="rId6"/>
          <a:stretch/>
        </p:blipFill>
        <p:spPr>
          <a:xfrm>
            <a:off x="458640" y="2560680"/>
            <a:ext cx="2832120" cy="1174680"/>
          </a:xfrm>
          <a:prstGeom prst="rect">
            <a:avLst/>
          </a:prstGeom>
          <a:ln w="0">
            <a:noFill/>
          </a:ln>
        </p:spPr>
      </p:pic>
      <p:sp>
        <p:nvSpPr>
          <p:cNvPr id="62" name="Gerade Verbindung 4"/>
          <p:cNvSpPr/>
          <p:nvPr/>
        </p:nvSpPr>
        <p:spPr>
          <a:xfrm flipV="1">
            <a:off x="2549520" y="3584160"/>
            <a:ext cx="344520" cy="23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uppierung 41"/>
          <p:cNvGrpSpPr/>
          <p:nvPr/>
        </p:nvGrpSpPr>
        <p:grpSpPr>
          <a:xfrm>
            <a:off x="374760" y="344520"/>
            <a:ext cx="1311120" cy="398880"/>
            <a:chOff x="374760" y="344520"/>
            <a:chExt cx="1311120" cy="398880"/>
          </a:xfrm>
        </p:grpSpPr>
        <p:sp>
          <p:nvSpPr>
            <p:cNvPr id="64" name="Textfeld 42"/>
            <p:cNvSpPr/>
            <p:nvPr/>
          </p:nvSpPr>
          <p:spPr>
            <a:xfrm>
              <a:off x="374760" y="3445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feld 44"/>
            <p:cNvSpPr/>
            <p:nvPr/>
          </p:nvSpPr>
          <p:spPr>
            <a:xfrm>
              <a:off x="679320" y="40320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uppierung 48"/>
          <p:cNvGrpSpPr/>
          <p:nvPr/>
        </p:nvGrpSpPr>
        <p:grpSpPr>
          <a:xfrm>
            <a:off x="3525840" y="344520"/>
            <a:ext cx="1312920" cy="398880"/>
            <a:chOff x="3525840" y="344520"/>
            <a:chExt cx="1312920" cy="398880"/>
          </a:xfrm>
        </p:grpSpPr>
        <p:sp>
          <p:nvSpPr>
            <p:cNvPr id="67" name="Textfeld 53"/>
            <p:cNvSpPr/>
            <p:nvPr/>
          </p:nvSpPr>
          <p:spPr>
            <a:xfrm>
              <a:off x="3525840" y="3445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feld 56"/>
            <p:cNvSpPr/>
            <p:nvPr/>
          </p:nvSpPr>
          <p:spPr>
            <a:xfrm>
              <a:off x="3830400" y="40320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uppierung 57"/>
          <p:cNvGrpSpPr/>
          <p:nvPr/>
        </p:nvGrpSpPr>
        <p:grpSpPr>
          <a:xfrm>
            <a:off x="380880" y="2233440"/>
            <a:ext cx="1311480" cy="398880"/>
            <a:chOff x="380880" y="2233440"/>
            <a:chExt cx="1311480" cy="398880"/>
          </a:xfrm>
        </p:grpSpPr>
        <p:sp>
          <p:nvSpPr>
            <p:cNvPr id="70" name="Textfeld 58"/>
            <p:cNvSpPr/>
            <p:nvPr/>
          </p:nvSpPr>
          <p:spPr>
            <a:xfrm>
              <a:off x="380880" y="22334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feld 61"/>
            <p:cNvSpPr/>
            <p:nvPr/>
          </p:nvSpPr>
          <p:spPr>
            <a:xfrm>
              <a:off x="685800" y="229212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uppierung 62"/>
          <p:cNvGrpSpPr/>
          <p:nvPr/>
        </p:nvGrpSpPr>
        <p:grpSpPr>
          <a:xfrm>
            <a:off x="3514680" y="2233440"/>
            <a:ext cx="1312920" cy="398880"/>
            <a:chOff x="3514680" y="2233440"/>
            <a:chExt cx="1312920" cy="398880"/>
          </a:xfrm>
        </p:grpSpPr>
        <p:sp>
          <p:nvSpPr>
            <p:cNvPr id="73" name="Textfeld 65"/>
            <p:cNvSpPr/>
            <p:nvPr/>
          </p:nvSpPr>
          <p:spPr>
            <a:xfrm>
              <a:off x="3514680" y="22334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69"/>
            <p:cNvSpPr/>
            <p:nvPr/>
          </p:nvSpPr>
          <p:spPr>
            <a:xfrm>
              <a:off x="3819240" y="229212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uppierung 73"/>
          <p:cNvGrpSpPr/>
          <p:nvPr/>
        </p:nvGrpSpPr>
        <p:grpSpPr>
          <a:xfrm>
            <a:off x="374760" y="4103640"/>
            <a:ext cx="1311120" cy="398880"/>
            <a:chOff x="374760" y="4103640"/>
            <a:chExt cx="1311120" cy="398880"/>
          </a:xfrm>
        </p:grpSpPr>
        <p:sp>
          <p:nvSpPr>
            <p:cNvPr id="76" name="Textfeld 74"/>
            <p:cNvSpPr/>
            <p:nvPr/>
          </p:nvSpPr>
          <p:spPr>
            <a:xfrm>
              <a:off x="374760" y="4103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feld 75"/>
            <p:cNvSpPr/>
            <p:nvPr/>
          </p:nvSpPr>
          <p:spPr>
            <a:xfrm>
              <a:off x="679320" y="416232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uppierung 76"/>
          <p:cNvGrpSpPr/>
          <p:nvPr/>
        </p:nvGrpSpPr>
        <p:grpSpPr>
          <a:xfrm>
            <a:off x="3525840" y="4103640"/>
            <a:ext cx="1312920" cy="398880"/>
            <a:chOff x="3525840" y="4103640"/>
            <a:chExt cx="1312920" cy="398880"/>
          </a:xfrm>
        </p:grpSpPr>
        <p:sp>
          <p:nvSpPr>
            <p:cNvPr id="79" name="Textfeld 77"/>
            <p:cNvSpPr/>
            <p:nvPr/>
          </p:nvSpPr>
          <p:spPr>
            <a:xfrm>
              <a:off x="3525840" y="4103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feld 78"/>
            <p:cNvSpPr/>
            <p:nvPr/>
          </p:nvSpPr>
          <p:spPr>
            <a:xfrm>
              <a:off x="3830400" y="416232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uppierung 79"/>
          <p:cNvGrpSpPr/>
          <p:nvPr/>
        </p:nvGrpSpPr>
        <p:grpSpPr>
          <a:xfrm>
            <a:off x="379440" y="5961240"/>
            <a:ext cx="1311120" cy="398880"/>
            <a:chOff x="379440" y="5961240"/>
            <a:chExt cx="1311120" cy="398880"/>
          </a:xfrm>
        </p:grpSpPr>
        <p:sp>
          <p:nvSpPr>
            <p:cNvPr id="82" name="Textfeld 80"/>
            <p:cNvSpPr/>
            <p:nvPr/>
          </p:nvSpPr>
          <p:spPr>
            <a:xfrm>
              <a:off x="379440" y="59612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feld 81"/>
            <p:cNvSpPr/>
            <p:nvPr/>
          </p:nvSpPr>
          <p:spPr>
            <a:xfrm>
              <a:off x="684000" y="601992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uppierung 82"/>
          <p:cNvGrpSpPr/>
          <p:nvPr/>
        </p:nvGrpSpPr>
        <p:grpSpPr>
          <a:xfrm>
            <a:off x="3530520" y="5961240"/>
            <a:ext cx="1312920" cy="398880"/>
            <a:chOff x="3530520" y="5961240"/>
            <a:chExt cx="1312920" cy="398880"/>
          </a:xfrm>
        </p:grpSpPr>
        <p:sp>
          <p:nvSpPr>
            <p:cNvPr id="85" name="Textfeld 83"/>
            <p:cNvSpPr/>
            <p:nvPr/>
          </p:nvSpPr>
          <p:spPr>
            <a:xfrm>
              <a:off x="3530520" y="59612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84"/>
            <p:cNvSpPr/>
            <p:nvPr/>
          </p:nvSpPr>
          <p:spPr>
            <a:xfrm>
              <a:off x="3835080" y="601992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uppierung 85"/>
          <p:cNvGrpSpPr/>
          <p:nvPr/>
        </p:nvGrpSpPr>
        <p:grpSpPr>
          <a:xfrm>
            <a:off x="382680" y="7835760"/>
            <a:ext cx="1312920" cy="398880"/>
            <a:chOff x="382680" y="7835760"/>
            <a:chExt cx="1312920" cy="398880"/>
          </a:xfrm>
        </p:grpSpPr>
        <p:sp>
          <p:nvSpPr>
            <p:cNvPr id="88" name="Textfeld 86"/>
            <p:cNvSpPr/>
            <p:nvPr/>
          </p:nvSpPr>
          <p:spPr>
            <a:xfrm>
              <a:off x="382680" y="78357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feld 87"/>
            <p:cNvSpPr/>
            <p:nvPr/>
          </p:nvSpPr>
          <p:spPr>
            <a:xfrm>
              <a:off x="687240" y="789444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uppierung 88"/>
          <p:cNvGrpSpPr/>
          <p:nvPr/>
        </p:nvGrpSpPr>
        <p:grpSpPr>
          <a:xfrm>
            <a:off x="3535200" y="7835760"/>
            <a:ext cx="1312920" cy="398880"/>
            <a:chOff x="3535200" y="7835760"/>
            <a:chExt cx="1312920" cy="398880"/>
          </a:xfrm>
        </p:grpSpPr>
        <p:sp>
          <p:nvSpPr>
            <p:cNvPr id="91" name="Textfeld 89"/>
            <p:cNvSpPr/>
            <p:nvPr/>
          </p:nvSpPr>
          <p:spPr>
            <a:xfrm>
              <a:off x="3535200" y="78357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90"/>
            <p:cNvSpPr/>
            <p:nvPr/>
          </p:nvSpPr>
          <p:spPr>
            <a:xfrm>
              <a:off x="3839760" y="789444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feld 75"/>
          <p:cNvSpPr/>
          <p:nvPr/>
        </p:nvSpPr>
        <p:spPr>
          <a:xfrm>
            <a:off x="1886040" y="7832880"/>
            <a:ext cx="151272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Wapitis fressen neben Gras auch junges Laub von Baum- und Strauchsprössling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Bild 3" descr="Wolves_and_elk.jpg"/>
          <p:cNvPicPr/>
          <p:nvPr/>
        </p:nvPicPr>
        <p:blipFill>
          <a:blip r:embed="rId7"/>
          <a:stretch/>
        </p:blipFill>
        <p:spPr>
          <a:xfrm>
            <a:off x="3614760" y="4521240"/>
            <a:ext cx="1555560" cy="1189080"/>
          </a:xfrm>
          <a:prstGeom prst="rect">
            <a:avLst/>
          </a:prstGeom>
          <a:ln w="0">
            <a:noFill/>
          </a:ln>
        </p:spPr>
      </p:pic>
      <p:pic>
        <p:nvPicPr>
          <p:cNvPr id="95" name="Bild 2" descr="Jahresringe.jpg"/>
          <p:cNvPicPr/>
          <p:nvPr/>
        </p:nvPicPr>
        <p:blipFill>
          <a:blip r:embed="rId8"/>
          <a:stretch/>
        </p:blipFill>
        <p:spPr>
          <a:xfrm>
            <a:off x="5486400" y="6084720"/>
            <a:ext cx="1003320" cy="1079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203_ga_mystery_yellowston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Seite 1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Bild 3" descr="Wurzel.jpg"/>
          <p:cNvPicPr/>
          <p:nvPr/>
        </p:nvPicPr>
        <p:blipFill>
          <a:blip r:embed="rId9"/>
          <a:stretch/>
        </p:blipFill>
        <p:spPr>
          <a:xfrm>
            <a:off x="1630440" y="416088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Textfeld 78"/>
          <p:cNvSpPr/>
          <p:nvPr/>
        </p:nvSpPr>
        <p:spPr>
          <a:xfrm>
            <a:off x="446040" y="4948200"/>
            <a:ext cx="280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Eine stärkere Durch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wurzelung durch Büs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und Bäume schützt 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Boden vor Erosion durch Wass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99880" y="272880"/>
          <a:ext cx="6264360" cy="9361800"/>
        </p:xfrm>
        <a:graphic>
          <a:graphicData uri="http://schemas.openxmlformats.org/drawingml/2006/table">
            <a:tbl>
              <a:tblPr/>
              <a:tblGrid>
                <a:gridCol w="3132360"/>
                <a:gridCol w="3132000"/>
              </a:tblGrid>
              <a:tr h="187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7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0" name="Textfeld 24"/>
          <p:cNvSpPr/>
          <p:nvPr/>
        </p:nvSpPr>
        <p:spPr>
          <a:xfrm>
            <a:off x="444600" y="97488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Die Anzahl der Otter, Bisamratten, Enten, Fische, Amphibien und Reptilien in aufgestauten Flussabschnitten nimmt z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25"/>
          <p:cNvSpPr/>
          <p:nvPr/>
        </p:nvSpPr>
        <p:spPr>
          <a:xfrm>
            <a:off x="3755880" y="1065240"/>
            <a:ext cx="273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Biber ernähren sich v.a. vom Holz von Weiden und Esp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26"/>
          <p:cNvSpPr/>
          <p:nvPr/>
        </p:nvSpPr>
        <p:spPr>
          <a:xfrm>
            <a:off x="515880" y="2936880"/>
            <a:ext cx="280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Es siedeln sich wieder mehr Singvögel 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feld 28"/>
          <p:cNvSpPr/>
          <p:nvPr/>
        </p:nvSpPr>
        <p:spPr>
          <a:xfrm>
            <a:off x="660240" y="4881600"/>
            <a:ext cx="251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Die Wölfe lassen Aas zurü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feld 29"/>
          <p:cNvSpPr/>
          <p:nvPr/>
        </p:nvSpPr>
        <p:spPr>
          <a:xfrm>
            <a:off x="660240" y="6681960"/>
            <a:ext cx="251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Es gibt mehr Falken, Wiesel, Füchse und Dach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feld 31"/>
          <p:cNvSpPr/>
          <p:nvPr/>
        </p:nvSpPr>
        <p:spPr>
          <a:xfrm>
            <a:off x="372960" y="7832880"/>
            <a:ext cx="612000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Abbildungsquelle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1 Wapiti: By Unknown - Popular Science Monthly Volume 10, Public Domain, https://commons.wikimedia.org/w/index.php?curid=109046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 Biber: https://pixabay.com/de/biber-tier-säugetier-biologie-147073/, CC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, 3, 8, 9, 18 Diagramme und Landschaft verändert nach: Ripple, W.J., Beschta, R.L. Trophic cascades in Yellowstone: The first 15 years after wolf reintroduction. Biol. Conserv. (2011), doi:10.1016/j.biocon.2011.11.005 , https://ir.library.oregonstate.edu/concern/defaults/q524js9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6 Wölfe: verändert nach: Doug Smith - english wikipedia http://en.wikipedia.org/wiki/File:Wolves_and_elk.jpg or http://www.nps.gov/yell/photosmultimedia/photogallery.htm?eid=379961&amp;aid=547&amp;root_aid=547&amp;sort=title&amp;startRow=10#e_379961, Public Domain, https://commons.wikimedia.org/w/index.php?curid=77617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5 Wurzeln, 8 Jahresringe, 14 Flüsse: ZPG Biologie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18 Espe: https://pixabay.com/de/aspen-baum-gemalten-baum-natur-2086190/, CC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36960" y="4232160"/>
          <a:ext cx="1584360" cy="792360"/>
        </p:xfrm>
        <a:graphic>
          <a:graphicData uri="http://schemas.openxmlformats.org/drawingml/2006/table">
            <a:tbl>
              <a:tblPr/>
              <a:tblGrid>
                <a:gridCol w="792360"/>
                <a:gridCol w="792000"/>
              </a:tblGrid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Andale Sans Regular"/>
                          <a:ea typeface="Andale Sans Regular"/>
                        </a:rPr>
                        <a:t>Jah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Andale Sans Regular"/>
                          <a:ea typeface="Andale Sans Regular"/>
                        </a:rPr>
                        <a:t>Anzah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ndale Sans Regular"/>
                          <a:ea typeface="Andale Sans Regular"/>
                        </a:rPr>
                        <a:t>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ndale Sans Regular"/>
                          <a:ea typeface="Andale Sans Regular"/>
                        </a:rPr>
                        <a:t>ca. 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ndale Sans Regular"/>
                          <a:ea typeface="Andale Sans Regular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ndale Sans Regular"/>
                          <a:ea typeface="Andale Sans Regular"/>
                        </a:rPr>
                        <a:t>ca. 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feld 28"/>
          <p:cNvSpPr/>
          <p:nvPr/>
        </p:nvSpPr>
        <p:spPr>
          <a:xfrm>
            <a:off x="3540240" y="5097600"/>
            <a:ext cx="2952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Anzahl der Autostaus durch Begegnungen mit Schwarzbär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Bären fressen auch Beeren und große Säugeti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uppierung 39"/>
          <p:cNvGrpSpPr/>
          <p:nvPr/>
        </p:nvGrpSpPr>
        <p:grpSpPr>
          <a:xfrm>
            <a:off x="372960" y="344520"/>
            <a:ext cx="1311480" cy="398880"/>
            <a:chOff x="372960" y="344520"/>
            <a:chExt cx="1311480" cy="398880"/>
          </a:xfrm>
        </p:grpSpPr>
        <p:sp>
          <p:nvSpPr>
            <p:cNvPr id="109" name="Textfeld 40"/>
            <p:cNvSpPr/>
            <p:nvPr/>
          </p:nvSpPr>
          <p:spPr>
            <a:xfrm>
              <a:off x="372960" y="3445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feld 41"/>
            <p:cNvSpPr/>
            <p:nvPr/>
          </p:nvSpPr>
          <p:spPr>
            <a:xfrm>
              <a:off x="677880" y="40320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uppierung 42"/>
          <p:cNvGrpSpPr/>
          <p:nvPr/>
        </p:nvGrpSpPr>
        <p:grpSpPr>
          <a:xfrm>
            <a:off x="3524400" y="344520"/>
            <a:ext cx="1312560" cy="398880"/>
            <a:chOff x="3524400" y="344520"/>
            <a:chExt cx="1312560" cy="398880"/>
          </a:xfrm>
        </p:grpSpPr>
        <p:sp>
          <p:nvSpPr>
            <p:cNvPr id="112" name="Textfeld 44"/>
            <p:cNvSpPr/>
            <p:nvPr/>
          </p:nvSpPr>
          <p:spPr>
            <a:xfrm>
              <a:off x="3524400" y="3445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feld 48"/>
            <p:cNvSpPr/>
            <p:nvPr/>
          </p:nvSpPr>
          <p:spPr>
            <a:xfrm>
              <a:off x="3828960" y="40320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uppierung 53"/>
          <p:cNvGrpSpPr/>
          <p:nvPr/>
        </p:nvGrpSpPr>
        <p:grpSpPr>
          <a:xfrm>
            <a:off x="368280" y="2222640"/>
            <a:ext cx="1311120" cy="398880"/>
            <a:chOff x="368280" y="2222640"/>
            <a:chExt cx="1311120" cy="398880"/>
          </a:xfrm>
        </p:grpSpPr>
        <p:sp>
          <p:nvSpPr>
            <p:cNvPr id="115" name="Textfeld 55"/>
            <p:cNvSpPr/>
            <p:nvPr/>
          </p:nvSpPr>
          <p:spPr>
            <a:xfrm>
              <a:off x="368280" y="2222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feld 56"/>
            <p:cNvSpPr/>
            <p:nvPr/>
          </p:nvSpPr>
          <p:spPr>
            <a:xfrm>
              <a:off x="672840" y="228132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pierung 57"/>
          <p:cNvGrpSpPr/>
          <p:nvPr/>
        </p:nvGrpSpPr>
        <p:grpSpPr>
          <a:xfrm>
            <a:off x="3519360" y="2222640"/>
            <a:ext cx="1312920" cy="398880"/>
            <a:chOff x="3519360" y="2222640"/>
            <a:chExt cx="1312920" cy="398880"/>
          </a:xfrm>
        </p:grpSpPr>
        <p:sp>
          <p:nvSpPr>
            <p:cNvPr id="118" name="Textfeld 58"/>
            <p:cNvSpPr/>
            <p:nvPr/>
          </p:nvSpPr>
          <p:spPr>
            <a:xfrm>
              <a:off x="3519360" y="2222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feld 61"/>
            <p:cNvSpPr/>
            <p:nvPr/>
          </p:nvSpPr>
          <p:spPr>
            <a:xfrm>
              <a:off x="3823920" y="228132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uppierung 62"/>
          <p:cNvGrpSpPr/>
          <p:nvPr/>
        </p:nvGrpSpPr>
        <p:grpSpPr>
          <a:xfrm>
            <a:off x="372960" y="4103640"/>
            <a:ext cx="1311480" cy="398880"/>
            <a:chOff x="372960" y="4103640"/>
            <a:chExt cx="1311480" cy="398880"/>
          </a:xfrm>
        </p:grpSpPr>
        <p:sp>
          <p:nvSpPr>
            <p:cNvPr id="121" name="Textfeld 65"/>
            <p:cNvSpPr/>
            <p:nvPr/>
          </p:nvSpPr>
          <p:spPr>
            <a:xfrm>
              <a:off x="372960" y="4103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feld 69"/>
            <p:cNvSpPr/>
            <p:nvPr/>
          </p:nvSpPr>
          <p:spPr>
            <a:xfrm>
              <a:off x="677880" y="416232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uppierung 71"/>
          <p:cNvGrpSpPr/>
          <p:nvPr/>
        </p:nvGrpSpPr>
        <p:grpSpPr>
          <a:xfrm>
            <a:off x="3524400" y="4103640"/>
            <a:ext cx="1312560" cy="398880"/>
            <a:chOff x="3524400" y="4103640"/>
            <a:chExt cx="1312560" cy="398880"/>
          </a:xfrm>
        </p:grpSpPr>
        <p:sp>
          <p:nvSpPr>
            <p:cNvPr id="124" name="Textfeld 73"/>
            <p:cNvSpPr/>
            <p:nvPr/>
          </p:nvSpPr>
          <p:spPr>
            <a:xfrm>
              <a:off x="3524400" y="4103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feld 74"/>
            <p:cNvSpPr/>
            <p:nvPr/>
          </p:nvSpPr>
          <p:spPr>
            <a:xfrm>
              <a:off x="3828960" y="416232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uppierung 75"/>
          <p:cNvGrpSpPr/>
          <p:nvPr/>
        </p:nvGrpSpPr>
        <p:grpSpPr>
          <a:xfrm>
            <a:off x="378000" y="5961240"/>
            <a:ext cx="1311120" cy="398880"/>
            <a:chOff x="378000" y="5961240"/>
            <a:chExt cx="1311120" cy="398880"/>
          </a:xfrm>
        </p:grpSpPr>
        <p:sp>
          <p:nvSpPr>
            <p:cNvPr id="127" name="Textfeld 76"/>
            <p:cNvSpPr/>
            <p:nvPr/>
          </p:nvSpPr>
          <p:spPr>
            <a:xfrm>
              <a:off x="378000" y="59612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feld 77"/>
            <p:cNvSpPr/>
            <p:nvPr/>
          </p:nvSpPr>
          <p:spPr>
            <a:xfrm>
              <a:off x="682560" y="6019920"/>
              <a:ext cx="10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uppierung 78"/>
          <p:cNvGrpSpPr/>
          <p:nvPr/>
        </p:nvGrpSpPr>
        <p:grpSpPr>
          <a:xfrm>
            <a:off x="3506760" y="5961240"/>
            <a:ext cx="1312920" cy="398880"/>
            <a:chOff x="3506760" y="5961240"/>
            <a:chExt cx="1312920" cy="398880"/>
          </a:xfrm>
        </p:grpSpPr>
        <p:sp>
          <p:nvSpPr>
            <p:cNvPr id="130" name="Textfeld 79"/>
            <p:cNvSpPr/>
            <p:nvPr/>
          </p:nvSpPr>
          <p:spPr>
            <a:xfrm>
              <a:off x="3506760" y="59612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feld 80"/>
            <p:cNvSpPr/>
            <p:nvPr/>
          </p:nvSpPr>
          <p:spPr>
            <a:xfrm>
              <a:off x="3811320" y="6019920"/>
              <a:ext cx="100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Mystery – Wie Wölfe Flüsse änd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Bild 5" descr="Espen.jpg"/>
          <p:cNvPicPr/>
          <p:nvPr/>
        </p:nvPicPr>
        <p:blipFill>
          <a:blip r:embed="rId1"/>
          <a:stretch/>
        </p:blipFill>
        <p:spPr>
          <a:xfrm>
            <a:off x="3613320" y="6284880"/>
            <a:ext cx="2862000" cy="1438200"/>
          </a:xfrm>
          <a:prstGeom prst="rect">
            <a:avLst/>
          </a:prstGeom>
          <a:ln w="0">
            <a:noFill/>
          </a:ln>
        </p:spPr>
      </p:pic>
      <p:pic>
        <p:nvPicPr>
          <p:cNvPr id="133" name="Bild 3" descr="aspen-2086183_960_720.png"/>
          <p:cNvPicPr/>
          <p:nvPr/>
        </p:nvPicPr>
        <p:blipFill>
          <a:blip r:embed="rId2"/>
          <a:stretch/>
        </p:blipFill>
        <p:spPr>
          <a:xfrm>
            <a:off x="5556240" y="5816520"/>
            <a:ext cx="1079640" cy="1081080"/>
          </a:xfrm>
          <a:prstGeom prst="rect">
            <a:avLst/>
          </a:prstGeom>
          <a:ln w="0">
            <a:noFill/>
          </a:ln>
        </p:spPr>
      </p:pic>
      <p:pic>
        <p:nvPicPr>
          <p:cNvPr id="134" name="Bild 1" descr="Mäander.jpg"/>
          <p:cNvPicPr/>
          <p:nvPr/>
        </p:nvPicPr>
        <p:blipFill>
          <a:blip r:embed="rId3"/>
          <a:stretch/>
        </p:blipFill>
        <p:spPr>
          <a:xfrm>
            <a:off x="4302000" y="2536920"/>
            <a:ext cx="2190960" cy="976320"/>
          </a:xfrm>
          <a:prstGeom prst="rect">
            <a:avLst/>
          </a:prstGeom>
          <a:ln w="0">
            <a:noFill/>
          </a:ln>
        </p:spPr>
      </p:pic>
      <p:sp>
        <p:nvSpPr>
          <p:cNvPr id="135" name="Textfeld 27"/>
          <p:cNvSpPr/>
          <p:nvPr/>
        </p:nvSpPr>
        <p:spPr>
          <a:xfrm>
            <a:off x="3611520" y="3514680"/>
            <a:ext cx="288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Die Flüsse werden enger, sie mäandern weniger, es entstehen tote Ar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feil nach rechts 3"/>
          <p:cNvSpPr/>
          <p:nvPr/>
        </p:nvSpPr>
        <p:spPr>
          <a:xfrm>
            <a:off x="5165640" y="293688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66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203_ga_mystery_yellowston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Seite 2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Bild 1" descr="Datei_001.eps"/>
          <p:cNvPicPr/>
          <p:nvPr/>
        </p:nvPicPr>
        <p:blipFill>
          <a:blip r:embed="rId1"/>
          <a:stretch/>
        </p:blipFill>
        <p:spPr>
          <a:xfrm rot="5400000">
            <a:off x="-1106280" y="1623960"/>
            <a:ext cx="9070920" cy="651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203_ga_mystery_yellowston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Seite 3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 rot="5400000">
            <a:off x="4975560" y="1619640"/>
            <a:ext cx="31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e Wölfe Flüsse ändern </a:t>
            </a:r>
            <a:r>
              <a:rPr b="0" lang="mr-IN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–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tufe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Bild 2" descr="Datei_2.eps"/>
          <p:cNvPicPr/>
          <p:nvPr/>
        </p:nvPicPr>
        <p:blipFill>
          <a:blip r:embed="rId1"/>
          <a:stretch/>
        </p:blipFill>
        <p:spPr>
          <a:xfrm rot="5400000">
            <a:off x="-1041120" y="1605240"/>
            <a:ext cx="9068040" cy="651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203_ga_mystery_yellowston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Seite 4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 rot="5400000">
            <a:off x="4975560" y="1619640"/>
            <a:ext cx="31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e Wölfe Flüsse ändern </a:t>
            </a:r>
            <a:r>
              <a:rPr b="0" lang="mr-IN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–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tufe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Bild 2" descr="Datei_002.eps"/>
          <p:cNvPicPr/>
          <p:nvPr/>
        </p:nvPicPr>
        <p:blipFill>
          <a:blip r:embed="rId1"/>
          <a:stretch/>
        </p:blipFill>
        <p:spPr>
          <a:xfrm rot="5400000">
            <a:off x="-1092240" y="1620720"/>
            <a:ext cx="905040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203_ga_mystery_yellowston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Seite 5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 rot="5400000">
            <a:off x="4975560" y="1619640"/>
            <a:ext cx="31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e Wölfe Flüsse ändern </a:t>
            </a:r>
            <a:r>
              <a:rPr b="0" lang="mr-IN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–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tufe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9"/>
          <p:cNvSpPr/>
          <p:nvPr/>
        </p:nvSpPr>
        <p:spPr>
          <a:xfrm>
            <a:off x="155520" y="9591840"/>
            <a:ext cx="65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20203_ga_mystery_yellowstone.ppt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ZPG Biologie 2018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Seite 6 von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Bild 1" descr="Mystery 4.eps"/>
          <p:cNvPicPr/>
          <p:nvPr/>
        </p:nvPicPr>
        <p:blipFill>
          <a:blip r:embed="rId1"/>
          <a:stretch/>
        </p:blipFill>
        <p:spPr>
          <a:xfrm rot="5400000">
            <a:off x="-1107360" y="1616760"/>
            <a:ext cx="9053280" cy="6499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 rot="5400000">
            <a:off x="4975560" y="1619640"/>
            <a:ext cx="31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Wie Wölfe Flüsse ändern </a:t>
            </a:r>
            <a:r>
              <a:rPr b="1" lang="mr-IN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–</a:t>
            </a:r>
            <a:r>
              <a:rPr b="1" lang="de-DE" sz="11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eine mögliche Lös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6:06:46Z</dcterms:created>
  <dc:creator>bzdso01</dc:creator>
  <dc:description/>
  <dc:language>en-US</dc:language>
  <cp:lastModifiedBy>Hunor Karsa</cp:lastModifiedBy>
  <cp:lastPrinted>2018-06-12T05:42:10Z</cp:lastPrinted>
  <dcterms:modified xsi:type="dcterms:W3CDTF">2018-10-12T10:21:39Z</dcterms:modified>
  <cp:revision>84</cp:revision>
  <dc:subject/>
  <dc:title>Slide 1</dc:title>
</cp:coreProperties>
</file>