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A1E-63C6-4247-A35D-B597187B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33E-F46A-48B5-954E-7A82EA7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753-429F-451A-9E09-1C8434C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AAB-6787-4D3E-A89E-4F28BEDB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7CB-FFAC-4150-9C4C-25FA956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6F8-2257-45FC-A719-82877FCD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206-B815-4E7C-B7D6-2E06C8A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54E-9FB7-49E5-8AD2-086D5812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DC6-4F1B-4AF4-A744-9C30987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F32-3D22-4946-9A76-EA513EF5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9C3-A5C8-4FCB-A0D1-7573765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9C8-8829-4469-8CCB-85EC118B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396B7-ADDA-46F1-9499-E75C0ADE782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5280" y="647640"/>
            <a:ext cx="431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4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808080"/>
                </a:solidFill>
                <a:latin typeface="Arial"/>
              </a:rPr>
              <a:t>ÖKOSYST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40720" y="6840360"/>
            <a:ext cx="13683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7201080"/>
            <a:ext cx="972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20204_p_oekosystem.ppt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ZPG Biologie 2018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   Seite 1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15280" y="7128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7280" y="1152360"/>
            <a:ext cx="68407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36560" indent="-341280">
              <a:lnSpc>
                <a:spcPct val="93000"/>
              </a:lnSpc>
              <a:spcBef>
                <a:spcPts val="3124"/>
              </a:spcBef>
              <a:spcAft>
                <a:spcPts val="3124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Woran denkst du, wenn du den Begriff „Ökosystem“ hörst? Liste einige Stichworte a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6560" indent="-341280">
              <a:lnSpc>
                <a:spcPct val="107000"/>
              </a:lnSpc>
              <a:spcBef>
                <a:spcPts val="3124"/>
              </a:spcBef>
              <a:spcAft>
                <a:spcPts val="3124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ormuliere mindestens zwei Fragen zum Begriff „Ökosystem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40720" y="3311640"/>
            <a:ext cx="13683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920" y="7215120"/>
            <a:ext cx="9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204_p_oekosystem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Seite 2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83280" y="7128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360" y="287280"/>
            <a:ext cx="6840720" cy="61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55640" indent="-32400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ies den Text zur „Biosphäre 2“ aufmerk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5640" indent="-324000">
              <a:lnSpc>
                <a:spcPct val="107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Wenn möglich, beantworte deine Fragen aus Aufgabe 2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alls du deine Fragen noch nicht beantworten kannst notiere dir, welche Informationen dir fehle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alls sich neue Fragen ergeben haben, notiere auch di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5640" indent="-324000">
              <a:lnSpc>
                <a:spcPct val="107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dentifiziere Textstellen, die sich mit deinen Vorstellungen aus Aufgabe 1 decken oder sich unterschei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5640" indent="-324000">
              <a:lnSpc>
                <a:spcPct val="107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artner A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Beschreibe den Aufbau des „Biosphäre 2“-Experiments ohne in den Text zu schau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artner B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rkläre die Begriffe „Biosphäre“ und „Biosphäre 2“ ohne in den Text zu schau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40720" y="3898800"/>
            <a:ext cx="13683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Foto: A. Theil-Schie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840" y="7227720"/>
            <a:ext cx="9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204_p_oekosystem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Seite 3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6000" y="71280"/>
            <a:ext cx="9213840" cy="7054920"/>
            <a:chOff x="216000" y="71280"/>
            <a:chExt cx="9213840" cy="7054920"/>
          </a:xfrm>
        </p:grpSpPr>
        <p:sp>
          <p:nvSpPr>
            <p:cNvPr id="53" name=""/>
            <p:cNvSpPr/>
            <p:nvPr/>
          </p:nvSpPr>
          <p:spPr>
            <a:xfrm>
              <a:off x="431640" y="71280"/>
              <a:ext cx="5758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2640" bIns="45000" anchor="t">
              <a:noAutofit/>
            </a:bodyPr>
            <a:p>
              <a:pPr marL="503280" indent="-358920">
                <a:lnSpc>
                  <a:spcPct val="93000"/>
                </a:lnSpc>
                <a:buClr>
                  <a:srgbClr val="000000"/>
                </a:buClr>
                <a:buFont typeface="Arial"/>
                <a:buAutoNum type="arabicPeriod" startAt="7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arbeite die Aufgaben auf dem Arbeitsblat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6000" y="576360"/>
              <a:ext cx="9213840" cy="6549840"/>
              <a:chOff x="216000" y="576360"/>
              <a:chExt cx="9213840" cy="654984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216000" y="576360"/>
                <a:ext cx="9213840" cy="6549840"/>
                <a:chOff x="216000" y="576360"/>
                <a:chExt cx="9213840" cy="654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216000" y="576360"/>
                  <a:ext cx="9213840" cy="65498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735280" y="345600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967280" y="345600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800360" y="536112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535640" y="5759280"/>
                  <a:ext cx="1979640" cy="11178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Art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696000" y="1833480"/>
                  <a:ext cx="1979640" cy="11178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69840" y="1871640"/>
                  <a:ext cx="1979640" cy="11178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Biotische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Faktoren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887640" y="863640"/>
                  <a:ext cx="1979640" cy="1117440"/>
                </a:xfrm>
                <a:prstGeom prst="ellipse">
                  <a:avLst/>
                </a:prstGeom>
                <a:solidFill>
                  <a:srgbClr val="cc66ff">
                    <a:alpha val="50000"/>
                  </a:srgbClr>
                </a:solidFill>
                <a:ln w="36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000" rIns="108000" tIns="82440" bIns="63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ÖKOSYSTEM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4" name=""/>
                <p:cNvCxnSpPr>
                  <a:stCxn id="63" idx="4"/>
                  <a:endCxn id="58" idx="0"/>
                </p:cNvCxnSpPr>
                <p:nvPr/>
              </p:nvCxnSpPr>
              <p:spPr>
                <a:xfrm>
                  <a:off x="4878000" y="1982880"/>
                  <a:ext cx="1080360" cy="1472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65" name=""/>
                <p:cNvCxnSpPr>
                  <a:stCxn id="63" idx="4"/>
                  <a:endCxn id="57" idx="0"/>
                </p:cNvCxnSpPr>
                <p:nvPr/>
              </p:nvCxnSpPr>
              <p:spPr>
                <a:xfrm flipH="1">
                  <a:off x="3726720" y="1982880"/>
                  <a:ext cx="1150200" cy="1472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66" name=""/>
                <p:cNvCxnSpPr>
                  <a:stCxn id="63" idx="2"/>
                  <a:endCxn id="62" idx="7"/>
                </p:cNvCxnSpPr>
                <p:nvPr/>
              </p:nvCxnSpPr>
              <p:spPr>
                <a:xfrm flipH="1">
                  <a:off x="2661840" y="1423800"/>
                  <a:ext cx="1224720" cy="611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67" name=""/>
                <p:cNvCxnSpPr>
                  <a:stCxn id="57" idx="4"/>
                  <a:endCxn id="59" idx="0"/>
                </p:cNvCxnSpPr>
                <p:nvPr/>
              </p:nvCxnSpPr>
              <p:spPr>
                <a:xfrm flipH="1">
                  <a:off x="2790000" y="4575240"/>
                  <a:ext cx="934200" cy="784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68" name=""/>
                <p:cNvCxnSpPr>
                  <a:stCxn id="59" idx="6"/>
                  <a:endCxn id="60" idx="1"/>
                </p:cNvCxnSpPr>
                <p:nvPr/>
              </p:nvCxnSpPr>
              <p:spPr>
                <a:xfrm>
                  <a:off x="3781080" y="5919840"/>
                  <a:ext cx="1043640" cy="2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69" name=""/>
                <p:cNvCxnSpPr>
                  <a:stCxn id="57" idx="4"/>
                  <a:endCxn id="60" idx="1"/>
                </p:cNvCxnSpPr>
                <p:nvPr/>
              </p:nvCxnSpPr>
              <p:spPr>
                <a:xfrm>
                  <a:off x="3727440" y="4575240"/>
                  <a:ext cx="1099440" cy="1348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70" name=""/>
                <p:cNvCxnSpPr>
                  <a:stCxn id="62" idx="4"/>
                  <a:endCxn id="57" idx="1"/>
                </p:cNvCxnSpPr>
                <p:nvPr/>
              </p:nvCxnSpPr>
              <p:spPr>
                <a:xfrm>
                  <a:off x="1960200" y="2990880"/>
                  <a:ext cx="1064520" cy="629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71" name=""/>
                <p:cNvCxnSpPr>
                  <a:stCxn id="63" idx="6"/>
                  <a:endCxn id="61" idx="1"/>
                </p:cNvCxnSpPr>
                <p:nvPr/>
              </p:nvCxnSpPr>
              <p:spPr>
                <a:xfrm>
                  <a:off x="5870520" y="1423800"/>
                  <a:ext cx="1115280" cy="572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72" name=""/>
                <p:cNvCxnSpPr>
                  <a:stCxn id="58" idx="7"/>
                  <a:endCxn id="61" idx="4"/>
                </p:cNvCxnSpPr>
                <p:nvPr/>
              </p:nvCxnSpPr>
              <p:spPr>
                <a:xfrm flipV="1">
                  <a:off x="6659640" y="2952720"/>
                  <a:ext cx="102600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</p:grpSp>
          <p:sp>
            <p:nvSpPr>
              <p:cNvPr id="73" name=""/>
              <p:cNvSpPr/>
              <p:nvPr/>
            </p:nvSpPr>
            <p:spPr>
              <a:xfrm>
                <a:off x="6983280" y="5092560"/>
                <a:ext cx="2014560" cy="5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984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2800" spc="-1" strike="noStrike">
                    <a:solidFill>
                      <a:srgbClr val="000000"/>
                    </a:solidFill>
                    <a:latin typeface="Arial"/>
                  </a:rPr>
                  <a:t>Biosphär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23840" y="7227720"/>
            <a:ext cx="9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20204_p_oekosystem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               Seite 4 von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23840" y="216000"/>
            <a:ext cx="9718560" cy="7227360"/>
            <a:chOff x="123840" y="216000"/>
            <a:chExt cx="9718560" cy="7227360"/>
          </a:xfrm>
        </p:grpSpPr>
        <p:grpSp>
          <p:nvGrpSpPr>
            <p:cNvPr id="76" name=""/>
            <p:cNvGrpSpPr/>
            <p:nvPr/>
          </p:nvGrpSpPr>
          <p:grpSpPr>
            <a:xfrm>
              <a:off x="431640" y="216000"/>
              <a:ext cx="9213840" cy="6908760"/>
              <a:chOff x="431640" y="216000"/>
              <a:chExt cx="9213840" cy="6908760"/>
            </a:xfrm>
          </p:grpSpPr>
          <p:sp>
            <p:nvSpPr>
              <p:cNvPr id="77" name=""/>
              <p:cNvSpPr/>
              <p:nvPr/>
            </p:nvSpPr>
            <p:spPr>
              <a:xfrm>
                <a:off x="431640" y="216000"/>
                <a:ext cx="359892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624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Concept Map - Lösung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431640" y="574560"/>
                <a:ext cx="9213840" cy="6550200"/>
                <a:chOff x="431640" y="574560"/>
                <a:chExt cx="9213840" cy="6550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31640" y="574560"/>
                  <a:ext cx="9213840" cy="65502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952720" y="345456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Biozönose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4720" y="345456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Biotop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016000" y="5359320"/>
                  <a:ext cx="1979640" cy="11178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Population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751280" y="5757840"/>
                  <a:ext cx="1979640" cy="111780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Art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2000" y="183204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Abiotische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Faktoren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85840" y="1870200"/>
                  <a:ext cx="1979640" cy="1117440"/>
                </a:xfrm>
                <a:prstGeom prst="ellipse">
                  <a:avLst/>
                </a:prstGeom>
                <a:noFill/>
                <a:ln w="18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73440" bIns="54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Biotische 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Faktoren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103640" y="861840"/>
                  <a:ext cx="1979640" cy="1117800"/>
                </a:xfrm>
                <a:prstGeom prst="ellipse">
                  <a:avLst/>
                </a:prstGeom>
                <a:solidFill>
                  <a:srgbClr val="cc66ff">
                    <a:alpha val="50000"/>
                  </a:srgbClr>
                </a:solidFill>
                <a:ln w="36000">
                  <a:solidFill>
                    <a:srgbClr val="77295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000" rIns="108000" tIns="82440" bIns="630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de-DE" sz="2200" spc="-1" strike="noStrike">
                      <a:solidFill>
                        <a:srgbClr val="000000"/>
                      </a:solidFill>
                      <a:latin typeface="Arial"/>
                    </a:rPr>
                    <a:t>ÖKOSYSTEM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87" name=""/>
                <p:cNvCxnSpPr>
                  <a:stCxn id="86" idx="4"/>
                  <a:endCxn id="81" idx="0"/>
                </p:cNvCxnSpPr>
                <p:nvPr/>
              </p:nvCxnSpPr>
              <p:spPr>
                <a:xfrm>
                  <a:off x="5094360" y="1981080"/>
                  <a:ext cx="1080000" cy="1472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88" name=""/>
                <p:cNvCxnSpPr>
                  <a:stCxn id="86" idx="4"/>
                  <a:endCxn id="80" idx="0"/>
                </p:cNvCxnSpPr>
                <p:nvPr/>
              </p:nvCxnSpPr>
              <p:spPr>
                <a:xfrm flipH="1">
                  <a:off x="3943080" y="1981080"/>
                  <a:ext cx="1149840" cy="1472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89" name=""/>
                <p:cNvCxnSpPr>
                  <a:stCxn id="86" idx="2"/>
                  <a:endCxn id="85" idx="7"/>
                </p:cNvCxnSpPr>
                <p:nvPr/>
              </p:nvCxnSpPr>
              <p:spPr>
                <a:xfrm flipH="1">
                  <a:off x="2877840" y="1422360"/>
                  <a:ext cx="1224720" cy="6120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0" name=""/>
                <p:cNvCxnSpPr>
                  <a:stCxn id="80" idx="4"/>
                  <a:endCxn id="82" idx="0"/>
                </p:cNvCxnSpPr>
                <p:nvPr/>
              </p:nvCxnSpPr>
              <p:spPr>
                <a:xfrm flipH="1">
                  <a:off x="3006000" y="4572000"/>
                  <a:ext cx="934200" cy="784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1" name=""/>
                <p:cNvCxnSpPr>
                  <a:stCxn id="82" idx="6"/>
                  <a:endCxn id="83" idx="1"/>
                </p:cNvCxnSpPr>
                <p:nvPr/>
              </p:nvCxnSpPr>
              <p:spPr>
                <a:xfrm>
                  <a:off x="3997080" y="5917680"/>
                  <a:ext cx="1043640" cy="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2" name=""/>
                <p:cNvCxnSpPr>
                  <a:stCxn id="80" idx="4"/>
                  <a:endCxn id="83" idx="1"/>
                </p:cNvCxnSpPr>
                <p:nvPr/>
              </p:nvCxnSpPr>
              <p:spPr>
                <a:xfrm>
                  <a:off x="3943080" y="4572000"/>
                  <a:ext cx="1099080" cy="1348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3" name=""/>
                <p:cNvCxnSpPr>
                  <a:stCxn id="85" idx="4"/>
                  <a:endCxn id="80" idx="1"/>
                </p:cNvCxnSpPr>
                <p:nvPr/>
              </p:nvCxnSpPr>
              <p:spPr>
                <a:xfrm>
                  <a:off x="2177640" y="2989440"/>
                  <a:ext cx="1064520" cy="629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4" name=""/>
                <p:cNvCxnSpPr>
                  <a:stCxn id="86" idx="6"/>
                  <a:endCxn id="84" idx="1"/>
                </p:cNvCxnSpPr>
                <p:nvPr/>
              </p:nvCxnSpPr>
              <p:spPr>
                <a:xfrm>
                  <a:off x="6086520" y="1422360"/>
                  <a:ext cx="1115280" cy="572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95" name=""/>
                <p:cNvCxnSpPr>
                  <a:stCxn id="81" idx="7"/>
                  <a:endCxn id="84" idx="4"/>
                </p:cNvCxnSpPr>
                <p:nvPr/>
              </p:nvCxnSpPr>
              <p:spPr>
                <a:xfrm flipV="1">
                  <a:off x="6875640" y="2949480"/>
                  <a:ext cx="1026000" cy="665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</p:cxnSp>
          </p:grpSp>
          <p:sp>
            <p:nvSpPr>
              <p:cNvPr id="96" name=""/>
              <p:cNvSpPr/>
              <p:nvPr/>
            </p:nvSpPr>
            <p:spPr>
              <a:xfrm>
                <a:off x="7128000" y="5307120"/>
                <a:ext cx="2014560" cy="5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984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de-DE" sz="2800" spc="-1" strike="noStrike">
                    <a:solidFill>
                      <a:srgbClr val="000000"/>
                    </a:solidFill>
                    <a:latin typeface="Arial"/>
                  </a:rPr>
                  <a:t>Biosphär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123840" y="7227720"/>
              <a:ext cx="971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20204_p_oekosystem.ppt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              ZPG Biologie 2018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            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           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	</a:t>
              </a:r>
              <a:r>
                <a:rPr b="0" lang="de-DE" sz="800" spc="-1" strike="noStrike">
                  <a:solidFill>
                    <a:srgbClr val="000000"/>
                  </a:solidFill>
                  <a:latin typeface="Calibri"/>
                  <a:ea typeface="ヒラギノ角ゴ Pro W3"/>
                </a:rPr>
                <a:t>                 Seite 5 von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3640" y="1309680"/>
              <a:ext cx="1653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Ist charakterisiert du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24720" y="1295280"/>
              <a:ext cx="1654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Ist charakterisiert du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0000" y="2519280"/>
              <a:ext cx="861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Umfass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4720" y="4749840"/>
              <a:ext cx="16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Besteht aus vie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2720" y="4965840"/>
              <a:ext cx="16542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Besteht aus vie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72000" y="6264360"/>
              <a:ext cx="1726920" cy="6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Sind zusammen-gehörige Gruppen ei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4T12:55:22Z</dcterms:created>
  <dc:creator/>
  <dc:description/>
  <dc:language>en-US</dc:language>
  <cp:lastModifiedBy/>
  <dcterms:modified xsi:type="dcterms:W3CDTF">2018-09-29T18:17:35Z</dcterms:modified>
  <cp:revision>36</cp:revision>
  <dc:subject/>
  <dc:title/>
</cp:coreProperties>
</file>