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51C-1B20-4A86-AF3B-F7536967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254-E58A-42C2-93C2-D01C905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786-857B-43AB-BBEF-C64305C8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31156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725440"/>
            <a:ext cx="198648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B8F-A93A-4BC2-90F5-BD757FC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B54-ED47-4971-AA7A-F7B7340F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E19-EA68-4E5B-902C-AF39034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4DC-D672-4B4E-B48D-CB02371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828-C0FA-4116-9131-DFEE276A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69560"/>
            <a:ext cx="617040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4B9-1B08-4928-A83A-B0F8ECC9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374-DAAB-4772-946B-38236A5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72544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D87-AA09-4969-9FBA-0094C33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311560"/>
            <a:ext cx="301104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25440"/>
            <a:ext cx="617040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FBD-0F54-4DFA-A5A1-E47FA92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69560"/>
            <a:ext cx="61704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1560"/>
            <a:ext cx="6170400" cy="65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9019800"/>
            <a:ext cx="1598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00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19800"/>
            <a:ext cx="1598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998488-F063-408E-82E4-443756E63F21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1.jpeg"/><Relationship Id="rId13" Type="http://schemas.openxmlformats.org/officeDocument/2006/relationships/hyperlink" Target="https://creativecommons.org/publicdomain/zero/1.0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ung 1"/>
          <p:cNvGrpSpPr/>
          <p:nvPr/>
        </p:nvGrpSpPr>
        <p:grpSpPr>
          <a:xfrm>
            <a:off x="184320" y="117360"/>
            <a:ext cx="6440400" cy="9494640"/>
            <a:chOff x="184320" y="117360"/>
            <a:chExt cx="6440400" cy="9494640"/>
          </a:xfrm>
        </p:grpSpPr>
        <p:grpSp>
          <p:nvGrpSpPr>
            <p:cNvPr id="42" name="Gruppierung 24"/>
            <p:cNvGrpSpPr/>
            <p:nvPr/>
          </p:nvGrpSpPr>
          <p:grpSpPr>
            <a:xfrm>
              <a:off x="184320" y="117360"/>
              <a:ext cx="6440400" cy="4747320"/>
              <a:chOff x="184320" y="117360"/>
              <a:chExt cx="6440400" cy="4747320"/>
            </a:xfrm>
          </p:grpSpPr>
          <p:grpSp>
            <p:nvGrpSpPr>
              <p:cNvPr id="43" name="Gruppierung 40"/>
              <p:cNvGrpSpPr/>
              <p:nvPr/>
            </p:nvGrpSpPr>
            <p:grpSpPr>
              <a:xfrm>
                <a:off x="184320" y="117360"/>
                <a:ext cx="6440400" cy="1582560"/>
                <a:chOff x="184320" y="117360"/>
                <a:chExt cx="6440400" cy="1582560"/>
              </a:xfrm>
            </p:grpSpPr>
            <p:grpSp>
              <p:nvGrpSpPr>
                <p:cNvPr id="44" name="Gruppierung 35"/>
                <p:cNvGrpSpPr/>
                <p:nvPr/>
              </p:nvGrpSpPr>
              <p:grpSpPr>
                <a:xfrm>
                  <a:off x="184320" y="117360"/>
                  <a:ext cx="3220200" cy="1582560"/>
                  <a:chOff x="184320" y="117360"/>
                  <a:chExt cx="3220200" cy="1582560"/>
                </a:xfrm>
              </p:grpSpPr>
              <p:sp>
                <p:nvSpPr>
                  <p:cNvPr id="45" name="Rechteck 26"/>
                  <p:cNvSpPr/>
                  <p:nvPr/>
                </p:nvSpPr>
                <p:spPr>
                  <a:xfrm rot="16200000">
                    <a:off x="1002960" y="-701280"/>
                    <a:ext cx="158256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Gerade Verbindung 34"/>
                  <p:cNvSpPr/>
                  <p:nvPr/>
                </p:nvSpPr>
                <p:spPr>
                  <a:xfrm flipH="1" flipV="1">
                    <a:off x="1794240" y="117360"/>
                    <a:ext cx="1080" cy="158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Gruppierung 36"/>
                <p:cNvGrpSpPr/>
                <p:nvPr/>
              </p:nvGrpSpPr>
              <p:grpSpPr>
                <a:xfrm>
                  <a:off x="3404520" y="117360"/>
                  <a:ext cx="3220200" cy="1582560"/>
                  <a:chOff x="3404520" y="117360"/>
                  <a:chExt cx="3220200" cy="1582560"/>
                </a:xfrm>
              </p:grpSpPr>
              <p:sp>
                <p:nvSpPr>
                  <p:cNvPr id="48" name="Rechteck 37"/>
                  <p:cNvSpPr/>
                  <p:nvPr/>
                </p:nvSpPr>
                <p:spPr>
                  <a:xfrm rot="16200000">
                    <a:off x="4223160" y="-701280"/>
                    <a:ext cx="158256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Gerade Verbindung 39"/>
                  <p:cNvSpPr/>
                  <p:nvPr/>
                </p:nvSpPr>
                <p:spPr>
                  <a:xfrm flipH="1" flipV="1">
                    <a:off x="5014440" y="117360"/>
                    <a:ext cx="1080" cy="158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" name="Gruppierung 41"/>
              <p:cNvGrpSpPr/>
              <p:nvPr/>
            </p:nvGrpSpPr>
            <p:grpSpPr>
              <a:xfrm>
                <a:off x="184320" y="1699560"/>
                <a:ext cx="6440400" cy="1582920"/>
                <a:chOff x="184320" y="1699560"/>
                <a:chExt cx="6440400" cy="1582920"/>
              </a:xfrm>
            </p:grpSpPr>
            <p:grpSp>
              <p:nvGrpSpPr>
                <p:cNvPr id="51" name="Gruppierung 43"/>
                <p:cNvGrpSpPr/>
                <p:nvPr/>
              </p:nvGrpSpPr>
              <p:grpSpPr>
                <a:xfrm>
                  <a:off x="184320" y="1699560"/>
                  <a:ext cx="3220200" cy="1582920"/>
                  <a:chOff x="184320" y="1699560"/>
                  <a:chExt cx="3220200" cy="1582920"/>
                </a:xfrm>
              </p:grpSpPr>
              <p:sp>
                <p:nvSpPr>
                  <p:cNvPr id="52" name="Rechteck 47"/>
                  <p:cNvSpPr/>
                  <p:nvPr/>
                </p:nvSpPr>
                <p:spPr>
                  <a:xfrm rot="16200000">
                    <a:off x="1003320" y="88056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Gerade Verbindung 48"/>
                  <p:cNvSpPr/>
                  <p:nvPr/>
                </p:nvSpPr>
                <p:spPr>
                  <a:xfrm flipH="1" flipV="1">
                    <a:off x="1794240" y="170028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uppierung 44"/>
                <p:cNvGrpSpPr/>
                <p:nvPr/>
              </p:nvGrpSpPr>
              <p:grpSpPr>
                <a:xfrm>
                  <a:off x="3404520" y="1699560"/>
                  <a:ext cx="3220200" cy="1582920"/>
                  <a:chOff x="3404520" y="1699560"/>
                  <a:chExt cx="3220200" cy="1582920"/>
                </a:xfrm>
              </p:grpSpPr>
              <p:sp>
                <p:nvSpPr>
                  <p:cNvPr id="55" name="Rechteck 45"/>
                  <p:cNvSpPr/>
                  <p:nvPr/>
                </p:nvSpPr>
                <p:spPr>
                  <a:xfrm rot="16200000">
                    <a:off x="4223520" y="88056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Gerade Verbindung 46"/>
                  <p:cNvSpPr/>
                  <p:nvPr/>
                </p:nvSpPr>
                <p:spPr>
                  <a:xfrm flipH="1" flipV="1">
                    <a:off x="5014440" y="170028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" name="Gruppierung 49"/>
              <p:cNvGrpSpPr/>
              <p:nvPr/>
            </p:nvGrpSpPr>
            <p:grpSpPr>
              <a:xfrm>
                <a:off x="184320" y="3281760"/>
                <a:ext cx="6440400" cy="1582920"/>
                <a:chOff x="184320" y="3281760"/>
                <a:chExt cx="6440400" cy="1582920"/>
              </a:xfrm>
            </p:grpSpPr>
            <p:grpSp>
              <p:nvGrpSpPr>
                <p:cNvPr id="58" name="Gruppierung 50"/>
                <p:cNvGrpSpPr/>
                <p:nvPr/>
              </p:nvGrpSpPr>
              <p:grpSpPr>
                <a:xfrm>
                  <a:off x="184320" y="3281760"/>
                  <a:ext cx="3220200" cy="1582920"/>
                  <a:chOff x="184320" y="3281760"/>
                  <a:chExt cx="3220200" cy="1582920"/>
                </a:xfrm>
              </p:grpSpPr>
              <p:sp>
                <p:nvSpPr>
                  <p:cNvPr id="59" name="Rechteck 54"/>
                  <p:cNvSpPr/>
                  <p:nvPr/>
                </p:nvSpPr>
                <p:spPr>
                  <a:xfrm rot="16200000">
                    <a:off x="1003320" y="246276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Gerade Verbindung 55"/>
                  <p:cNvSpPr/>
                  <p:nvPr/>
                </p:nvSpPr>
                <p:spPr>
                  <a:xfrm flipH="1" flipV="1">
                    <a:off x="1794240" y="328248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Gruppierung 51"/>
                <p:cNvGrpSpPr/>
                <p:nvPr/>
              </p:nvGrpSpPr>
              <p:grpSpPr>
                <a:xfrm>
                  <a:off x="3404520" y="3281760"/>
                  <a:ext cx="3220200" cy="1582920"/>
                  <a:chOff x="3404520" y="3281760"/>
                  <a:chExt cx="3220200" cy="1582920"/>
                </a:xfrm>
              </p:grpSpPr>
              <p:sp>
                <p:nvSpPr>
                  <p:cNvPr id="62" name="Rechteck 52"/>
                  <p:cNvSpPr/>
                  <p:nvPr/>
                </p:nvSpPr>
                <p:spPr>
                  <a:xfrm rot="16200000">
                    <a:off x="4223520" y="246276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Gerade Verbindung 53"/>
                  <p:cNvSpPr/>
                  <p:nvPr/>
                </p:nvSpPr>
                <p:spPr>
                  <a:xfrm flipH="1" flipV="1">
                    <a:off x="5014440" y="328248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" name="Text Box 10"/>
              <p:cNvSpPr/>
              <p:nvPr/>
            </p:nvSpPr>
            <p:spPr>
              <a:xfrm>
                <a:off x="3455640" y="795960"/>
                <a:ext cx="149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bere Epidermi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Text Box 10"/>
              <p:cNvSpPr/>
              <p:nvPr/>
            </p:nvSpPr>
            <p:spPr>
              <a:xfrm>
                <a:off x="232920" y="2370600"/>
                <a:ext cx="1504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hwamm-geweb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Text Box 10"/>
              <p:cNvSpPr/>
              <p:nvPr/>
            </p:nvSpPr>
            <p:spPr>
              <a:xfrm>
                <a:off x="242280" y="394380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Untere Epidermi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Text Box 10"/>
              <p:cNvSpPr/>
              <p:nvPr/>
            </p:nvSpPr>
            <p:spPr>
              <a:xfrm>
                <a:off x="3468960" y="235332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paltöffnu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Text Box 10"/>
              <p:cNvSpPr/>
              <p:nvPr/>
            </p:nvSpPr>
            <p:spPr>
              <a:xfrm>
                <a:off x="3453120" y="395208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lisadengeweb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Text Box 10"/>
              <p:cNvSpPr/>
              <p:nvPr/>
            </p:nvSpPr>
            <p:spPr>
              <a:xfrm>
                <a:off x="231120" y="80172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uticul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Textfeld 73"/>
              <p:cNvSpPr/>
              <p:nvPr/>
            </p:nvSpPr>
            <p:spPr>
              <a:xfrm>
                <a:off x="4656240" y="329220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Textfeld 74"/>
              <p:cNvSpPr/>
              <p:nvPr/>
            </p:nvSpPr>
            <p:spPr>
              <a:xfrm>
                <a:off x="1436760" y="329220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Textfeld 75"/>
              <p:cNvSpPr/>
              <p:nvPr/>
            </p:nvSpPr>
            <p:spPr>
              <a:xfrm>
                <a:off x="4656240" y="170964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S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Textfeld 76"/>
              <p:cNvSpPr/>
              <p:nvPr/>
            </p:nvSpPr>
            <p:spPr>
              <a:xfrm>
                <a:off x="1436760" y="170964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Textfeld 77"/>
              <p:cNvSpPr/>
              <p:nvPr/>
            </p:nvSpPr>
            <p:spPr>
              <a:xfrm>
                <a:off x="4648320" y="13464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feld 79"/>
              <p:cNvSpPr/>
              <p:nvPr/>
            </p:nvSpPr>
            <p:spPr>
              <a:xfrm>
                <a:off x="1428840" y="13464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U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6" name="Bild 2" descr="Unbenannt-1.jpg"/>
              <p:cNvPicPr/>
              <p:nvPr/>
            </p:nvPicPr>
            <p:blipFill>
              <a:blip r:embed="rId1"/>
              <a:stretch/>
            </p:blipFill>
            <p:spPr>
              <a:xfrm>
                <a:off x="1902600" y="637560"/>
                <a:ext cx="1423800" cy="978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7" name="Gerade Verbindung mit Pfeil 4"/>
              <p:cNvCxnSpPr/>
              <p:nvPr/>
            </p:nvCxnSpPr>
            <p:spPr>
              <a:xfrm flipH="1">
                <a:off x="2707920" y="348840"/>
                <a:ext cx="142200" cy="47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8" name="Gerade Verbindung mit Pfeil 80"/>
              <p:cNvCxnSpPr/>
              <p:nvPr/>
            </p:nvCxnSpPr>
            <p:spPr>
              <a:xfrm flipH="1">
                <a:off x="2280960" y="365040"/>
                <a:ext cx="560880" cy="45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79" name="Bild 7" descr="Unbenannt-1.jpg"/>
              <p:cNvPicPr/>
              <p:nvPr/>
            </p:nvPicPr>
            <p:blipFill>
              <a:blip r:embed="rId2"/>
              <a:stretch/>
            </p:blipFill>
            <p:spPr>
              <a:xfrm>
                <a:off x="5159520" y="579600"/>
                <a:ext cx="124920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Geschweifte Klammer rechts 10"/>
              <p:cNvSpPr/>
              <p:nvPr/>
            </p:nvSpPr>
            <p:spPr>
              <a:xfrm>
                <a:off x="6437160" y="892800"/>
                <a:ext cx="117000" cy="510840"/>
              </a:xfrm>
              <a:custGeom>
                <a:avLst/>
                <a:gdLst>
                  <a:gd name="textAreaLeft" fmla="*/ 0 w 117000"/>
                  <a:gd name="textAreaRight" fmla="*/ 42120 w 117000"/>
                  <a:gd name="textAreaTop" fmla="*/ 2880 h 510840"/>
                  <a:gd name="textAreaBottom" fmla="*/ 507960 h 51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03"/>
                      <a:pt x="10800" y="406"/>
                    </a:cubicBezTo>
                    <a:lnTo>
                      <a:pt x="10800" y="10394"/>
                    </a:lnTo>
                    <a:cubicBezTo>
                      <a:pt x="10800" y="10597"/>
                      <a:pt x="16200" y="10800"/>
                      <a:pt x="21600" y="10800"/>
                    </a:cubicBezTo>
                    <a:cubicBezTo>
                      <a:pt x="16200" y="10800"/>
                      <a:pt x="10800" y="11003"/>
                      <a:pt x="10800" y="11206"/>
                    </a:cubicBezTo>
                    <a:lnTo>
                      <a:pt x="10800" y="21194"/>
                    </a:lnTo>
                    <a:cubicBezTo>
                      <a:pt x="10800" y="21397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1" name="Bild 12" descr="Unbenannt-1.jpg"/>
              <p:cNvPicPr/>
              <p:nvPr/>
            </p:nvPicPr>
            <p:blipFill>
              <a:blip r:embed="rId3"/>
              <a:stretch/>
            </p:blipFill>
            <p:spPr>
              <a:xfrm>
                <a:off x="1935360" y="1844280"/>
                <a:ext cx="1366560" cy="1224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2" name="Gerade Verbindung mit Pfeil 88"/>
              <p:cNvCxnSpPr/>
              <p:nvPr/>
            </p:nvCxnSpPr>
            <p:spPr>
              <a:xfrm flipH="1" flipV="1">
                <a:off x="2598480" y="2722320"/>
                <a:ext cx="159480" cy="39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83" name="Bild 14" descr="Unbenannt-1.jpg"/>
              <p:cNvPicPr/>
              <p:nvPr/>
            </p:nvPicPr>
            <p:blipFill>
              <a:blip r:embed="rId4"/>
              <a:stretch/>
            </p:blipFill>
            <p:spPr>
              <a:xfrm>
                <a:off x="5162760" y="2026440"/>
                <a:ext cx="1303200" cy="6134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4" name="Gerade Verbindung mit Pfeil 91"/>
              <p:cNvCxnSpPr/>
              <p:nvPr/>
            </p:nvCxnSpPr>
            <p:spPr>
              <a:xfrm flipV="1">
                <a:off x="5726520" y="2507760"/>
                <a:ext cx="259920" cy="54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85" name="Gerade Verbindung mit Pfeil 92"/>
              <p:cNvCxnSpPr/>
              <p:nvPr/>
            </p:nvCxnSpPr>
            <p:spPr>
              <a:xfrm flipH="1" flipV="1">
                <a:off x="5466600" y="2532600"/>
                <a:ext cx="268200" cy="53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86" name="Bild 22" descr="Unbenannt-1.jpg"/>
              <p:cNvPicPr/>
              <p:nvPr/>
            </p:nvPicPr>
            <p:blipFill>
              <a:blip r:embed="rId5"/>
              <a:stretch/>
            </p:blipFill>
            <p:spPr>
              <a:xfrm>
                <a:off x="2030400" y="3472560"/>
                <a:ext cx="1302480" cy="13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Geschweifte Klammer rechts 101"/>
              <p:cNvSpPr/>
              <p:nvPr/>
            </p:nvSpPr>
            <p:spPr>
              <a:xfrm flipH="1">
                <a:off x="1870920" y="3728160"/>
                <a:ext cx="117000" cy="790920"/>
              </a:xfrm>
              <a:custGeom>
                <a:avLst/>
                <a:gdLst>
                  <a:gd name="textAreaLeft" fmla="*/ 0 w 117000"/>
                  <a:gd name="textAreaRight" fmla="*/ 42120 w 117000"/>
                  <a:gd name="textAreaTop" fmla="*/ 2880 h 790920"/>
                  <a:gd name="textAreaBottom" fmla="*/ 788040 h 7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32"/>
                      <a:pt x="10800" y="263"/>
                    </a:cubicBezTo>
                    <a:lnTo>
                      <a:pt x="10800" y="10537"/>
                    </a:lnTo>
                    <a:cubicBezTo>
                      <a:pt x="10800" y="10669"/>
                      <a:pt x="16200" y="10800"/>
                      <a:pt x="21600" y="10800"/>
                    </a:cubicBezTo>
                    <a:cubicBezTo>
                      <a:pt x="16200" y="10800"/>
                      <a:pt x="10800" y="10932"/>
                      <a:pt x="10800" y="11063"/>
                    </a:cubicBezTo>
                    <a:lnTo>
                      <a:pt x="10800" y="21337"/>
                    </a:lnTo>
                    <a:cubicBezTo>
                      <a:pt x="10800" y="21469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8" name="Bild 102" descr="Unbenannt-1.jpg"/>
              <p:cNvPicPr/>
              <p:nvPr/>
            </p:nvPicPr>
            <p:blipFill>
              <a:blip r:embed="rId6"/>
              <a:stretch/>
            </p:blipFill>
            <p:spPr>
              <a:xfrm>
                <a:off x="5130360" y="3777840"/>
                <a:ext cx="1423800" cy="978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9" name="Gerade Verbindung mit Pfeil 103"/>
              <p:cNvCxnSpPr/>
              <p:nvPr/>
            </p:nvCxnSpPr>
            <p:spPr>
              <a:xfrm flipH="1">
                <a:off x="5567400" y="3398040"/>
                <a:ext cx="560880" cy="45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90" name="Gerade Verbindung mit Pfeil 104"/>
              <p:cNvCxnSpPr/>
              <p:nvPr/>
            </p:nvCxnSpPr>
            <p:spPr>
              <a:xfrm>
                <a:off x="6119640" y="3398400"/>
                <a:ext cx="100800" cy="46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91" name="Gruppierung 107"/>
            <p:cNvGrpSpPr/>
            <p:nvPr/>
          </p:nvGrpSpPr>
          <p:grpSpPr>
            <a:xfrm>
              <a:off x="184320" y="4864680"/>
              <a:ext cx="6440400" cy="4747320"/>
              <a:chOff x="184320" y="4864680"/>
              <a:chExt cx="6440400" cy="4747320"/>
            </a:xfrm>
          </p:grpSpPr>
          <p:grpSp>
            <p:nvGrpSpPr>
              <p:cNvPr id="92" name="Gruppierung 40"/>
              <p:cNvGrpSpPr/>
              <p:nvPr/>
            </p:nvGrpSpPr>
            <p:grpSpPr>
              <a:xfrm>
                <a:off x="184320" y="4864680"/>
                <a:ext cx="6440400" cy="1582560"/>
                <a:chOff x="184320" y="4864680"/>
                <a:chExt cx="6440400" cy="1582560"/>
              </a:xfrm>
            </p:grpSpPr>
            <p:grpSp>
              <p:nvGrpSpPr>
                <p:cNvPr id="93" name="Gruppierung 35"/>
                <p:cNvGrpSpPr/>
                <p:nvPr/>
              </p:nvGrpSpPr>
              <p:grpSpPr>
                <a:xfrm>
                  <a:off x="184320" y="4864680"/>
                  <a:ext cx="3220200" cy="1582560"/>
                  <a:chOff x="184320" y="4864680"/>
                  <a:chExt cx="3220200" cy="1582560"/>
                </a:xfrm>
              </p:grpSpPr>
              <p:sp>
                <p:nvSpPr>
                  <p:cNvPr id="94" name="Rechteck 26"/>
                  <p:cNvSpPr/>
                  <p:nvPr/>
                </p:nvSpPr>
                <p:spPr>
                  <a:xfrm rot="16200000">
                    <a:off x="1002960" y="4045680"/>
                    <a:ext cx="158256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Gerade Verbindung 34"/>
                  <p:cNvSpPr/>
                  <p:nvPr/>
                </p:nvSpPr>
                <p:spPr>
                  <a:xfrm flipH="1" flipV="1">
                    <a:off x="1794240" y="4864680"/>
                    <a:ext cx="1080" cy="158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Gruppierung 36"/>
                <p:cNvGrpSpPr/>
                <p:nvPr/>
              </p:nvGrpSpPr>
              <p:grpSpPr>
                <a:xfrm>
                  <a:off x="3404520" y="4864680"/>
                  <a:ext cx="3220200" cy="1582560"/>
                  <a:chOff x="3404520" y="4864680"/>
                  <a:chExt cx="3220200" cy="1582560"/>
                </a:xfrm>
              </p:grpSpPr>
              <p:sp>
                <p:nvSpPr>
                  <p:cNvPr id="97" name="Rechteck 37"/>
                  <p:cNvSpPr/>
                  <p:nvPr/>
                </p:nvSpPr>
                <p:spPr>
                  <a:xfrm rot="16200000">
                    <a:off x="4223160" y="4045680"/>
                    <a:ext cx="158256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Gerade Verbindung 39"/>
                  <p:cNvSpPr/>
                  <p:nvPr/>
                </p:nvSpPr>
                <p:spPr>
                  <a:xfrm flipH="1" flipV="1">
                    <a:off x="5014440" y="4864680"/>
                    <a:ext cx="1080" cy="158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" name="Gruppierung 41"/>
              <p:cNvGrpSpPr/>
              <p:nvPr/>
            </p:nvGrpSpPr>
            <p:grpSpPr>
              <a:xfrm>
                <a:off x="184320" y="6446880"/>
                <a:ext cx="6440400" cy="1582920"/>
                <a:chOff x="184320" y="6446880"/>
                <a:chExt cx="6440400" cy="1582920"/>
              </a:xfrm>
            </p:grpSpPr>
            <p:grpSp>
              <p:nvGrpSpPr>
                <p:cNvPr id="100" name="Gruppierung 43"/>
                <p:cNvGrpSpPr/>
                <p:nvPr/>
              </p:nvGrpSpPr>
              <p:grpSpPr>
                <a:xfrm>
                  <a:off x="184320" y="6446880"/>
                  <a:ext cx="3220200" cy="1582920"/>
                  <a:chOff x="184320" y="6446880"/>
                  <a:chExt cx="3220200" cy="1582920"/>
                </a:xfrm>
              </p:grpSpPr>
              <p:sp>
                <p:nvSpPr>
                  <p:cNvPr id="101" name="Rechteck 47"/>
                  <p:cNvSpPr/>
                  <p:nvPr/>
                </p:nvSpPr>
                <p:spPr>
                  <a:xfrm rot="16200000">
                    <a:off x="1003320" y="562788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Gerade Verbindung 48"/>
                  <p:cNvSpPr/>
                  <p:nvPr/>
                </p:nvSpPr>
                <p:spPr>
                  <a:xfrm flipH="1" flipV="1">
                    <a:off x="1794240" y="644760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uppierung 44"/>
                <p:cNvGrpSpPr/>
                <p:nvPr/>
              </p:nvGrpSpPr>
              <p:grpSpPr>
                <a:xfrm>
                  <a:off x="3404520" y="6446880"/>
                  <a:ext cx="3220200" cy="1582920"/>
                  <a:chOff x="3404520" y="6446880"/>
                  <a:chExt cx="3220200" cy="1582920"/>
                </a:xfrm>
              </p:grpSpPr>
              <p:sp>
                <p:nvSpPr>
                  <p:cNvPr id="104" name="Rechteck 45"/>
                  <p:cNvSpPr/>
                  <p:nvPr/>
                </p:nvSpPr>
                <p:spPr>
                  <a:xfrm rot="16200000">
                    <a:off x="4223520" y="562788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Gerade Verbindung 46"/>
                  <p:cNvSpPr/>
                  <p:nvPr/>
                </p:nvSpPr>
                <p:spPr>
                  <a:xfrm flipH="1" flipV="1">
                    <a:off x="5014440" y="644760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uppierung 49"/>
              <p:cNvGrpSpPr/>
              <p:nvPr/>
            </p:nvGrpSpPr>
            <p:grpSpPr>
              <a:xfrm>
                <a:off x="184320" y="8029080"/>
                <a:ext cx="6440400" cy="1582920"/>
                <a:chOff x="184320" y="8029080"/>
                <a:chExt cx="6440400" cy="1582920"/>
              </a:xfrm>
            </p:grpSpPr>
            <p:grpSp>
              <p:nvGrpSpPr>
                <p:cNvPr id="107" name="Gruppierung 50"/>
                <p:cNvGrpSpPr/>
                <p:nvPr/>
              </p:nvGrpSpPr>
              <p:grpSpPr>
                <a:xfrm>
                  <a:off x="184320" y="8029080"/>
                  <a:ext cx="3220200" cy="1582920"/>
                  <a:chOff x="184320" y="8029080"/>
                  <a:chExt cx="3220200" cy="1582920"/>
                </a:xfrm>
              </p:grpSpPr>
              <p:sp>
                <p:nvSpPr>
                  <p:cNvPr id="108" name="Rechteck 54"/>
                  <p:cNvSpPr/>
                  <p:nvPr/>
                </p:nvSpPr>
                <p:spPr>
                  <a:xfrm rot="16200000">
                    <a:off x="1003320" y="721008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Gerade Verbindung 55"/>
                  <p:cNvSpPr/>
                  <p:nvPr/>
                </p:nvSpPr>
                <p:spPr>
                  <a:xfrm flipH="1" flipV="1">
                    <a:off x="1794240" y="802980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uppierung 51"/>
                <p:cNvGrpSpPr/>
                <p:nvPr/>
              </p:nvGrpSpPr>
              <p:grpSpPr>
                <a:xfrm>
                  <a:off x="3404520" y="8029080"/>
                  <a:ext cx="3220200" cy="1582920"/>
                  <a:chOff x="3404520" y="8029080"/>
                  <a:chExt cx="3220200" cy="1582920"/>
                </a:xfrm>
              </p:grpSpPr>
              <p:sp>
                <p:nvSpPr>
                  <p:cNvPr id="111" name="Rechteck 52"/>
                  <p:cNvSpPr/>
                  <p:nvPr/>
                </p:nvSpPr>
                <p:spPr>
                  <a:xfrm rot="16200000">
                    <a:off x="4223520" y="7210080"/>
                    <a:ext cx="1582200" cy="3220200"/>
                  </a:xfrm>
                  <a:prstGeom prst="rect">
                    <a:avLst/>
                  </a:prstGeom>
                  <a:noFill/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Gerade Verbindung 53"/>
                  <p:cNvSpPr/>
                  <p:nvPr/>
                </p:nvSpPr>
                <p:spPr>
                  <a:xfrm flipH="1" flipV="1">
                    <a:off x="5014440" y="8029800"/>
                    <a:ext cx="1080" cy="1582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Text Box 10"/>
              <p:cNvSpPr/>
              <p:nvPr/>
            </p:nvSpPr>
            <p:spPr>
              <a:xfrm>
                <a:off x="3455640" y="5543280"/>
                <a:ext cx="149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bere Epidermi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10"/>
              <p:cNvSpPr/>
              <p:nvPr/>
            </p:nvSpPr>
            <p:spPr>
              <a:xfrm>
                <a:off x="232920" y="7117920"/>
                <a:ext cx="1504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hwamm-geweb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10"/>
              <p:cNvSpPr/>
              <p:nvPr/>
            </p:nvSpPr>
            <p:spPr>
              <a:xfrm>
                <a:off x="242280" y="869112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Untere Epidermi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Text Box 10"/>
              <p:cNvSpPr/>
              <p:nvPr/>
            </p:nvSpPr>
            <p:spPr>
              <a:xfrm>
                <a:off x="3468960" y="710064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paltöffnu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3453120" y="869940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lisadengeweb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231120" y="5549040"/>
                <a:ext cx="1504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uticul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feld 117"/>
              <p:cNvSpPr/>
              <p:nvPr/>
            </p:nvSpPr>
            <p:spPr>
              <a:xfrm>
                <a:off x="4656240" y="803880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feld 118"/>
              <p:cNvSpPr/>
              <p:nvPr/>
            </p:nvSpPr>
            <p:spPr>
              <a:xfrm>
                <a:off x="1436760" y="803880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E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feld 119"/>
              <p:cNvSpPr/>
              <p:nvPr/>
            </p:nvSpPr>
            <p:spPr>
              <a:xfrm>
                <a:off x="4656240" y="645768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S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feld 120"/>
              <p:cNvSpPr/>
              <p:nvPr/>
            </p:nvSpPr>
            <p:spPr>
              <a:xfrm>
                <a:off x="1436760" y="645768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O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Textfeld 121"/>
              <p:cNvSpPr/>
              <p:nvPr/>
            </p:nvSpPr>
            <p:spPr>
              <a:xfrm>
                <a:off x="4648320" y="4882680"/>
                <a:ext cx="709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L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feld 122"/>
              <p:cNvSpPr/>
              <p:nvPr/>
            </p:nvSpPr>
            <p:spPr>
              <a:xfrm>
                <a:off x="1428840" y="4882680"/>
                <a:ext cx="711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4000" spc="-1" strike="noStrike">
                    <a:solidFill>
                      <a:srgbClr val="b3b3b3"/>
                    </a:solidFill>
                    <a:latin typeface="Calibri"/>
                    <a:ea typeface="Arial"/>
                  </a:rPr>
                  <a:t>U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5" name="Bild 123" descr="Unbenannt-1.jpg"/>
              <p:cNvPicPr/>
              <p:nvPr/>
            </p:nvPicPr>
            <p:blipFill>
              <a:blip r:embed="rId7"/>
              <a:stretch/>
            </p:blipFill>
            <p:spPr>
              <a:xfrm>
                <a:off x="1902600" y="5384880"/>
                <a:ext cx="1423800" cy="978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26" name="Gerade Verbindung mit Pfeil 124"/>
              <p:cNvCxnSpPr/>
              <p:nvPr/>
            </p:nvCxnSpPr>
            <p:spPr>
              <a:xfrm flipH="1">
                <a:off x="2707920" y="5096160"/>
                <a:ext cx="142200" cy="47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Gerade Verbindung mit Pfeil 125"/>
              <p:cNvCxnSpPr/>
              <p:nvPr/>
            </p:nvCxnSpPr>
            <p:spPr>
              <a:xfrm flipH="1">
                <a:off x="2280960" y="5112360"/>
                <a:ext cx="560880" cy="45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28" name="Bild 126" descr="Unbenannt-1.jpg"/>
              <p:cNvPicPr/>
              <p:nvPr/>
            </p:nvPicPr>
            <p:blipFill>
              <a:blip r:embed="rId8"/>
              <a:stretch/>
            </p:blipFill>
            <p:spPr>
              <a:xfrm>
                <a:off x="5159520" y="5326920"/>
                <a:ext cx="124920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Geschweifte Klammer rechts 127"/>
              <p:cNvSpPr/>
              <p:nvPr/>
            </p:nvSpPr>
            <p:spPr>
              <a:xfrm>
                <a:off x="6437160" y="5640120"/>
                <a:ext cx="117000" cy="510840"/>
              </a:xfrm>
              <a:custGeom>
                <a:avLst/>
                <a:gdLst>
                  <a:gd name="textAreaLeft" fmla="*/ 0 w 117000"/>
                  <a:gd name="textAreaRight" fmla="*/ 42120 w 117000"/>
                  <a:gd name="textAreaTop" fmla="*/ 2880 h 510840"/>
                  <a:gd name="textAreaBottom" fmla="*/ 507960 h 51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03"/>
                      <a:pt x="10800" y="406"/>
                    </a:cubicBezTo>
                    <a:lnTo>
                      <a:pt x="10800" y="10394"/>
                    </a:lnTo>
                    <a:cubicBezTo>
                      <a:pt x="10800" y="10597"/>
                      <a:pt x="16200" y="10800"/>
                      <a:pt x="21600" y="10800"/>
                    </a:cubicBezTo>
                    <a:cubicBezTo>
                      <a:pt x="16200" y="10800"/>
                      <a:pt x="10800" y="11003"/>
                      <a:pt x="10800" y="11206"/>
                    </a:cubicBezTo>
                    <a:lnTo>
                      <a:pt x="10800" y="21194"/>
                    </a:lnTo>
                    <a:cubicBezTo>
                      <a:pt x="10800" y="21397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" name="Bild 128" descr="Unbenannt-1.jpg"/>
              <p:cNvPicPr/>
              <p:nvPr/>
            </p:nvPicPr>
            <p:blipFill>
              <a:blip r:embed="rId9"/>
              <a:stretch/>
            </p:blipFill>
            <p:spPr>
              <a:xfrm>
                <a:off x="1935360" y="6591600"/>
                <a:ext cx="1366560" cy="12243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1" name="Gerade Verbindung mit Pfeil 129"/>
              <p:cNvCxnSpPr/>
              <p:nvPr/>
            </p:nvCxnSpPr>
            <p:spPr>
              <a:xfrm flipH="1" flipV="1">
                <a:off x="2598480" y="7469640"/>
                <a:ext cx="159480" cy="39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32" name="Bild 130" descr="Unbenannt-1.jpg"/>
              <p:cNvPicPr/>
              <p:nvPr/>
            </p:nvPicPr>
            <p:blipFill>
              <a:blip r:embed="rId10"/>
              <a:stretch/>
            </p:blipFill>
            <p:spPr>
              <a:xfrm>
                <a:off x="5162760" y="6773760"/>
                <a:ext cx="1303200" cy="6134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3" name="Gerade Verbindung mit Pfeil 131"/>
              <p:cNvCxnSpPr/>
              <p:nvPr/>
            </p:nvCxnSpPr>
            <p:spPr>
              <a:xfrm flipV="1">
                <a:off x="5726520" y="7255080"/>
                <a:ext cx="259920" cy="54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Gerade Verbindung mit Pfeil 132"/>
              <p:cNvCxnSpPr/>
              <p:nvPr/>
            </p:nvCxnSpPr>
            <p:spPr>
              <a:xfrm flipH="1" flipV="1">
                <a:off x="5466600" y="7279920"/>
                <a:ext cx="268200" cy="536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35" name="Bild 133" descr="Unbenannt-1.jpg"/>
              <p:cNvPicPr/>
              <p:nvPr/>
            </p:nvPicPr>
            <p:blipFill>
              <a:blip r:embed="rId11"/>
              <a:stretch/>
            </p:blipFill>
            <p:spPr>
              <a:xfrm>
                <a:off x="2030400" y="8219880"/>
                <a:ext cx="1302480" cy="131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Geschweifte Klammer rechts 134"/>
              <p:cNvSpPr/>
              <p:nvPr/>
            </p:nvSpPr>
            <p:spPr>
              <a:xfrm flipH="1">
                <a:off x="1870920" y="8475480"/>
                <a:ext cx="117000" cy="790920"/>
              </a:xfrm>
              <a:custGeom>
                <a:avLst/>
                <a:gdLst>
                  <a:gd name="textAreaLeft" fmla="*/ 0 w 117000"/>
                  <a:gd name="textAreaRight" fmla="*/ 42120 w 117000"/>
                  <a:gd name="textAreaTop" fmla="*/ 2880 h 790920"/>
                  <a:gd name="textAreaBottom" fmla="*/ 788040 h 7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32"/>
                      <a:pt x="10800" y="263"/>
                    </a:cubicBezTo>
                    <a:lnTo>
                      <a:pt x="10800" y="10537"/>
                    </a:lnTo>
                    <a:cubicBezTo>
                      <a:pt x="10800" y="10669"/>
                      <a:pt x="16200" y="10800"/>
                      <a:pt x="21600" y="10800"/>
                    </a:cubicBezTo>
                    <a:cubicBezTo>
                      <a:pt x="16200" y="10800"/>
                      <a:pt x="10800" y="10932"/>
                      <a:pt x="10800" y="11063"/>
                    </a:cubicBezTo>
                    <a:lnTo>
                      <a:pt x="10800" y="21337"/>
                    </a:lnTo>
                    <a:cubicBezTo>
                      <a:pt x="10800" y="21469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7" name="Bild 135" descr="Unbenannt-1.jpg"/>
              <p:cNvPicPr/>
              <p:nvPr/>
            </p:nvPicPr>
            <p:blipFill>
              <a:blip r:embed="rId12"/>
              <a:stretch/>
            </p:blipFill>
            <p:spPr>
              <a:xfrm>
                <a:off x="5130360" y="8525160"/>
                <a:ext cx="1423800" cy="9781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38" name="Gerade Verbindung mit Pfeil 136"/>
              <p:cNvCxnSpPr/>
              <p:nvPr/>
            </p:nvCxnSpPr>
            <p:spPr>
              <a:xfrm flipH="1">
                <a:off x="5567400" y="8145360"/>
                <a:ext cx="560880" cy="45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9" name="Gerade Verbindung mit Pfeil 137"/>
              <p:cNvCxnSpPr/>
              <p:nvPr/>
            </p:nvCxnSpPr>
            <p:spPr>
              <a:xfrm>
                <a:off x="6119640" y="8145720"/>
                <a:ext cx="100800" cy="46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40" name="Text Box 59"/>
          <p:cNvSpPr/>
          <p:nvPr/>
        </p:nvSpPr>
        <p:spPr>
          <a:xfrm>
            <a:off x="155520" y="9591840"/>
            <a:ext cx="65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502_pa_domino_blattquerschnitt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Seite 1 von 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hteck 13"/>
          <p:cNvSpPr/>
          <p:nvPr/>
        </p:nvSpPr>
        <p:spPr>
          <a:xfrm rot="5400000">
            <a:off x="3595320" y="3059280"/>
            <a:ext cx="624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verändert nach: bccoer, </a:t>
            </a:r>
            <a:r>
              <a:rPr b="0" lang="en-US" sz="8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3"/>
              </a:rPr>
              <a:t>CC0 1.0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, https://flic.kr/p/Y8vE9, https://flic.kr/p/X7MUA9, https://flic.kr/p/Y6ZJj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Gerade Verbindung 2"/>
          <p:cNvSpPr/>
          <p:nvPr/>
        </p:nvSpPr>
        <p:spPr>
          <a:xfrm>
            <a:off x="173160" y="4867200"/>
            <a:ext cx="645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hteck 5"/>
          <p:cNvSpPr/>
          <p:nvPr/>
        </p:nvSpPr>
        <p:spPr>
          <a:xfrm rot="10800000">
            <a:off x="6590880" y="4715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9:35:50Z</dcterms:created>
  <dc:creator>Huni</dc:creator>
  <dc:description/>
  <dc:language>en-US</dc:language>
  <cp:lastModifiedBy>Hunor Karsa</cp:lastModifiedBy>
  <cp:lastPrinted>2013-03-30T10:16:48Z</cp:lastPrinted>
  <dcterms:modified xsi:type="dcterms:W3CDTF">2018-07-22T07:11:34Z</dcterms:modified>
  <cp:revision>205</cp:revision>
  <dc:subject/>
  <dc:title>Folie 1</dc:title>
</cp:coreProperties>
</file>