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4050-E864-49AA-922D-CC28EF333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080" y="169560"/>
            <a:ext cx="61704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3080" y="2311560"/>
            <a:ext cx="6170400" cy="31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3080" y="5725440"/>
            <a:ext cx="6170400" cy="31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F518-6772-4E9D-B3BC-54CC8853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080" y="169560"/>
            <a:ext cx="61704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3080" y="2311560"/>
            <a:ext cx="3011040" cy="31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4960" y="2311560"/>
            <a:ext cx="3011040" cy="31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3080" y="5725440"/>
            <a:ext cx="3011040" cy="31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4960" y="5725440"/>
            <a:ext cx="3011040" cy="31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0C80-0B54-49E1-836B-F5ECCB045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080" y="169560"/>
            <a:ext cx="61704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3080" y="2311560"/>
            <a:ext cx="1986480" cy="31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280" y="2311560"/>
            <a:ext cx="1986480" cy="31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5480" y="2311560"/>
            <a:ext cx="1986480" cy="31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3080" y="5725440"/>
            <a:ext cx="1986480" cy="31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280" y="5725440"/>
            <a:ext cx="1986480" cy="31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5480" y="5725440"/>
            <a:ext cx="1986480" cy="31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0CA0-B3A6-4EFD-A7F6-FAE694FB6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3080" y="169560"/>
            <a:ext cx="61704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3080" y="2311560"/>
            <a:ext cx="6170400" cy="65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9DD6-CEF2-48C3-B12B-A1BC22F7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080" y="169560"/>
            <a:ext cx="61704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3080" y="2311560"/>
            <a:ext cx="6170400" cy="65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AB63-CDB0-4F25-B153-B869395F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080" y="169560"/>
            <a:ext cx="61704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3080" y="2311560"/>
            <a:ext cx="3011040" cy="65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4960" y="2311560"/>
            <a:ext cx="3011040" cy="65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E5D8-FA97-487A-872F-58C3211C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080" y="169560"/>
            <a:ext cx="61704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6C02-60DF-440F-B687-6F4E81C8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3080" y="169560"/>
            <a:ext cx="617040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D89C-559A-4D38-AEA9-E8DDC9E2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080" y="169560"/>
            <a:ext cx="61704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3080" y="2311560"/>
            <a:ext cx="3011040" cy="31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4960" y="2311560"/>
            <a:ext cx="3011040" cy="65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3080" y="5725440"/>
            <a:ext cx="3011040" cy="31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1979-D3EB-4C3A-9136-48300AE8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080" y="169560"/>
            <a:ext cx="61704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3080" y="2311560"/>
            <a:ext cx="3011040" cy="65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4960" y="2311560"/>
            <a:ext cx="3011040" cy="31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4960" y="5725440"/>
            <a:ext cx="3011040" cy="31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8045-8125-4401-B42A-CB23BBF9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080" y="169560"/>
            <a:ext cx="61704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3080" y="2311560"/>
            <a:ext cx="3011040" cy="31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4960" y="2311560"/>
            <a:ext cx="3011040" cy="31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3080" y="5725440"/>
            <a:ext cx="6170400" cy="31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AF0D-63AC-4071-A70E-F6703CAC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3080" y="169560"/>
            <a:ext cx="61704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3080" y="2311560"/>
            <a:ext cx="6170400" cy="65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3080" y="9019800"/>
            <a:ext cx="15984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008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19800"/>
            <a:ext cx="15984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C8AD52B-34A3-432B-BA22-C60924EDE452}" type="slidenum"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sa/3.0/" TargetMode="External"/><Relationship Id="rId2" Type="http://schemas.openxmlformats.org/officeDocument/2006/relationships/hyperlink" Target="http://creativecommons.org/licenses/by-sa/3.0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image" Target="../media/image2.jpeg"/><Relationship Id="rId7" Type="http://schemas.openxmlformats.org/officeDocument/2006/relationships/image" Target="../media/image1.png"/><Relationship Id="rId8" Type="http://schemas.openxmlformats.org/officeDocument/2006/relationships/image" Target="../media/image2.jpeg"/><Relationship Id="rId9" Type="http://schemas.openxmlformats.org/officeDocument/2006/relationships/image" Target="../media/image1.pn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feld 30"/>
          <p:cNvSpPr/>
          <p:nvPr/>
        </p:nvSpPr>
        <p:spPr>
          <a:xfrm rot="16200000">
            <a:off x="-3555720" y="4017600"/>
            <a:ext cx="770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Verändert nach: Bgqhrsnog - self-drawn / selbst gezeichnet, Querschnitt durch ein Hygrophyten-Blatt, </a:t>
            </a:r>
            <a:r>
              <a:rPr b="0" lang="de-DE" sz="8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CC BY-SA 3.0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, https://commons.wikimedia.org/w/index.php?curid=826533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feld 30"/>
          <p:cNvSpPr/>
          <p:nvPr/>
        </p:nvSpPr>
        <p:spPr>
          <a:xfrm rot="5400000">
            <a:off x="2512080" y="4274280"/>
            <a:ext cx="828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Verändert nach Bgqhrsnog - self-drawn / selbst gezeichnet, Querschnitt durch en Xerophyten-Blatt, </a:t>
            </a:r>
            <a:r>
              <a:rPr b="0" lang="de-DE" sz="8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CC BY-SA 3.0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</a:rPr>
              <a:t>, https://commons.wikimedia.org/w/index.php?curid=82653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59"/>
          <p:cNvSpPr/>
          <p:nvPr/>
        </p:nvSpPr>
        <p:spPr>
          <a:xfrm>
            <a:off x="155520" y="9591840"/>
            <a:ext cx="65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20503_ab_blattquerschnitte.ppt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  ZPG Biologie 2018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Seite 1 von 1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Gruppierung 2"/>
          <p:cNvGrpSpPr/>
          <p:nvPr/>
        </p:nvGrpSpPr>
        <p:grpSpPr>
          <a:xfrm>
            <a:off x="546120" y="247680"/>
            <a:ext cx="5889600" cy="2114640"/>
            <a:chOff x="546120" y="247680"/>
            <a:chExt cx="5889600" cy="2114640"/>
          </a:xfrm>
        </p:grpSpPr>
        <p:pic>
          <p:nvPicPr>
            <p:cNvPr id="45" name="Bild 1" descr="1280px-Xerophyten_-_Blattanatomie.png"/>
            <p:cNvPicPr/>
            <p:nvPr/>
          </p:nvPicPr>
          <p:blipFill>
            <a:blip r:embed="rId3"/>
            <a:stretch/>
          </p:blipFill>
          <p:spPr>
            <a:xfrm>
              <a:off x="3177000" y="247680"/>
              <a:ext cx="3258720" cy="21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Bild 1" descr="Ruellia verändert.jpg"/>
            <p:cNvPicPr/>
            <p:nvPr/>
          </p:nvPicPr>
          <p:blipFill>
            <a:blip r:embed="rId4"/>
            <a:stretch/>
          </p:blipFill>
          <p:spPr>
            <a:xfrm>
              <a:off x="546120" y="273600"/>
              <a:ext cx="2595240" cy="208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" name="Gruppierung 19"/>
          <p:cNvGrpSpPr/>
          <p:nvPr/>
        </p:nvGrpSpPr>
        <p:grpSpPr>
          <a:xfrm>
            <a:off x="549360" y="2643120"/>
            <a:ext cx="5889600" cy="2114640"/>
            <a:chOff x="549360" y="2643120"/>
            <a:chExt cx="5889600" cy="2114640"/>
          </a:xfrm>
        </p:grpSpPr>
        <p:pic>
          <p:nvPicPr>
            <p:cNvPr id="48" name="Bild 1" descr="1280px-Xerophyten_-_Blattanatomie.png"/>
            <p:cNvPicPr/>
            <p:nvPr/>
          </p:nvPicPr>
          <p:blipFill>
            <a:blip r:embed="rId5"/>
            <a:stretch/>
          </p:blipFill>
          <p:spPr>
            <a:xfrm>
              <a:off x="3180240" y="2643120"/>
              <a:ext cx="3258720" cy="21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Bild 21" descr="Ruellia verändert.jpg"/>
            <p:cNvPicPr/>
            <p:nvPr/>
          </p:nvPicPr>
          <p:blipFill>
            <a:blip r:embed="rId6"/>
            <a:stretch/>
          </p:blipFill>
          <p:spPr>
            <a:xfrm>
              <a:off x="549360" y="2669040"/>
              <a:ext cx="2595240" cy="208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" name="Gruppierung 22"/>
          <p:cNvGrpSpPr/>
          <p:nvPr/>
        </p:nvGrpSpPr>
        <p:grpSpPr>
          <a:xfrm>
            <a:off x="552600" y="5045040"/>
            <a:ext cx="5889600" cy="2114640"/>
            <a:chOff x="552600" y="5045040"/>
            <a:chExt cx="5889600" cy="2114640"/>
          </a:xfrm>
        </p:grpSpPr>
        <p:pic>
          <p:nvPicPr>
            <p:cNvPr id="51" name="Bild 1" descr="1280px-Xerophyten_-_Blattanatomie.png"/>
            <p:cNvPicPr/>
            <p:nvPr/>
          </p:nvPicPr>
          <p:blipFill>
            <a:blip r:embed="rId7"/>
            <a:stretch/>
          </p:blipFill>
          <p:spPr>
            <a:xfrm>
              <a:off x="3183480" y="5045040"/>
              <a:ext cx="3258720" cy="21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Bild 24" descr="Ruellia verändert.jpg"/>
            <p:cNvPicPr/>
            <p:nvPr/>
          </p:nvPicPr>
          <p:blipFill>
            <a:blip r:embed="rId8"/>
            <a:stretch/>
          </p:blipFill>
          <p:spPr>
            <a:xfrm>
              <a:off x="552600" y="5070960"/>
              <a:ext cx="2595240" cy="208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" name="Gruppierung 25"/>
          <p:cNvGrpSpPr/>
          <p:nvPr/>
        </p:nvGrpSpPr>
        <p:grpSpPr>
          <a:xfrm>
            <a:off x="555480" y="7448400"/>
            <a:ext cx="5889600" cy="2113200"/>
            <a:chOff x="555480" y="7448400"/>
            <a:chExt cx="5889600" cy="2113200"/>
          </a:xfrm>
        </p:grpSpPr>
        <p:pic>
          <p:nvPicPr>
            <p:cNvPr id="54" name="Bild 1" descr="1280px-Xerophyten_-_Blattanatomie.png"/>
            <p:cNvPicPr/>
            <p:nvPr/>
          </p:nvPicPr>
          <p:blipFill>
            <a:blip r:embed="rId9"/>
            <a:stretch/>
          </p:blipFill>
          <p:spPr>
            <a:xfrm>
              <a:off x="3186360" y="7448400"/>
              <a:ext cx="3258720" cy="211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Bild 27" descr="Ruellia verändert.jpg"/>
            <p:cNvPicPr/>
            <p:nvPr/>
          </p:nvPicPr>
          <p:blipFill>
            <a:blip r:embed="rId10"/>
            <a:stretch/>
          </p:blipFill>
          <p:spPr>
            <a:xfrm>
              <a:off x="555480" y="7474320"/>
              <a:ext cx="2595240" cy="20872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6T21:55:00Z</dcterms:created>
  <dc:creator>Huni</dc:creator>
  <dc:description/>
  <dc:language>en-US</dc:language>
  <cp:lastModifiedBy>Hunor Karsa</cp:lastModifiedBy>
  <cp:lastPrinted>2017-10-16T10:08:45Z</cp:lastPrinted>
  <dcterms:modified xsi:type="dcterms:W3CDTF">2018-09-22T07:08:50Z</dcterms:modified>
  <cp:revision>50</cp:revision>
  <dc:subject/>
  <dc:title>Folie 1</dc:title>
</cp:coreProperties>
</file>