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04FC-5B0F-4E32-8D13-C86EC88298A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81FC-627A-4EC4-AA74-6AA2387A56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DB8-1CDB-4E21-B4F8-478C99EF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478-8013-4E3E-882F-BF9C60BF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1CB-3DDD-450A-91EF-B80729A9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D0C-3423-4DB0-85BE-53E28910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832-B86B-463A-9384-2ACE5AE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8A2-FE55-4FA0-BDAF-639282F4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230-1254-4FD3-A904-2654170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4D0-F31C-4194-8B35-F92230B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ED1-20B7-4601-B1B9-7E581C01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D4C-57BD-4FAE-B5D0-3835390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3AC-D705-4F75-8B01-56B64E04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5DB-7A6D-40AB-BD5D-38F15F7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3AE-E0A0-4301-971C-5FA68DEF31D3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creativecommons.org/publicdomain/zero/1.0/" TargetMode="External"/><Relationship Id="rId4" Type="http://schemas.openxmlformats.org/officeDocument/2006/relationships/hyperlink" Target="http://creativecommons.org/publicdomain/zero/1.0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lkenförmige Legende 26"/>
          <p:cNvSpPr/>
          <p:nvPr/>
        </p:nvSpPr>
        <p:spPr>
          <a:xfrm>
            <a:off x="5168880" y="800280"/>
            <a:ext cx="4608360" cy="2376360"/>
          </a:xfrm>
          <a:prstGeom prst="cloudCallout">
            <a:avLst>
              <a:gd name="adj1" fmla="val -23634"/>
              <a:gd name="adj2" fmla="val 7592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lkenförmige Legende 7"/>
          <p:cNvSpPr/>
          <p:nvPr/>
        </p:nvSpPr>
        <p:spPr>
          <a:xfrm>
            <a:off x="200160" y="223920"/>
            <a:ext cx="4537080" cy="2160360"/>
          </a:xfrm>
          <a:prstGeom prst="cloudCallout">
            <a:avLst>
              <a:gd name="adj1" fmla="val 28810"/>
              <a:gd name="adj2" fmla="val 83009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Bild 3" descr="14950-illustration-of-a-wolf-pv.png"/>
          <p:cNvPicPr/>
          <p:nvPr/>
        </p:nvPicPr>
        <p:blipFill>
          <a:blip r:embed="rId1"/>
          <a:stretch/>
        </p:blipFill>
        <p:spPr>
          <a:xfrm>
            <a:off x="128520" y="3141720"/>
            <a:ext cx="4896000" cy="3157560"/>
          </a:xfrm>
          <a:prstGeom prst="rect">
            <a:avLst/>
          </a:prstGeom>
          <a:ln w="0">
            <a:noFill/>
          </a:ln>
        </p:spPr>
      </p:pic>
      <p:pic>
        <p:nvPicPr>
          <p:cNvPr id="51" name="Bild 5" descr="14958-illustration-of-a-wolf-pv.png"/>
          <p:cNvPicPr/>
          <p:nvPr/>
        </p:nvPicPr>
        <p:blipFill>
          <a:blip r:embed="rId2"/>
          <a:stretch/>
        </p:blipFill>
        <p:spPr>
          <a:xfrm>
            <a:off x="5673600" y="3933720"/>
            <a:ext cx="3943440" cy="2266920"/>
          </a:xfrm>
          <a:prstGeom prst="rect">
            <a:avLst/>
          </a:prstGeom>
          <a:ln w="0">
            <a:noFill/>
          </a:ln>
        </p:spPr>
      </p:pic>
      <p:sp>
        <p:nvSpPr>
          <p:cNvPr id="52" name="Textfeld 6"/>
          <p:cNvSpPr/>
          <p:nvPr/>
        </p:nvSpPr>
        <p:spPr>
          <a:xfrm>
            <a:off x="415800" y="584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duster"/>
                <a:ea typeface="Chalkduster"/>
              </a:rPr>
              <a:t>Ätsch: Wenn es kalt wird, habe ich einen Vorteil, da ich größer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23"/>
          <p:cNvSpPr/>
          <p:nvPr/>
        </p:nvSpPr>
        <p:spPr>
          <a:xfrm>
            <a:off x="5529240" y="116064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Bold"/>
                <a:ea typeface="Bradley Hand Bold"/>
              </a:rPr>
              <a:t>Nein! Je größer du bist, desto mehr Wärme kannst du verlieren! Ich bin an die Kälte besser angepas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eck 1"/>
          <p:cNvSpPr/>
          <p:nvPr/>
        </p:nvSpPr>
        <p:spPr>
          <a:xfrm>
            <a:off x="200160" y="6237360"/>
            <a:ext cx="43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by papapishu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CC0 1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://www.freestockphotos.biz/stockphoto/149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9"/>
          <p:cNvSpPr/>
          <p:nvPr/>
        </p:nvSpPr>
        <p:spPr>
          <a:xfrm>
            <a:off x="5313240" y="6237360"/>
            <a:ext cx="43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by papapishu, </a:t>
            </a:r>
            <a:r>
              <a:rPr b="0" lang="de-DE" sz="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CC0 1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://www.freestockphotos.biz/stockphoto/149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601_p_tiere_und_temperatur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     Seite 1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hteck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hteck 1"/>
          <p:cNvSpPr/>
          <p:nvPr/>
        </p:nvSpPr>
        <p:spPr>
          <a:xfrm>
            <a:off x="341280" y="204840"/>
            <a:ext cx="9124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Calibri"/>
                <a:ea typeface="Calibri"/>
              </a:rPr>
              <a:t>Material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Calibri"/>
                <a:ea typeface="Calibri"/>
              </a:rPr>
              <a:t>kümmert sich um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a3e0"/>
                </a:solidFill>
                <a:latin typeface="Calibri"/>
                <a:ea typeface="Calibri"/>
              </a:rPr>
              <a:t>Zeitwäc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a3e0"/>
                </a:solidFill>
                <a:latin typeface="Calibri"/>
                <a:ea typeface="Calibri"/>
              </a:rPr>
              <a:t>achtet auf die Messzeiten und die Arbeitsz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6374"/>
                </a:solidFill>
                <a:latin typeface="Calibri"/>
                <a:ea typeface="Calibri"/>
              </a:rPr>
              <a:t>Versuchsle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6374"/>
                </a:solidFill>
                <a:latin typeface="Calibri"/>
                <a:ea typeface="Calibri"/>
              </a:rPr>
              <a:t>kümmert sich darum, dass alle was schaffen und aufschrei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20601_p_tiere_und_temperatur.ppt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Seite 2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eck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hteck 1"/>
          <p:cNvSpPr/>
          <p:nvPr/>
        </p:nvSpPr>
        <p:spPr>
          <a:xfrm>
            <a:off x="341280" y="204840"/>
            <a:ext cx="9124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Calibri"/>
                <a:ea typeface="Calibri"/>
              </a:rPr>
              <a:t>Materialma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Calibri"/>
                <a:ea typeface="Calibri"/>
              </a:rPr>
              <a:t>noch keine heißen Kartoffeln ho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a3e0"/>
                </a:solidFill>
                <a:latin typeface="Calibri"/>
                <a:ea typeface="Calibri"/>
              </a:rPr>
              <a:t>Zeitwäc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a3e0"/>
                </a:solidFill>
                <a:latin typeface="Calibri"/>
                <a:ea typeface="Calibri"/>
              </a:rPr>
              <a:t>insg. 30min Zeit (incl. Aufgab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b6374"/>
                </a:solidFill>
                <a:latin typeface="Calibri"/>
                <a:ea typeface="Calibri"/>
              </a:rPr>
              <a:t>Versuchsle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6374"/>
                </a:solidFill>
                <a:latin typeface="Calibri"/>
                <a:ea typeface="Calibri"/>
              </a:rPr>
              <a:t>erst Versuch planen, dann durchführen, dazwischen Aufgaben, dann auswe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168120" y="6534000"/>
            <a:ext cx="960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20601_p_tiere_und_temperatur.ppt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     ZPG Biologie 2018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	</a:t>
            </a:r>
            <a:r>
              <a:rPr b="0" lang="en-US" sz="800" spc="-1" strike="noStrike">
                <a:solidFill>
                  <a:srgbClr val="b3b3b3"/>
                </a:solidFill>
                <a:latin typeface="Calibri"/>
                <a:ea typeface="ヒラギノ角ゴ Pro W3"/>
              </a:rPr>
              <a:t>                      Seite 3 von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5:31:49Z</dcterms:created>
  <dc:creator>Huni</dc:creator>
  <dc:description/>
  <dc:language>en-US</dc:language>
  <cp:lastModifiedBy>Hunor Karsa</cp:lastModifiedBy>
  <cp:lastPrinted>2014-03-16T09:38:59Z</cp:lastPrinted>
  <dcterms:modified xsi:type="dcterms:W3CDTF">2018-07-22T07:39:34Z</dcterms:modified>
  <cp:revision>219</cp:revision>
  <dc:subject/>
  <dc:title>Folie 1</dc:title>
</cp:coreProperties>
</file>