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F5E-4069-4D48-B51C-A8D0AF013F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B6E7-78B1-438A-B1B9-B1781C0AEE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7B2-DAE8-4C73-83E6-D68C51A94D9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2CC3-FA6B-40E8-A830-DEAB104A66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4DA-EF22-4FC7-921B-3D09AD42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020-E11E-45D8-B65A-BF096232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816-C71F-46C8-B0B1-DE368B17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020-0EA0-4847-8463-403719D5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BD3-4723-40B9-B31C-DFE8B28C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AC7-3797-4D5B-BC51-270EF58D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C60-2091-48FC-8DF0-5C96808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4AA-93AD-4116-9E1A-829E4871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B0B-EEEB-4CCE-B8E9-0A8837F3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BD6-A182-4D25-BF5B-3701866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217-C3DE-4196-8878-1B35089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684-9D8F-42A7-803D-5E045B7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1118-CF08-4820-B5C1-CF2A00A5BE76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3"/>
          <p:cNvSpPr/>
          <p:nvPr/>
        </p:nvSpPr>
        <p:spPr>
          <a:xfrm>
            <a:off x="0" y="0"/>
            <a:ext cx="9906120" cy="6885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9"/>
          <p:cNvSpPr/>
          <p:nvPr/>
        </p:nvSpPr>
        <p:spPr>
          <a:xfrm>
            <a:off x="168120" y="6534000"/>
            <a:ext cx="9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20701_p_biotische_faktoren.ppt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      Seite 1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ck 5"/>
          <p:cNvSpPr/>
          <p:nvPr/>
        </p:nvSpPr>
        <p:spPr>
          <a:xfrm>
            <a:off x="415800" y="765000"/>
            <a:ext cx="892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libri"/>
                <a:ea typeface="Calibri"/>
              </a:rPr>
              <a:t>Hinweis an die Lehrkra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libri"/>
                <a:ea typeface="Calibri"/>
              </a:rPr>
              <a:t>Hier die erste Abbildung (Wapiti mit Elstern) der Internet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libri"/>
              </a:rPr>
              <a:t>http://theonlyplacetolearnaboutelk.weebly.com/symbiosi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alibri"/>
                <a:ea typeface="Calibri"/>
              </a:rPr>
              <a:t>einfü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44520" y="1341360"/>
          <a:ext cx="6769080" cy="3603600"/>
        </p:xfrm>
        <a:graphic>
          <a:graphicData uri="http://schemas.openxmlformats.org/drawingml/2006/table">
            <a:tbl>
              <a:tblPr/>
              <a:tblGrid>
                <a:gridCol w="944640"/>
                <a:gridCol w="1517400"/>
                <a:gridCol w="263520"/>
                <a:gridCol w="4043520"/>
              </a:tblGrid>
              <a:tr h="493920"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Wechsel-bezieh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grid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ispiel mit Symbolschreibwe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finition der Wechselbeziehung in eigenen Wort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4128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äuber-Beute-Beziehu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anadaluc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chneeschuhh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nkurren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amecium aure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amecium cau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ymbi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insiedlerkre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eanem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arasitism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bi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lb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berknec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2" name="Group 22"/>
          <p:cNvGrpSpPr/>
          <p:nvPr/>
        </p:nvGrpSpPr>
        <p:grpSpPr>
          <a:xfrm>
            <a:off x="5889600" y="404640"/>
            <a:ext cx="1510920" cy="1929240"/>
            <a:chOff x="5889600" y="404640"/>
            <a:chExt cx="1510920" cy="1929240"/>
          </a:xfrm>
        </p:grpSpPr>
        <p:sp>
          <p:nvSpPr>
            <p:cNvPr id="53" name="AutoShape 21"/>
            <p:cNvSpPr/>
            <p:nvPr/>
          </p:nvSpPr>
          <p:spPr>
            <a:xfrm>
              <a:off x="5889600" y="433800"/>
              <a:ext cx="1510920" cy="1701000"/>
            </a:xfrm>
            <a:custGeom>
              <a:avLst/>
              <a:gdLst>
                <a:gd name="textAreaLeft" fmla="*/ 37080 w 1510920"/>
                <a:gd name="textAreaRight" fmla="*/ 1473840 w 1510920"/>
                <a:gd name="textAreaTop" fmla="*/ 37080 h 1701000"/>
                <a:gd name="textAreaBottom" fmla="*/ 1663920 h 1701000"/>
              </a:gdLst>
              <a:ahLst/>
              <a:rect l="textAreaLeft" t="textAreaTop" r="textAreaRight" b="textAreaBottom"/>
              <a:pathLst>
                <a:path w="21600" h="24317">
                  <a:moveTo>
                    <a:pt x="1815" y="0"/>
                  </a:moveTo>
                  <a:arcTo wR="1815" hR="1815" stAng="16200000" swAng="-5400000"/>
                  <a:lnTo>
                    <a:pt x="0" y="22502"/>
                  </a:lnTo>
                  <a:arcTo wR="1815" hR="1815" stAng="10800000" swAng="-5400000"/>
                  <a:lnTo>
                    <a:pt x="19785" y="24317"/>
                  </a:lnTo>
                  <a:arcTo wR="1815" hR="1815" stAng="5400000" swAng="-5400000"/>
                  <a:lnTo>
                    <a:pt x="21600" y="1815"/>
                  </a:lnTo>
                  <a:arcTo wR="1815" hR="1815" stAng="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5911920" y="40464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941440" y="487440"/>
              <a:ext cx="14155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1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5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A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2"/>
          <p:cNvGrpSpPr/>
          <p:nvPr/>
        </p:nvGrpSpPr>
        <p:grpSpPr>
          <a:xfrm>
            <a:off x="8121600" y="1125360"/>
            <a:ext cx="1510920" cy="1929240"/>
            <a:chOff x="8121600" y="1125360"/>
            <a:chExt cx="1510920" cy="1929240"/>
          </a:xfrm>
        </p:grpSpPr>
        <p:sp>
          <p:nvSpPr>
            <p:cNvPr id="57" name="AutoShape 21"/>
            <p:cNvSpPr/>
            <p:nvPr/>
          </p:nvSpPr>
          <p:spPr>
            <a:xfrm>
              <a:off x="8121600" y="1154520"/>
              <a:ext cx="1510920" cy="1701000"/>
            </a:xfrm>
            <a:custGeom>
              <a:avLst/>
              <a:gdLst>
                <a:gd name="textAreaLeft" fmla="*/ 37080 w 1510920"/>
                <a:gd name="textAreaRight" fmla="*/ 1473840 w 1510920"/>
                <a:gd name="textAreaTop" fmla="*/ 37080 h 1701000"/>
                <a:gd name="textAreaBottom" fmla="*/ 1663920 h 1701000"/>
              </a:gdLst>
              <a:ahLst/>
              <a:rect l="textAreaLeft" t="textAreaTop" r="textAreaRight" b="textAreaBottom"/>
              <a:pathLst>
                <a:path w="21600" h="24317">
                  <a:moveTo>
                    <a:pt x="1815" y="0"/>
                  </a:moveTo>
                  <a:arcTo wR="1815" hR="1815" stAng="16200000" swAng="-5400000"/>
                  <a:lnTo>
                    <a:pt x="0" y="22502"/>
                  </a:lnTo>
                  <a:arcTo wR="1815" hR="1815" stAng="10800000" swAng="-5400000"/>
                  <a:lnTo>
                    <a:pt x="19785" y="24317"/>
                  </a:lnTo>
                  <a:arcTo wR="1815" hR="1815" stAng="5400000" swAng="-5400000"/>
                  <a:lnTo>
                    <a:pt x="21600" y="1815"/>
                  </a:lnTo>
                  <a:arcTo wR="1815" hR="1815" stAng="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6"/>
            <p:cNvSpPr/>
            <p:nvPr/>
          </p:nvSpPr>
          <p:spPr>
            <a:xfrm>
              <a:off x="8143920" y="112536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8173440" y="1208160"/>
              <a:ext cx="14155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1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5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B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2"/>
          <p:cNvGrpSpPr/>
          <p:nvPr/>
        </p:nvGrpSpPr>
        <p:grpSpPr>
          <a:xfrm>
            <a:off x="5816520" y="3429000"/>
            <a:ext cx="1512720" cy="1929240"/>
            <a:chOff x="5816520" y="3429000"/>
            <a:chExt cx="1512720" cy="1929240"/>
          </a:xfrm>
        </p:grpSpPr>
        <p:sp>
          <p:nvSpPr>
            <p:cNvPr id="61" name="AutoShape 21"/>
            <p:cNvSpPr/>
            <p:nvPr/>
          </p:nvSpPr>
          <p:spPr>
            <a:xfrm>
              <a:off x="5816520" y="3458160"/>
              <a:ext cx="1512720" cy="1701000"/>
            </a:xfrm>
            <a:custGeom>
              <a:avLst/>
              <a:gdLst>
                <a:gd name="textAreaLeft" fmla="*/ 37080 w 1512720"/>
                <a:gd name="textAreaRight" fmla="*/ 1475640 w 1512720"/>
                <a:gd name="textAreaTop" fmla="*/ 37080 h 1701000"/>
                <a:gd name="textAreaBottom" fmla="*/ 1663920 h 1701000"/>
              </a:gdLst>
              <a:ahLst/>
              <a:rect l="textAreaLeft" t="textAreaTop" r="textAreaRight" b="textAreaBottom"/>
              <a:pathLst>
                <a:path w="21600" h="24288">
                  <a:moveTo>
                    <a:pt x="1815" y="0"/>
                  </a:moveTo>
                  <a:arcTo wR="1815" hR="1815" stAng="16200000" swAng="-5400000"/>
                  <a:lnTo>
                    <a:pt x="0" y="22473"/>
                  </a:lnTo>
                  <a:arcTo wR="1815" hR="1815" stAng="10800000" swAng="-5400000"/>
                  <a:lnTo>
                    <a:pt x="19785" y="24288"/>
                  </a:lnTo>
                  <a:arcTo wR="1815" hR="1815" stAng="5400000" swAng="-5400000"/>
                  <a:lnTo>
                    <a:pt x="21600" y="1815"/>
                  </a:lnTo>
                  <a:arcTo wR="1815" hR="1815" stAng="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6"/>
            <p:cNvSpPr/>
            <p:nvPr/>
          </p:nvSpPr>
          <p:spPr>
            <a:xfrm>
              <a:off x="5839200" y="3429000"/>
              <a:ext cx="149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5868360" y="3511800"/>
              <a:ext cx="14173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1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5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C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2"/>
          <p:cNvGrpSpPr/>
          <p:nvPr/>
        </p:nvGrpSpPr>
        <p:grpSpPr>
          <a:xfrm>
            <a:off x="3297240" y="4581360"/>
            <a:ext cx="1510920" cy="1929240"/>
            <a:chOff x="3297240" y="4581360"/>
            <a:chExt cx="1510920" cy="1929240"/>
          </a:xfrm>
        </p:grpSpPr>
        <p:sp>
          <p:nvSpPr>
            <p:cNvPr id="65" name="AutoShape 21"/>
            <p:cNvSpPr/>
            <p:nvPr/>
          </p:nvSpPr>
          <p:spPr>
            <a:xfrm>
              <a:off x="3297240" y="4610520"/>
              <a:ext cx="1510920" cy="1701000"/>
            </a:xfrm>
            <a:custGeom>
              <a:avLst/>
              <a:gdLst>
                <a:gd name="textAreaLeft" fmla="*/ 37080 w 1510920"/>
                <a:gd name="textAreaRight" fmla="*/ 1473840 w 1510920"/>
                <a:gd name="textAreaTop" fmla="*/ 37080 h 1701000"/>
                <a:gd name="textAreaBottom" fmla="*/ 1663920 h 1701000"/>
              </a:gdLst>
              <a:ahLst/>
              <a:rect l="textAreaLeft" t="textAreaTop" r="textAreaRight" b="textAreaBottom"/>
              <a:pathLst>
                <a:path w="21600" h="24317">
                  <a:moveTo>
                    <a:pt x="1815" y="0"/>
                  </a:moveTo>
                  <a:arcTo wR="1815" hR="1815" stAng="16200000" swAng="-5400000"/>
                  <a:lnTo>
                    <a:pt x="0" y="22502"/>
                  </a:lnTo>
                  <a:arcTo wR="1815" hR="1815" stAng="10800000" swAng="-5400000"/>
                  <a:lnTo>
                    <a:pt x="19785" y="24317"/>
                  </a:lnTo>
                  <a:arcTo wR="1815" hR="1815" stAng="5400000" swAng="-5400000"/>
                  <a:lnTo>
                    <a:pt x="21600" y="1815"/>
                  </a:lnTo>
                  <a:arcTo wR="1815" hR="1815" stAng="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"/>
            <p:cNvSpPr/>
            <p:nvPr/>
          </p:nvSpPr>
          <p:spPr>
            <a:xfrm>
              <a:off x="3319560" y="458136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7"/>
            <p:cNvSpPr/>
            <p:nvPr/>
          </p:nvSpPr>
          <p:spPr>
            <a:xfrm>
              <a:off x="3349080" y="4664160"/>
              <a:ext cx="14155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1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5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D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2"/>
          <p:cNvGrpSpPr/>
          <p:nvPr/>
        </p:nvGrpSpPr>
        <p:grpSpPr>
          <a:xfrm>
            <a:off x="8121600" y="4653000"/>
            <a:ext cx="1510920" cy="1929240"/>
            <a:chOff x="8121600" y="4653000"/>
            <a:chExt cx="1510920" cy="1929240"/>
          </a:xfrm>
        </p:grpSpPr>
        <p:sp>
          <p:nvSpPr>
            <p:cNvPr id="69" name="AutoShape 21"/>
            <p:cNvSpPr/>
            <p:nvPr/>
          </p:nvSpPr>
          <p:spPr>
            <a:xfrm>
              <a:off x="8121600" y="4682160"/>
              <a:ext cx="1510920" cy="1699560"/>
            </a:xfrm>
            <a:custGeom>
              <a:avLst/>
              <a:gdLst>
                <a:gd name="textAreaLeft" fmla="*/ 37080 w 1510920"/>
                <a:gd name="textAreaRight" fmla="*/ 1473840 w 1510920"/>
                <a:gd name="textAreaTop" fmla="*/ 37080 h 1699560"/>
                <a:gd name="textAreaBottom" fmla="*/ 1662480 h 1699560"/>
              </a:gdLst>
              <a:ahLst/>
              <a:rect l="textAreaLeft" t="textAreaTop" r="textAreaRight" b="textAreaBottom"/>
              <a:pathLst>
                <a:path w="21600" h="24296">
                  <a:moveTo>
                    <a:pt x="1815" y="0"/>
                  </a:moveTo>
                  <a:arcTo wR="1815" hR="1815" stAng="16200000" swAng="-5400000"/>
                  <a:lnTo>
                    <a:pt x="0" y="22481"/>
                  </a:lnTo>
                  <a:arcTo wR="1815" hR="1815" stAng="10800000" swAng="-5400000"/>
                  <a:lnTo>
                    <a:pt x="19785" y="24296"/>
                  </a:lnTo>
                  <a:arcTo wR="1815" hR="1815" stAng="5400000" swAng="-5400000"/>
                  <a:lnTo>
                    <a:pt x="21600" y="1815"/>
                  </a:lnTo>
                  <a:arcTo wR="1815" hR="1815" stAng="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8143920" y="46530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8173440" y="4735800"/>
              <a:ext cx="141552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1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500" spc="-1" strike="noStrike">
                  <a:solidFill>
                    <a:srgbClr val="ffffff"/>
                  </a:solidFill>
                  <a:latin typeface="Arial Black"/>
                  <a:ea typeface="Arial Black"/>
                </a:rPr>
                <a:t>E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9"/>
          <p:cNvSpPr/>
          <p:nvPr/>
        </p:nvSpPr>
        <p:spPr>
          <a:xfrm>
            <a:off x="168120" y="6534000"/>
            <a:ext cx="9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0701_p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Seite 2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hteck 5"/>
          <p:cNvSpPr/>
          <p:nvPr/>
        </p:nvSpPr>
        <p:spPr>
          <a:xfrm>
            <a:off x="6105600" y="5157720"/>
            <a:ext cx="37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  <a:ea typeface="Calibri"/>
              </a:rPr>
              <a:t>Finde je ein Bsp. dieser 5 Wechselbeziehungen, versehe diese mit der +/–/0-Symbolik und schreibe eine Legende d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168120" y="6534000"/>
            <a:ext cx="9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0701_p_biotische_faktoren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Seite 3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ild 1" descr="Mystery 4.eps"/>
          <p:cNvPicPr/>
          <p:nvPr/>
        </p:nvPicPr>
        <p:blipFill>
          <a:blip r:embed="rId1"/>
          <a:stretch/>
        </p:blipFill>
        <p:spPr>
          <a:xfrm>
            <a:off x="363600" y="44280"/>
            <a:ext cx="9053280" cy="6499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9"/>
          <p:cNvSpPr/>
          <p:nvPr/>
        </p:nvSpPr>
        <p:spPr>
          <a:xfrm rot="5400000">
            <a:off x="8892720" y="2647440"/>
            <a:ext cx="966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ZPG Biologie 2018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5:31:49Z</dcterms:created>
  <dc:creator>Huni</dc:creator>
  <dc:description/>
  <dc:language>en-US</dc:language>
  <cp:lastModifiedBy>Hunor Karsa</cp:lastModifiedBy>
  <cp:lastPrinted>2014-03-16T09:38:59Z</cp:lastPrinted>
  <dcterms:modified xsi:type="dcterms:W3CDTF">2018-09-26T14:22:21Z</dcterms:modified>
  <cp:revision>258</cp:revision>
  <dc:subject/>
  <dc:title>Folie 1</dc:title>
</cp:coreProperties>
</file>