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809F-0E16-4D11-8886-935FAC8A311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iktogramme: Hunor Karsa, eigene Zeichn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1B46-F2B2-4468-8D4D-1B83740E5013}" type="slidenum">
              <a:rPr b="0" lang="de-DE" sz="1200" spc="-1" strike="noStrike">
                <a:solidFill>
                  <a:srgbClr val="000000"/>
                </a:solidFill>
                <a:latin typeface="Hil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iktogramme: Hunor Karsa, eigene Zeichn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5434-11F6-4235-AED0-2FF81C4F5435}" type="slidenum">
              <a:rPr b="0" lang="de-DE" sz="1200" spc="-1" strike="noStrike">
                <a:solidFill>
                  <a:srgbClr val="000000"/>
                </a:solidFill>
                <a:latin typeface="Hil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F806-43DF-4C74-BD09-E0E7DE59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F186-3E96-4435-BBCC-C365E7C7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171A-7F84-41D8-B44B-BD182673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56F8-9E50-413D-9278-045AE964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00FE-7A80-40E5-9079-A0D68029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2831-FE09-4F1F-A36B-5F8B88B3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6FFD-DD24-41B2-B8C8-9474BE52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7D29-0744-4264-A35A-90B8D7C7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DEA9-58BC-499A-85A2-D14411B1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96C-89F7-4ED8-AB02-72559DDE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C0C9-F9B7-4B82-B49D-B08E2059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7C90-0C6D-4B24-913D-9843DF81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8749-AF7D-43D3-A6E4-D611CFBAB331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/2.0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hyperlink" Target="https://commons.wikimedia.org/wiki/File:Snowshoe_Hare_(6187109754)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15920" y="93600"/>
            <a:ext cx="574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  <a:ea typeface="Calibri"/>
              </a:rPr>
              <a:t>Biotische Fakto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"/>
          <p:cNvSpPr/>
          <p:nvPr/>
        </p:nvSpPr>
        <p:spPr>
          <a:xfrm>
            <a:off x="212760" y="415800"/>
            <a:ext cx="645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20702_laufdiktat_biotische_faktoren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Seite 1 von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2"/>
          <p:cNvSpPr/>
          <p:nvPr/>
        </p:nvSpPr>
        <p:spPr>
          <a:xfrm>
            <a:off x="122400" y="438120"/>
            <a:ext cx="655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Biotische Faktoren ergeben sich aus den Wechselbeziehungen zwischen Lebewesen. Ist diese für einen Partner von Vorteil, wird das mit einem „+“ gekennzeichnet, ein Nachteil mit einem „–“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1. </a:t>
            </a:r>
            <a:r>
              <a:rPr b="1" i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Informiere</a:t>
            </a: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dich im Laufdiktat über fünf klassis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Wechselbeziehungen und </a:t>
            </a:r>
            <a:r>
              <a:rPr b="1" i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ergänze</a:t>
            </a: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die Tabel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5360" y="1341360"/>
          <a:ext cx="6462720" cy="3441600"/>
        </p:xfrm>
        <a:graphic>
          <a:graphicData uri="http://schemas.openxmlformats.org/drawingml/2006/table">
            <a:tbl>
              <a:tblPr/>
              <a:tblGrid>
                <a:gridCol w="901800"/>
                <a:gridCol w="1449360"/>
                <a:gridCol w="250920"/>
                <a:gridCol w="3860640"/>
              </a:tblGrid>
              <a:tr h="471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Wechsel-beziehu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ispiel mit Symbolschreibwe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efinition der Wechselbeziehung in eigenen Wor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2544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äuber-Beute-Beziehu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anadaluc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chneeschuhh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onkurren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aramecium aure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aramecium caudat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72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ymbi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insiedlerkre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eanem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08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arasitism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08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bi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il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eberknec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22"/>
          <p:cNvSpPr/>
          <p:nvPr/>
        </p:nvSpPr>
        <p:spPr>
          <a:xfrm>
            <a:off x="128520" y="4854600"/>
            <a:ext cx="655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2. Schon fertig? 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Gehe nochmals zu Station A und </a:t>
            </a:r>
            <a:r>
              <a:rPr b="1" i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erläutere</a:t>
            </a: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die Kurvenverläufe. Beachte dabei, dass Schneeschuhhasen die Hauptnahrung der Kanadaluchse darstell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eckige Legende 7"/>
          <p:cNvSpPr/>
          <p:nvPr/>
        </p:nvSpPr>
        <p:spPr>
          <a:xfrm>
            <a:off x="4724280" y="882720"/>
            <a:ext cx="1944720" cy="355680"/>
          </a:xfrm>
          <a:prstGeom prst="wedgeRectCallout">
            <a:avLst>
              <a:gd name="adj1" fmla="val -39300"/>
              <a:gd name="adj2" fmla="val 95388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Eine Definition beschreibt nicht das Beispiel, sondern den Begriff allgeme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Bild 4" descr="Luch-Hase-Schaubild.jpg"/>
          <p:cNvPicPr/>
          <p:nvPr/>
        </p:nvPicPr>
        <p:blipFill>
          <a:blip r:embed="rId1"/>
          <a:stretch/>
        </p:blipFill>
        <p:spPr>
          <a:xfrm>
            <a:off x="3457440" y="5168880"/>
            <a:ext cx="2289240" cy="1639800"/>
          </a:xfrm>
          <a:prstGeom prst="rect">
            <a:avLst/>
          </a:prstGeom>
          <a:ln w="0">
            <a:noFill/>
          </a:ln>
        </p:spPr>
      </p:pic>
      <p:sp>
        <p:nvSpPr>
          <p:cNvPr id="56" name="Textfeld 67"/>
          <p:cNvSpPr/>
          <p:nvPr/>
        </p:nvSpPr>
        <p:spPr>
          <a:xfrm>
            <a:off x="5859360" y="5557680"/>
            <a:ext cx="777960" cy="596160"/>
          </a:xfrm>
          <a:prstGeom prst="rect">
            <a:avLst/>
          </a:prstGeom>
          <a:noFill/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ff"/>
                </a:solidFill>
                <a:latin typeface="Calibri"/>
                <a:ea typeface="Calibri"/>
              </a:rPr>
              <a:t>Schnee-schuhh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feld 67"/>
          <p:cNvSpPr/>
          <p:nvPr/>
        </p:nvSpPr>
        <p:spPr>
          <a:xfrm>
            <a:off x="5746680" y="6122880"/>
            <a:ext cx="890640" cy="428760"/>
          </a:xfrm>
          <a:prstGeom prst="rect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0000"/>
                </a:solidFill>
                <a:latin typeface="Calibri"/>
                <a:ea typeface="Calibri"/>
              </a:rPr>
              <a:t>Kanadaluch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Gerade Verbindung 14"/>
          <p:cNvSpPr/>
          <p:nvPr/>
        </p:nvSpPr>
        <p:spPr>
          <a:xfrm>
            <a:off x="5452920" y="6122880"/>
            <a:ext cx="293760" cy="130320"/>
          </a:xfrm>
          <a:prstGeom prst="line">
            <a:avLst/>
          </a:prstGeom>
          <a:ln w="648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Gerade Verbindung 15"/>
          <p:cNvSpPr/>
          <p:nvPr/>
        </p:nvSpPr>
        <p:spPr>
          <a:xfrm>
            <a:off x="5437080" y="5640480"/>
            <a:ext cx="422280" cy="128520"/>
          </a:xfrm>
          <a:prstGeom prst="line">
            <a:avLst/>
          </a:prstGeom>
          <a:ln w="6480">
            <a:solidFill>
              <a:srgbClr val="0000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9"/>
          <p:cNvSpPr/>
          <p:nvPr/>
        </p:nvSpPr>
        <p:spPr>
          <a:xfrm>
            <a:off x="5746680" y="6593040"/>
            <a:ext cx="95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uppierung 1"/>
          <p:cNvGrpSpPr/>
          <p:nvPr/>
        </p:nvGrpSpPr>
        <p:grpSpPr>
          <a:xfrm>
            <a:off x="225360" y="5514840"/>
            <a:ext cx="3057480" cy="254160"/>
            <a:chOff x="225360" y="5514840"/>
            <a:chExt cx="3057480" cy="254160"/>
          </a:xfrm>
        </p:grpSpPr>
        <p:sp>
          <p:nvSpPr>
            <p:cNvPr id="62" name="Line 101"/>
            <p:cNvSpPr/>
            <p:nvPr/>
          </p:nvSpPr>
          <p:spPr>
            <a:xfrm>
              <a:off x="225360" y="5514840"/>
              <a:ext cx="30574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2"/>
            <p:cNvSpPr/>
            <p:nvPr/>
          </p:nvSpPr>
          <p:spPr>
            <a:xfrm>
              <a:off x="225360" y="5769000"/>
              <a:ext cx="30574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uppierung 23"/>
          <p:cNvGrpSpPr/>
          <p:nvPr/>
        </p:nvGrpSpPr>
        <p:grpSpPr>
          <a:xfrm>
            <a:off x="225360" y="6027840"/>
            <a:ext cx="3057480" cy="253800"/>
            <a:chOff x="225360" y="6027840"/>
            <a:chExt cx="3057480" cy="253800"/>
          </a:xfrm>
        </p:grpSpPr>
        <p:sp>
          <p:nvSpPr>
            <p:cNvPr id="65" name="Line 101"/>
            <p:cNvSpPr/>
            <p:nvPr/>
          </p:nvSpPr>
          <p:spPr>
            <a:xfrm>
              <a:off x="225360" y="6027840"/>
              <a:ext cx="30574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02"/>
            <p:cNvSpPr/>
            <p:nvPr/>
          </p:nvSpPr>
          <p:spPr>
            <a:xfrm>
              <a:off x="225360" y="6281640"/>
              <a:ext cx="30574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uppierung 26"/>
          <p:cNvGrpSpPr/>
          <p:nvPr/>
        </p:nvGrpSpPr>
        <p:grpSpPr>
          <a:xfrm>
            <a:off x="225360" y="6540480"/>
            <a:ext cx="3057480" cy="254160"/>
            <a:chOff x="225360" y="6540480"/>
            <a:chExt cx="3057480" cy="254160"/>
          </a:xfrm>
        </p:grpSpPr>
        <p:sp>
          <p:nvSpPr>
            <p:cNvPr id="68" name="Line 101"/>
            <p:cNvSpPr/>
            <p:nvPr/>
          </p:nvSpPr>
          <p:spPr>
            <a:xfrm>
              <a:off x="225360" y="6540480"/>
              <a:ext cx="30574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02"/>
            <p:cNvSpPr/>
            <p:nvPr/>
          </p:nvSpPr>
          <p:spPr>
            <a:xfrm>
              <a:off x="225360" y="6794640"/>
              <a:ext cx="30574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Line 101"/>
          <p:cNvSpPr/>
          <p:nvPr/>
        </p:nvSpPr>
        <p:spPr>
          <a:xfrm>
            <a:off x="225360" y="7053120"/>
            <a:ext cx="644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2"/>
          <p:cNvSpPr/>
          <p:nvPr/>
        </p:nvSpPr>
        <p:spPr>
          <a:xfrm>
            <a:off x="225360" y="7307280"/>
            <a:ext cx="644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uppierung 36"/>
          <p:cNvGrpSpPr/>
          <p:nvPr/>
        </p:nvGrpSpPr>
        <p:grpSpPr>
          <a:xfrm>
            <a:off x="223920" y="8626320"/>
            <a:ext cx="3171600" cy="254160"/>
            <a:chOff x="223920" y="8626320"/>
            <a:chExt cx="3171600" cy="254160"/>
          </a:xfrm>
        </p:grpSpPr>
        <p:sp>
          <p:nvSpPr>
            <p:cNvPr id="73" name="Line 101"/>
            <p:cNvSpPr/>
            <p:nvPr/>
          </p:nvSpPr>
          <p:spPr>
            <a:xfrm>
              <a:off x="223920" y="8626320"/>
              <a:ext cx="31716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02"/>
            <p:cNvSpPr/>
            <p:nvPr/>
          </p:nvSpPr>
          <p:spPr>
            <a:xfrm>
              <a:off x="223920" y="8880480"/>
              <a:ext cx="31716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uppierung 39"/>
          <p:cNvGrpSpPr/>
          <p:nvPr/>
        </p:nvGrpSpPr>
        <p:grpSpPr>
          <a:xfrm>
            <a:off x="228600" y="9139320"/>
            <a:ext cx="6445080" cy="253800"/>
            <a:chOff x="228600" y="9139320"/>
            <a:chExt cx="6445080" cy="253800"/>
          </a:xfrm>
        </p:grpSpPr>
        <p:sp>
          <p:nvSpPr>
            <p:cNvPr id="76" name="Line 101"/>
            <p:cNvSpPr/>
            <p:nvPr/>
          </p:nvSpPr>
          <p:spPr>
            <a:xfrm>
              <a:off x="228600" y="9139320"/>
              <a:ext cx="6445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2"/>
            <p:cNvSpPr/>
            <p:nvPr/>
          </p:nvSpPr>
          <p:spPr>
            <a:xfrm>
              <a:off x="228600" y="9393120"/>
              <a:ext cx="6445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Bild 6" descr="aurelia alleine.jpg"/>
          <p:cNvPicPr/>
          <p:nvPr/>
        </p:nvPicPr>
        <p:blipFill>
          <a:blip r:embed="rId2"/>
          <a:stretch/>
        </p:blipFill>
        <p:spPr>
          <a:xfrm>
            <a:off x="3627360" y="7508880"/>
            <a:ext cx="3009960" cy="1436760"/>
          </a:xfrm>
          <a:prstGeom prst="rect">
            <a:avLst/>
          </a:prstGeom>
          <a:ln w="0">
            <a:noFill/>
          </a:ln>
        </p:spPr>
      </p:pic>
      <p:sp>
        <p:nvSpPr>
          <p:cNvPr id="79" name="Textfeld 67"/>
          <p:cNvSpPr/>
          <p:nvPr/>
        </p:nvSpPr>
        <p:spPr>
          <a:xfrm>
            <a:off x="5222880" y="7939080"/>
            <a:ext cx="1368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Paramecium aurelia </a:t>
            </a: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alle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2"/>
          <p:cNvSpPr/>
          <p:nvPr/>
        </p:nvSpPr>
        <p:spPr>
          <a:xfrm>
            <a:off x="130320" y="7445520"/>
            <a:ext cx="3152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3. Superschnell?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 Gehe nochmals zu Station B. Der untere Graph zeigt die zwischenartliche Konkurrenz. </a:t>
            </a:r>
            <a:r>
              <a:rPr b="1" i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Beschreibe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 wie du anhand eines der oberen Graphen innerartliche Konkurrenz entdecken kann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2"/>
          <p:cNvSpPr/>
          <p:nvPr/>
        </p:nvSpPr>
        <p:spPr>
          <a:xfrm>
            <a:off x="228600" y="8369280"/>
            <a:ext cx="3173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9"/>
          <p:cNvSpPr/>
          <p:nvPr/>
        </p:nvSpPr>
        <p:spPr>
          <a:xfrm>
            <a:off x="5700600" y="8864640"/>
            <a:ext cx="95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115920" y="93600"/>
            <a:ext cx="574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Calibri"/>
                <a:ea typeface="Calibri"/>
              </a:rPr>
              <a:t>Biotische Faktoren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Calibri"/>
              </a:rPr>
              <a:t>– Lös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212760" y="415800"/>
            <a:ext cx="645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20702_laufdiktat_biotische_faktoren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Seite 2 von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2"/>
          <p:cNvSpPr/>
          <p:nvPr/>
        </p:nvSpPr>
        <p:spPr>
          <a:xfrm>
            <a:off x="122400" y="438120"/>
            <a:ext cx="655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Biotische Faktoren ergeben sich aus den Wechselbeziehungen zwischen Lebewesen. Ist diese für einen Partner von Vorteil, wird das mit einem „+“ gekennzeichnet, ein Nachteil mit einem „–“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1. </a:t>
            </a:r>
            <a:r>
              <a:rPr b="1" i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Informiere</a:t>
            </a:r>
            <a:r>
              <a:rPr b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 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dich im Laufdiktat über fünf klassis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Wechselbeziehungen und </a:t>
            </a:r>
            <a:r>
              <a:rPr b="1" i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ergänze</a:t>
            </a:r>
            <a:r>
              <a:rPr b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 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die Tabel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5360" y="1341360"/>
          <a:ext cx="6462720" cy="3441600"/>
        </p:xfrm>
        <a:graphic>
          <a:graphicData uri="http://schemas.openxmlformats.org/drawingml/2006/table">
            <a:tbl>
              <a:tblPr/>
              <a:tblGrid>
                <a:gridCol w="901800"/>
                <a:gridCol w="1449360"/>
                <a:gridCol w="250920"/>
                <a:gridCol w="3860640"/>
              </a:tblGrid>
              <a:tr h="471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Wechsel-beziehu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ispiel mit Symbolschreibwe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efinition der Wechselbeziehung in eigenen Wor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2544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808080"/>
                          </a:solidFill>
                          <a:latin typeface="Calibri"/>
                          <a:ea typeface="Arial"/>
                        </a:rPr>
                        <a:t>Räuber-Beute-Beziehu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Calibri"/>
                          <a:ea typeface="Arial"/>
                        </a:rPr>
                        <a:t>Kanadaluc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Räuber frisst Be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Calibri"/>
                          <a:ea typeface="Arial"/>
                        </a:rPr>
                        <a:t>Schneeschuhh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808080"/>
                          </a:solidFill>
                          <a:latin typeface="Calibri"/>
                          <a:ea typeface="Arial"/>
                        </a:rPr>
                        <a:t>Konkurren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000" spc="-1" strike="noStrike">
                          <a:solidFill>
                            <a:srgbClr val="808080"/>
                          </a:solidFill>
                          <a:latin typeface="Calibri"/>
                          <a:ea typeface="Arial"/>
                        </a:rPr>
                        <a:t>Paramecium aure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Wettbewerb um einen Faktor (z. B. Nahrun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000" spc="-1" strike="noStrike">
                          <a:solidFill>
                            <a:srgbClr val="808080"/>
                          </a:solidFill>
                          <a:latin typeface="Calibri"/>
                          <a:ea typeface="Arial"/>
                        </a:rPr>
                        <a:t>Paramecium caudat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72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808080"/>
                          </a:solidFill>
                          <a:latin typeface="Calibri"/>
                          <a:ea typeface="Arial"/>
                        </a:rPr>
                        <a:t>Symbi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Calibri"/>
                          <a:ea typeface="Arial"/>
                        </a:rPr>
                        <a:t>Einsiedlerkre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Zusammenleben mit wechselseitigem Nutz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Calibri"/>
                          <a:ea typeface="Arial"/>
                        </a:rPr>
                        <a:t>Seeanem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08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808080"/>
                          </a:solidFill>
                          <a:latin typeface="Calibri"/>
                          <a:ea typeface="Arial"/>
                        </a:rPr>
                        <a:t>Parasitism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Mist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Parasit bezieht vom Wirt Nahrung und schädigt diese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Ba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Calibri"/>
                          <a:ea typeface="Arial"/>
                        </a:rPr>
                        <a:t>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08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808080"/>
                          </a:solidFill>
                          <a:latin typeface="Calibri"/>
                          <a:ea typeface="Arial"/>
                        </a:rPr>
                        <a:t>Probi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Calibri"/>
                          <a:ea typeface="Arial"/>
                        </a:rPr>
                        <a:t>Mil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Zusammenleben zum Vorteil des einen, nützt/schadet dem anderen nic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Calibri"/>
                          <a:ea typeface="Arial"/>
                        </a:rPr>
                        <a:t>Weberknec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Text Box 122"/>
          <p:cNvSpPr/>
          <p:nvPr/>
        </p:nvSpPr>
        <p:spPr>
          <a:xfrm>
            <a:off x="128520" y="4854600"/>
            <a:ext cx="655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2. Schon fertig? 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Gehe nochmals zu Station A und </a:t>
            </a:r>
            <a:r>
              <a:rPr b="1" i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erläutere</a:t>
            </a:r>
            <a:r>
              <a:rPr b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 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die Kurvenverläufe. Beachte dabei, dass Schneeschuhhasen die Hauptnahrung der Kanadaluchse darstell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eckige Legende 7"/>
          <p:cNvSpPr/>
          <p:nvPr/>
        </p:nvSpPr>
        <p:spPr>
          <a:xfrm>
            <a:off x="4724280" y="882720"/>
            <a:ext cx="1944720" cy="355680"/>
          </a:xfrm>
          <a:prstGeom prst="wedgeRectCallout">
            <a:avLst>
              <a:gd name="adj1" fmla="val -39300"/>
              <a:gd name="adj2" fmla="val 95388"/>
            </a:avLst>
          </a:prstGeom>
          <a:solidFill>
            <a:srgbClr val="d9d9d9"/>
          </a:solidFill>
          <a:ln w="9360">
            <a:solidFill>
              <a:srgbClr val="80808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Calibri"/>
                <a:ea typeface="Arial"/>
              </a:rPr>
              <a:t>Eine Definition beschreibt nicht das Beispiel, sondern den Begriff allgeme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Bild 4" descr="Luch-Hase-Schaubild.jpg"/>
          <p:cNvPicPr/>
          <p:nvPr/>
        </p:nvPicPr>
        <p:blipFill>
          <a:blip r:embed="rId1"/>
          <a:stretch/>
        </p:blipFill>
        <p:spPr>
          <a:xfrm>
            <a:off x="3457440" y="5168880"/>
            <a:ext cx="2289240" cy="1639800"/>
          </a:xfrm>
          <a:prstGeom prst="rect">
            <a:avLst/>
          </a:prstGeom>
          <a:ln w="0">
            <a:noFill/>
          </a:ln>
        </p:spPr>
      </p:pic>
      <p:sp>
        <p:nvSpPr>
          <p:cNvPr id="91" name="Textfeld 67"/>
          <p:cNvSpPr/>
          <p:nvPr/>
        </p:nvSpPr>
        <p:spPr>
          <a:xfrm>
            <a:off x="5859360" y="5557680"/>
            <a:ext cx="777960" cy="59616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808080"/>
                </a:solidFill>
                <a:latin typeface="Calibri"/>
                <a:ea typeface="Calibri"/>
              </a:rPr>
              <a:t>Schnee-schuhh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feld 67"/>
          <p:cNvSpPr/>
          <p:nvPr/>
        </p:nvSpPr>
        <p:spPr>
          <a:xfrm>
            <a:off x="5746680" y="6122880"/>
            <a:ext cx="890640" cy="42876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808080"/>
                </a:solidFill>
                <a:latin typeface="Calibri"/>
                <a:ea typeface="Calibri"/>
              </a:rPr>
              <a:t>Kanadaluch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Gerade Verbindung 14"/>
          <p:cNvSpPr/>
          <p:nvPr/>
        </p:nvSpPr>
        <p:spPr>
          <a:xfrm>
            <a:off x="5452920" y="6122880"/>
            <a:ext cx="293760" cy="130320"/>
          </a:xfrm>
          <a:prstGeom prst="line">
            <a:avLst/>
          </a:prstGeom>
          <a:ln w="6480">
            <a:solidFill>
              <a:srgbClr val="80808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Gerade Verbindung 15"/>
          <p:cNvSpPr/>
          <p:nvPr/>
        </p:nvSpPr>
        <p:spPr>
          <a:xfrm>
            <a:off x="5437080" y="5640480"/>
            <a:ext cx="422280" cy="128520"/>
          </a:xfrm>
          <a:prstGeom prst="line">
            <a:avLst/>
          </a:prstGeom>
          <a:ln w="6480">
            <a:solidFill>
              <a:srgbClr val="80808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9"/>
          <p:cNvSpPr/>
          <p:nvPr/>
        </p:nvSpPr>
        <p:spPr>
          <a:xfrm>
            <a:off x="5746680" y="6593040"/>
            <a:ext cx="95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Calibri"/>
                <a:ea typeface="Calibri"/>
              </a:rPr>
              <a:t>ZPG Biologie 20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Bild 6" descr="aurelia alleine.jpg"/>
          <p:cNvPicPr/>
          <p:nvPr/>
        </p:nvPicPr>
        <p:blipFill>
          <a:blip r:embed="rId2"/>
          <a:stretch/>
        </p:blipFill>
        <p:spPr>
          <a:xfrm>
            <a:off x="3627360" y="7508880"/>
            <a:ext cx="3009960" cy="1436760"/>
          </a:xfrm>
          <a:prstGeom prst="rect">
            <a:avLst/>
          </a:prstGeom>
          <a:ln w="0">
            <a:noFill/>
          </a:ln>
        </p:spPr>
      </p:pic>
      <p:sp>
        <p:nvSpPr>
          <p:cNvPr id="97" name="Textfeld 67"/>
          <p:cNvSpPr/>
          <p:nvPr/>
        </p:nvSpPr>
        <p:spPr>
          <a:xfrm>
            <a:off x="5222880" y="7939080"/>
            <a:ext cx="1368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808080"/>
                </a:solidFill>
                <a:latin typeface="Calibri"/>
                <a:ea typeface="Calibri"/>
              </a:rPr>
              <a:t>Paramecium aurelia </a:t>
            </a:r>
            <a:r>
              <a:rPr b="0" lang="de-DE" sz="1100" spc="-1" strike="noStrike">
                <a:solidFill>
                  <a:srgbClr val="808080"/>
                </a:solidFill>
                <a:latin typeface="Calibri"/>
                <a:ea typeface="Calibri"/>
              </a:rPr>
              <a:t>alle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2"/>
          <p:cNvSpPr/>
          <p:nvPr/>
        </p:nvSpPr>
        <p:spPr>
          <a:xfrm>
            <a:off x="130320" y="7445520"/>
            <a:ext cx="3152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3. Superschnell?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 Gehe nochmals zu Station B. Der untere Graph zeigt die zwischenartliche Konkurrenz. </a:t>
            </a:r>
            <a:r>
              <a:rPr b="1" i="1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Beschreibe</a:t>
            </a:r>
            <a:r>
              <a:rPr b="0" lang="de-DE" sz="1000" spc="-1" strike="noStrike">
                <a:solidFill>
                  <a:srgbClr val="808080"/>
                </a:solidFill>
                <a:latin typeface="Calibri"/>
                <a:ea typeface="Calibri"/>
              </a:rPr>
              <a:t> wie du anhand eines der oberen Graphen innerartliche Konkurrenz entdecken kann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9"/>
          <p:cNvSpPr/>
          <p:nvPr/>
        </p:nvSpPr>
        <p:spPr>
          <a:xfrm>
            <a:off x="5700600" y="8864640"/>
            <a:ext cx="95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Calibri"/>
                <a:ea typeface="Calibri"/>
              </a:rPr>
              <a:t>ZPG Biologie 20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hteck 2"/>
          <p:cNvSpPr/>
          <p:nvPr/>
        </p:nvSpPr>
        <p:spPr>
          <a:xfrm>
            <a:off x="131760" y="5332320"/>
            <a:ext cx="325764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Calibri"/>
                <a:ea typeface="Calibri"/>
              </a:rPr>
              <a:t>beide Populationen schwanken periodisch zeitlich versetz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Calibri"/>
                <a:ea typeface="Calibri"/>
              </a:rPr>
              <a:t>viele Hasen führen wegen guter Nahrungsgrundlage nach kurzer Zeit zu vielen Füchs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Calibri"/>
                <a:ea typeface="Calibri"/>
              </a:rPr>
              <a:t>viele Füchse reduzieren jedoch wieder nach kurzer Zeit die Hasenzah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Calibri"/>
                <a:ea typeface="Calibri"/>
              </a:rPr>
              <a:t>eine geringe Hasenzahl führt zu weniger Füchs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Calibri"/>
                <a:ea typeface="Calibri"/>
              </a:rPr>
              <a:t>wenige Füchse ermöglichen den Hasen sich wieder zu vermehr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Calibri"/>
                <a:ea typeface="Calibri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eck 3"/>
          <p:cNvSpPr/>
          <p:nvPr/>
        </p:nvSpPr>
        <p:spPr>
          <a:xfrm>
            <a:off x="122400" y="8204040"/>
            <a:ext cx="34290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Calibri"/>
              </a:rPr>
              <a:t>Würde es keine innerartliche Konkurrenz geben, würde der Bestand der Paramecien exponentiell weiter anwachs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Calibri"/>
              </a:rPr>
              <a:t>Da die Bestandsgröße beschränkt ist, scheinen die Paramecien gleicher Art im Wettbewerb um die Ressourcen (z.B. Nahrung, Lebensraum) zu steh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uppierung 3"/>
          <p:cNvGrpSpPr/>
          <p:nvPr/>
        </p:nvGrpSpPr>
        <p:grpSpPr>
          <a:xfrm>
            <a:off x="320760" y="244440"/>
            <a:ext cx="6199200" cy="1497960"/>
            <a:chOff x="320760" y="244440"/>
            <a:chExt cx="6199200" cy="1497960"/>
          </a:xfrm>
        </p:grpSpPr>
        <p:sp>
          <p:nvSpPr>
            <p:cNvPr id="103" name="Text Box 8"/>
            <p:cNvSpPr/>
            <p:nvPr/>
          </p:nvSpPr>
          <p:spPr>
            <a:xfrm>
              <a:off x="428400" y="822240"/>
              <a:ext cx="4896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Räuber-Beute-Beziehung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3"/>
            <p:cNvSpPr/>
            <p:nvPr/>
          </p:nvSpPr>
          <p:spPr>
            <a:xfrm>
              <a:off x="320760" y="488880"/>
              <a:ext cx="5400720" cy="1073160"/>
            </a:xfrm>
            <a:prstGeom prst="roundRect">
              <a:avLst>
                <a:gd name="adj" fmla="val 690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3"/>
            <p:cNvSpPr/>
            <p:nvPr/>
          </p:nvSpPr>
          <p:spPr>
            <a:xfrm>
              <a:off x="320760" y="272880"/>
              <a:ext cx="5400720" cy="43164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Biotische Fakto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22"/>
            <p:cNvGrpSpPr/>
            <p:nvPr/>
          </p:nvGrpSpPr>
          <p:grpSpPr>
            <a:xfrm>
              <a:off x="5367600" y="244440"/>
              <a:ext cx="1152360" cy="1497960"/>
              <a:chOff x="5367600" y="244440"/>
              <a:chExt cx="1152360" cy="1497960"/>
            </a:xfrm>
          </p:grpSpPr>
          <p:sp>
            <p:nvSpPr>
              <p:cNvPr id="107" name="AutoShape 21"/>
              <p:cNvSpPr/>
              <p:nvPr/>
            </p:nvSpPr>
            <p:spPr>
              <a:xfrm>
                <a:off x="5367600" y="266760"/>
                <a:ext cx="1152360" cy="1295280"/>
              </a:xfrm>
              <a:custGeom>
                <a:avLst/>
                <a:gdLst>
                  <a:gd name="textAreaLeft" fmla="*/ 28080 w 1152360"/>
                  <a:gd name="textAreaRight" fmla="*/ 1124280 w 1152360"/>
                  <a:gd name="textAreaTop" fmla="*/ 28080 h 1295280"/>
                  <a:gd name="textAreaBottom" fmla="*/ 1267200 h 1295280"/>
                </a:gdLst>
                <a:ahLst/>
                <a:rect l="textAreaLeft" t="textAreaTop" r="textAreaRight" b="textAreaBottom"/>
                <a:pathLst>
                  <a:path w="21600" h="24278">
                    <a:moveTo>
                      <a:pt x="1815" y="0"/>
                    </a:moveTo>
                    <a:arcTo wR="1815" hR="1815" stAng="16200000" swAng="-5400000"/>
                    <a:lnTo>
                      <a:pt x="0" y="22463"/>
                    </a:lnTo>
                    <a:arcTo wR="1815" hR="1815" stAng="10800000" swAng="-5400000"/>
                    <a:lnTo>
                      <a:pt x="19785" y="24278"/>
                    </a:lnTo>
                    <a:arcTo wR="1815" hR="1815" stAng="5400000" swAng="-5400000"/>
                    <a:lnTo>
                      <a:pt x="21600" y="1815"/>
                    </a:lnTo>
                    <a:arcTo wR="1815" hR="1815" stAng="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6"/>
              <p:cNvSpPr/>
              <p:nvPr/>
            </p:nvSpPr>
            <p:spPr>
              <a:xfrm>
                <a:off x="5384880" y="244440"/>
                <a:ext cx="113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Arial Black"/>
                    <a:ea typeface="Arial Black"/>
                  </a:rPr>
                  <a:t>S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7"/>
              <p:cNvSpPr/>
              <p:nvPr/>
            </p:nvSpPr>
            <p:spPr>
              <a:xfrm>
                <a:off x="5407200" y="307800"/>
                <a:ext cx="10796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800" spc="-1" strike="noStrike">
                    <a:solidFill>
                      <a:srgbClr val="ffffff"/>
                    </a:solidFill>
                    <a:latin typeface="Arial Black"/>
                    <a:ea typeface="Arial Black"/>
                  </a:rPr>
                  <a:t>A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Rechteck 1"/>
          <p:cNvSpPr/>
          <p:nvPr/>
        </p:nvSpPr>
        <p:spPr>
          <a:xfrm rot="16200000">
            <a:off x="1326960" y="7959600"/>
            <a:ext cx="258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By Keith Williams - originally posted to Flickr as Lynx Canadensis, </a:t>
            </a:r>
            <a:r>
              <a:rPr b="0" lang="de-DE" sz="8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"/>
              </a:rPr>
              <a:t>CC BY 2.0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, https://commons.wikimedia.org/w/index.php?curid=113947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Bild 2" descr="Lynx_Canadensis.jpg"/>
          <p:cNvPicPr/>
          <p:nvPr/>
        </p:nvPicPr>
        <p:blipFill>
          <a:blip r:embed="rId2"/>
          <a:stretch/>
        </p:blipFill>
        <p:spPr>
          <a:xfrm>
            <a:off x="2843280" y="7165800"/>
            <a:ext cx="3625920" cy="2278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2" name="Bild 4" descr="Luch-Hase-Schaubild.jpg"/>
          <p:cNvPicPr/>
          <p:nvPr/>
        </p:nvPicPr>
        <p:blipFill>
          <a:blip r:embed="rId3"/>
          <a:stretch/>
        </p:blipFill>
        <p:spPr>
          <a:xfrm>
            <a:off x="368280" y="3735360"/>
            <a:ext cx="4572000" cy="3274920"/>
          </a:xfrm>
          <a:prstGeom prst="rect">
            <a:avLst/>
          </a:prstGeom>
          <a:ln w="0">
            <a:noFill/>
          </a:ln>
        </p:spPr>
      </p:pic>
      <p:sp>
        <p:nvSpPr>
          <p:cNvPr id="113" name="Rechteck 15"/>
          <p:cNvSpPr/>
          <p:nvPr/>
        </p:nvSpPr>
        <p:spPr>
          <a:xfrm>
            <a:off x="3265560" y="3952800"/>
            <a:ext cx="32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By Denali National Park and Preserve - Snowshoe HareUploaded by AlbertHerring, </a:t>
            </a:r>
            <a:r>
              <a:rPr b="0" lang="de-DE" sz="8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4"/>
              </a:rPr>
              <a:t>Public Domain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, https://commons.wikimedia.org/w/index.php?curid=296142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Bild 3" descr="Snowshoe_Hare_(6187109754).jpg"/>
          <p:cNvPicPr/>
          <p:nvPr/>
        </p:nvPicPr>
        <p:blipFill>
          <a:blip r:embed="rId5"/>
          <a:stretch/>
        </p:blipFill>
        <p:spPr>
          <a:xfrm>
            <a:off x="3354480" y="1886040"/>
            <a:ext cx="3114720" cy="20764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15" name="Textfeld 67"/>
          <p:cNvSpPr/>
          <p:nvPr/>
        </p:nvSpPr>
        <p:spPr>
          <a:xfrm>
            <a:off x="4940280" y="4537080"/>
            <a:ext cx="1552680" cy="8254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alibri"/>
                <a:ea typeface="Calibri"/>
              </a:rPr>
              <a:t>Schnee-schuh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feld 67"/>
          <p:cNvSpPr/>
          <p:nvPr/>
        </p:nvSpPr>
        <p:spPr>
          <a:xfrm>
            <a:off x="4714920" y="5872320"/>
            <a:ext cx="177804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Calibri"/>
                <a:ea typeface="Calibri"/>
              </a:rPr>
              <a:t>Kanadalu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Gerade Verbindung 6"/>
          <p:cNvSpPr/>
          <p:nvPr/>
        </p:nvSpPr>
        <p:spPr>
          <a:xfrm>
            <a:off x="6492960" y="3968640"/>
            <a:ext cx="0" cy="567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Gerade Verbindung 22"/>
          <p:cNvSpPr/>
          <p:nvPr/>
        </p:nvSpPr>
        <p:spPr>
          <a:xfrm>
            <a:off x="6491160" y="6334200"/>
            <a:ext cx="0" cy="83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Gerade Verbindung 24"/>
          <p:cNvSpPr/>
          <p:nvPr/>
        </p:nvSpPr>
        <p:spPr>
          <a:xfrm>
            <a:off x="4264200" y="5656320"/>
            <a:ext cx="450720" cy="216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Gerade Verbindung 27"/>
          <p:cNvSpPr/>
          <p:nvPr/>
        </p:nvSpPr>
        <p:spPr>
          <a:xfrm>
            <a:off x="4264200" y="5087880"/>
            <a:ext cx="676080" cy="279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20702_laufdiktat_biotische_faktoren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Seite 3 von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9"/>
          <p:cNvSpPr/>
          <p:nvPr/>
        </p:nvSpPr>
        <p:spPr>
          <a:xfrm rot="16200000">
            <a:off x="174600" y="5779800"/>
            <a:ext cx="965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ZPG Biologie 2018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uppierung 3"/>
          <p:cNvGrpSpPr/>
          <p:nvPr/>
        </p:nvGrpSpPr>
        <p:grpSpPr>
          <a:xfrm>
            <a:off x="320760" y="244440"/>
            <a:ext cx="6199200" cy="1497960"/>
            <a:chOff x="320760" y="244440"/>
            <a:chExt cx="6199200" cy="1497960"/>
          </a:xfrm>
        </p:grpSpPr>
        <p:sp>
          <p:nvSpPr>
            <p:cNvPr id="124" name="Text Box 8"/>
            <p:cNvSpPr/>
            <p:nvPr/>
          </p:nvSpPr>
          <p:spPr>
            <a:xfrm>
              <a:off x="428400" y="822240"/>
              <a:ext cx="4896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Konkurrenz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3"/>
            <p:cNvSpPr/>
            <p:nvPr/>
          </p:nvSpPr>
          <p:spPr>
            <a:xfrm>
              <a:off x="320760" y="488880"/>
              <a:ext cx="5400720" cy="1073160"/>
            </a:xfrm>
            <a:prstGeom prst="roundRect">
              <a:avLst>
                <a:gd name="adj" fmla="val 690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3"/>
            <p:cNvSpPr/>
            <p:nvPr/>
          </p:nvSpPr>
          <p:spPr>
            <a:xfrm>
              <a:off x="320760" y="272880"/>
              <a:ext cx="5400720" cy="43164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Biotische Fakto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22"/>
            <p:cNvGrpSpPr/>
            <p:nvPr/>
          </p:nvGrpSpPr>
          <p:grpSpPr>
            <a:xfrm>
              <a:off x="5367600" y="244440"/>
              <a:ext cx="1152360" cy="1497960"/>
              <a:chOff x="5367600" y="244440"/>
              <a:chExt cx="1152360" cy="1497960"/>
            </a:xfrm>
          </p:grpSpPr>
          <p:sp>
            <p:nvSpPr>
              <p:cNvPr id="128" name="AutoShape 21"/>
              <p:cNvSpPr/>
              <p:nvPr/>
            </p:nvSpPr>
            <p:spPr>
              <a:xfrm>
                <a:off x="5367600" y="266760"/>
                <a:ext cx="1152360" cy="1295280"/>
              </a:xfrm>
              <a:custGeom>
                <a:avLst/>
                <a:gdLst>
                  <a:gd name="textAreaLeft" fmla="*/ 28080 w 1152360"/>
                  <a:gd name="textAreaRight" fmla="*/ 1124280 w 1152360"/>
                  <a:gd name="textAreaTop" fmla="*/ 28080 h 1295280"/>
                  <a:gd name="textAreaBottom" fmla="*/ 1267200 h 1295280"/>
                </a:gdLst>
                <a:ahLst/>
                <a:rect l="textAreaLeft" t="textAreaTop" r="textAreaRight" b="textAreaBottom"/>
                <a:pathLst>
                  <a:path w="21600" h="24278">
                    <a:moveTo>
                      <a:pt x="1815" y="0"/>
                    </a:moveTo>
                    <a:arcTo wR="1815" hR="1815" stAng="16200000" swAng="-5400000"/>
                    <a:lnTo>
                      <a:pt x="0" y="22463"/>
                    </a:lnTo>
                    <a:arcTo wR="1815" hR="1815" stAng="10800000" swAng="-5400000"/>
                    <a:lnTo>
                      <a:pt x="19785" y="24278"/>
                    </a:lnTo>
                    <a:arcTo wR="1815" hR="1815" stAng="5400000" swAng="-5400000"/>
                    <a:lnTo>
                      <a:pt x="21600" y="1815"/>
                    </a:lnTo>
                    <a:arcTo wR="1815" hR="1815" stAng="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6"/>
              <p:cNvSpPr/>
              <p:nvPr/>
            </p:nvSpPr>
            <p:spPr>
              <a:xfrm>
                <a:off x="5384880" y="244440"/>
                <a:ext cx="113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Arial Black"/>
                  </a:rPr>
                  <a:t>S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7"/>
              <p:cNvSpPr/>
              <p:nvPr/>
            </p:nvSpPr>
            <p:spPr>
              <a:xfrm>
                <a:off x="5407200" y="307800"/>
                <a:ext cx="10796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800" spc="-1" strike="noStrike">
                    <a:solidFill>
                      <a:srgbClr val="ffffff"/>
                    </a:solidFill>
                    <a:latin typeface="Arial Black"/>
                  </a:rPr>
                  <a:t>B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Rechteck 2"/>
          <p:cNvSpPr/>
          <p:nvPr/>
        </p:nvSpPr>
        <p:spPr>
          <a:xfrm rot="5400000">
            <a:off x="5017320" y="4620960"/>
            <a:ext cx="2638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Von Barfooz at the English Wikipedia. - Originally uploaded to the English Wikipedia, where it was made by Barfooz., CC BY-SA 3.0, https://commons.wikimedia.org/w/index.php?curid=1720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Bild 5" descr="caudatum alleine.jpg"/>
          <p:cNvPicPr/>
          <p:nvPr/>
        </p:nvPicPr>
        <p:blipFill>
          <a:blip r:embed="rId1"/>
          <a:stretch/>
        </p:blipFill>
        <p:spPr>
          <a:xfrm>
            <a:off x="309600" y="2166840"/>
            <a:ext cx="3581280" cy="1758960"/>
          </a:xfrm>
          <a:prstGeom prst="rect">
            <a:avLst/>
          </a:prstGeom>
          <a:ln w="0">
            <a:noFill/>
          </a:ln>
        </p:spPr>
      </p:pic>
      <p:pic>
        <p:nvPicPr>
          <p:cNvPr id="133" name="Bild 4" descr="33444627885_5b0b17b63a_o.jpg"/>
          <p:cNvPicPr/>
          <p:nvPr/>
        </p:nvPicPr>
        <p:blipFill>
          <a:blip r:embed="rId2"/>
          <a:stretch/>
        </p:blipFill>
        <p:spPr>
          <a:xfrm>
            <a:off x="4122720" y="2166840"/>
            <a:ext cx="1917720" cy="1273320"/>
          </a:xfrm>
          <a:prstGeom prst="rect">
            <a:avLst/>
          </a:prstGeom>
          <a:ln w="0">
            <a:noFill/>
          </a:ln>
        </p:spPr>
      </p:pic>
      <p:sp>
        <p:nvSpPr>
          <p:cNvPr id="134" name="Rechteck 13"/>
          <p:cNvSpPr/>
          <p:nvPr/>
        </p:nvSpPr>
        <p:spPr>
          <a:xfrm>
            <a:off x="4041720" y="3417840"/>
            <a:ext cx="20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Von Proyecto Agua., CC BY-NC-DA 2.0, https://www.flickr.com/photos/microagua/3344462788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Bild 6" descr="aurelia alleine.jpg"/>
          <p:cNvPicPr/>
          <p:nvPr/>
        </p:nvPicPr>
        <p:blipFill>
          <a:blip r:embed="rId3"/>
          <a:stretch/>
        </p:blipFill>
        <p:spPr>
          <a:xfrm>
            <a:off x="816120" y="4559400"/>
            <a:ext cx="3574800" cy="1706400"/>
          </a:xfrm>
          <a:prstGeom prst="rect">
            <a:avLst/>
          </a:prstGeom>
          <a:ln w="0">
            <a:noFill/>
          </a:ln>
        </p:spPr>
      </p:pic>
      <p:pic>
        <p:nvPicPr>
          <p:cNvPr id="136" name="Bild 3" descr="Paramecium.jpg"/>
          <p:cNvPicPr/>
          <p:nvPr/>
        </p:nvPicPr>
        <p:blipFill>
          <a:blip r:embed="rId4"/>
          <a:stretch/>
        </p:blipFill>
        <p:spPr>
          <a:xfrm>
            <a:off x="4511520" y="4672080"/>
            <a:ext cx="1571760" cy="1542960"/>
          </a:xfrm>
          <a:prstGeom prst="rect">
            <a:avLst/>
          </a:prstGeom>
          <a:ln w="0">
            <a:noFill/>
          </a:ln>
        </p:spPr>
      </p:pic>
      <p:pic>
        <p:nvPicPr>
          <p:cNvPr id="137" name="Bild 7" descr="gemischt.jpg"/>
          <p:cNvPicPr/>
          <p:nvPr/>
        </p:nvPicPr>
        <p:blipFill>
          <a:blip r:embed="rId5"/>
          <a:stretch/>
        </p:blipFill>
        <p:spPr>
          <a:xfrm>
            <a:off x="428760" y="6734160"/>
            <a:ext cx="5913360" cy="2857680"/>
          </a:xfrm>
          <a:prstGeom prst="rect">
            <a:avLst/>
          </a:prstGeom>
          <a:ln w="0">
            <a:noFill/>
          </a:ln>
        </p:spPr>
      </p:pic>
      <p:sp>
        <p:nvSpPr>
          <p:cNvPr id="138" name="Textfeld 67"/>
          <p:cNvSpPr/>
          <p:nvPr/>
        </p:nvSpPr>
        <p:spPr>
          <a:xfrm>
            <a:off x="239760" y="1582560"/>
            <a:ext cx="62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  <a:ea typeface="Calibri"/>
              </a:rPr>
              <a:t>Paramecium caudatum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  <a:ea typeface="Calibri"/>
              </a:rPr>
              <a:t>alleine in einer Nährlösung mit Hefezellen und Bakter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feld 67"/>
          <p:cNvSpPr/>
          <p:nvPr/>
        </p:nvSpPr>
        <p:spPr>
          <a:xfrm>
            <a:off x="851040" y="4202280"/>
            <a:ext cx="53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  <a:ea typeface="Calibri"/>
              </a:rPr>
              <a:t>Paramecium aurelia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  <a:ea typeface="Calibri"/>
              </a:rPr>
              <a:t>alleine in dieser Nährlös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feld 67"/>
          <p:cNvSpPr/>
          <p:nvPr/>
        </p:nvSpPr>
        <p:spPr>
          <a:xfrm>
            <a:off x="239760" y="6423120"/>
            <a:ext cx="58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  <a:ea typeface="Calibri"/>
              </a:rPr>
              <a:t>P. caudatum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  <a:ea typeface="Calibri"/>
              </a:rPr>
              <a:t>und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  <a:ea typeface="Calibri"/>
              </a:rPr>
              <a:t> P. aurelia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  <a:ea typeface="Calibri"/>
              </a:rPr>
              <a:t>zusammen in dieser Nährlös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feld 67"/>
          <p:cNvSpPr/>
          <p:nvPr/>
        </p:nvSpPr>
        <p:spPr>
          <a:xfrm>
            <a:off x="5294160" y="8344080"/>
            <a:ext cx="137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  <a:ea typeface="Calibri"/>
              </a:rPr>
              <a:t>P. caudat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feld 67"/>
          <p:cNvSpPr/>
          <p:nvPr/>
        </p:nvSpPr>
        <p:spPr>
          <a:xfrm>
            <a:off x="5294160" y="7243920"/>
            <a:ext cx="137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  <a:ea typeface="Calibri"/>
              </a:rPr>
              <a:t>P. aure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Gerade Verbindung 23"/>
          <p:cNvSpPr/>
          <p:nvPr/>
        </p:nvSpPr>
        <p:spPr>
          <a:xfrm flipV="1">
            <a:off x="5222880" y="7448040"/>
            <a:ext cx="446040" cy="303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Gerade Verbindung 25"/>
          <p:cNvSpPr/>
          <p:nvPr/>
        </p:nvSpPr>
        <p:spPr>
          <a:xfrm flipV="1">
            <a:off x="5025960" y="8547120"/>
            <a:ext cx="381240" cy="133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20702_laufdiktat_biotische_faktoren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Seite 4 von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9"/>
          <p:cNvSpPr/>
          <p:nvPr/>
        </p:nvSpPr>
        <p:spPr>
          <a:xfrm rot="16200000">
            <a:off x="490680" y="5296680"/>
            <a:ext cx="9669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ZPG Biologie 2018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9"/>
          <p:cNvSpPr/>
          <p:nvPr/>
        </p:nvSpPr>
        <p:spPr>
          <a:xfrm>
            <a:off x="155520" y="3959280"/>
            <a:ext cx="9669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ZPG Biologie 2018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9"/>
          <p:cNvSpPr/>
          <p:nvPr/>
        </p:nvSpPr>
        <p:spPr>
          <a:xfrm rot="16200000">
            <a:off x="145800" y="8447040"/>
            <a:ext cx="965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ZPG Biologie 2018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uppierung 14"/>
          <p:cNvGrpSpPr/>
          <p:nvPr/>
        </p:nvGrpSpPr>
        <p:grpSpPr>
          <a:xfrm>
            <a:off x="320760" y="244440"/>
            <a:ext cx="6199200" cy="1497960"/>
            <a:chOff x="320760" y="244440"/>
            <a:chExt cx="6199200" cy="1497960"/>
          </a:xfrm>
        </p:grpSpPr>
        <p:sp>
          <p:nvSpPr>
            <p:cNvPr id="150" name="Text Box 8"/>
            <p:cNvSpPr/>
            <p:nvPr/>
          </p:nvSpPr>
          <p:spPr>
            <a:xfrm>
              <a:off x="428400" y="822240"/>
              <a:ext cx="4896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ymbiose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"/>
            <p:cNvSpPr/>
            <p:nvPr/>
          </p:nvSpPr>
          <p:spPr>
            <a:xfrm>
              <a:off x="320760" y="488880"/>
              <a:ext cx="5400720" cy="1073160"/>
            </a:xfrm>
            <a:prstGeom prst="roundRect">
              <a:avLst>
                <a:gd name="adj" fmla="val 690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3"/>
            <p:cNvSpPr/>
            <p:nvPr/>
          </p:nvSpPr>
          <p:spPr>
            <a:xfrm>
              <a:off x="320760" y="272880"/>
              <a:ext cx="5400720" cy="43164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Biotische Fakto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22"/>
            <p:cNvGrpSpPr/>
            <p:nvPr/>
          </p:nvGrpSpPr>
          <p:grpSpPr>
            <a:xfrm>
              <a:off x="5367600" y="244440"/>
              <a:ext cx="1152360" cy="1497960"/>
              <a:chOff x="5367600" y="244440"/>
              <a:chExt cx="1152360" cy="1497960"/>
            </a:xfrm>
          </p:grpSpPr>
          <p:sp>
            <p:nvSpPr>
              <p:cNvPr id="154" name="AutoShape 21"/>
              <p:cNvSpPr/>
              <p:nvPr/>
            </p:nvSpPr>
            <p:spPr>
              <a:xfrm>
                <a:off x="5367600" y="266760"/>
                <a:ext cx="1152360" cy="1295280"/>
              </a:xfrm>
              <a:custGeom>
                <a:avLst/>
                <a:gdLst>
                  <a:gd name="textAreaLeft" fmla="*/ 28080 w 1152360"/>
                  <a:gd name="textAreaRight" fmla="*/ 1124280 w 1152360"/>
                  <a:gd name="textAreaTop" fmla="*/ 28080 h 1295280"/>
                  <a:gd name="textAreaBottom" fmla="*/ 1267200 h 1295280"/>
                </a:gdLst>
                <a:ahLst/>
                <a:rect l="textAreaLeft" t="textAreaTop" r="textAreaRight" b="textAreaBottom"/>
                <a:pathLst>
                  <a:path w="21600" h="24278">
                    <a:moveTo>
                      <a:pt x="1815" y="0"/>
                    </a:moveTo>
                    <a:arcTo wR="1815" hR="1815" stAng="16200000" swAng="-5400000"/>
                    <a:lnTo>
                      <a:pt x="0" y="22463"/>
                    </a:lnTo>
                    <a:arcTo wR="1815" hR="1815" stAng="10800000" swAng="-5400000"/>
                    <a:lnTo>
                      <a:pt x="19785" y="24278"/>
                    </a:lnTo>
                    <a:arcTo wR="1815" hR="1815" stAng="5400000" swAng="-5400000"/>
                    <a:lnTo>
                      <a:pt x="21600" y="1815"/>
                    </a:lnTo>
                    <a:arcTo wR="1815" hR="1815" stAng="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6"/>
              <p:cNvSpPr/>
              <p:nvPr/>
            </p:nvSpPr>
            <p:spPr>
              <a:xfrm>
                <a:off x="5384880" y="244440"/>
                <a:ext cx="113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Arial Black"/>
                  </a:rPr>
                  <a:t>S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"/>
              <p:cNvSpPr/>
              <p:nvPr/>
            </p:nvSpPr>
            <p:spPr>
              <a:xfrm>
                <a:off x="5407200" y="307800"/>
                <a:ext cx="10796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Rechteck 9"/>
          <p:cNvSpPr/>
          <p:nvPr/>
        </p:nvSpPr>
        <p:spPr>
          <a:xfrm>
            <a:off x="3600360" y="7302600"/>
            <a:ext cx="291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By Nhobgood Nick Hobgood - Own work, CC BY-SA 3.0, https://commons.wikimedia.org/w/index.php?curid=5740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Bild 10" descr="1280px-Dardanus_pedunculatus_(Hermit_crab).jpg"/>
          <p:cNvPicPr/>
          <p:nvPr/>
        </p:nvPicPr>
        <p:blipFill>
          <a:blip r:embed="rId1"/>
          <a:stretch/>
        </p:blipFill>
        <p:spPr>
          <a:xfrm>
            <a:off x="260280" y="2692440"/>
            <a:ext cx="6166080" cy="4624200"/>
          </a:xfrm>
          <a:prstGeom prst="rect">
            <a:avLst/>
          </a:prstGeom>
          <a:ln w="0">
            <a:noFill/>
          </a:ln>
        </p:spPr>
      </p:pic>
      <p:sp>
        <p:nvSpPr>
          <p:cNvPr id="159" name="Rechteck 1"/>
          <p:cNvSpPr/>
          <p:nvPr/>
        </p:nvSpPr>
        <p:spPr>
          <a:xfrm>
            <a:off x="652320" y="6746760"/>
            <a:ext cx="2213280" cy="16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Einsiedlerkrebs trägt Seeanemone auf seinem Haus zu guten Nahrungsgründen und versorgt sie mit Essensres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hteck 12"/>
          <p:cNvSpPr/>
          <p:nvPr/>
        </p:nvSpPr>
        <p:spPr>
          <a:xfrm>
            <a:off x="3997440" y="2149560"/>
            <a:ext cx="1774800" cy="13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eeanemone schützt mit ihren Nesselkapsel Einsiedlerkrebs vor Fei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Gekrümmte Verbindung 13"/>
          <p:cNvCxnSpPr/>
          <p:nvPr/>
        </p:nvCxnSpPr>
        <p:spPr>
          <a:xfrm>
            <a:off x="3069720" y="3263400"/>
            <a:ext cx="1413720" cy="1026360"/>
          </a:xfrm>
          <a:prstGeom prst="curvedConnector5">
            <a:avLst>
              <a:gd name="adj1" fmla="val 98802"/>
              <a:gd name="adj2" fmla="val 50000"/>
              <a:gd name="adj3" fmla="val 98802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2" name="Gekrümmte Verbindung 20"/>
          <p:cNvCxnSpPr/>
          <p:nvPr/>
        </p:nvCxnSpPr>
        <p:spPr>
          <a:xfrm flipV="1" rot="16200000">
            <a:off x="2163960" y="5232600"/>
            <a:ext cx="1454760" cy="1027800"/>
          </a:xfrm>
          <a:prstGeom prst="curvedConnector5">
            <a:avLst>
              <a:gd name="adj1" fmla="val -24009"/>
              <a:gd name="adj2" fmla="val 50000"/>
              <a:gd name="adj3" fmla="val -24009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3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20702_laufdiktat_biotische_faktoren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Seite 5 von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uppierung 6"/>
          <p:cNvGrpSpPr/>
          <p:nvPr/>
        </p:nvGrpSpPr>
        <p:grpSpPr>
          <a:xfrm>
            <a:off x="320760" y="244440"/>
            <a:ext cx="6199200" cy="1497960"/>
            <a:chOff x="320760" y="244440"/>
            <a:chExt cx="6199200" cy="1497960"/>
          </a:xfrm>
        </p:grpSpPr>
        <p:sp>
          <p:nvSpPr>
            <p:cNvPr id="165" name="Text Box 8"/>
            <p:cNvSpPr/>
            <p:nvPr/>
          </p:nvSpPr>
          <p:spPr>
            <a:xfrm>
              <a:off x="428400" y="822240"/>
              <a:ext cx="4896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arasitismus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3"/>
            <p:cNvSpPr/>
            <p:nvPr/>
          </p:nvSpPr>
          <p:spPr>
            <a:xfrm>
              <a:off x="320760" y="488880"/>
              <a:ext cx="5400720" cy="1073160"/>
            </a:xfrm>
            <a:prstGeom prst="roundRect">
              <a:avLst>
                <a:gd name="adj" fmla="val 690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3"/>
            <p:cNvSpPr/>
            <p:nvPr/>
          </p:nvSpPr>
          <p:spPr>
            <a:xfrm>
              <a:off x="320760" y="272880"/>
              <a:ext cx="5400720" cy="43164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Biotische Fakto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22"/>
            <p:cNvGrpSpPr/>
            <p:nvPr/>
          </p:nvGrpSpPr>
          <p:grpSpPr>
            <a:xfrm>
              <a:off x="5367600" y="244440"/>
              <a:ext cx="1152360" cy="1497960"/>
              <a:chOff x="5367600" y="244440"/>
              <a:chExt cx="1152360" cy="1497960"/>
            </a:xfrm>
          </p:grpSpPr>
          <p:sp>
            <p:nvSpPr>
              <p:cNvPr id="169" name="AutoShape 21"/>
              <p:cNvSpPr/>
              <p:nvPr/>
            </p:nvSpPr>
            <p:spPr>
              <a:xfrm>
                <a:off x="5367600" y="266760"/>
                <a:ext cx="1152360" cy="1295280"/>
              </a:xfrm>
              <a:custGeom>
                <a:avLst/>
                <a:gdLst>
                  <a:gd name="textAreaLeft" fmla="*/ 28080 w 1152360"/>
                  <a:gd name="textAreaRight" fmla="*/ 1124280 w 1152360"/>
                  <a:gd name="textAreaTop" fmla="*/ 28080 h 1295280"/>
                  <a:gd name="textAreaBottom" fmla="*/ 1267200 h 1295280"/>
                </a:gdLst>
                <a:ahLst/>
                <a:rect l="textAreaLeft" t="textAreaTop" r="textAreaRight" b="textAreaBottom"/>
                <a:pathLst>
                  <a:path w="21600" h="24278">
                    <a:moveTo>
                      <a:pt x="1815" y="0"/>
                    </a:moveTo>
                    <a:arcTo wR="1815" hR="1815" stAng="16200000" swAng="-5400000"/>
                    <a:lnTo>
                      <a:pt x="0" y="22463"/>
                    </a:lnTo>
                    <a:arcTo wR="1815" hR="1815" stAng="10800000" swAng="-5400000"/>
                    <a:lnTo>
                      <a:pt x="19785" y="24278"/>
                    </a:lnTo>
                    <a:arcTo wR="1815" hR="1815" stAng="5400000" swAng="-5400000"/>
                    <a:lnTo>
                      <a:pt x="21600" y="1815"/>
                    </a:lnTo>
                    <a:arcTo wR="1815" hR="1815" stAng="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6"/>
              <p:cNvSpPr/>
              <p:nvPr/>
            </p:nvSpPr>
            <p:spPr>
              <a:xfrm>
                <a:off x="5384880" y="244440"/>
                <a:ext cx="113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Arial Black"/>
                  </a:rPr>
                  <a:t>S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"/>
              <p:cNvSpPr/>
              <p:nvPr/>
            </p:nvSpPr>
            <p:spPr>
              <a:xfrm>
                <a:off x="5407200" y="307800"/>
                <a:ext cx="10796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800" spc="-1" strike="noStrike">
                    <a:solidFill>
                      <a:srgbClr val="ffffff"/>
                    </a:solidFill>
                    <a:latin typeface="Arial Black"/>
                  </a:rPr>
                  <a:t>D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Rechteck 2"/>
          <p:cNvSpPr/>
          <p:nvPr/>
        </p:nvSpPr>
        <p:spPr>
          <a:xfrm>
            <a:off x="4346640" y="8585280"/>
            <a:ext cx="2163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Von Julius Sachs (1832-1897) - Julius Sachs: Vorlesungen über Pflanzenphysiologie, zweite Auflage, Leipzig 1887, Gemeinfrei, https://commons.wikimedia.org/w/index.php?curid=408858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Bild 3" descr="Haustorium_Mistel_Sachs.jpg"/>
          <p:cNvPicPr/>
          <p:nvPr/>
        </p:nvPicPr>
        <p:blipFill>
          <a:blip r:embed="rId1"/>
          <a:stretch/>
        </p:blipFill>
        <p:spPr>
          <a:xfrm>
            <a:off x="358920" y="6350040"/>
            <a:ext cx="3894120" cy="3065400"/>
          </a:xfrm>
          <a:prstGeom prst="rect">
            <a:avLst/>
          </a:prstGeom>
          <a:ln w="0">
            <a:noFill/>
          </a:ln>
        </p:spPr>
      </p:pic>
      <p:sp>
        <p:nvSpPr>
          <p:cNvPr id="174" name="Rechteck 4"/>
          <p:cNvSpPr/>
          <p:nvPr/>
        </p:nvSpPr>
        <p:spPr>
          <a:xfrm rot="5400000">
            <a:off x="4358880" y="4033800"/>
            <a:ext cx="434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CC0, https://pixabay.com/de/mistel-baum-schmarotzer-baumgewächs-2201282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Bild 5" descr="mistletoe-2201282_960_720.jpg"/>
          <p:cNvPicPr/>
          <p:nvPr/>
        </p:nvPicPr>
        <p:blipFill>
          <a:blip r:embed="rId2"/>
          <a:stretch/>
        </p:blipFill>
        <p:spPr>
          <a:xfrm>
            <a:off x="320760" y="2055960"/>
            <a:ext cx="6137280" cy="4090680"/>
          </a:xfrm>
          <a:prstGeom prst="rect">
            <a:avLst/>
          </a:prstGeom>
          <a:ln w="0">
            <a:noFill/>
          </a:ln>
        </p:spPr>
      </p:pic>
      <p:sp>
        <p:nvSpPr>
          <p:cNvPr id="176" name="Textfeld 67"/>
          <p:cNvSpPr/>
          <p:nvPr/>
        </p:nvSpPr>
        <p:spPr>
          <a:xfrm>
            <a:off x="3749760" y="6191280"/>
            <a:ext cx="279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  <a:ea typeface="Calibri"/>
              </a:rPr>
              <a:t>Die Mistel entzieht dem Baum Wasser und darin gelöste Mineralstoff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20702_laufdiktat_biotische_faktoren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Seite 6 von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uppierung 3"/>
          <p:cNvGrpSpPr/>
          <p:nvPr/>
        </p:nvGrpSpPr>
        <p:grpSpPr>
          <a:xfrm>
            <a:off x="320760" y="244440"/>
            <a:ext cx="6199200" cy="1497960"/>
            <a:chOff x="320760" y="244440"/>
            <a:chExt cx="6199200" cy="1497960"/>
          </a:xfrm>
        </p:grpSpPr>
        <p:sp>
          <p:nvSpPr>
            <p:cNvPr id="179" name="Text Box 8"/>
            <p:cNvSpPr/>
            <p:nvPr/>
          </p:nvSpPr>
          <p:spPr>
            <a:xfrm>
              <a:off x="428400" y="822240"/>
              <a:ext cx="4896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obiose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3"/>
            <p:cNvSpPr/>
            <p:nvPr/>
          </p:nvSpPr>
          <p:spPr>
            <a:xfrm>
              <a:off x="320760" y="488880"/>
              <a:ext cx="5400720" cy="1073160"/>
            </a:xfrm>
            <a:prstGeom prst="roundRect">
              <a:avLst>
                <a:gd name="adj" fmla="val 690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3"/>
            <p:cNvSpPr/>
            <p:nvPr/>
          </p:nvSpPr>
          <p:spPr>
            <a:xfrm>
              <a:off x="320760" y="272880"/>
              <a:ext cx="5400720" cy="43164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Biotische Fakto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22"/>
            <p:cNvGrpSpPr/>
            <p:nvPr/>
          </p:nvGrpSpPr>
          <p:grpSpPr>
            <a:xfrm>
              <a:off x="5367600" y="244440"/>
              <a:ext cx="1152360" cy="1497960"/>
              <a:chOff x="5367600" y="244440"/>
              <a:chExt cx="1152360" cy="1497960"/>
            </a:xfrm>
          </p:grpSpPr>
          <p:sp>
            <p:nvSpPr>
              <p:cNvPr id="183" name="AutoShape 21"/>
              <p:cNvSpPr/>
              <p:nvPr/>
            </p:nvSpPr>
            <p:spPr>
              <a:xfrm>
                <a:off x="5367600" y="266760"/>
                <a:ext cx="1152360" cy="1295280"/>
              </a:xfrm>
              <a:custGeom>
                <a:avLst/>
                <a:gdLst>
                  <a:gd name="textAreaLeft" fmla="*/ 28080 w 1152360"/>
                  <a:gd name="textAreaRight" fmla="*/ 1124280 w 1152360"/>
                  <a:gd name="textAreaTop" fmla="*/ 28080 h 1295280"/>
                  <a:gd name="textAreaBottom" fmla="*/ 1267200 h 1295280"/>
                </a:gdLst>
                <a:ahLst/>
                <a:rect l="textAreaLeft" t="textAreaTop" r="textAreaRight" b="textAreaBottom"/>
                <a:pathLst>
                  <a:path w="21600" h="24278">
                    <a:moveTo>
                      <a:pt x="1815" y="0"/>
                    </a:moveTo>
                    <a:arcTo wR="1815" hR="1815" stAng="16200000" swAng="-5400000"/>
                    <a:lnTo>
                      <a:pt x="0" y="22463"/>
                    </a:lnTo>
                    <a:arcTo wR="1815" hR="1815" stAng="10800000" swAng="-5400000"/>
                    <a:lnTo>
                      <a:pt x="19785" y="24278"/>
                    </a:lnTo>
                    <a:arcTo wR="1815" hR="1815" stAng="5400000" swAng="-5400000"/>
                    <a:lnTo>
                      <a:pt x="21600" y="1815"/>
                    </a:lnTo>
                    <a:arcTo wR="1815" hR="1815" stAng="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"/>
              <p:cNvSpPr/>
              <p:nvPr/>
            </p:nvSpPr>
            <p:spPr>
              <a:xfrm>
                <a:off x="5384880" y="244440"/>
                <a:ext cx="113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Arial Black"/>
                  </a:rPr>
                  <a:t>S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7"/>
              <p:cNvSpPr/>
              <p:nvPr/>
            </p:nvSpPr>
            <p:spPr>
              <a:xfrm>
                <a:off x="5407200" y="307800"/>
                <a:ext cx="10796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8800" spc="-1" strike="noStrike">
                    <a:solidFill>
                      <a:srgbClr val="ffffff"/>
                    </a:solidFill>
                    <a:latin typeface="Arial Black"/>
                  </a:rPr>
                  <a:t>E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Rechteck 1"/>
          <p:cNvSpPr/>
          <p:nvPr/>
        </p:nvSpPr>
        <p:spPr>
          <a:xfrm rot="5400000">
            <a:off x="3276720" y="4898160"/>
            <a:ext cx="598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Von Soebe - German Wikipedia, original upload 31., CC BY-SA 3.0, https://commons.wikimedia.org/w/index.php?curid=3284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feld 67"/>
          <p:cNvSpPr/>
          <p:nvPr/>
        </p:nvSpPr>
        <p:spPr>
          <a:xfrm>
            <a:off x="708120" y="8132760"/>
            <a:ext cx="566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  <a:ea typeface="Calibri"/>
              </a:rPr>
              <a:t>Die orangenen Milben nutzen den Weberknecht vorübergehend zum Transport. Der Weberknecht hat dadurch keinen Vor- oder Nachtei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Bild 4" descr="Parasitismus.jpg"/>
          <p:cNvPicPr/>
          <p:nvPr/>
        </p:nvPicPr>
        <p:blipFill>
          <a:blip r:embed="rId1"/>
          <a:stretch/>
        </p:blipFill>
        <p:spPr>
          <a:xfrm>
            <a:off x="801720" y="2016000"/>
            <a:ext cx="5375160" cy="59803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20702_laufdiktat_biotische_faktoren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Seite 7 von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6T21:55:00Z</dcterms:created>
  <dc:creator>Huni</dc:creator>
  <dc:description/>
  <dc:language>en-US</dc:language>
  <cp:lastModifiedBy>Hunor Karsa</cp:lastModifiedBy>
  <cp:lastPrinted>2018-09-30T06:52:48Z</cp:lastPrinted>
  <dcterms:modified xsi:type="dcterms:W3CDTF">2018-09-30T06:52:52Z</dcterms:modified>
  <cp:revision>86</cp:revision>
  <dc:subject/>
  <dc:title>Folie 1</dc:title>
</cp:coreProperties>
</file>