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C2258-55F8-41D8-AA7B-9FBE7A993B8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rkläre, in welcher Beziehung die hier gezeigten Arten st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0000"/>
                </a:solidFill>
                <a:latin typeface="Arial"/>
                <a:ea typeface="Noto Sans CJK SC Regular"/>
              </a:rPr>
              <a:t>Nahrungsbeziehung; </a:t>
            </a:r>
            <a:br>
              <a:rPr sz="2000"/>
            </a:br>
            <a:r>
              <a:rPr b="0" i="1" lang="de-DE" sz="2000" spc="-1" strike="noStrike">
                <a:solidFill>
                  <a:srgbClr val="ff0000"/>
                </a:solidFill>
                <a:latin typeface="Arial"/>
                <a:ea typeface="Noto Sans CJK SC Regular"/>
              </a:rPr>
              <a:t>Fuchs – Kaninchen: Räuber-Beute-Bezie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F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ormuliere, was die Pfeile bedeu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0000"/>
                </a:solidFill>
                <a:latin typeface="Arial"/>
                <a:ea typeface="Noto Sans CJK SC Regular"/>
              </a:rPr>
              <a:t>„</a:t>
            </a:r>
            <a:r>
              <a:rPr b="0" i="1" lang="de-DE" sz="2000" spc="-1" strike="noStrike">
                <a:solidFill>
                  <a:srgbClr val="ff0000"/>
                </a:solidFill>
                <a:latin typeface="Arial"/>
                <a:ea typeface="Noto Sans CJK SC Regular"/>
              </a:rPr>
              <a:t>Wird gefressen vo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→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Nahrungsket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Gruppe von Organismen, die (im Hinblick auf ihre Eigenschaft als Nahrung füreinander) in einer bestimmten Folge voneinander abhängen; modelliert Nahrungsbeziehungen in einem Ökosystem, bildet diese aber nicht realistisch 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F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rkläre, weshalb eine Nahrungskette die Nahrungsbeziehungen in einem Ökosystem nicht realistisch abbild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„</a:t>
            </a: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Ein Tier hat oft viele verschiedene Nahrungsquellen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Nahrungsnetze bilden die Nahrungsbeziehungen in Ökosystemen realistischer, allerdings auch oft unvollständig 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ür das hier dargestellte Nahrungsne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Notiere zwei der längsten Nahrungsket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Löwenzahn → Insekt → Singvogel → Hab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Strauch → Feldmaus → Fuchs → Wo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lle Arten, die in ein Nahrungsnetz eingebunden sind, lassen sich einer Trophiestufe einer oder mehrerer Nahrungsketten zuord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F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rkläre, wie sich Produzenten grundsätzlich von Konsumenten untersch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„</a:t>
            </a: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Produzenten sind immer Pflanz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Bilden die Grundlage aller Nahrungskette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000" spc="-1" strike="noStrike">
                <a:solidFill>
                  <a:srgbClr val="ff3300"/>
                </a:solidFill>
                <a:latin typeface="Arial"/>
                <a:ea typeface="Noto Sans CJK SC Regular"/>
              </a:rPr>
              <a:t>Können Biomasse mittels Fotosynthese produziere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iskutiert, ob auch längere Nahrungsketten denkbar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ormuliert Hypothes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7948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reiergruppen bil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7948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aterialien vom Pult holen, Arbeitsplatz einrichten (→ F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7948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oku-Bögen (= Rollenkarten) durchl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7948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n der vorgegebenen Zeit das Modell-experiment zügig durchfü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7948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odellexperiment mit Hilfe des Arbeitsblattes auswe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6A5-80A2-4296-80BB-E5CC60D8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547-5836-4535-BFC4-718CB15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CE5-B0EF-4914-AE62-7A52F903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C04-5320-45D9-BFFB-9718D980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D36-2098-4DDE-8E63-B9840A5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A87-12F1-4B4D-B76A-5CB0B733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525-9729-4048-A2CB-92CA8F0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72B-0849-4227-919A-BCF97D9D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614-7142-46A4-9DE5-747199F7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9A1-F4FF-44D1-8F33-AEAEA19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0A5-1868-49D3-832C-F127AD1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6C0-400F-4987-80FF-1D4B832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E5B77-BBD0-4A8C-A18E-57A9CABBCDC4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24720" y="576360"/>
            <a:ext cx="2303280" cy="161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35640" y="2879640"/>
            <a:ext cx="155556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18160" y="5143680"/>
            <a:ext cx="1401840" cy="155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52000" y="6480000"/>
            <a:ext cx="151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Zeichnungen: A. Theil-Schieb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24720" y="576360"/>
            <a:ext cx="230328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35640" y="2879640"/>
            <a:ext cx="155556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18160" y="5143680"/>
            <a:ext cx="1401840" cy="155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5695560" y="4398840"/>
            <a:ext cx="833400" cy="1371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894280" y="1806120"/>
            <a:ext cx="1008000" cy="1155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88360" y="146160"/>
            <a:ext cx="2447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Nahrungsk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52000" y="6480000"/>
            <a:ext cx="151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Zeichnungen: A. Theil-Schieb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 flipV="1">
            <a:off x="1798560" y="3526920"/>
            <a:ext cx="363600" cy="2738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24720" y="576360"/>
            <a:ext cx="2303280" cy="161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8160" y="5143680"/>
            <a:ext cx="1401840" cy="155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flipV="1">
            <a:off x="5686200" y="4389480"/>
            <a:ext cx="833400" cy="1371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904000" y="1798560"/>
            <a:ext cx="1008000" cy="1155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72000" y="360360"/>
            <a:ext cx="172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3181320"/>
            <a:ext cx="172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7280" y="2462040"/>
            <a:ext cx="172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7280" y="4608360"/>
            <a:ext cx="1728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ub-/ Nadelbaum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verschiedene Ar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68720" y="1871640"/>
            <a:ext cx="1728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ngvogel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verschiedene Ar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83280" y="3083040"/>
            <a:ext cx="17290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kt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verschiedene Ar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36720" y="792000"/>
            <a:ext cx="172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9640" y="3672000"/>
            <a:ext cx="172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m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52360" y="6119640"/>
            <a:ext cx="1729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rauch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verschiedene Ar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0" y="5616720"/>
            <a:ext cx="1728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a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verschiedene Ar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72000" y="4390560"/>
            <a:ext cx="1511280" cy="1227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454560" y="4030560"/>
            <a:ext cx="218880" cy="1587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63640" y="3525840"/>
            <a:ext cx="720720" cy="1155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941120" y="3527280"/>
            <a:ext cx="1731960" cy="2090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670200" y="4028760"/>
            <a:ext cx="2849760" cy="1731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35640" y="2879640"/>
            <a:ext cx="1555560" cy="1511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2160720" y="4102200"/>
            <a:ext cx="1008000" cy="21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160720" y="4174920"/>
            <a:ext cx="2447640" cy="2090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518160" y="3596760"/>
            <a:ext cx="104328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559640" y="2188800"/>
            <a:ext cx="1800" cy="8953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605120" y="2387160"/>
            <a:ext cx="2955960" cy="709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60720" y="2446200"/>
            <a:ext cx="1079280" cy="3819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717480" y="2806560"/>
            <a:ext cx="147600" cy="1874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943280" y="1077480"/>
            <a:ext cx="1658880" cy="8542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90920" y="645840"/>
            <a:ext cx="2306880" cy="795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20720" y="704880"/>
            <a:ext cx="2952720" cy="1758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511280" y="1136160"/>
            <a:ext cx="1874880" cy="25369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727280" y="1136160"/>
            <a:ext cx="3098880" cy="24656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9640" y="216000"/>
            <a:ext cx="23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Nahrungsne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52000" y="6480000"/>
            <a:ext cx="151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Zeichnungen: A. Theil-Schieb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28720" y="789120"/>
            <a:ext cx="2303640" cy="2334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84720" y="1725120"/>
            <a:ext cx="3240000" cy="1947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20720" y="503280"/>
            <a:ext cx="3382560" cy="6127200"/>
            <a:chOff x="720720" y="503280"/>
            <a:chExt cx="3382560" cy="6127200"/>
          </a:xfrm>
        </p:grpSpPr>
        <p:sp>
          <p:nvSpPr>
            <p:cNvPr id="97" name=""/>
            <p:cNvSpPr/>
            <p:nvPr/>
          </p:nvSpPr>
          <p:spPr>
            <a:xfrm>
              <a:off x="2994840" y="720360"/>
              <a:ext cx="1059120" cy="699840"/>
            </a:xfrm>
            <a:prstGeom prst="wedgeRoundRectCallout">
              <a:avLst>
                <a:gd name="adj1" fmla="val -98523"/>
                <a:gd name="adj2" fmla="val -40162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732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on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720720" y="3878640"/>
              <a:ext cx="1346400" cy="133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757080" y="503280"/>
              <a:ext cx="1308600" cy="12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790560" y="2156760"/>
              <a:ext cx="1213200" cy="137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66800" y="5475240"/>
              <a:ext cx="1611720" cy="115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996280" y="2393280"/>
              <a:ext cx="1059120" cy="699840"/>
            </a:xfrm>
            <a:prstGeom prst="wedgeRoundRectCallout">
              <a:avLst>
                <a:gd name="adj1" fmla="val -98523"/>
                <a:gd name="adj2" fmla="val -11148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732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roduz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8520" y="5399280"/>
              <a:ext cx="1184760" cy="699840"/>
            </a:xfrm>
            <a:prstGeom prst="wedgeRoundRectCallout">
              <a:avLst>
                <a:gd name="adj1" fmla="val -87370"/>
                <a:gd name="adj2" fmla="val 9064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732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(Sekundär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onsu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6280" y="3886560"/>
              <a:ext cx="1059120" cy="699840"/>
            </a:xfrm>
            <a:prstGeom prst="wedgeRoundRectCallout">
              <a:avLst>
                <a:gd name="adj1" fmla="val -98523"/>
                <a:gd name="adj2" fmla="val 18083"/>
                <a:gd name="adj3" fmla="val 16667"/>
              </a:avLst>
            </a:pr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67320" bIns="54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(Primär-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onsu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9040" y="1783800"/>
              <a:ext cx="0" cy="56304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9040" y="3570840"/>
              <a:ext cx="0" cy="56304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9040" y="5166000"/>
              <a:ext cx="0" cy="563040"/>
            </a:xfrm>
            <a:prstGeom prst="line">
              <a:avLst/>
            </a:prstGeom>
            <a:ln w="72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47640" y="676764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11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Zeichnungen: A. Theil-Schieb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35640" y="2160720"/>
            <a:ext cx="647640" cy="4319280"/>
          </a:xfrm>
          <a:custGeom>
            <a:avLst/>
            <a:gdLst>
              <a:gd name="textAreaLeft" fmla="*/ 0 w 647640"/>
              <a:gd name="textAreaRight" fmla="*/ 234000 w 647640"/>
              <a:gd name="textAreaTop" fmla="*/ 112320 h 4319280"/>
              <a:gd name="textAreaBottom" fmla="*/ 4206960 h 43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2c00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9280" y="3673440"/>
            <a:ext cx="3240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Trophiestufen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einer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Nahrungsk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20720" y="1440000"/>
            <a:ext cx="86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durch ist die Anzahl der Glieder einer Nahrungskette begrenz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720720" y="469800"/>
            <a:ext cx="8639280" cy="6701040"/>
            <a:chOff x="720720" y="469800"/>
            <a:chExt cx="8639280" cy="6701040"/>
          </a:xfrm>
        </p:grpSpPr>
        <p:sp>
          <p:nvSpPr>
            <p:cNvPr id="113" name=""/>
            <p:cNvSpPr/>
            <p:nvPr/>
          </p:nvSpPr>
          <p:spPr>
            <a:xfrm>
              <a:off x="720720" y="469800"/>
              <a:ext cx="86392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70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Arial"/>
                </a:rPr>
                <a:t>Modellexperiment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de-DE" sz="3600" spc="-1" strike="noStrike">
                  <a:solidFill>
                    <a:srgbClr val="000000"/>
                  </a:solidFill>
                  <a:latin typeface="Arial"/>
                </a:rPr>
                <a:t>Organis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233360" y="1655640"/>
              <a:ext cx="76215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224000" y="6912000"/>
              <a:ext cx="179856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58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oto: A. Theil-Schieb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20720" y="1440000"/>
            <a:ext cx="86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dellexperi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1280" y="2808360"/>
            <a:ext cx="698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→ </a:t>
            </a:r>
            <a:r>
              <a:rPr b="1" lang="de-DE" sz="2000" spc="-1" strike="noStrike">
                <a:solidFill>
                  <a:srgbClr val="990000"/>
                </a:solidFill>
                <a:latin typeface="Arial"/>
              </a:rPr>
              <a:t>Arbeitsblatt | Partnerarbeit | Zeitvorgabe: 10 Minu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12:49:29Z</dcterms:created>
  <dc:creator/>
  <dc:description/>
  <dc:language>en-US</dc:language>
  <cp:lastModifiedBy/>
  <dcterms:modified xsi:type="dcterms:W3CDTF">2018-09-29T18:27:46Z</dcterms:modified>
  <cp:revision>40</cp:revision>
  <dc:subject/>
  <dc:title/>
</cp:coreProperties>
</file>