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A0F-8D52-4134-B298-EB66B584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A2C-B44B-490E-8E1D-7472413E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27A-8555-4620-AF2A-22DADA56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E54-2819-419F-8A64-EF41E35A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2BE-547C-4A44-B748-6ACAC1E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5F6-C2EB-4568-809D-5214AB1A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1E5-4056-4D7B-97B9-79D38D75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673-88A0-413E-9C14-20EE7DDB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42B-0EC0-4BCB-9CE6-10AF5264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C7A-F6F9-4DE5-842A-42E42053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B9A-6E09-4B36-AFEA-ED38DDCD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591-66F8-464A-B579-68632EB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F2F83-8079-46C1-AD7F-EE8D8DFAF93E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4360" y="287280"/>
          <a:ext cx="9790200" cy="7197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1513440"/>
                <a:gridCol w="1774080"/>
                <a:gridCol w="216000"/>
                <a:gridCol w="216000"/>
                <a:gridCol w="1762560"/>
                <a:gridCol w="2216520"/>
                <a:gridCol w="455040"/>
                <a:gridCol w="988560"/>
              </a:tblGrid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 row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6084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fluss im Ökosystem – 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ine Rolle: S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00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0840" bIns="450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ufga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Vor dem Start der Simul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Beschreibe deine Rolle in der Nahrungskette im entsprechenden Feld der Abbildung lin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Während der Simul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Fülle fortlaufend Papierförmchen mit jeweils zehn Bohne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Zeichne jedes gefüllte Papierförmchen auf der Strichliste ab und gib es anschließend an den Produzenten wei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Nach Beendigung der Simul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Notiere die Summe der von dir weitergegebenen Förmch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7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imär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76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00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kundär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ch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örmchen gefüllt und weitergege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 gridSpan="4">
                  <a:txBody>
                    <a:bodyPr lIns="90000" rIns="90000" tIns="5112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ichnungen: A. Theil-Schiebe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600">
                <a:tc gridSpan="11">
                  <a:txBody>
                    <a:bodyPr lIns="90000" rIns="90000" tIns="4716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02_simulation_doku_sus.ppt 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PG Biologie 2018    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. 1 von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2560" y="144360"/>
          <a:ext cx="9882000" cy="73422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1676880"/>
                <a:gridCol w="1809720"/>
                <a:gridCol w="216000"/>
                <a:gridCol w="216000"/>
                <a:gridCol w="1797840"/>
                <a:gridCol w="2126160"/>
                <a:gridCol w="599040"/>
                <a:gridCol w="1008360"/>
              </a:tblGrid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 row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6084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fluss im Ökosystem – 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ine Rolle: PRODU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24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0840" bIns="450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ufga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Vor dem Start der Simul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Beschreibe deine Rolle in der Nahrungskette im entsprechenden Feld der Abbildung lin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Während der Simul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Zeichne jedes Förmchen, dass du von der Sonne erhältst, auf der Strichliste a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Teile die 10 Bohnen jedes dieser Förmchen so auf: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Zwei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Bohnen legst du in ein Wachstums-Förmchen, </a:t>
                      </a: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acht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 Bohnen kommen in den Entwertungs-Bech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Sobald 10 Bohnen in einem Wachstums-Förmchen liegen, darf der Primärkonsument dieses an sich nehmen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Zeichne jedes volle Wachstums-Förmchen, das der Primärkonsument übernimmt, auf der Strichliste a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Nach Beendigung der Simul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Noto Sans CJK SC Regular"/>
                        </a:rPr>
                        <a:t>Notiere jeweils die Summen deiner Strich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z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imär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92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9000" rIns="99000" tIns="69840" bIns="54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kundär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chl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111111"/>
                      </a:solidFill>
                    </a:lnL>
                    <a:lnR>
                      <a:noFill/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örmchen erhal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 w="720">
                      <a:solidFill>
                        <a:srgbClr val="111111"/>
                      </a:solidFill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örmchen gefüllt und weitergege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111111"/>
                      </a:solidFill>
                    </a:lnL>
                    <a:lnR w="720">
                      <a:solidFill>
                        <a:srgbClr val="111111"/>
                      </a:solidFill>
                    </a:lnR>
                    <a:lnT w="720">
                      <a:solidFill>
                        <a:srgbClr val="111111"/>
                      </a:solidFill>
                    </a:lnT>
                    <a:lnB>
                      <a:noFill/>
                    </a:lnB>
                    <a:noFill/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112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</a:tabLst>
                      </a:pPr>
                      <a:r>
                        <a:rPr b="0" lang="de-DE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ichnungen: A. Theil-Schiebe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680"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716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02_simulation_doku_sus.ppt 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PG Biologie 2018    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. 2 von 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40" y="3959280"/>
            <a:ext cx="1555920" cy="15112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1280" y="144360"/>
            <a:ext cx="9863280" cy="7342200"/>
            <a:chOff x="71280" y="144360"/>
            <a:chExt cx="9863280" cy="73422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28520" y="5832360"/>
              <a:ext cx="1700280" cy="11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944720" y="287280"/>
              <a:ext cx="1798560" cy="1366920"/>
            </a:xfrm>
            <a:prstGeom prst="wedgeRoundRectCallout">
              <a:avLst>
                <a:gd name="adj1" fmla="val -68953"/>
                <a:gd name="adj2" fmla="val 29819"/>
                <a:gd name="adj3" fmla="val 16667"/>
              </a:avLst>
            </a:pr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69840" bIns="54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on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44720" y="2016000"/>
              <a:ext cx="1798560" cy="1366920"/>
            </a:xfrm>
            <a:prstGeom prst="wedgeRoundRectCallout">
              <a:avLst>
                <a:gd name="adj1" fmla="val -68953"/>
                <a:gd name="adj2" fmla="val 29819"/>
                <a:gd name="adj3" fmla="val 16667"/>
              </a:avLst>
            </a:pr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69840" bIns="54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duz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44720" y="3743280"/>
              <a:ext cx="1798560" cy="1366920"/>
            </a:xfrm>
            <a:prstGeom prst="wedgeRoundRectCallout">
              <a:avLst>
                <a:gd name="adj1" fmla="val -68953"/>
                <a:gd name="adj2" fmla="val 29819"/>
                <a:gd name="adj3" fmla="val 16667"/>
              </a:avLst>
            </a:pr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69840" bIns="54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Primär-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Kons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44720" y="5472000"/>
              <a:ext cx="1798560" cy="1366920"/>
            </a:xfrm>
            <a:prstGeom prst="wedgeRoundRectCallout">
              <a:avLst>
                <a:gd name="adj1" fmla="val -68953"/>
                <a:gd name="adj2" fmla="val 29819"/>
                <a:gd name="adj3" fmla="val 16667"/>
              </a:avLst>
            </a:pr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69840" bIns="54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Sekundär-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Kons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87640" y="325440"/>
              <a:ext cx="5973840" cy="6656400"/>
            </a:xfrm>
            <a:prstGeom prst="rect">
              <a:avLst/>
            </a:prstGeom>
            <a:noFill/>
            <a:ln w="28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59280" y="325440"/>
              <a:ext cx="417492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ergiefluss im Ökosystem –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eine Rolle: PRIMÄRKONS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59280" y="1504800"/>
              <a:ext cx="5830920" cy="38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marL="216000" indent="-216000">
                <a:lnSpc>
                  <a:spcPct val="93000"/>
                </a:lnSpc>
                <a:spcBef>
                  <a:spcPts val="286"/>
                </a:spcBef>
                <a:spcAft>
                  <a:spcPts val="28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Aufgab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spcBef>
                  <a:spcPts val="575"/>
                </a:spcBef>
                <a:spcAft>
                  <a:spcPts val="575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Vor dem Start der Simula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spcBef>
                  <a:spcPts val="575"/>
                </a:spcBef>
                <a:spcAft>
                  <a:spcPts val="575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Beschreibe deine Rolle in der Nahrungskette im entsprechenden Feld der Abbildung link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spcBef>
                  <a:spcPts val="575"/>
                </a:spcBef>
                <a:spcAft>
                  <a:spcPts val="575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spcBef>
                  <a:spcPts val="575"/>
                </a:spcBef>
                <a:spcAft>
                  <a:spcPts val="575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Während der Simula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spcBef>
                  <a:spcPts val="575"/>
                </a:spcBef>
                <a:spcAft>
                  <a:spcPts val="575"/>
                </a:spcAft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Zeichne jedes Förmchen, dass du vom Produzenten erhältst, auf der Strichliste ab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spcBef>
                  <a:spcPts val="575"/>
                </a:spcBef>
                <a:spcAft>
                  <a:spcPts val="575"/>
                </a:spcAft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Teile die 10 Bohnen jedes dieser Förmchen so auf: 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Eine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 Bohne legst du in ein Wachstums-Förmchen,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 neun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 Bohnen kommen in den Entwertungs-Bech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spcBef>
                  <a:spcPts val="575"/>
                </a:spcBef>
                <a:spcAft>
                  <a:spcPts val="575"/>
                </a:spcAft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Sobald 10 Bohnen in einem Wachstums-Förmchen liegen, hebst du deine Hand – ein Sekundärkonsument (Lehrer) darf dieses an sich nehmen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>
                <a:lnSpc>
                  <a:spcPct val="93000"/>
                </a:lnSpc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Zeichne jedes volle Wachstums-Förmchen, das der Sekundärkonsument übernimmt, auf der Strichliste ab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286"/>
                </a:spcBef>
                <a:spcAft>
                  <a:spcPts val="28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Nach Beendigung der Simula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286"/>
                </a:spcBef>
                <a:spcAft>
                  <a:spcPts val="286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Noto Sans CJK SC Regular"/>
                </a:rPr>
                <a:t>Notiere jeweils die Summen deiner Strich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994200" y="5472000"/>
              <a:ext cx="5792760" cy="1440000"/>
              <a:chOff x="3994200" y="5472000"/>
              <a:chExt cx="5792760" cy="1440000"/>
            </a:xfrm>
          </p:grpSpPr>
          <p:sp>
            <p:nvSpPr>
              <p:cNvPr id="54" name=""/>
              <p:cNvSpPr/>
              <p:nvPr/>
            </p:nvSpPr>
            <p:spPr>
              <a:xfrm>
                <a:off x="3994200" y="5472000"/>
                <a:ext cx="1930320" cy="3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264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924520" y="5472000"/>
                <a:ext cx="2925720" cy="3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94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Strichlis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850240" y="5472000"/>
                <a:ext cx="936720" cy="3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94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Summ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94200" y="5854680"/>
                <a:ext cx="19303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94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Förmchen erhalt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924520" y="5854680"/>
                <a:ext cx="2925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264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50240" y="5854680"/>
                <a:ext cx="936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264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994200" y="6248520"/>
                <a:ext cx="19303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94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Förmchen gefüllt und weitergegeb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924520" y="6248520"/>
                <a:ext cx="2925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264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850240" y="6248520"/>
                <a:ext cx="936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264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94200" y="5472000"/>
                <a:ext cx="19303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24520" y="5472000"/>
                <a:ext cx="29257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850240" y="5472000"/>
                <a:ext cx="9367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994200" y="5854680"/>
                <a:ext cx="19303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924520" y="5854680"/>
                <a:ext cx="29257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850240" y="5854680"/>
                <a:ext cx="9367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994200" y="6248520"/>
                <a:ext cx="19303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924520" y="6248520"/>
                <a:ext cx="29257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50240" y="6248520"/>
                <a:ext cx="9367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94200" y="6912000"/>
                <a:ext cx="19303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24520" y="6912000"/>
                <a:ext cx="29257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50240" y="6912000"/>
                <a:ext cx="936720" cy="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94200" y="5472000"/>
                <a:ext cx="0" cy="38268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94200" y="5854680"/>
                <a:ext cx="0" cy="39384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94200" y="6248520"/>
                <a:ext cx="0" cy="66348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924520" y="5472000"/>
                <a:ext cx="0" cy="38268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24520" y="5854680"/>
                <a:ext cx="0" cy="39384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24520" y="6248520"/>
                <a:ext cx="0" cy="66348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850240" y="5472000"/>
                <a:ext cx="0" cy="38268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850240" y="5854680"/>
                <a:ext cx="0" cy="39384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850240" y="6248520"/>
                <a:ext cx="0" cy="66348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786960" y="5472000"/>
                <a:ext cx="0" cy="38268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786960" y="5854680"/>
                <a:ext cx="0" cy="39384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786960" y="6248520"/>
                <a:ext cx="0" cy="663480"/>
              </a:xfrm>
              <a:prstGeom prst="line">
                <a:avLst/>
              </a:prstGeom>
              <a:ln w="720">
                <a:solidFill>
                  <a:srgbClr val="11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71280" y="144360"/>
              <a:ext cx="165600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8207280" y="431640"/>
              <a:ext cx="155412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287280" y="2187720"/>
              <a:ext cx="10778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44360" y="7278840"/>
              <a:ext cx="97902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20802_simulation_doku_sus.ppt 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 ZPG Biologie 2018    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</a:rPr>
                <a:t> S. 3 von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0720" y="1728720"/>
              <a:ext cx="0" cy="63504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0720" y="3611520"/>
              <a:ext cx="0" cy="63504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0720" y="5472000"/>
              <a:ext cx="0" cy="63504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360" y="7064280"/>
              <a:ext cx="15098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112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Zeichnungen: A. Theil-Schieb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08:23:58Z</dcterms:created>
  <dc:creator/>
  <dc:description/>
  <dc:language>en-US</dc:language>
  <cp:lastModifiedBy/>
  <cp:lastPrinted>2018-08-19T15:50:18Z</cp:lastPrinted>
  <dcterms:modified xsi:type="dcterms:W3CDTF">2018-09-29T18:33:55Z</dcterms:modified>
  <cp:revision>28</cp:revision>
  <dc:subject/>
  <dc:title/>
</cp:coreProperties>
</file>