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AE1-DEAB-425F-A838-38291653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9B9-C001-422B-92AF-97F5E10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C16-35B0-46C0-ABFF-012A34C5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5C1-57AE-46CC-858F-0396AC16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F47-C6B0-420E-A18C-E4C0060C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63E-65CE-49A7-98F0-DF2FE9EE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7D9-8783-4773-B0EC-F56D4A0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7DF-7B41-4163-87B8-DB5C97EB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A6D-2AF5-459B-9A19-A61F6FD0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588-9BFF-4874-B447-1007FCE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4C8-CD03-4852-936F-DBB351C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40C-294A-4329-A27F-752B2D6E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75B60-D121-445C-90CE-46A660A412B6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440" y="3959280"/>
            <a:ext cx="15559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1280" y="150840"/>
          <a:ext cx="9863280" cy="73357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1416960"/>
                <a:gridCol w="234000"/>
                <a:gridCol w="1287720"/>
                <a:gridCol w="216000"/>
                <a:gridCol w="216000"/>
                <a:gridCol w="1801800"/>
                <a:gridCol w="1945080"/>
                <a:gridCol w="933120"/>
                <a:gridCol w="1164600"/>
              </a:tblGrid>
              <a:tr h="346320">
                <a:tc gridSpan="4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 rowSpan="1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084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fluss im Ökosystem – 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WER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penergebni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rm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hn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>
                      <a:noFill/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Sonn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Produz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Primärkonsu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ODE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Bohnen im Wachstums-Förmc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>
                      <a:noFill/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im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76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undärkonsu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Förmchen erhal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340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kund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9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112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ichnungen: A. Theil-Schieb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716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03_simulation_auswertung.ppt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G Biologie 2018   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. 1 v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40" y="3959280"/>
            <a:ext cx="15559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1280" y="150840"/>
          <a:ext cx="9863280" cy="73357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1416960"/>
                <a:gridCol w="234000"/>
                <a:gridCol w="1287720"/>
                <a:gridCol w="216000"/>
                <a:gridCol w="216000"/>
                <a:gridCol w="1801800"/>
                <a:gridCol w="1945080"/>
                <a:gridCol w="933120"/>
                <a:gridCol w="1164600"/>
              </a:tblGrid>
              <a:tr h="364680">
                <a:tc gridSpan="4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 rowSpan="1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084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fluss im Ökosystem – 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WERTU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ögliches Ergebnis bei 5 Dreiergrup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penergebni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rm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hn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>
                      <a:noFill/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Sonn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, 20, 14, 18,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Produz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 4, 3, 3,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Primärkonsu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Förmchen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ODE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nzahl Bohnen im Wachstums-Förmc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 4, 3, 3,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>
                      <a:noFill/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im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undärkonsument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Förmchen erhal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Förmchen und 7 Boh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180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kund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112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ichnungen: A. Theil-Schieb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716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03_simulation_auswertung.ppt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G Biologie 2018   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. 2 von 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09:37:31Z</dcterms:created>
  <dc:creator/>
  <dc:description/>
  <dc:language>en-US</dc:language>
  <cp:lastModifiedBy/>
  <dcterms:modified xsi:type="dcterms:W3CDTF">2018-09-29T18:37:01Z</dcterms:modified>
  <cp:revision>20</cp:revision>
  <dc:subject/>
  <dc:title/>
</cp:coreProperties>
</file>