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956-FEA9-43F1-AFB2-7D3C88AA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783-9C14-4C21-91EB-1B2AD578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902-0163-442C-BA91-C82CB160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87DF-7FF2-4465-89CB-D7A5F750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4A2-9632-4EDC-8F85-A44439DF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3A8-75F5-4844-BA92-20CAE77E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72A-6C09-4A7D-A46A-DF8D153C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D98-9A5F-4AF8-B3B9-5194B16D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B55-4FFE-4C44-8C5C-79CD230F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E09-B1BA-4C22-A24E-0BC8CB09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F10-8292-4406-A38D-762B29B3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458-7930-4EDA-9B55-1522B4A0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ED8B9-710B-4D8C-8238-E8D549D87F9D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creativecommons.org/publicdomain/zero/1.0/" TargetMode="External"/><Relationship Id="rId3" Type="http://schemas.openxmlformats.org/officeDocument/2006/relationships/hyperlink" Target="http://openclipart.org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creativecommons.org/publicdomain/zero/1.0/" TargetMode="External"/><Relationship Id="rId2" Type="http://schemas.openxmlformats.org/officeDocument/2006/relationships/hyperlink" Target="http://openclipart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creativecommons.org/publicdomain/zero/1.0/" TargetMode="External"/><Relationship Id="rId2" Type="http://schemas.openxmlformats.org/officeDocument/2006/relationships/hyperlink" Target="http://openclipart.org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creativecommons.org/licenses/by-sa/4.0" TargetMode="External"/><Relationship Id="rId2" Type="http://schemas.openxmlformats.org/officeDocument/2006/relationships/hyperlink" Target="https://commons.wikimedia.org/wiki/Category:Phytoplankton?uselang=de#/media/File:Phytoplancton2.svg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8085240" cy="345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6360" y="6535800"/>
            <a:ext cx="36003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rca“ von J_Alves (eigenes Werk) [</a:t>
            </a: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C1.0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], via </a:t>
            </a: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openclip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1280" y="7201080"/>
            <a:ext cx="98647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0901_tafelkarten_biomagnifikation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PG Biologie 2018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1 von 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76360" y="6610320"/>
            <a:ext cx="38876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unfish“ von hextrust (eigenes Werk) [</a:t>
            </a: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C1.0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], via </a:t>
            </a: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openclip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43120" y="1900080"/>
            <a:ext cx="6680160" cy="3138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1280" y="7201080"/>
            <a:ext cx="98647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0901_tafelkarten_biomagnifikation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PG Biologie 2018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2 von 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76360" y="6610320"/>
            <a:ext cx="4967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d Herring“ von algotruneman (eigenes Werk) [</a:t>
            </a: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C1.0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], via </a:t>
            </a: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openclipar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bearbeit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238400" y="2013120"/>
            <a:ext cx="7762680" cy="3027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1280" y="7201080"/>
            <a:ext cx="98647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0901_tafelkarten_biomagnifikation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PG Biologie 2018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3 von 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1640" y="6480000"/>
            <a:ext cx="208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Zeichnung: A. Theil-Schieb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 rot="20700000">
            <a:off x="1526760" y="2333160"/>
            <a:ext cx="6697800" cy="2678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280" y="7201080"/>
            <a:ext cx="98647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0901_tafelkarten_biomagnifikation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PG Biologie 2018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4 von 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6000" y="6335640"/>
            <a:ext cx="6191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ytoplancton2“ von Muriel Marc (eigenes Werk)[ </a:t>
            </a: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C4.0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], via </a:t>
            </a: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ikimedia Common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bearbeit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527280" y="1871640"/>
            <a:ext cx="2590920" cy="2733480"/>
            <a:chOff x="3527280" y="1871640"/>
            <a:chExt cx="2590920" cy="273348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4417920" y="2850480"/>
              <a:ext cx="1173240" cy="11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4944960" y="2188800"/>
              <a:ext cx="1173240" cy="11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5"/>
            <a:stretch/>
          </p:blipFill>
          <p:spPr>
            <a:xfrm>
              <a:off x="3892680" y="1871640"/>
              <a:ext cx="1172880" cy="11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6"/>
            <a:stretch/>
          </p:blipFill>
          <p:spPr>
            <a:xfrm>
              <a:off x="3527280" y="3456360"/>
              <a:ext cx="1173240" cy="114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71280" y="7201080"/>
            <a:ext cx="98647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0901_tafelkarten_biomagnifikation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PG Biologie 2018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5 von 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71280" y="173160"/>
            <a:ext cx="9891720" cy="7229520"/>
            <a:chOff x="71280" y="173160"/>
            <a:chExt cx="9891720" cy="7229520"/>
          </a:xfrm>
        </p:grpSpPr>
        <p:grpSp>
          <p:nvGrpSpPr>
            <p:cNvPr id="61" name=""/>
            <p:cNvGrpSpPr/>
            <p:nvPr/>
          </p:nvGrpSpPr>
          <p:grpSpPr>
            <a:xfrm>
              <a:off x="173160" y="816120"/>
              <a:ext cx="9789840" cy="6333840"/>
              <a:chOff x="173160" y="816120"/>
              <a:chExt cx="9789840" cy="633384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73160" y="846000"/>
                <a:ext cx="9789840" cy="6303960"/>
                <a:chOff x="173160" y="846000"/>
                <a:chExt cx="9789840" cy="63039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244440" y="3048120"/>
                  <a:ext cx="158292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084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</a:tabLst>
                  </a:pPr>
                  <a:r>
                    <a:rPr b="1" lang="de-DE" sz="1800" spc="-1" strike="noStrike">
                      <a:solidFill>
                        <a:srgbClr val="00cc00"/>
                      </a:solidFill>
                      <a:latin typeface="Arial"/>
                    </a:rPr>
                    <a:t>Produzente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836800" y="1536840"/>
                  <a:ext cx="1727280" cy="43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084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</a:tabLst>
                  </a:pPr>
                  <a:r>
                    <a:rPr b="1" lang="de-DE" sz="1800" spc="-1" strike="noStrike">
                      <a:solidFill>
                        <a:srgbClr val="dd4814"/>
                      </a:solidFill>
                      <a:latin typeface="Arial"/>
                    </a:rPr>
                    <a:t>Konsumente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80440" y="4272120"/>
                  <a:ext cx="1293840" cy="64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084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</a:tabLst>
                  </a:pPr>
                  <a:r>
                    <a:rPr b="1" lang="de-DE" sz="1800" spc="-1" strike="noStrike">
                      <a:solidFill>
                        <a:srgbClr val="dd4814"/>
                      </a:solidFill>
                      <a:latin typeface="Arial"/>
                    </a:rPr>
                    <a:t>„</a:t>
                  </a:r>
                  <a:r>
                    <a:rPr b="1" lang="de-DE" sz="1800" spc="-1" strike="noStrike">
                      <a:solidFill>
                        <a:srgbClr val="dd4814"/>
                      </a:solidFill>
                      <a:latin typeface="Arial"/>
                    </a:rPr>
                    <a:t>Spitzen-prädator“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57520" y="3695760"/>
                  <a:ext cx="8083440" cy="3454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740640" y="846000"/>
                  <a:ext cx="3151080" cy="147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506840" y="2198520"/>
                  <a:ext cx="1857600" cy="722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4"/>
                <a:stretch/>
              </p:blipFill>
              <p:spPr>
                <a:xfrm rot="20700000">
                  <a:off x="2446200" y="3269880"/>
                  <a:ext cx="1211400" cy="482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"/>
                <p:cNvGrpSpPr/>
                <p:nvPr/>
              </p:nvGrpSpPr>
              <p:grpSpPr>
                <a:xfrm>
                  <a:off x="173160" y="3479760"/>
                  <a:ext cx="1415880" cy="1438200"/>
                  <a:chOff x="173160" y="3479760"/>
                  <a:chExt cx="1415880" cy="1438200"/>
                </a:xfrm>
              </p:grpSpPr>
              <p:pic>
                <p:nvPicPr>
                  <p:cNvPr id="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0240" y="3995640"/>
                    <a:ext cx="6415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47880" y="3646440"/>
                    <a:ext cx="64116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2960" y="3479760"/>
                    <a:ext cx="6415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3160" y="4314960"/>
                    <a:ext cx="64116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5" name=""/>
                <p:cNvSpPr/>
                <p:nvPr/>
              </p:nvSpPr>
              <p:spPr>
                <a:xfrm flipV="1">
                  <a:off x="1612800" y="3551040"/>
                  <a:ext cx="862200" cy="433080"/>
                </a:xfrm>
                <a:prstGeom prst="line">
                  <a:avLst/>
                </a:prstGeom>
                <a:ln w="36000">
                  <a:solidFill>
                    <a:srgbClr val="6600cc"/>
                  </a:solidFill>
                  <a:round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173160" y="4919760"/>
                  <a:ext cx="186984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084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i="1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Phytoplankt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2549520" y="3710160"/>
                  <a:ext cx="1870200" cy="34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084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i="1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Kril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284800" y="2932200"/>
                  <a:ext cx="187020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084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i="1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Her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093160" y="2255760"/>
                  <a:ext cx="186984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084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i="1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Thunfisc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380440" y="6648480"/>
                  <a:ext cx="93492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084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</a:tabLst>
                  </a:pPr>
                  <a:r>
                    <a:rPr b="0" i="1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Orc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V="1">
                  <a:off x="5645160" y="1895400"/>
                  <a:ext cx="861840" cy="433440"/>
                </a:xfrm>
                <a:prstGeom prst="line">
                  <a:avLst/>
                </a:prstGeom>
                <a:ln w="36000">
                  <a:solidFill>
                    <a:srgbClr val="6600cc"/>
                  </a:solidFill>
                  <a:round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3629160" y="2830320"/>
                  <a:ext cx="861840" cy="433080"/>
                </a:xfrm>
                <a:prstGeom prst="line">
                  <a:avLst/>
                </a:prstGeom>
                <a:ln w="36000">
                  <a:solidFill>
                    <a:srgbClr val="6600cc"/>
                  </a:solidFill>
                  <a:round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8021520" y="2386080"/>
                  <a:ext cx="0" cy="2316240"/>
                </a:xfrm>
                <a:prstGeom prst="line">
                  <a:avLst/>
                </a:prstGeom>
                <a:ln w="36000">
                  <a:solidFill>
                    <a:srgbClr val="6600cc"/>
                  </a:solidFill>
                  <a:round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"/>
              <p:cNvSpPr/>
              <p:nvPr/>
            </p:nvSpPr>
            <p:spPr>
              <a:xfrm>
                <a:off x="173160" y="816120"/>
                <a:ext cx="626256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44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de-DE" sz="2200" spc="-1" strike="noStrike">
                    <a:solidFill>
                      <a:srgbClr val="000000"/>
                    </a:solidFill>
                    <a:latin typeface="Arial"/>
                  </a:rPr>
                  <a:t>Beispiel einer marinen Nahrungsket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71280" y="173160"/>
              <a:ext cx="54705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de-DE" sz="2200" spc="-1" strike="noStrike">
                  <a:solidFill>
                    <a:srgbClr val="cc0000"/>
                  </a:solidFill>
                  <a:latin typeface="Arial"/>
                </a:rPr>
                <a:t>Musterlösung: Tafelbild Einstie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280" y="7199280"/>
              <a:ext cx="98632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22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20901_tafelkarten_biomagnifikation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ZPG Biologie 2018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Seite 6 von 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7T21:40:09Z</dcterms:created>
  <dc:creator/>
  <dc:description/>
  <dc:language>en-US</dc:language>
  <cp:lastModifiedBy/>
  <dcterms:modified xsi:type="dcterms:W3CDTF">2018-11-02T17:42:03Z</dcterms:modified>
  <cp:revision>17</cp:revision>
  <dc:subject/>
  <dc:title/>
</cp:coreProperties>
</file>