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528-DC0A-455F-8D33-E9241FC5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888-0DA1-4B7B-BCE7-9F238889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596-BCC1-4753-BEDE-BF68C793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3B8-D565-4524-B53E-CF2C35F7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0EB-A934-499B-9ABC-15DD5567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95A-5CCA-42DD-B183-F97530BC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2BC-0C8E-4744-8E1F-EB6C3057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385-1E25-4793-BB20-03ED287B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592-0067-4E77-AEAC-6587AEC3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C7A-A559-4BCE-BD19-8262E763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1DF-0AEB-4A5C-B610-A5D9F3F7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2C1-72B9-450F-ACAD-FB945CAA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D5FE-E0CB-4C58-B043-281F85EDA885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reativecommons.org/licenses/by/4.0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s://creativecommons.org/licenses/by-sa/3.0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7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9"/>
          <p:cNvSpPr/>
          <p:nvPr/>
        </p:nvSpPr>
        <p:spPr>
          <a:xfrm>
            <a:off x="150840" y="498600"/>
            <a:ext cx="21034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Auf deiner Reisekarte innen hast du den sogenannten Stickstoff-Kreislauf gezeichnet. Man kann diesen Kreislauf auch anders darstelle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Vervollständige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das Schema mit beschrifteten Pfeilen wie in den beiden Beispiele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4. 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Rhizobien sind Bakterien, die die Wurzelzellen von Schmetterlingsblütlern (Klee, Bohnen, Erbsen, Soja, Luzerne, ..) befallen. Die infizierten Wurzelzellen wachsen zu Wurzelknöllche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Folgende mehrstufige biochemische Reaktion findet in den Rhizobien statt: 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160200" y="84240"/>
            <a:ext cx="457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Stickstoff-Kreislauf</a:t>
            </a:r>
            <a:endParaRPr b="0" lang="en-US" sz="16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3" name="Line 2"/>
          <p:cNvSpPr/>
          <p:nvPr/>
        </p:nvSpPr>
        <p:spPr>
          <a:xfrm>
            <a:off x="241200" y="417600"/>
            <a:ext cx="64278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4" name="Text Box 59"/>
          <p:cNvSpPr/>
          <p:nvPr/>
        </p:nvSpPr>
        <p:spPr>
          <a:xfrm>
            <a:off x="149400" y="3751200"/>
            <a:ext cx="3444840" cy="28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 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+ 8e</a:t>
            </a:r>
            <a:r>
              <a:rPr b="0" lang="de-DE" sz="1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+ 8H</a:t>
            </a:r>
            <a:r>
              <a:rPr b="0" lang="de-DE" sz="1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 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+ 16ATP            2NH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+ H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 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+ 16ADP + 16P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Pro Stickstoffatom sind also 8 ATP-Moleküle (chemische Energie) notwendig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a)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Parasitismus oder Symbiose? </a:t>
            </a: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Unterstreiche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)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egründe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deine Wahl, indem du die Lücken ergänzt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Die Rhizobien versorgen die Pflanze mit ................................., die Pflanze versorgt die Rhizobien mit ...................................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aus der Fotosynthese, die dann durch Zellatmung in ................ umgewandelt werden kan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c)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eschreibe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und </a:t>
            </a: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erkläre</a:t>
            </a: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die Aussagen des unteren Schaubildes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45" name="Bild 1" descr="IMG_0434.png"/>
          <p:cNvPicPr/>
          <p:nvPr/>
        </p:nvPicPr>
        <p:blipFill>
          <a:blip r:embed="rId1"/>
          <a:stretch/>
        </p:blipFill>
        <p:spPr>
          <a:xfrm>
            <a:off x="3179880" y="622440"/>
            <a:ext cx="3195360" cy="2555640"/>
          </a:xfrm>
          <a:prstGeom prst="rect">
            <a:avLst/>
          </a:prstGeom>
          <a:ln w="0">
            <a:noFill/>
          </a:ln>
        </p:spPr>
      </p:pic>
      <p:sp>
        <p:nvSpPr>
          <p:cNvPr id="46" name="Rechteck 2"/>
          <p:cNvSpPr/>
          <p:nvPr/>
        </p:nvSpPr>
        <p:spPr>
          <a:xfrm>
            <a:off x="3557520" y="6369120"/>
            <a:ext cx="31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verändert nach: CNX OpenStax - http://cnx.org/contents/GFy_h8cu@10.53:rZudN6XP@2/Introduction,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CC BY 4.0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, https://commons.wikimedia.org/w/index.php?curid=49934767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47" name="Bild 3" descr="Figure_31_03_02ab.jpg"/>
          <p:cNvPicPr/>
          <p:nvPr/>
        </p:nvPicPr>
        <p:blipFill>
          <a:blip r:embed="rId3"/>
          <a:stretch/>
        </p:blipFill>
        <p:spPr>
          <a:xfrm>
            <a:off x="3591000" y="3914640"/>
            <a:ext cx="3011400" cy="2495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9"/>
          <p:cNvSpPr/>
          <p:nvPr/>
        </p:nvSpPr>
        <p:spPr>
          <a:xfrm>
            <a:off x="4282920" y="3624120"/>
            <a:ext cx="218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Rhizobien-Bakterien innerhalb einer Pflanzenwurzelzelle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9" name="Rechteck 4"/>
          <p:cNvSpPr/>
          <p:nvPr/>
        </p:nvSpPr>
        <p:spPr>
          <a:xfrm>
            <a:off x="4424400" y="8134200"/>
            <a:ext cx="231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verändert nach: Ninjatacoshell - Own work,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4"/>
              </a:rPr>
              <a:t>CC BY-SA 3.0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, https://commons.wikimedia.org/w/index.php?curid=7382262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50" name="Bild 5" descr="1280px-Medicago_truncatula_A17_root_nodules.JPG"/>
          <p:cNvPicPr/>
          <p:nvPr/>
        </p:nvPicPr>
        <p:blipFill>
          <a:blip r:embed="rId5"/>
          <a:stretch/>
        </p:blipFill>
        <p:spPr>
          <a:xfrm>
            <a:off x="4470480" y="7121520"/>
            <a:ext cx="2154240" cy="1052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9"/>
          <p:cNvSpPr/>
          <p:nvPr/>
        </p:nvSpPr>
        <p:spPr>
          <a:xfrm>
            <a:off x="5477040" y="6973920"/>
            <a:ext cx="129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Wurzelknöllchen mit Bakterien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2" name="Line 2"/>
          <p:cNvSpPr/>
          <p:nvPr/>
        </p:nvSpPr>
        <p:spPr>
          <a:xfrm flipV="1">
            <a:off x="5253120" y="7171920"/>
            <a:ext cx="355680" cy="265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3" name="Gerade Verbindung 25"/>
          <p:cNvSpPr/>
          <p:nvPr/>
        </p:nvSpPr>
        <p:spPr>
          <a:xfrm>
            <a:off x="1414440" y="388620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54" name="Bild 8" descr="IMG_0438.png"/>
          <p:cNvPicPr/>
          <p:nvPr/>
        </p:nvPicPr>
        <p:blipFill>
          <a:blip r:embed="rId6"/>
          <a:stretch/>
        </p:blipFill>
        <p:spPr>
          <a:xfrm>
            <a:off x="379440" y="6662880"/>
            <a:ext cx="2685960" cy="289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9"/>
          <p:cNvSpPr/>
          <p:nvPr/>
        </p:nvSpPr>
        <p:spPr>
          <a:xfrm rot="16200000">
            <a:off x="-1054440" y="7997760"/>
            <a:ext cx="2738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global fixierter Stickstoff (10</a:t>
            </a:r>
            <a:r>
              <a:rPr b="0" lang="de-DE" sz="1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g N</a:t>
            </a:r>
            <a:r>
              <a:rPr b="0" lang="de-DE" sz="1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/Jahr)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6" name="Text Box 59"/>
          <p:cNvSpPr/>
          <p:nvPr/>
        </p:nvSpPr>
        <p:spPr>
          <a:xfrm>
            <a:off x="2552760" y="8605800"/>
            <a:ext cx="129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natürlich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7" name="Text Box 59"/>
          <p:cNvSpPr/>
          <p:nvPr/>
        </p:nvSpPr>
        <p:spPr>
          <a:xfrm>
            <a:off x="2830680" y="7873920"/>
            <a:ext cx="112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vom Menschen verursacht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8" name="Text Box 59"/>
          <p:cNvSpPr/>
          <p:nvPr/>
        </p:nvSpPr>
        <p:spPr>
          <a:xfrm rot="20013600">
            <a:off x="1106280" y="8674200"/>
            <a:ext cx="129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Stickstofffixierung durch Bakterien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9" name="Text Box 59"/>
          <p:cNvSpPr/>
          <p:nvPr/>
        </p:nvSpPr>
        <p:spPr>
          <a:xfrm>
            <a:off x="1123920" y="8196120"/>
            <a:ext cx="129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litze, Brände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0" name="Text Box 59"/>
          <p:cNvSpPr/>
          <p:nvPr/>
        </p:nvSpPr>
        <p:spPr>
          <a:xfrm>
            <a:off x="485640" y="8037360"/>
            <a:ext cx="165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Gründüngung durch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1" name="Text Box 59"/>
          <p:cNvSpPr/>
          <p:nvPr/>
        </p:nvSpPr>
        <p:spPr>
          <a:xfrm rot="19596000">
            <a:off x="1778400" y="785484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Schmetter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2" name="Text Box 59"/>
          <p:cNvSpPr/>
          <p:nvPr/>
        </p:nvSpPr>
        <p:spPr>
          <a:xfrm rot="18645000">
            <a:off x="2046600" y="7502760"/>
            <a:ext cx="10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lingsblütler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3" name="Text Box 59"/>
          <p:cNvSpPr/>
          <p:nvPr/>
        </p:nvSpPr>
        <p:spPr>
          <a:xfrm rot="19376400">
            <a:off x="1916280" y="7840440"/>
            <a:ext cx="129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Kunstdünger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4" name="Text Box 59"/>
          <p:cNvSpPr/>
          <p:nvPr/>
        </p:nvSpPr>
        <p:spPr>
          <a:xfrm>
            <a:off x="932040" y="6894360"/>
            <a:ext cx="1688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Verbrennung fossiler Energieträger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5" name="Line 2"/>
          <p:cNvSpPr/>
          <p:nvPr/>
        </p:nvSpPr>
        <p:spPr>
          <a:xfrm>
            <a:off x="2222640" y="7189920"/>
            <a:ext cx="287280" cy="20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6" name="Text Box 59"/>
          <p:cNvSpPr/>
          <p:nvPr/>
        </p:nvSpPr>
        <p:spPr>
          <a:xfrm>
            <a:off x="2481120" y="9358200"/>
            <a:ext cx="129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Jahr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7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1002_ab_stickstoffkreislauf_auße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1 von 4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8" name="Rechteck 57"/>
          <p:cNvSpPr/>
          <p:nvPr/>
        </p:nvSpPr>
        <p:spPr>
          <a:xfrm>
            <a:off x="3268800" y="9094680"/>
            <a:ext cx="32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verändert nach: Markl Biologie Oberstufe, 1. Auflage, 2018, ISBN: 978-3-12-150050-5, mit freundlicher Genehmigung des Ernst Klett Verlages, Stuttgart 2018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ild 1" descr="Rahmen.eps"/>
          <p:cNvPicPr/>
          <p:nvPr/>
        </p:nvPicPr>
        <p:blipFill>
          <a:blip r:embed="rId1"/>
          <a:stretch/>
        </p:blipFill>
        <p:spPr>
          <a:xfrm flipH="1">
            <a:off x="123480" y="351000"/>
            <a:ext cx="6630840" cy="5460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9"/>
          <p:cNvSpPr/>
          <p:nvPr/>
        </p:nvSpPr>
        <p:spPr>
          <a:xfrm>
            <a:off x="341280" y="635040"/>
            <a:ext cx="600084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Liebes Stickstoff-Atom,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herzlich willkommen auf deiner Weltreise zu Wasser</a:t>
            </a:r>
            <a:r>
              <a:rPr b="1" i="1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, Land</a:t>
            </a:r>
            <a:r>
              <a:rPr b="1" i="1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und Luft!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An jeder Etappe deiner Reise erwarten dich 3 Abschnitte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71" name="Bild 1" descr="IMG_0420.png"/>
          <p:cNvPicPr/>
          <p:nvPr/>
        </p:nvPicPr>
        <p:blipFill>
          <a:blip r:embed="rId2"/>
          <a:stretch/>
        </p:blipFill>
        <p:spPr>
          <a:xfrm>
            <a:off x="4514760" y="934920"/>
            <a:ext cx="703440" cy="271440"/>
          </a:xfrm>
          <a:prstGeom prst="rect">
            <a:avLst/>
          </a:prstGeom>
          <a:ln w="0">
            <a:noFill/>
          </a:ln>
        </p:spPr>
      </p:pic>
      <p:pic>
        <p:nvPicPr>
          <p:cNvPr id="72" name="Bild 3" descr="IMG_0419.png"/>
          <p:cNvPicPr/>
          <p:nvPr/>
        </p:nvPicPr>
        <p:blipFill>
          <a:blip r:embed="rId3"/>
          <a:stretch/>
        </p:blipFill>
        <p:spPr>
          <a:xfrm>
            <a:off x="5896080" y="893880"/>
            <a:ext cx="568080" cy="412560"/>
          </a:xfrm>
          <a:prstGeom prst="rect">
            <a:avLst/>
          </a:prstGeom>
          <a:ln w="0">
            <a:noFill/>
          </a:ln>
        </p:spPr>
      </p:pic>
      <p:pic>
        <p:nvPicPr>
          <p:cNvPr id="73" name="Bild 6" descr="IMG_0421.png"/>
          <p:cNvPicPr/>
          <p:nvPr/>
        </p:nvPicPr>
        <p:blipFill>
          <a:blip r:embed="rId4"/>
          <a:stretch/>
        </p:blipFill>
        <p:spPr>
          <a:xfrm>
            <a:off x="3511440" y="787320"/>
            <a:ext cx="544680" cy="414360"/>
          </a:xfrm>
          <a:prstGeom prst="rect">
            <a:avLst/>
          </a:prstGeom>
          <a:ln w="0">
            <a:noFill/>
          </a:ln>
        </p:spPr>
      </p:pic>
      <p:sp>
        <p:nvSpPr>
          <p:cNvPr id="74" name="Line 4"/>
          <p:cNvSpPr/>
          <p:nvPr/>
        </p:nvSpPr>
        <p:spPr>
          <a:xfrm>
            <a:off x="299880" y="433440"/>
            <a:ext cx="636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49400" y="85680"/>
            <a:ext cx="43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Reiseunterlagen für N-Atome</a:t>
            </a:r>
            <a:endParaRPr b="0" lang="en-US" sz="16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76" name="Gruppierung 14" descr=""/>
          <p:cNvPicPr/>
          <p:nvPr/>
        </p:nvPicPr>
        <p:blipFill>
          <a:blip r:embed="rId5"/>
          <a:stretch/>
        </p:blipFill>
        <p:spPr>
          <a:xfrm>
            <a:off x="384120" y="1560600"/>
            <a:ext cx="347760" cy="3120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9"/>
          <p:cNvSpPr/>
          <p:nvPr/>
        </p:nvSpPr>
        <p:spPr>
          <a:xfrm>
            <a:off x="663480" y="1582560"/>
            <a:ext cx="561816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Check-In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Erzähle den anderen, woher und wie du hergekommen bist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Ergänze die Reisekarte innen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 lvl="1" marL="44604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ergänze den Pfeil wie du hergekommen bist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 lvl="1" marL="44604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zum Bild der Etappe: Name der Etappe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Besichtigung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chau dir im Reiseführer an, was an dieser Reiseetappe (mit dir) passiert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chreibe dir das Wichtigste (also max. zwei Stichpunkte) davon in deine Reisekarte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olltest du noch etwas Zeit vor dem Check-Out haben, bearbeite die Aufgaben 1 und 2 unte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Check-Out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Als Stickstoffatom hast du keinen freien Willen, sondern der Zufall entscheidet: Meistens musst du würfeln, um ein Ticket zur Weiterfahrt zu bekomme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Beschrifte das Transportmittel (Reisekarte innen: Schiff, Zug, Flugzeug): meist Summenformel und Name des Moleküls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Orientiere dich an den Bildern auf den Türmen der Etappe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78" name="Gruppierung 1"/>
          <p:cNvGrpSpPr/>
          <p:nvPr/>
        </p:nvGrpSpPr>
        <p:grpSpPr>
          <a:xfrm>
            <a:off x="401760" y="4270320"/>
            <a:ext cx="6051600" cy="965160"/>
            <a:chOff x="401760" y="4270320"/>
            <a:chExt cx="6051600" cy="965160"/>
          </a:xfrm>
        </p:grpSpPr>
        <p:pic>
          <p:nvPicPr>
            <p:cNvPr id="79" name="Bild 7" descr="IMG_0428.png"/>
            <p:cNvPicPr/>
            <p:nvPr/>
          </p:nvPicPr>
          <p:blipFill>
            <a:blip r:embed="rId6"/>
            <a:stretch/>
          </p:blipFill>
          <p:spPr>
            <a:xfrm>
              <a:off x="5848200" y="4270320"/>
              <a:ext cx="605160" cy="91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Bild 8" descr="IMG_0426.png"/>
            <p:cNvPicPr/>
            <p:nvPr/>
          </p:nvPicPr>
          <p:blipFill>
            <a:blip r:embed="rId7"/>
            <a:stretch/>
          </p:blipFill>
          <p:spPr>
            <a:xfrm>
              <a:off x="2511000" y="4795920"/>
              <a:ext cx="939240" cy="3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Bild 9" descr="N-Fixierer.png"/>
            <p:cNvPicPr/>
            <p:nvPr/>
          </p:nvPicPr>
          <p:blipFill>
            <a:blip r:embed="rId8"/>
            <a:stretch/>
          </p:blipFill>
          <p:spPr>
            <a:xfrm>
              <a:off x="1668960" y="4688640"/>
              <a:ext cx="774360" cy="54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Bild 10" descr="IMG_0427.png"/>
            <p:cNvPicPr/>
            <p:nvPr/>
          </p:nvPicPr>
          <p:blipFill>
            <a:blip r:embed="rId9"/>
            <a:stretch/>
          </p:blipFill>
          <p:spPr>
            <a:xfrm>
              <a:off x="4200120" y="4507920"/>
              <a:ext cx="64224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Bild 11" descr="nitrifizierer.png"/>
            <p:cNvPicPr/>
            <p:nvPr/>
          </p:nvPicPr>
          <p:blipFill>
            <a:blip r:embed="rId10"/>
            <a:stretch/>
          </p:blipFill>
          <p:spPr>
            <a:xfrm>
              <a:off x="3500640" y="4655160"/>
              <a:ext cx="69084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Bild 12" descr="denitrifizierer.png"/>
            <p:cNvPicPr/>
            <p:nvPr/>
          </p:nvPicPr>
          <p:blipFill>
            <a:blip r:embed="rId11"/>
            <a:stretch/>
          </p:blipFill>
          <p:spPr>
            <a:xfrm>
              <a:off x="4920480" y="4642200"/>
              <a:ext cx="82692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Bild 13" descr="IMG_0429.png"/>
            <p:cNvPicPr/>
            <p:nvPr/>
          </p:nvPicPr>
          <p:blipFill>
            <a:blip r:embed="rId12"/>
            <a:stretch/>
          </p:blipFill>
          <p:spPr>
            <a:xfrm>
              <a:off x="401760" y="4772520"/>
              <a:ext cx="1202400" cy="42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Text Box 59"/>
          <p:cNvSpPr/>
          <p:nvPr/>
        </p:nvSpPr>
        <p:spPr>
          <a:xfrm>
            <a:off x="154080" y="5653080"/>
            <a:ext cx="654192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Aufgaben für „Zwischendurch“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1.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Die Transportmittel Schiff, Zug und Flugzeug sind Modelle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a)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eschreibe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, wofür die drei Transportmittel jeweils stehen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Knifflig: b)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Jedes Modell hat seine Grenzen: Als Passagier bist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du z. B. nicht ein Teil vom Zug oder Flugzeug. </a:t>
            </a: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Nenne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einige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dieser Grenze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2.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Wenn du schon bei den Tieren warst: </a:t>
            </a: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eschreibe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, wie es möglich ist, dass Tiere stickstoffhaltiges organisches Material (der „Zug“) sowohl aufnehmen, als auch abgeben könne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87" name="Bild 1" descr="IMG_0420.png"/>
          <p:cNvPicPr/>
          <p:nvPr/>
        </p:nvPicPr>
        <p:blipFill>
          <a:blip r:embed="rId13"/>
          <a:stretch/>
        </p:blipFill>
        <p:spPr>
          <a:xfrm>
            <a:off x="3808440" y="6453360"/>
            <a:ext cx="703080" cy="269640"/>
          </a:xfrm>
          <a:prstGeom prst="rect">
            <a:avLst/>
          </a:prstGeom>
          <a:ln w="0">
            <a:noFill/>
          </a:ln>
        </p:spPr>
      </p:pic>
      <p:pic>
        <p:nvPicPr>
          <p:cNvPr id="88" name="Bild 3" descr="IMG_0419.png"/>
          <p:cNvPicPr/>
          <p:nvPr/>
        </p:nvPicPr>
        <p:blipFill>
          <a:blip r:embed="rId14"/>
          <a:stretch/>
        </p:blipFill>
        <p:spPr>
          <a:xfrm>
            <a:off x="3886200" y="6802560"/>
            <a:ext cx="568440" cy="414360"/>
          </a:xfrm>
          <a:prstGeom prst="rect">
            <a:avLst/>
          </a:prstGeom>
          <a:ln w="0">
            <a:noFill/>
          </a:ln>
        </p:spPr>
      </p:pic>
      <p:pic>
        <p:nvPicPr>
          <p:cNvPr id="89" name="Bild 6" descr="IMG_0421.png"/>
          <p:cNvPicPr/>
          <p:nvPr/>
        </p:nvPicPr>
        <p:blipFill>
          <a:blip r:embed="rId15"/>
          <a:stretch/>
        </p:blipFill>
        <p:spPr>
          <a:xfrm>
            <a:off x="3892680" y="5962680"/>
            <a:ext cx="546120" cy="414360"/>
          </a:xfrm>
          <a:prstGeom prst="rect">
            <a:avLst/>
          </a:prstGeom>
          <a:ln w="0">
            <a:noFill/>
          </a:ln>
        </p:spPr>
      </p:pic>
      <p:sp>
        <p:nvSpPr>
          <p:cNvPr id="90" name="Line 4"/>
          <p:cNvSpPr/>
          <p:nvPr/>
        </p:nvSpPr>
        <p:spPr>
          <a:xfrm>
            <a:off x="241200" y="7251840"/>
            <a:ext cx="3476880" cy="1440"/>
          </a:xfrm>
          <a:prstGeom prst="line">
            <a:avLst/>
          </a:prstGeom>
          <a:ln w="648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91" name="Line 4"/>
          <p:cNvSpPr/>
          <p:nvPr/>
        </p:nvSpPr>
        <p:spPr>
          <a:xfrm>
            <a:off x="241200" y="7518240"/>
            <a:ext cx="6302520" cy="5040"/>
          </a:xfrm>
          <a:prstGeom prst="line">
            <a:avLst/>
          </a:prstGeom>
          <a:ln w="648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92" name="Line 4"/>
          <p:cNvSpPr/>
          <p:nvPr/>
        </p:nvSpPr>
        <p:spPr>
          <a:xfrm>
            <a:off x="241200" y="7772400"/>
            <a:ext cx="6302520" cy="6480"/>
          </a:xfrm>
          <a:prstGeom prst="line">
            <a:avLst/>
          </a:prstGeom>
          <a:ln w="648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49120" y="8988480"/>
            <a:ext cx="6245280" cy="0"/>
          </a:xfrm>
          <a:prstGeom prst="line">
            <a:avLst/>
          </a:prstGeom>
          <a:ln w="648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94" name="Gruppierung 36"/>
          <p:cNvGrpSpPr/>
          <p:nvPr/>
        </p:nvGrpSpPr>
        <p:grpSpPr>
          <a:xfrm>
            <a:off x="258840" y="9256680"/>
            <a:ext cx="6245280" cy="263520"/>
            <a:chOff x="258840" y="9256680"/>
            <a:chExt cx="6245280" cy="263520"/>
          </a:xfrm>
        </p:grpSpPr>
        <p:sp>
          <p:nvSpPr>
            <p:cNvPr id="95" name="Line 4"/>
            <p:cNvSpPr/>
            <p:nvPr/>
          </p:nvSpPr>
          <p:spPr>
            <a:xfrm>
              <a:off x="258840" y="9256680"/>
              <a:ext cx="62452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  <p:sp>
          <p:nvSpPr>
            <p:cNvPr id="96" name="Line 4"/>
            <p:cNvSpPr/>
            <p:nvPr/>
          </p:nvSpPr>
          <p:spPr>
            <a:xfrm>
              <a:off x="258840" y="9520200"/>
              <a:ext cx="62452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97" name="Line 4"/>
          <p:cNvSpPr/>
          <p:nvPr/>
        </p:nvSpPr>
        <p:spPr>
          <a:xfrm flipV="1">
            <a:off x="241200" y="8057880"/>
            <a:ext cx="6294600" cy="12600"/>
          </a:xfrm>
          <a:prstGeom prst="line">
            <a:avLst/>
          </a:prstGeom>
          <a:ln w="648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98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1002_ab_stickstoffkreislauf_auße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Texte und Zeichnungen: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2 von 4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99" name="Line 4"/>
          <p:cNvSpPr/>
          <p:nvPr/>
        </p:nvSpPr>
        <p:spPr>
          <a:xfrm>
            <a:off x="241200" y="8331120"/>
            <a:ext cx="6311880" cy="4680"/>
          </a:xfrm>
          <a:prstGeom prst="line">
            <a:avLst/>
          </a:prstGeom>
          <a:ln w="6480">
            <a:solidFill>
              <a:srgbClr val="000000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00" name="Text Box 59"/>
          <p:cNvSpPr/>
          <p:nvPr/>
        </p:nvSpPr>
        <p:spPr>
          <a:xfrm>
            <a:off x="2387520" y="5213520"/>
            <a:ext cx="213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Gute Reise!</a:t>
            </a:r>
            <a:endParaRPr b="0" lang="en-US" sz="12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4"/>
          <p:cNvSpPr/>
          <p:nvPr/>
        </p:nvSpPr>
        <p:spPr>
          <a:xfrm>
            <a:off x="241200" y="415800"/>
            <a:ext cx="636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49400" y="85680"/>
            <a:ext cx="43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Calibri"/>
                <a:ea typeface="Calibri"/>
              </a:rPr>
              <a:t>Reiseunterlagen für N-Atome –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  <a:ea typeface="Calibri"/>
              </a:rPr>
              <a:t>Lösungen</a:t>
            </a:r>
            <a:endParaRPr b="0" lang="en-US" sz="16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03" name="Text Box 59"/>
          <p:cNvSpPr/>
          <p:nvPr/>
        </p:nvSpPr>
        <p:spPr>
          <a:xfrm>
            <a:off x="154080" y="5289480"/>
            <a:ext cx="654192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808080"/>
                </a:solidFill>
                <a:latin typeface="Calibri"/>
                <a:ea typeface="Calibri"/>
              </a:rPr>
              <a:t>Gute Reise!</a:t>
            </a:r>
            <a:endParaRPr b="0" lang="en-US" sz="12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	</a:t>
            </a: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Aufgaben für „Zwischendurch“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1.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Die Transportmittel Schiff, Zug und Flugzeug sind Modelle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a)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</a:t>
            </a:r>
            <a:r>
              <a:rPr b="1" i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Beschreibe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, wofür die drei Transportmittel jeweils stehen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Knifflig: b)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Jedes Modell hat seine Grenzen: Als Passagier bist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du z. B. nicht ein Teil vom Zug oder Flugzeug. </a:t>
            </a:r>
            <a:r>
              <a:rPr b="1" i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Nenne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einige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dieser Grenze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2.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Wenn du schon bei den Tieren warst: </a:t>
            </a:r>
            <a:r>
              <a:rPr b="1" i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Beschreibe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, wie es möglich ist, dass Tiere stickstoffhaltiges organisches Material (der „Zug“) sowohl aufnehmen, als auch abgeben könne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04" name="Bild 1" descr="IMG_0420.png"/>
          <p:cNvPicPr/>
          <p:nvPr/>
        </p:nvPicPr>
        <p:blipFill>
          <a:blip r:embed="rId1"/>
          <a:stretch/>
        </p:blipFill>
        <p:spPr>
          <a:xfrm>
            <a:off x="3808440" y="6453360"/>
            <a:ext cx="703080" cy="269640"/>
          </a:xfrm>
          <a:prstGeom prst="rect">
            <a:avLst/>
          </a:prstGeom>
          <a:ln w="0">
            <a:noFill/>
          </a:ln>
        </p:spPr>
      </p:pic>
      <p:pic>
        <p:nvPicPr>
          <p:cNvPr id="105" name="Bild 3" descr="IMG_0419.png"/>
          <p:cNvPicPr/>
          <p:nvPr/>
        </p:nvPicPr>
        <p:blipFill>
          <a:blip r:embed="rId2"/>
          <a:stretch/>
        </p:blipFill>
        <p:spPr>
          <a:xfrm>
            <a:off x="3886200" y="6802560"/>
            <a:ext cx="568440" cy="414360"/>
          </a:xfrm>
          <a:prstGeom prst="rect">
            <a:avLst/>
          </a:prstGeom>
          <a:ln w="0">
            <a:noFill/>
          </a:ln>
        </p:spPr>
      </p:pic>
      <p:pic>
        <p:nvPicPr>
          <p:cNvPr id="106" name="Bild 6" descr="IMG_0421.png"/>
          <p:cNvPicPr/>
          <p:nvPr/>
        </p:nvPicPr>
        <p:blipFill>
          <a:blip r:embed="rId3"/>
          <a:stretch/>
        </p:blipFill>
        <p:spPr>
          <a:xfrm>
            <a:off x="3892680" y="5962680"/>
            <a:ext cx="546120" cy="414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1002_ab_stickstoffkreislauf_auße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Texte und Zeichnungen: 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Seite 3 von 4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08" name="Text Box 59"/>
          <p:cNvSpPr/>
          <p:nvPr/>
        </p:nvSpPr>
        <p:spPr>
          <a:xfrm>
            <a:off x="4475160" y="6056280"/>
            <a:ext cx="228600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N-Verbindung in wässriger Lösung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... als fester Stoff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... als gasförmiger Stoff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09" name="Text Box 59"/>
          <p:cNvSpPr/>
          <p:nvPr/>
        </p:nvSpPr>
        <p:spPr>
          <a:xfrm>
            <a:off x="157320" y="7207200"/>
            <a:ext cx="6419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N-Atom ist Teil des Nitrats, Passagier nicht Teil des Schiffes.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Transportmittel: gesteuert, benötigen Energie, N-Verbindungen zufällig, benötigen (i. d. R.) keine Energie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Schiff fährt auf dem Wasser, N-Verbindungen sind im Wasser gelöst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10" name="Text Box 59"/>
          <p:cNvSpPr/>
          <p:nvPr/>
        </p:nvSpPr>
        <p:spPr>
          <a:xfrm>
            <a:off x="166680" y="8836200"/>
            <a:ext cx="6589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Aufnahme: Tiere fressen Pflanzen oder andere Tiere (und somit N-Verbindungen)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Abgabe: Tiere werden gefressen oder tote Tiere werden von Destruenten zersetzt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11" name="Bild 28" descr="Rahmen.eps"/>
          <p:cNvPicPr/>
          <p:nvPr/>
        </p:nvPicPr>
        <p:blipFill>
          <a:blip r:embed="rId4"/>
          <a:stretch/>
        </p:blipFill>
        <p:spPr>
          <a:xfrm flipH="1">
            <a:off x="123480" y="351000"/>
            <a:ext cx="6630840" cy="5460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9"/>
          <p:cNvSpPr/>
          <p:nvPr/>
        </p:nvSpPr>
        <p:spPr>
          <a:xfrm>
            <a:off x="341280" y="635040"/>
            <a:ext cx="600084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100" spc="-1" strike="noStrike">
                <a:solidFill>
                  <a:srgbClr val="808080"/>
                </a:solidFill>
                <a:latin typeface="Calibri"/>
                <a:ea typeface="Calibri"/>
              </a:rPr>
              <a:t>Liebes Stickstoff-Atom,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100" spc="-1" strike="noStrike">
                <a:solidFill>
                  <a:srgbClr val="808080"/>
                </a:solidFill>
                <a:latin typeface="Calibri"/>
                <a:ea typeface="Calibri"/>
              </a:rPr>
              <a:t>herzlich willkommen auf deiner Weltreise zu Wasser</a:t>
            </a:r>
            <a:r>
              <a:rPr b="1" i="1" lang="de-DE" sz="1100" spc="-1" strike="noStrike">
                <a:solidFill>
                  <a:srgbClr val="808080"/>
                </a:solidFill>
                <a:latin typeface="Calibri"/>
                <a:ea typeface="Calibri"/>
              </a:rPr>
              <a:t>	</a:t>
            </a:r>
            <a:r>
              <a:rPr b="1" i="1" lang="de-DE" sz="1100" spc="-1" strike="noStrike">
                <a:solidFill>
                  <a:srgbClr val="808080"/>
                </a:solidFill>
                <a:latin typeface="Calibri"/>
                <a:ea typeface="Calibri"/>
              </a:rPr>
              <a:t>, Land</a:t>
            </a:r>
            <a:r>
              <a:rPr b="1" i="1" lang="de-DE" sz="1100" spc="-1" strike="noStrike">
                <a:solidFill>
                  <a:srgbClr val="808080"/>
                </a:solidFill>
                <a:latin typeface="Calibri"/>
                <a:ea typeface="Calibri"/>
              </a:rPr>
              <a:t>	</a:t>
            </a:r>
            <a:r>
              <a:rPr b="1" i="1" lang="de-DE" sz="1100" spc="-1" strike="noStrike">
                <a:solidFill>
                  <a:srgbClr val="808080"/>
                </a:solidFill>
                <a:latin typeface="Calibri"/>
                <a:ea typeface="Calibri"/>
              </a:rPr>
              <a:t>         und Luft!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An jeder Etappe deiner Reise erwarten dich 3 Abschnitte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13" name="Bild 1" descr="IMG_0420.png"/>
          <p:cNvPicPr/>
          <p:nvPr/>
        </p:nvPicPr>
        <p:blipFill>
          <a:blip r:embed="rId5"/>
          <a:stretch/>
        </p:blipFill>
        <p:spPr>
          <a:xfrm>
            <a:off x="4514760" y="934920"/>
            <a:ext cx="703440" cy="271440"/>
          </a:xfrm>
          <a:prstGeom prst="rect">
            <a:avLst/>
          </a:prstGeom>
          <a:ln w="0">
            <a:noFill/>
          </a:ln>
        </p:spPr>
      </p:pic>
      <p:pic>
        <p:nvPicPr>
          <p:cNvPr id="114" name="Bild 3" descr="IMG_0419.png"/>
          <p:cNvPicPr/>
          <p:nvPr/>
        </p:nvPicPr>
        <p:blipFill>
          <a:blip r:embed="rId6"/>
          <a:stretch/>
        </p:blipFill>
        <p:spPr>
          <a:xfrm>
            <a:off x="5896080" y="893880"/>
            <a:ext cx="568080" cy="412560"/>
          </a:xfrm>
          <a:prstGeom prst="rect">
            <a:avLst/>
          </a:prstGeom>
          <a:ln w="0">
            <a:noFill/>
          </a:ln>
        </p:spPr>
      </p:pic>
      <p:pic>
        <p:nvPicPr>
          <p:cNvPr id="115" name="Bild 6" descr="IMG_0421.png"/>
          <p:cNvPicPr/>
          <p:nvPr/>
        </p:nvPicPr>
        <p:blipFill>
          <a:blip r:embed="rId7"/>
          <a:stretch/>
        </p:blipFill>
        <p:spPr>
          <a:xfrm>
            <a:off x="3511440" y="787320"/>
            <a:ext cx="544680" cy="414360"/>
          </a:xfrm>
          <a:prstGeom prst="rect">
            <a:avLst/>
          </a:prstGeom>
          <a:ln w="0">
            <a:noFill/>
          </a:ln>
        </p:spPr>
      </p:pic>
      <p:pic>
        <p:nvPicPr>
          <p:cNvPr id="116" name="Gruppierung 14" descr=""/>
          <p:cNvPicPr/>
          <p:nvPr/>
        </p:nvPicPr>
        <p:blipFill>
          <a:blip r:embed="rId8"/>
          <a:stretch/>
        </p:blipFill>
        <p:spPr>
          <a:xfrm>
            <a:off x="384120" y="1560600"/>
            <a:ext cx="347760" cy="3176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9"/>
          <p:cNvSpPr/>
          <p:nvPr/>
        </p:nvSpPr>
        <p:spPr>
          <a:xfrm>
            <a:off x="663480" y="1582560"/>
            <a:ext cx="561816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Calibri"/>
                <a:ea typeface="Calibri"/>
              </a:rPr>
              <a:t>Check-In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libri"/>
                <a:ea typeface="Calibri"/>
              </a:rPr>
              <a:t>Erzähle den anderen, woher und wie du hergekommen bist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libri"/>
                <a:ea typeface="Calibri"/>
              </a:rPr>
              <a:t>Ergänze die Reisekarte innen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 lvl="1" marL="446040" indent="-17928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libri"/>
                <a:ea typeface="Calibri"/>
              </a:rPr>
              <a:t>ergänze den Pfeil wie du hergekommen bist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 lvl="1" marL="446040" indent="-17928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libri"/>
                <a:ea typeface="Calibri"/>
              </a:rPr>
              <a:t>zum Bild der Etappe: Name der Etappe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Calibri"/>
                <a:ea typeface="Calibri"/>
              </a:rPr>
              <a:t>Besichtigung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libri"/>
                <a:ea typeface="Calibri"/>
              </a:rPr>
              <a:t>Schau dir im Reiseführer an, was an dieser Reiseetappe (mit dir) passiert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libri"/>
                <a:ea typeface="Calibri"/>
              </a:rPr>
              <a:t>Schreibe dir das Wichtigste (also max. zwei Stichpunkte) davon in deine Reisekarte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libri"/>
                <a:ea typeface="Calibri"/>
              </a:rPr>
              <a:t>Solltest du noch etwas Zeit vor dem Check-Out haben, bearbeite die Aufgaben 1 und 2 unte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Calibri"/>
                <a:ea typeface="Calibri"/>
              </a:rPr>
              <a:t>Check-Out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libri"/>
                <a:ea typeface="Calibri"/>
              </a:rPr>
              <a:t>Als Stickstoffatom hast du keinen freien Willen, sondern der Zufall entscheidet: Meistens musst du würfeln, um ein Ticket zur Weiterfahrt zu bekomme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libri"/>
                <a:ea typeface="Calibri"/>
              </a:rPr>
              <a:t>Beschrifte das Transportmittel (Reisekarte innen: Schiff, Zug, Flugzeug): meist Summenformel und Name des Moleküls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libri"/>
                <a:ea typeface="Calibri"/>
              </a:rPr>
              <a:t>Orientiere dich an den Bildern auf den Türmen der Etappe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118" name="Gruppierung 1"/>
          <p:cNvGrpSpPr/>
          <p:nvPr/>
        </p:nvGrpSpPr>
        <p:grpSpPr>
          <a:xfrm>
            <a:off x="401760" y="4270320"/>
            <a:ext cx="6051600" cy="965160"/>
            <a:chOff x="401760" y="4270320"/>
            <a:chExt cx="6051600" cy="965160"/>
          </a:xfrm>
        </p:grpSpPr>
        <p:pic>
          <p:nvPicPr>
            <p:cNvPr id="119" name="Bild 7" descr="IMG_0428.png"/>
            <p:cNvPicPr/>
            <p:nvPr/>
          </p:nvPicPr>
          <p:blipFill>
            <a:blip r:embed="rId9"/>
            <a:stretch/>
          </p:blipFill>
          <p:spPr>
            <a:xfrm>
              <a:off x="5848200" y="4270320"/>
              <a:ext cx="605160" cy="91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Bild 8" descr="IMG_0426.png"/>
            <p:cNvPicPr/>
            <p:nvPr/>
          </p:nvPicPr>
          <p:blipFill>
            <a:blip r:embed="rId10"/>
            <a:stretch/>
          </p:blipFill>
          <p:spPr>
            <a:xfrm>
              <a:off x="2511000" y="4795920"/>
              <a:ext cx="939240" cy="3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Bild 9" descr="N-Fixierer.png"/>
            <p:cNvPicPr/>
            <p:nvPr/>
          </p:nvPicPr>
          <p:blipFill>
            <a:blip r:embed="rId11"/>
            <a:stretch/>
          </p:blipFill>
          <p:spPr>
            <a:xfrm>
              <a:off x="1668960" y="4688640"/>
              <a:ext cx="774360" cy="54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Bild 10" descr="IMG_0427.png"/>
            <p:cNvPicPr/>
            <p:nvPr/>
          </p:nvPicPr>
          <p:blipFill>
            <a:blip r:embed="rId12"/>
            <a:stretch/>
          </p:blipFill>
          <p:spPr>
            <a:xfrm>
              <a:off x="4200120" y="4507920"/>
              <a:ext cx="64224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Bild 11" descr="nitrifizierer.png"/>
            <p:cNvPicPr/>
            <p:nvPr/>
          </p:nvPicPr>
          <p:blipFill>
            <a:blip r:embed="rId13"/>
            <a:stretch/>
          </p:blipFill>
          <p:spPr>
            <a:xfrm>
              <a:off x="3500640" y="4655160"/>
              <a:ext cx="69084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Bild 12" descr="denitrifizierer.png"/>
            <p:cNvPicPr/>
            <p:nvPr/>
          </p:nvPicPr>
          <p:blipFill>
            <a:blip r:embed="rId14"/>
            <a:stretch/>
          </p:blipFill>
          <p:spPr>
            <a:xfrm>
              <a:off x="4920480" y="4642200"/>
              <a:ext cx="82692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Bild 13" descr="IMG_0429.png"/>
            <p:cNvPicPr/>
            <p:nvPr/>
          </p:nvPicPr>
          <p:blipFill>
            <a:blip r:embed="rId15"/>
            <a:stretch/>
          </p:blipFill>
          <p:spPr>
            <a:xfrm>
              <a:off x="401760" y="4772520"/>
              <a:ext cx="1202400" cy="42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9"/>
          <p:cNvSpPr/>
          <p:nvPr/>
        </p:nvSpPr>
        <p:spPr>
          <a:xfrm>
            <a:off x="150840" y="498600"/>
            <a:ext cx="21034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3. 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Auf deiner Reisekarte innen hast du den sogenannten Stickstoff-Kreislauf gezeichnet. Man kann diesen Kreislauf auch anders darstelle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Vervollständige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das Schema mit beschrifteten Pfeilen wie in den beiden Beispiele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4. 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Rhizobien sind Bakterien, die die Wurzelzellen von Schmetterlingsblütlern (Klee, Bohnen, Erbsen, Soja, Luzerne, ..) befallen. Die infizierten Wurzelzellen wachsen zu Wurzelknöllche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Folgende mehrstufige biochemische Reaktion findet in den Rhizobien statt: 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160200" y="84240"/>
            <a:ext cx="457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alibri"/>
                <a:ea typeface="Calibri"/>
              </a:rPr>
              <a:t>Stickstoff-Kreislauf –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ösungen</a:t>
            </a:r>
            <a:endParaRPr b="0" lang="en-US" sz="16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241200" y="417600"/>
            <a:ext cx="642780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29" name="Text Box 59"/>
          <p:cNvSpPr/>
          <p:nvPr/>
        </p:nvSpPr>
        <p:spPr>
          <a:xfrm>
            <a:off x="149400" y="3751200"/>
            <a:ext cx="344484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N</a:t>
            </a:r>
            <a:r>
              <a:rPr b="0" lang="de-DE" sz="1000" spc="-1" strike="noStrike" baseline="-25000">
                <a:solidFill>
                  <a:srgbClr val="808080"/>
                </a:solidFill>
                <a:latin typeface="Calibri"/>
                <a:ea typeface="Calibri"/>
              </a:rPr>
              <a:t>2 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+ 8e</a:t>
            </a:r>
            <a:r>
              <a:rPr b="0" lang="de-DE" sz="1000" spc="-1" strike="noStrike" baseline="30000">
                <a:solidFill>
                  <a:srgbClr val="808080"/>
                </a:solidFill>
                <a:latin typeface="Calibri"/>
                <a:ea typeface="Calibri"/>
              </a:rPr>
              <a:t>- 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+ 8H</a:t>
            </a:r>
            <a:r>
              <a:rPr b="0" lang="de-DE" sz="1000" spc="-1" strike="noStrike" baseline="30000">
                <a:solidFill>
                  <a:srgbClr val="808080"/>
                </a:solidFill>
                <a:latin typeface="Calibri"/>
                <a:ea typeface="Calibri"/>
              </a:rPr>
              <a:t>+ 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+ 16ATP            2NH</a:t>
            </a:r>
            <a:r>
              <a:rPr b="0" lang="de-DE" sz="1000" spc="-1" strike="noStrike" baseline="-25000">
                <a:solidFill>
                  <a:srgbClr val="808080"/>
                </a:solidFill>
                <a:latin typeface="Calibri"/>
                <a:ea typeface="Calibri"/>
              </a:rPr>
              <a:t>3 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+ H</a:t>
            </a:r>
            <a:r>
              <a:rPr b="0" lang="de-DE" sz="1000" spc="-1" strike="noStrike" baseline="-25000">
                <a:solidFill>
                  <a:srgbClr val="808080"/>
                </a:solidFill>
                <a:latin typeface="Calibri"/>
                <a:ea typeface="Calibri"/>
              </a:rPr>
              <a:t>2 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+ 16ADP + 16P</a:t>
            </a:r>
            <a:r>
              <a:rPr b="0" lang="de-DE" sz="1000" spc="-1" strike="noStrike" baseline="-25000">
                <a:solidFill>
                  <a:srgbClr val="808080"/>
                </a:solidFill>
                <a:latin typeface="Calibri"/>
                <a:ea typeface="Calibri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Pro Stickstoffatom sind also 8 ATP-Moleküle (chemische Energie) notwendig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a)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Parasitismus oder </a:t>
            </a:r>
            <a:r>
              <a:rPr b="1" lang="de-DE" sz="11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Symbiose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? </a:t>
            </a:r>
            <a:r>
              <a:rPr b="1" i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Unterstreiche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b)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</a:t>
            </a:r>
            <a:r>
              <a:rPr b="1" i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Begründe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deine Wahl, indem du die Lücken ergänzt: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Die Rhizobien versorgen die Pflanze mit ................................., die Pflanze versorgt die Rhizobien mit ...................................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aus der Fotosynthese, die dann durch Zellatmung in ................ umgewandelt werden kan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c)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</a:t>
            </a:r>
            <a:r>
              <a:rPr b="1" i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Beschreibe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und </a:t>
            </a:r>
            <a:r>
              <a:rPr b="1" i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erkläre</a:t>
            </a: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die Aussagen des unteren Schaubildes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30" name="Gerade Verbindung 25"/>
          <p:cNvSpPr/>
          <p:nvPr/>
        </p:nvSpPr>
        <p:spPr>
          <a:xfrm>
            <a:off x="1414440" y="3886200"/>
            <a:ext cx="2444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31" name="Bild 8" descr="IMG_0438.png"/>
          <p:cNvPicPr/>
          <p:nvPr/>
        </p:nvPicPr>
        <p:blipFill>
          <a:blip r:embed="rId1"/>
          <a:stretch/>
        </p:blipFill>
        <p:spPr>
          <a:xfrm>
            <a:off x="379440" y="6670800"/>
            <a:ext cx="2685960" cy="2898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9"/>
          <p:cNvSpPr/>
          <p:nvPr/>
        </p:nvSpPr>
        <p:spPr>
          <a:xfrm rot="16200000">
            <a:off x="-1054440" y="8005680"/>
            <a:ext cx="2738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global fixierter Stickstoff (10</a:t>
            </a:r>
            <a:r>
              <a:rPr b="0" lang="de-DE" sz="1000" spc="-1" strike="noStrike" baseline="30000">
                <a:solidFill>
                  <a:srgbClr val="808080"/>
                </a:solidFill>
                <a:latin typeface="Calibri"/>
                <a:ea typeface="Calibri"/>
              </a:rPr>
              <a:t>12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g N</a:t>
            </a:r>
            <a:r>
              <a:rPr b="0" lang="de-DE" sz="1000" spc="-1" strike="noStrike" baseline="-25000">
                <a:solidFill>
                  <a:srgbClr val="808080"/>
                </a:solidFill>
                <a:latin typeface="Calibri"/>
                <a:ea typeface="Calibri"/>
              </a:rPr>
              <a:t>2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/Jahr)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33" name="Text Box 59"/>
          <p:cNvSpPr/>
          <p:nvPr/>
        </p:nvSpPr>
        <p:spPr>
          <a:xfrm>
            <a:off x="2552760" y="8613720"/>
            <a:ext cx="129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natürlich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34" name="Text Box 59"/>
          <p:cNvSpPr/>
          <p:nvPr/>
        </p:nvSpPr>
        <p:spPr>
          <a:xfrm>
            <a:off x="2830680" y="8001000"/>
            <a:ext cx="112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vom Menschen verursacht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35" name="Text Box 59"/>
          <p:cNvSpPr/>
          <p:nvPr/>
        </p:nvSpPr>
        <p:spPr>
          <a:xfrm rot="20013600">
            <a:off x="1106280" y="8682120"/>
            <a:ext cx="129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Stickstofffixierung durch Bakterien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36" name="Text Box 59"/>
          <p:cNvSpPr/>
          <p:nvPr/>
        </p:nvSpPr>
        <p:spPr>
          <a:xfrm>
            <a:off x="1123920" y="8204040"/>
            <a:ext cx="129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Blitze, Brände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37" name="Text Box 59"/>
          <p:cNvSpPr/>
          <p:nvPr/>
        </p:nvSpPr>
        <p:spPr>
          <a:xfrm>
            <a:off x="485640" y="8045280"/>
            <a:ext cx="165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Gründüngung durch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38" name="Text Box 59"/>
          <p:cNvSpPr/>
          <p:nvPr/>
        </p:nvSpPr>
        <p:spPr>
          <a:xfrm rot="19596000">
            <a:off x="1778400" y="7862760"/>
            <a:ext cx="80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Schmetter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39" name="Text Box 59"/>
          <p:cNvSpPr/>
          <p:nvPr/>
        </p:nvSpPr>
        <p:spPr>
          <a:xfrm rot="19376400">
            <a:off x="1916280" y="7848360"/>
            <a:ext cx="129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Kunstdünger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40" name="Text Box 59"/>
          <p:cNvSpPr/>
          <p:nvPr/>
        </p:nvSpPr>
        <p:spPr>
          <a:xfrm>
            <a:off x="932040" y="6902280"/>
            <a:ext cx="1688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Verbrennung fossiler Energieträger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41" name="Line 2"/>
          <p:cNvSpPr/>
          <p:nvPr/>
        </p:nvSpPr>
        <p:spPr>
          <a:xfrm>
            <a:off x="2222640" y="7197840"/>
            <a:ext cx="287280" cy="20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42" name="Text Box 59"/>
          <p:cNvSpPr/>
          <p:nvPr/>
        </p:nvSpPr>
        <p:spPr>
          <a:xfrm>
            <a:off x="2481120" y="9366120"/>
            <a:ext cx="129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Jahr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43" name="Text Box 59"/>
          <p:cNvSpPr/>
          <p:nvPr/>
        </p:nvSpPr>
        <p:spPr>
          <a:xfrm rot="18645000">
            <a:off x="2046600" y="7510680"/>
            <a:ext cx="10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lingsblütler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44" name="Bild 6" descr="IMG_0435.png"/>
          <p:cNvPicPr/>
          <p:nvPr/>
        </p:nvPicPr>
        <p:blipFill>
          <a:blip r:embed="rId2"/>
          <a:stretch/>
        </p:blipFill>
        <p:spPr>
          <a:xfrm>
            <a:off x="2763720" y="487440"/>
            <a:ext cx="3951360" cy="3016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9"/>
          <p:cNvSpPr/>
          <p:nvPr/>
        </p:nvSpPr>
        <p:spPr>
          <a:xfrm>
            <a:off x="3801960" y="5438880"/>
            <a:ext cx="2860920" cy="36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Beschreibung: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natürliche Umwandlung von Luftstickstoff bleibt gleich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Blitze und Brände können dies auch tun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Anbau von Schmetterlingsblütler wird als Gründüngung bezeichnet, wird von Menschen verursacht, bleibt gleich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seit 1920 wird durch Verbrennung fossiler Energieträger, seit 1940 durch Kunstdünger zunehmend N</a:t>
            </a:r>
            <a:r>
              <a:rPr b="1" lang="de-DE" sz="1100" spc="-1" strike="noStrike" baseline="-25000">
                <a:solidFill>
                  <a:srgbClr val="ff0000"/>
                </a:solidFill>
                <a:latin typeface="Calibri"/>
                <a:ea typeface="Calibri"/>
              </a:rPr>
              <a:t>2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 fixiert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insgesamt nimmt die Gesamtmenge an fixiertem Stickstoff zu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Erklärung: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durch den Anbau von Schmetterlingsblütlern wird durch die Rhizobien-Symbiose Stickstoff den Pflanzen/dem Acker zugeführt (=Düngung)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Hitze durch Blitze/Brände/Verbrennung scheint ebenso Luftstickstoff umwandeln zu können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46" name="Text Box 59"/>
          <p:cNvSpPr/>
          <p:nvPr/>
        </p:nvSpPr>
        <p:spPr>
          <a:xfrm>
            <a:off x="2438280" y="5083200"/>
            <a:ext cx="95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Ammonium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2438280" y="5311800"/>
            <a:ext cx="95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Glucose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48" name="Text Box 59"/>
          <p:cNvSpPr/>
          <p:nvPr/>
        </p:nvSpPr>
        <p:spPr>
          <a:xfrm>
            <a:off x="3014640" y="5548320"/>
            <a:ext cx="95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ATP</a:t>
            </a:r>
            <a:endParaRPr b="0" lang="en-US" sz="11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49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1002_ab_stickstoffkreislauf_auße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4 von 4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50" name="Rechteck 57"/>
          <p:cNvSpPr/>
          <p:nvPr/>
        </p:nvSpPr>
        <p:spPr>
          <a:xfrm>
            <a:off x="3268800" y="9094680"/>
            <a:ext cx="32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Calibri"/>
                <a:ea typeface="Calibri"/>
              </a:rPr>
              <a:t>verändert nach: Markl Biologie Oberstufe, 1. Auflage, 2018, ISBN: 978-3-12-150050-5, mit freundlicher Genehmigung des Ernst Klett Verlages, Stuttgart 2018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4:09:47Z</dcterms:created>
  <dc:creator>Huni</dc:creator>
  <dc:description/>
  <dc:language>en-US</dc:language>
  <cp:lastModifiedBy>Hunor Karsa</cp:lastModifiedBy>
  <cp:lastPrinted>2018-09-30T06:58:20Z</cp:lastPrinted>
  <dcterms:modified xsi:type="dcterms:W3CDTF">2018-12-08T12:52:19Z</dcterms:modified>
  <cp:revision>242</cp:revision>
  <dc:subject/>
  <dc:title>Folie 1</dc:title>
</cp:coreProperties>
</file>