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648-69EA-4A26-8DDF-855D3F33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7BC-6A9D-41F8-A1B5-D9D580FA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ED4-5122-4BFB-A405-3BC48E2E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AB5-9A45-4249-969A-7C635604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8EA-298D-45D6-9D8A-FEB2D375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EC9-D6D8-4C4E-8389-FB20372B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08F-1594-43A6-A618-968E67A3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6A2-F124-48F2-868A-944280FB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B3B-75A7-43C8-B737-607B74A4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10B-5515-410B-8814-033C747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4C8-D6D4-4FFB-B529-E76EE95A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64D-AD3A-4F98-A918-EEA67D6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FD68-49F0-4315-9757-33CE167DE616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1" descr="IMG_0420.png"/>
          <p:cNvPicPr/>
          <p:nvPr/>
        </p:nvPicPr>
        <p:blipFill>
          <a:blip r:embed="rId1"/>
          <a:stretch/>
        </p:blipFill>
        <p:spPr>
          <a:xfrm>
            <a:off x="4064040" y="2330280"/>
            <a:ext cx="1662120" cy="641520"/>
          </a:xfrm>
          <a:prstGeom prst="rect">
            <a:avLst/>
          </a:prstGeom>
          <a:ln w="0">
            <a:noFill/>
          </a:ln>
        </p:spPr>
      </p:pic>
      <p:pic>
        <p:nvPicPr>
          <p:cNvPr id="42" name="Bild 3" descr="IMG_0419.png"/>
          <p:cNvPicPr/>
          <p:nvPr/>
        </p:nvPicPr>
        <p:blipFill>
          <a:blip r:embed="rId2"/>
          <a:stretch/>
        </p:blipFill>
        <p:spPr>
          <a:xfrm>
            <a:off x="4149720" y="668160"/>
            <a:ext cx="1344600" cy="979560"/>
          </a:xfrm>
          <a:prstGeom prst="rect">
            <a:avLst/>
          </a:prstGeom>
          <a:ln w="0">
            <a:noFill/>
          </a:ln>
        </p:spPr>
      </p:pic>
      <p:pic>
        <p:nvPicPr>
          <p:cNvPr id="43" name="Bild 6" descr="IMG_0421.png"/>
          <p:cNvPicPr/>
          <p:nvPr/>
        </p:nvPicPr>
        <p:blipFill>
          <a:blip r:embed="rId3"/>
          <a:stretch/>
        </p:blipFill>
        <p:spPr>
          <a:xfrm>
            <a:off x="2489040" y="2963880"/>
            <a:ext cx="1290960" cy="981000"/>
          </a:xfrm>
          <a:prstGeom prst="rect">
            <a:avLst/>
          </a:prstGeom>
          <a:ln w="0">
            <a:noFill/>
          </a:ln>
        </p:spPr>
      </p:pic>
      <p:pic>
        <p:nvPicPr>
          <p:cNvPr id="44" name="Bild 29" descr="IMG_0421.png"/>
          <p:cNvPicPr/>
          <p:nvPr/>
        </p:nvPicPr>
        <p:blipFill>
          <a:blip r:embed="rId4"/>
          <a:stretch/>
        </p:blipFill>
        <p:spPr>
          <a:xfrm>
            <a:off x="4335480" y="5181480"/>
            <a:ext cx="1290600" cy="982800"/>
          </a:xfrm>
          <a:prstGeom prst="rect">
            <a:avLst/>
          </a:prstGeom>
          <a:ln w="0">
            <a:noFill/>
          </a:ln>
        </p:spPr>
      </p:pic>
      <p:pic>
        <p:nvPicPr>
          <p:cNvPr id="45" name="Bild 30" descr="IMG_0421.png"/>
          <p:cNvPicPr/>
          <p:nvPr/>
        </p:nvPicPr>
        <p:blipFill>
          <a:blip r:embed="rId5"/>
          <a:stretch/>
        </p:blipFill>
        <p:spPr>
          <a:xfrm>
            <a:off x="6756480" y="4114800"/>
            <a:ext cx="1290600" cy="982800"/>
          </a:xfrm>
          <a:prstGeom prst="rect">
            <a:avLst/>
          </a:prstGeom>
          <a:ln w="0">
            <a:noFill/>
          </a:ln>
        </p:spPr>
      </p:pic>
      <p:sp>
        <p:nvSpPr>
          <p:cNvPr id="46" name="Freihandform 4"/>
          <p:cNvSpPr/>
          <p:nvPr/>
        </p:nvSpPr>
        <p:spPr>
          <a:xfrm>
            <a:off x="5486400" y="974880"/>
            <a:ext cx="3338640" cy="2165040"/>
          </a:xfrm>
          <a:custGeom>
            <a:avLst/>
            <a:gdLst/>
            <a:ahLst/>
            <a:rect l="l" t="t" r="r" b="b"/>
            <a:pathLst>
              <a:path w="3339190" h="2164080">
                <a:moveTo>
                  <a:pt x="3332480" y="2164080"/>
                </a:moveTo>
                <a:cubicBezTo>
                  <a:pt x="3351106" y="1470660"/>
                  <a:pt x="3369733" y="777240"/>
                  <a:pt x="2814320" y="416560"/>
                </a:cubicBezTo>
                <a:cubicBezTo>
                  <a:pt x="2258907" y="55880"/>
                  <a:pt x="418253" y="69427"/>
                  <a:pt x="0" y="0"/>
                </a:cubicBezTo>
              </a:path>
            </a:pathLst>
          </a:custGeom>
          <a:noFill/>
          <a:ln w="25560">
            <a:solidFill>
              <a:srgbClr val="80808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7" name="Freihandform 39"/>
          <p:cNvSpPr/>
          <p:nvPr/>
        </p:nvSpPr>
        <p:spPr>
          <a:xfrm rot="10800000">
            <a:off x="934920" y="3322440"/>
            <a:ext cx="3392640" cy="2579400"/>
          </a:xfrm>
          <a:custGeom>
            <a:avLst/>
            <a:gdLst/>
            <a:ahLst/>
            <a:rect l="l" t="t" r="r" b="b"/>
            <a:pathLst>
              <a:path w="3339190" h="2164080">
                <a:moveTo>
                  <a:pt x="3332480" y="2164080"/>
                </a:moveTo>
                <a:cubicBezTo>
                  <a:pt x="3351106" y="1470660"/>
                  <a:pt x="3369733" y="777240"/>
                  <a:pt x="2814320" y="416560"/>
                </a:cubicBezTo>
                <a:cubicBezTo>
                  <a:pt x="2258907" y="55880"/>
                  <a:pt x="418253" y="69427"/>
                  <a:pt x="0" y="0"/>
                </a:cubicBezTo>
              </a:path>
            </a:pathLst>
          </a:custGeom>
          <a:noFill/>
          <a:ln w="25560">
            <a:solidFill>
              <a:srgbClr val="80808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8" name="Freihandform 40"/>
          <p:cNvSpPr/>
          <p:nvPr/>
        </p:nvSpPr>
        <p:spPr>
          <a:xfrm rot="7116600">
            <a:off x="6879240" y="5369400"/>
            <a:ext cx="646200" cy="44640"/>
          </a:xfrm>
          <a:custGeom>
            <a:avLst/>
            <a:gdLst/>
            <a:ahLst/>
            <a:rect l="l" t="t" r="r" b="b"/>
            <a:pathLst>
              <a:path w="2314405" h="650192">
                <a:moveTo>
                  <a:pt x="2314405" y="650193"/>
                </a:moveTo>
                <a:cubicBezTo>
                  <a:pt x="1856708" y="324861"/>
                  <a:pt x="1661051" y="117382"/>
                  <a:pt x="1275317" y="23296"/>
                </a:cubicBezTo>
                <a:cubicBezTo>
                  <a:pt x="889583" y="-70790"/>
                  <a:pt x="418253" y="155102"/>
                  <a:pt x="0" y="85675"/>
                </a:cubicBezTo>
              </a:path>
            </a:pathLst>
          </a:custGeom>
          <a:noFill/>
          <a:ln w="25560">
            <a:solidFill>
              <a:srgbClr val="80808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9" name="Freihandform 41"/>
          <p:cNvSpPr/>
          <p:nvPr/>
        </p:nvSpPr>
        <p:spPr>
          <a:xfrm>
            <a:off x="5716440" y="2681280"/>
            <a:ext cx="690840" cy="58680"/>
          </a:xfrm>
          <a:custGeom>
            <a:avLst/>
            <a:gdLst/>
            <a:ahLst/>
            <a:rect l="l" t="t" r="r" b="b"/>
            <a:pathLst>
              <a:path w="2314405" h="650192">
                <a:moveTo>
                  <a:pt x="2314405" y="650193"/>
                </a:moveTo>
                <a:cubicBezTo>
                  <a:pt x="1856708" y="324861"/>
                  <a:pt x="1661051" y="117382"/>
                  <a:pt x="1275317" y="23296"/>
                </a:cubicBezTo>
                <a:cubicBezTo>
                  <a:pt x="889583" y="-70790"/>
                  <a:pt x="418253" y="155102"/>
                  <a:pt x="0" y="85675"/>
                </a:cubicBezTo>
              </a:path>
            </a:pathLst>
          </a:custGeom>
          <a:noFill/>
          <a:ln w="25560">
            <a:solidFill>
              <a:srgbClr val="80808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0" name="Freihandform 42"/>
          <p:cNvSpPr/>
          <p:nvPr/>
        </p:nvSpPr>
        <p:spPr>
          <a:xfrm rot="15768000">
            <a:off x="2844000" y="2949840"/>
            <a:ext cx="520560" cy="150840"/>
          </a:xfrm>
          <a:custGeom>
            <a:avLst/>
            <a:gdLst/>
            <a:ahLst/>
            <a:rect l="l" t="t" r="r" b="b"/>
            <a:pathLst>
              <a:path w="2314405" h="650192">
                <a:moveTo>
                  <a:pt x="2314405" y="650193"/>
                </a:moveTo>
                <a:cubicBezTo>
                  <a:pt x="1856708" y="324861"/>
                  <a:pt x="1661051" y="117382"/>
                  <a:pt x="1275317" y="23296"/>
                </a:cubicBezTo>
                <a:cubicBezTo>
                  <a:pt x="889583" y="-70790"/>
                  <a:pt x="418253" y="155102"/>
                  <a:pt x="0" y="85675"/>
                </a:cubicBezTo>
              </a:path>
            </a:pathLst>
          </a:custGeom>
          <a:noFill/>
          <a:ln w="25560">
            <a:solidFill>
              <a:srgbClr val="80808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1" name="Freihandform 43"/>
          <p:cNvSpPr/>
          <p:nvPr/>
        </p:nvSpPr>
        <p:spPr>
          <a:xfrm flipV="1" rot="12004800">
            <a:off x="3449160" y="2615040"/>
            <a:ext cx="617760" cy="180720"/>
          </a:xfrm>
          <a:custGeom>
            <a:avLst/>
            <a:gdLst/>
            <a:ahLst/>
            <a:rect l="l" t="t" r="r" b="b"/>
            <a:pathLst>
              <a:path w="2314405" h="650192">
                <a:moveTo>
                  <a:pt x="2314405" y="650193"/>
                </a:moveTo>
                <a:cubicBezTo>
                  <a:pt x="1856708" y="324861"/>
                  <a:pt x="1661051" y="117382"/>
                  <a:pt x="1275317" y="23296"/>
                </a:cubicBezTo>
                <a:cubicBezTo>
                  <a:pt x="889583" y="-70790"/>
                  <a:pt x="418253" y="155102"/>
                  <a:pt x="0" y="85675"/>
                </a:cubicBezTo>
              </a:path>
            </a:pathLst>
          </a:custGeom>
          <a:noFill/>
          <a:ln w="25560">
            <a:solidFill>
              <a:srgbClr val="80808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2" name="Freihandform 44"/>
          <p:cNvSpPr/>
          <p:nvPr/>
        </p:nvSpPr>
        <p:spPr>
          <a:xfrm rot="15191400">
            <a:off x="4237200" y="5027040"/>
            <a:ext cx="960120" cy="169560"/>
          </a:xfrm>
          <a:custGeom>
            <a:avLst/>
            <a:gdLst/>
            <a:ahLst/>
            <a:rect l="l" t="t" r="r" b="b"/>
            <a:pathLst>
              <a:path w="2314405" h="650192">
                <a:moveTo>
                  <a:pt x="2314405" y="650193"/>
                </a:moveTo>
                <a:cubicBezTo>
                  <a:pt x="1856708" y="324861"/>
                  <a:pt x="1661051" y="117382"/>
                  <a:pt x="1275317" y="23296"/>
                </a:cubicBezTo>
                <a:cubicBezTo>
                  <a:pt x="889583" y="-70790"/>
                  <a:pt x="418253" y="155102"/>
                  <a:pt x="0" y="85675"/>
                </a:cubicBezTo>
              </a:path>
            </a:pathLst>
          </a:custGeom>
          <a:noFill/>
          <a:ln w="25560">
            <a:solidFill>
              <a:srgbClr val="80808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3" name="Bild 7" descr="IMG_0428.png"/>
          <p:cNvPicPr/>
          <p:nvPr/>
        </p:nvPicPr>
        <p:blipFill>
          <a:blip r:embed="rId6"/>
          <a:stretch/>
        </p:blipFill>
        <p:spPr>
          <a:xfrm>
            <a:off x="6442200" y="2095560"/>
            <a:ext cx="726840" cy="1101600"/>
          </a:xfrm>
          <a:prstGeom prst="rect">
            <a:avLst/>
          </a:prstGeom>
          <a:ln w="0">
            <a:noFill/>
          </a:ln>
        </p:spPr>
      </p:pic>
      <p:pic>
        <p:nvPicPr>
          <p:cNvPr id="54" name="Bild 8" descr="IMG_0426.png"/>
          <p:cNvPicPr/>
          <p:nvPr/>
        </p:nvPicPr>
        <p:blipFill>
          <a:blip r:embed="rId7"/>
          <a:stretch/>
        </p:blipFill>
        <p:spPr>
          <a:xfrm>
            <a:off x="2324160" y="2319480"/>
            <a:ext cx="1128600" cy="425160"/>
          </a:xfrm>
          <a:prstGeom prst="rect">
            <a:avLst/>
          </a:prstGeom>
          <a:ln w="0">
            <a:noFill/>
          </a:ln>
        </p:spPr>
      </p:pic>
      <p:pic>
        <p:nvPicPr>
          <p:cNvPr id="55" name="Bild 9" descr="N-Fixierer.png"/>
          <p:cNvPicPr/>
          <p:nvPr/>
        </p:nvPicPr>
        <p:blipFill>
          <a:blip r:embed="rId8"/>
          <a:stretch/>
        </p:blipFill>
        <p:spPr>
          <a:xfrm>
            <a:off x="406440" y="2604960"/>
            <a:ext cx="930240" cy="657360"/>
          </a:xfrm>
          <a:prstGeom prst="rect">
            <a:avLst/>
          </a:prstGeom>
          <a:ln w="0">
            <a:noFill/>
          </a:ln>
        </p:spPr>
      </p:pic>
      <p:pic>
        <p:nvPicPr>
          <p:cNvPr id="56" name="Bild 10" descr="IMG_0427.png"/>
          <p:cNvPicPr/>
          <p:nvPr/>
        </p:nvPicPr>
        <p:blipFill>
          <a:blip r:embed="rId9"/>
          <a:stretch/>
        </p:blipFill>
        <p:spPr>
          <a:xfrm>
            <a:off x="4299120" y="3727440"/>
            <a:ext cx="771480" cy="862200"/>
          </a:xfrm>
          <a:prstGeom prst="rect">
            <a:avLst/>
          </a:prstGeom>
          <a:ln w="0">
            <a:noFill/>
          </a:ln>
        </p:spPr>
      </p:pic>
      <p:pic>
        <p:nvPicPr>
          <p:cNvPr id="57" name="Bild 11" descr="nitrifizierer.png"/>
          <p:cNvPicPr/>
          <p:nvPr/>
        </p:nvPicPr>
        <p:blipFill>
          <a:blip r:embed="rId10"/>
          <a:stretch/>
        </p:blipFill>
        <p:spPr>
          <a:xfrm>
            <a:off x="6249960" y="5533920"/>
            <a:ext cx="830160" cy="662040"/>
          </a:xfrm>
          <a:prstGeom prst="rect">
            <a:avLst/>
          </a:prstGeom>
          <a:ln w="0">
            <a:noFill/>
          </a:ln>
        </p:spPr>
      </p:pic>
      <p:pic>
        <p:nvPicPr>
          <p:cNvPr id="58" name="Bild 12" descr="denitrifizierer.png"/>
          <p:cNvPicPr/>
          <p:nvPr/>
        </p:nvPicPr>
        <p:blipFill>
          <a:blip r:embed="rId11"/>
          <a:stretch/>
        </p:blipFill>
        <p:spPr>
          <a:xfrm>
            <a:off x="8278920" y="3162240"/>
            <a:ext cx="993600" cy="701640"/>
          </a:xfrm>
          <a:prstGeom prst="rect">
            <a:avLst/>
          </a:prstGeom>
          <a:ln w="0">
            <a:noFill/>
          </a:ln>
        </p:spPr>
      </p:pic>
      <p:pic>
        <p:nvPicPr>
          <p:cNvPr id="59" name="Bild 13" descr="IMG_0429.png"/>
          <p:cNvPicPr/>
          <p:nvPr/>
        </p:nvPicPr>
        <p:blipFill>
          <a:blip r:embed="rId12"/>
          <a:stretch/>
        </p:blipFill>
        <p:spPr>
          <a:xfrm>
            <a:off x="4200480" y="157320"/>
            <a:ext cx="1444680" cy="515880"/>
          </a:xfrm>
          <a:prstGeom prst="rect">
            <a:avLst/>
          </a:prstGeom>
          <a:ln w="0">
            <a:noFill/>
          </a:ln>
        </p:spPr>
      </p:pic>
      <p:pic>
        <p:nvPicPr>
          <p:cNvPr id="60" name="Bild 1" descr="IMG_0436.png"/>
          <p:cNvPicPr/>
          <p:nvPr/>
        </p:nvPicPr>
        <p:blipFill>
          <a:blip r:embed="rId13"/>
          <a:stretch/>
        </p:blipFill>
        <p:spPr>
          <a:xfrm rot="21337800">
            <a:off x="209520" y="209160"/>
            <a:ext cx="1521000" cy="80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9"/>
          <p:cNvSpPr/>
          <p:nvPr/>
        </p:nvSpPr>
        <p:spPr>
          <a:xfrm>
            <a:off x="168120" y="6559560"/>
            <a:ext cx="968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1003_ab_stickstoffkreislauf_innen.ppt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            ZPG Biologie 2018       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                      Seite 1 von 1</a:t>
            </a:r>
            <a:endParaRPr b="0" lang="en-US" sz="6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4:09:47Z</dcterms:created>
  <dc:creator>Huni</dc:creator>
  <dc:description/>
  <dc:language>en-US</dc:language>
  <cp:lastModifiedBy>Hunor Karsa</cp:lastModifiedBy>
  <cp:lastPrinted>2018-01-22T16:18:01Z</cp:lastPrinted>
  <dcterms:modified xsi:type="dcterms:W3CDTF">2019-02-07T17:01:55Z</dcterms:modified>
  <cp:revision>186</cp:revision>
  <dc:subject/>
  <dc:title>Folie 1</dc:title>
</cp:coreProperties>
</file>