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38.wmf" ContentType="image/x-wmf"/>
  <Override PartName="/ppt/media/image8.wmf" ContentType="image/x-wmf"/>
  <Override PartName="/ppt/media/image4.jpeg" ContentType="image/jpeg"/>
  <Override PartName="/ppt/media/image10.wmf" ContentType="image/x-wmf"/>
  <Override PartName="/ppt/media/image47.wmf" ContentType="image/x-wmf"/>
  <Override PartName="/ppt/media/image14.wmf" ContentType="image/x-wmf"/>
  <Override PartName="/ppt/media/image1.jpeg" ContentType="image/jpeg"/>
  <Override PartName="/ppt/media/image50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25.wmf" ContentType="image/x-wmf"/>
  <Override PartName="/ppt/media/image2.jpeg" ContentType="image/jpeg"/>
  <Override PartName="/ppt/media/image18.wmf" ContentType="image/x-wmf"/>
  <Override PartName="/ppt/media/image60.wmf" ContentType="image/x-wmf"/>
  <Override PartName="/ppt/media/image20.wmf" ContentType="image/x-wmf"/>
  <Override PartName="/ppt/media/image57.wmf" ContentType="image/x-wmf"/>
  <Override PartName="/ppt/media/image26.wmf" ContentType="image/x-wmf"/>
  <Override PartName="/ppt/media/image29.wmf" ContentType="image/x-wmf"/>
  <Override PartName="/ppt/media/image28.wmf" ContentType="image/x-wmf"/>
  <Override PartName="/ppt/media/image3.jpeg" ContentType="image/jpeg"/>
  <Override PartName="/ppt/media/image27.wmf" ContentType="image/x-wmf"/>
  <Override PartName="/ppt/media/image58.wmf" ContentType="image/x-wmf"/>
  <Override PartName="/ppt/media/image21.wmf" ContentType="image/x-wmf"/>
  <Override PartName="/ppt/media/image23.wmf" ContentType="image/x-wmf"/>
  <Override PartName="/ppt/media/image61.wmf" ContentType="image/x-wmf"/>
  <Override PartName="/ppt/media/image24.wmf" ContentType="image/x-wmf"/>
  <Override PartName="/ppt/media/image59.wmf" ContentType="image/x-wmf"/>
  <Override PartName="/ppt/media/image62.gif" ContentType="image/gif"/>
  <Override PartName="/ppt/media/image22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5.png" ContentType="image/png"/>
  <Override PartName="/ppt/media/image13.wmf" ContentType="image/x-wmf"/>
  <Override PartName="/ppt/media/image9.wmf" ContentType="image/x-wmf"/>
  <Override PartName="/ppt/media/image39.wmf" ContentType="image/x-wmf"/>
  <Override PartName="/ppt/media/image11.wmf" ContentType="image/x-wmf"/>
  <Override PartName="/ppt/media/image48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6.png" ContentType="image/png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63.jpeg" ContentType="image/jpeg"/>
  <Override PartName="/ppt/media/image51.wmf" ContentType="image/x-wmf"/>
  <Override PartName="/ppt/media/image52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59F0-1846-4165-A86A-9072DA58B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0CC3-C282-45AD-B145-41E8D999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08BE4-958E-4D4E-AD2B-2D7E7FC1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715E6-42D2-40B3-94A8-8D379334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76540-E1BD-4C35-9293-4F8024CE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98C3D-1A07-4BAC-B4FE-DCA3B593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3F079-FF9E-44EF-806A-8FDE45F5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62FC8-B420-4CF9-B377-75ECDBBA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250BC-27E5-4CE9-882A-CA431D6F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AB608-4D5C-4FD7-8858-8BF58EF3C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C5438-64A9-4329-99CE-6F146AF8C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BD28-CCCD-44D5-8AB2-AEFFC18E5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9145-CE30-4B54-9597-852F42326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7F1269-65D6-4501-AC32-E02EF6140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98555-52A6-42E0-9834-62DD4532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007E0-6CAA-4296-AEE0-67178A0E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6279F-7D53-4F93-A789-76890AB8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9D73F-2A4A-4B1A-822A-8A846032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68E30-AECA-44EE-AEEE-D3BC5661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5A7DA-99EF-4C69-867A-BFE9BC5F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56513-0FC4-44F5-9DBD-62E12893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977AE-8ACD-41C8-9A34-792DD616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43F4-2E24-425C-ADED-A1C3FF10B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BF207-0892-4EFF-BB0C-F298A464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85869-D1A1-48BD-8923-55F5B1EA8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839C8-D4D5-498E-9B06-90FD25C6F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2DBF-7DE5-45FC-8011-13EC12E4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A068-C97F-4595-B7B2-6A6C18A7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8276-614D-4EB3-B6DA-285CDFA2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A637-AEE7-410E-BE66-D0856B74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C97B-4FF4-4016-A1F4-246D1877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ABA9-64FD-445F-BB82-54CA3E28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9169-E9C9-4A79-95E9-851D5A91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362E-D710-4333-8521-8CFE1900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46D7-4FC5-4337-A44D-5FEEF862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E618-F8D0-443A-AAE3-5F65B55C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D87B-7D69-4459-91B7-98446700F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0D44-6E37-4E00-B015-68293AAE9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A8537-4A34-4464-B74D-73452A42E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75EEE-DC9B-40A7-87AA-977AAC13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156AA-6ECF-4F5B-B499-3532DFC1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7C63D-B8E9-4C51-B2F3-3D4664C0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05D05-E710-44C3-B831-95626267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7860-7FC0-4A9C-A637-76A42585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D179F-6F79-428E-B712-0F2C2FA4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1E455-0B3A-47F1-9BA0-F9B58D50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60E99-0CB1-4CFE-905E-9922285C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60F9B-9541-4C2D-97D0-9111C082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11CAA-EEB6-4E8E-8283-C61FC526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355C1-5722-47D5-B1CE-2E3A26664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909BA-822E-4989-A974-DF30B31B1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6527E-B736-4B65-B2F9-CC27BFED0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D548E-4022-41E3-A39C-4A6A77B9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B429F-7BE8-4654-8CA5-A4064599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98A8-6849-4713-A7E0-E39D26EE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3DC7C-75FB-484F-9DB5-64B72DAE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C2073-A10E-41BD-8906-3049EE13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EF35A-5E59-452C-B1B2-4C2EDB77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C21FC-C3B8-4773-8EF5-E2AC4AD8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6044E-591F-48AC-988B-8F46803E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751C8-3F7E-4D84-839E-0A43F6E0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0B425-BFF0-4E4C-82D7-46DB58AA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0D76F-919A-4CC2-BB5A-5FFFAF146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18FCC-DF48-4DF9-9C47-355E7F53E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A1591-4FCE-4D29-9AA1-479F1E3D4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8841-BBB9-4076-9F8D-88C0C1AD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6C6CA-624C-42C5-AE7D-71401C17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BD462-0AED-40B9-A220-F7831BFC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3A474-C918-4660-91E6-BA6FA9D9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5399C-772A-491B-9030-3C72A4C9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D94FC-212F-4D6A-A70E-8C3C4911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D9D16-1E4E-4BB8-AA0A-08BF7440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328D9-40F5-4724-8B87-0725F9BA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794E5-1AE6-4D9B-BD45-89BAD5EA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D9561-76AC-4D79-806C-692D14BB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2016B-3C22-4C44-B2C4-89DACA639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8C72-6260-413D-B320-710ECB41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20266-F2D0-4776-A275-8B83A88F5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777A5-B686-4B4C-A05D-7AD3D6E5D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C970E-C7FF-4BC7-A13B-F2019E5C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EC4BF-19BB-4D1B-88C5-18466E3E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4C519-1D3E-4F05-B96F-303F3331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157E9-0BBD-406D-A9AB-1724BD09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303A4-CD43-457B-8D76-57EAAFF0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56761-A1F1-4F4B-B0B6-D57EF594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4E8F7-D35E-492B-9495-98A3D828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FE673-1ED7-459F-9027-F9EFF9B6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F40F-12E0-4E59-BDE6-8C326283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25B43-FD91-44AA-A10A-3BBAA44E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51B1B-AA9B-46C0-945D-6CE9609B9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E69FD-F328-4269-81F3-1CE1A08CB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01FF3-32B0-48DE-B1F6-01326C06C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870E4-6DC8-40C5-9D52-6EA56886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439A4-1967-4A3E-B290-03D5EA6C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232C0-01CD-4D05-A373-77BF6641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4D43C-3D59-4B67-AC97-E16F72EB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9657D-B1FE-47D1-9B62-18202599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8915C-3FE6-47AB-8145-F31D0835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307A-B8AB-4E9A-A2EF-F2079C5D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6CA9B-467E-4543-96C3-F15F2041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C9DAD-3FF1-47BF-AD11-D11C8854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361C8-3D76-4C0E-A004-16711EF4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8E0C8-452A-41D3-84F6-033087546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4B82E-2EDF-4396-B448-9B292103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FAE5-2F84-4174-8751-05F533EB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F4236-2326-413B-B694-CDF0E29CD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0F415-E053-427C-9E9E-1740C609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F3776-2A0E-47A4-99AD-17972FD6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9472-243C-4951-8A6C-BD7E879E6D97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Rockwell"/>
              </a:rPr>
              <a:t>Click to edit the title text format</a:t>
            </a:r>
            <a:endParaRPr b="1" lang="en-US" sz="3600" spc="-1" strike="noStrike">
              <a:solidFill>
                <a:srgbClr val="0d0d0d"/>
              </a:solidFill>
              <a:latin typeface="Rockwel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25560">
            <a:solidFill>
              <a:srgbClr val="a5b59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1030" descr="FH-LU"/>
          <p:cNvPicPr/>
          <p:nvPr/>
        </p:nvPicPr>
        <p:blipFill>
          <a:blip r:embed="rId3"/>
          <a:srcRect l="0" t="0" r="68896" b="0"/>
          <a:stretch/>
        </p:blipFill>
        <p:spPr>
          <a:xfrm>
            <a:off x="547560" y="2781360"/>
            <a:ext cx="441360" cy="6732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031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561960" y="1000080"/>
            <a:ext cx="395280" cy="5461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032" descr=""/>
          <p:cNvPicPr/>
          <p:nvPr/>
        </p:nvPicPr>
        <p:blipFill>
          <a:blip r:embed="rId5">
            <a:lum bright="-18000"/>
          </a:blip>
          <a:stretch/>
        </p:blipFill>
        <p:spPr>
          <a:xfrm>
            <a:off x="452520" y="1901880"/>
            <a:ext cx="272880" cy="3762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033" descr="FH-LU"/>
          <p:cNvPicPr/>
          <p:nvPr/>
        </p:nvPicPr>
        <p:blipFill>
          <a:blip r:embed="rId6"/>
          <a:srcRect l="0" t="0" r="68896" b="0"/>
          <a:stretch/>
        </p:blipFill>
        <p:spPr>
          <a:xfrm>
            <a:off x="808200" y="2041560"/>
            <a:ext cx="284040" cy="43164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25560">
            <a:solidFill>
              <a:srgbClr val="72a37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1734-FD16-46C8-97B4-6604D2199BE7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25560">
            <a:solidFill>
              <a:srgbClr val="72a37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9613-945D-4579-B331-009C8DDB710F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Rockwell"/>
              </a:rPr>
              <a:t>Click to edit the title text format</a:t>
            </a:r>
            <a:endParaRPr b="1" lang="en-US" sz="3600" spc="-1" strike="noStrike">
              <a:solidFill>
                <a:srgbClr val="0d0d0d"/>
              </a:solidFill>
              <a:latin typeface="Rockwel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25560">
            <a:solidFill>
              <a:srgbClr val="a5b59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509C-622E-4449-9B6B-450EDE2474F6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3C30-4D12-47FC-80D8-699037E80088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25560">
            <a:solidFill>
              <a:srgbClr val="72a37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EF53-6522-4C47-9D10-B6D4FC394512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6EE1-FBD7-468F-A914-1006A5106E0C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030" descr="FH-LU"/>
          <p:cNvPicPr/>
          <p:nvPr/>
        </p:nvPicPr>
        <p:blipFill>
          <a:blip r:embed="rId3"/>
          <a:srcRect l="0" t="0" r="68896" b="0"/>
          <a:stretch/>
        </p:blipFill>
        <p:spPr>
          <a:xfrm>
            <a:off x="547560" y="2781360"/>
            <a:ext cx="441360" cy="6732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031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561960" y="1000080"/>
            <a:ext cx="395280" cy="5461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32" descr=""/>
          <p:cNvPicPr/>
          <p:nvPr/>
        </p:nvPicPr>
        <p:blipFill>
          <a:blip r:embed="rId5">
            <a:lum bright="-18000"/>
          </a:blip>
          <a:stretch/>
        </p:blipFill>
        <p:spPr>
          <a:xfrm>
            <a:off x="452520" y="1901880"/>
            <a:ext cx="272880" cy="3762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33" descr="FH-LU"/>
          <p:cNvPicPr/>
          <p:nvPr/>
        </p:nvPicPr>
        <p:blipFill>
          <a:blip r:embed="rId6"/>
          <a:srcRect l="0" t="0" r="68896" b="0"/>
          <a:stretch/>
        </p:blipFill>
        <p:spPr>
          <a:xfrm>
            <a:off x="808200" y="2041560"/>
            <a:ext cx="284040" cy="4316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79C2-2A14-49CB-B4A3-76E58AB145C6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1030" descr="FH-LU"/>
          <p:cNvPicPr/>
          <p:nvPr/>
        </p:nvPicPr>
        <p:blipFill>
          <a:blip r:embed="rId3"/>
          <a:srcRect l="0" t="0" r="68896" b="0"/>
          <a:stretch/>
        </p:blipFill>
        <p:spPr>
          <a:xfrm>
            <a:off x="547560" y="2781360"/>
            <a:ext cx="441360" cy="6732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031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561960" y="1000080"/>
            <a:ext cx="395280" cy="5461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032" descr=""/>
          <p:cNvPicPr/>
          <p:nvPr/>
        </p:nvPicPr>
        <p:blipFill>
          <a:blip r:embed="rId5">
            <a:lum bright="-18000"/>
          </a:blip>
          <a:stretch/>
        </p:blipFill>
        <p:spPr>
          <a:xfrm>
            <a:off x="452520" y="1901880"/>
            <a:ext cx="272880" cy="3762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033" descr="FH-LU"/>
          <p:cNvPicPr/>
          <p:nvPr/>
        </p:nvPicPr>
        <p:blipFill>
          <a:blip r:embed="rId6"/>
          <a:srcRect l="0" t="0" r="68896" b="0"/>
          <a:stretch/>
        </p:blipFill>
        <p:spPr>
          <a:xfrm>
            <a:off x="808200" y="2041560"/>
            <a:ext cx="284040" cy="43164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Rockwell"/>
              </a:rPr>
              <a:t>Click to edit the title text format</a:t>
            </a:r>
            <a:endParaRPr b="1" lang="en-US" sz="3600" spc="-1" strike="noStrike">
              <a:solidFill>
                <a:srgbClr val="0d0d0d"/>
              </a:solidFill>
              <a:latin typeface="Rockwel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25560">
            <a:solidFill>
              <a:srgbClr val="a5b59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B56A-3E7A-4ABE-9100-0012A2254001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slide" Target=""/><Relationship Id="rId6" Type="http://schemas.openxmlformats.org/officeDocument/2006/relationships/oleObject" Target="../embeddings/oleObject1.bin"/><Relationship Id="rId7" Type="http://schemas.openxmlformats.org/officeDocument/2006/relationships/image" Target="../media/image25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26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7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8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9.wmf"/><Relationship Id="rId16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oleObject" Target="../embeddings/oleObject1.bin"/><Relationship Id="rId7" Type="http://schemas.openxmlformats.org/officeDocument/2006/relationships/image" Target="../media/image32.wmf"/><Relationship Id="rId8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9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oleObject" Target="../embeddings/oleObject1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37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38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39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40.wmf"/><Relationship Id="rId19" Type="http://schemas.openxmlformats.org/officeDocument/2006/relationships/slide" Target=""/><Relationship Id="rId20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oleObject" Target="../embeddings/oleObject1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9.wmf"/><Relationship Id="rId1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8.wmf"/><Relationship Id="rId15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9.wmf"/><Relationship Id="rId9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2.gif"/><Relationship Id="rId2" Type="http://schemas.openxmlformats.org/officeDocument/2006/relationships/image" Target="../media/image62.gif"/><Relationship Id="rId3" Type="http://schemas.openxmlformats.org/officeDocument/2006/relationships/image" Target="../media/image62.gif"/><Relationship Id="rId4" Type="http://schemas.openxmlformats.org/officeDocument/2006/relationships/image" Target="../media/image62.gif"/><Relationship Id="rId5" Type="http://schemas.openxmlformats.org/officeDocument/2006/relationships/image" Target="../media/image62.gif"/><Relationship Id="rId6" Type="http://schemas.openxmlformats.org/officeDocument/2006/relationships/image" Target="../media/image63.jpe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oleObject" Target="../embeddings/oleObject1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2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3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4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5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6.wmf"/><Relationship Id="rId1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0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oleObject" Target="../embeddings/oleObject1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9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0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1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2.wmf"/><Relationship Id="rId1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645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de-DE" sz="3200" spc="-1" strike="noStrike">
                <a:solidFill>
                  <a:srgbClr val="e7eacb"/>
                </a:solidFill>
                <a:latin typeface="Rockwell"/>
              </a:rPr>
              <a:t>Berechnung und Vereinfachung </a:t>
            </a:r>
            <a:br>
              <a:rPr sz="3200"/>
            </a:br>
            <a:r>
              <a:rPr b="0" lang="de-DE" sz="3200" spc="-1" strike="noStrike">
                <a:solidFill>
                  <a:srgbClr val="e7eacb"/>
                </a:solidFill>
                <a:latin typeface="Rockwell"/>
              </a:rPr>
              <a:t>von Termen</a:t>
            </a:r>
            <a:br>
              <a:rPr sz="3200"/>
            </a:br>
            <a:r>
              <a:rPr b="0" lang="de-DE" sz="3200" spc="-1" strike="noStrike">
                <a:solidFill>
                  <a:srgbClr val="e7eacb"/>
                </a:solidFill>
                <a:latin typeface="Rockwel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250920" y="2852280"/>
            <a:ext cx="840744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300" spc="-1" strike="noStrike">
                <a:solidFill>
                  <a:srgbClr val="ffffff"/>
                </a:solidFill>
                <a:latin typeface="Rockwell"/>
              </a:rPr>
              <a:t>Ein interaktives Quiz</a:t>
            </a:r>
            <a:endParaRPr b="0" lang="en-US" sz="4300" spc="-1" strike="noStrike">
              <a:solidFill>
                <a:srgbClr val="ffffff"/>
              </a:solidFill>
              <a:latin typeface="Rockwell"/>
            </a:endParaRPr>
          </a:p>
          <a:p>
            <a:pPr indent="0" algn="ctr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Rockwell"/>
            </a:endParaRPr>
          </a:p>
          <a:p>
            <a:pPr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Rockwell"/>
              </a:rPr>
              <a:t>In diesem Quiz erlangst du die notwendigen Kompetenzen, um  Berechnungen und Vereinfachungen von Termen durchzuführen.</a:t>
            </a:r>
            <a:r>
              <a:rPr b="0" lang="de-DE" sz="35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Rockwell"/>
              </a:rPr>
              <a:t>Verwende bitte nur die linke Maustaste und vermeide die Tastatur!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Rockwell"/>
              </a:rPr>
              <a:t>Notiere die Aufgaben und die durchgeführten Rechnungen in deinem Heft! 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Ellipse 6"/>
          <p:cNvSpPr/>
          <p:nvPr/>
        </p:nvSpPr>
        <p:spPr>
          <a:xfrm>
            <a:off x="3000240" y="1143000"/>
            <a:ext cx="2500560" cy="2500200"/>
          </a:xfrm>
          <a:prstGeom prst="ellipse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Rockwell"/>
              </a:rPr>
              <a:t>Klicke hier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Rockwell"/>
              </a:rPr>
              <a:t>oder wo an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68360" y="3714480"/>
            <a:ext cx="8229600" cy="25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Rockwell"/>
              </a:rPr>
              <a:t>Gratulation!                                                           stimmt!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Rockwell"/>
              </a:rPr>
              <a:t>So sieht die Berechnung aus: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Rockwell"/>
              </a:rPr>
              <a:t>Hast du das Minuszeichen vor der Klammer richtig beachtet?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Rockwell"/>
              </a:rPr>
              <a:t>Und weiter geht‘s mit einem Klick !  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9" name="AutoShape 5"/>
          <p:cNvSpPr/>
          <p:nvPr/>
        </p:nvSpPr>
        <p:spPr>
          <a:xfrm>
            <a:off x="1357200" y="189000"/>
            <a:ext cx="6215040" cy="3454200"/>
          </a:xfrm>
          <a:prstGeom prst="irregularSeal2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Arial"/>
              </a:rPr>
              <a:t>Bingo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0" name="Object 11"/>
          <p:cNvGraphicFramePr/>
          <p:nvPr/>
        </p:nvGraphicFramePr>
        <p:xfrm>
          <a:off x="2000160" y="3714840"/>
          <a:ext cx="3097440" cy="37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0160" y="3714840"/>
                    <a:ext cx="309744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2" name="Object 14"/>
          <p:cNvGraphicFramePr/>
          <p:nvPr/>
        </p:nvGraphicFramePr>
        <p:xfrm>
          <a:off x="4027320" y="4286160"/>
          <a:ext cx="3910320" cy="12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3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27320" y="4286160"/>
                    <a:ext cx="391032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evt="end">
                                        <p:tn val="33"/>
                                      </p:cond>
                                    </p:stCondLst>
                                  </p:cTn>
                                  <p:tgtEl>
                                    <p:spTgt spid="5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7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hteck 8"/>
          <p:cNvSpPr/>
          <p:nvPr/>
        </p:nvSpPr>
        <p:spPr>
          <a:xfrm>
            <a:off x="3635280" y="3801960"/>
            <a:ext cx="1714680" cy="78588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hteck 9"/>
          <p:cNvSpPr/>
          <p:nvPr/>
        </p:nvSpPr>
        <p:spPr>
          <a:xfrm>
            <a:off x="1349280" y="3801960"/>
            <a:ext cx="1714680" cy="78588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Rechteck 10"/>
          <p:cNvSpPr/>
          <p:nvPr/>
        </p:nvSpPr>
        <p:spPr>
          <a:xfrm>
            <a:off x="3635280" y="5516640"/>
            <a:ext cx="1714680" cy="78588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Rechteck 11"/>
          <p:cNvSpPr/>
          <p:nvPr/>
        </p:nvSpPr>
        <p:spPr>
          <a:xfrm>
            <a:off x="1349280" y="5516640"/>
            <a:ext cx="1714680" cy="78588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f0f2d8"/>
                </a:solidFill>
                <a:latin typeface="Rockwell"/>
              </a:rPr>
              <a:t>Multipliziere aus, indem du das Distributivgesetz verwendest und danach gleichartige Terme zusammenfasst: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258560" y="3789000"/>
            <a:ext cx="43578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Rockwell"/>
              </a:rPr>
              <a:t>                               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Rockwel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Rockwell"/>
              </a:rPr>
              <a:t>                             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0" name="Rahmen 4">
            <a:hlinkClick r:id="" action="ppaction://hlinkshowjump?jump=nextslide"/>
          </p:cNvPr>
          <p:cNvSpPr/>
          <p:nvPr/>
        </p:nvSpPr>
        <p:spPr>
          <a:xfrm>
            <a:off x="1324080" y="3790800"/>
            <a:ext cx="857160" cy="785880"/>
          </a:xfrm>
          <a:prstGeom prst="bevel">
            <a:avLst>
              <a:gd name="adj" fmla="val 12500"/>
            </a:avLst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db5353"/>
                </a:solidFill>
                <a:uFillTx/>
                <a:latin typeface="Rockwell"/>
                <a:hlinkClick r:id="rId1" action="ppaction://hlinksldjump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Rahmen 5">
            <a:hlinkClick r:id="" action="ppaction://hlinkshowjump?jump=nextslide"/>
          </p:cNvPr>
          <p:cNvSpPr/>
          <p:nvPr/>
        </p:nvSpPr>
        <p:spPr>
          <a:xfrm>
            <a:off x="1324080" y="5519880"/>
            <a:ext cx="857160" cy="785520"/>
          </a:xfrm>
          <a:prstGeom prst="bevel">
            <a:avLst>
              <a:gd name="adj" fmla="val 12500"/>
            </a:avLst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db5353"/>
                </a:solidFill>
                <a:uFillTx/>
                <a:latin typeface="Rockwell"/>
                <a:hlinkClick r:id="rId2" action="ppaction://hlinksldjump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Rahmen 6">
            <a:hlinkClick r:id="rId3" action="ppaction://hlinksldjump"/>
          </p:cNvPr>
          <p:cNvSpPr/>
          <p:nvPr/>
        </p:nvSpPr>
        <p:spPr>
          <a:xfrm>
            <a:off x="3635280" y="5516640"/>
            <a:ext cx="857520" cy="785880"/>
          </a:xfrm>
          <a:prstGeom prst="bevel">
            <a:avLst>
              <a:gd name="adj" fmla="val 12500"/>
            </a:avLst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db5353"/>
                </a:solidFill>
                <a:uFillTx/>
                <a:latin typeface="Rockwell"/>
                <a:hlinkClick r:id="rId4" action="ppaction://hlinksldjump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Rahmen 7">
            <a:hlinkClick r:id="" action="ppaction://hlinkshowjump?jump=nextslide"/>
          </p:cNvPr>
          <p:cNvSpPr/>
          <p:nvPr/>
        </p:nvSpPr>
        <p:spPr>
          <a:xfrm>
            <a:off x="3627360" y="3790800"/>
            <a:ext cx="857160" cy="785880"/>
          </a:xfrm>
          <a:prstGeom prst="bevel">
            <a:avLst>
              <a:gd name="adj" fmla="val 12500"/>
            </a:avLst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db5353"/>
                </a:solidFill>
                <a:uFillTx/>
                <a:latin typeface="Rockwell"/>
                <a:hlinkClick r:id="rId5" action="ppaction://hlinksldjump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Ellipse 12"/>
          <p:cNvSpPr/>
          <p:nvPr/>
        </p:nvSpPr>
        <p:spPr>
          <a:xfrm>
            <a:off x="7643880" y="5500800"/>
            <a:ext cx="1500120" cy="1357200"/>
          </a:xfrm>
          <a:prstGeom prst="ellipse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ffffff"/>
                </a:solidFill>
                <a:latin typeface="Rockwell"/>
              </a:rPr>
              <a:t>4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5" name="Object 15"/>
          <p:cNvGraphicFramePr/>
          <p:nvPr/>
        </p:nvGraphicFramePr>
        <p:xfrm>
          <a:off x="2857680" y="1785960"/>
          <a:ext cx="3095280" cy="287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96" name="Object 1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57680" y="1785960"/>
                    <a:ext cx="309528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7" name="Object 18"/>
          <p:cNvGraphicFramePr/>
          <p:nvPr/>
        </p:nvGraphicFramePr>
        <p:xfrm>
          <a:off x="4492800" y="5735520"/>
          <a:ext cx="718920" cy="274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98" name="Object 1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92800" y="5735520"/>
                    <a:ext cx="71892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9" name="Object 22"/>
          <p:cNvGraphicFramePr/>
          <p:nvPr/>
        </p:nvGraphicFramePr>
        <p:xfrm>
          <a:off x="2116080" y="4006800"/>
          <a:ext cx="934920" cy="289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00" name="Object 2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16080" y="4006800"/>
                    <a:ext cx="93492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Object 23"/>
          <p:cNvGraphicFramePr/>
          <p:nvPr/>
        </p:nvGraphicFramePr>
        <p:xfrm>
          <a:off x="2116080" y="5735520"/>
          <a:ext cx="934920" cy="300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02" name="Object 2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116080" y="5735520"/>
                    <a:ext cx="934920" cy="3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Object 24"/>
          <p:cNvGraphicFramePr/>
          <p:nvPr/>
        </p:nvGraphicFramePr>
        <p:xfrm>
          <a:off x="4492800" y="4006800"/>
          <a:ext cx="358560" cy="289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04" name="Object 24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492800" y="4006800"/>
                    <a:ext cx="35856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5" name="Rechteck 17"/>
          <p:cNvSpPr/>
          <p:nvPr/>
        </p:nvSpPr>
        <p:spPr>
          <a:xfrm>
            <a:off x="539640" y="2549520"/>
            <a:ext cx="407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0f2d8"/>
                </a:solidFill>
                <a:latin typeface="Rockwell"/>
              </a:rPr>
              <a:t>Dein Ergebnis lautet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0f2d8"/>
                </a:solidFill>
                <a:latin typeface="Rockwell"/>
              </a:rPr>
              <a:t>Das war leider falsch!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7" name="AutoShape 4"/>
          <p:cNvSpPr/>
          <p:nvPr/>
        </p:nvSpPr>
        <p:spPr>
          <a:xfrm flipH="1">
            <a:off x="1547640" y="2071800"/>
            <a:ext cx="6167520" cy="2797200"/>
          </a:xfrm>
          <a:custGeom>
            <a:avLst/>
            <a:gdLst>
              <a:gd name="textAreaLeft" fmla="*/ 726120 w 6167520"/>
              <a:gd name="textAreaRight" fmla="*/ 5441400 w 6167520"/>
              <a:gd name="textAreaTop" fmla="*/ 699120 h 2797200"/>
              <a:gd name="textAreaBottom" fmla="*/ 2098080 h 279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513" y="5400"/>
                </a:lnTo>
                <a:lnTo>
                  <a:pt x="16513" y="0"/>
                </a:lnTo>
                <a:lnTo>
                  <a:pt x="21600" y="10800"/>
                </a:lnTo>
                <a:lnTo>
                  <a:pt x="16513" y="21600"/>
                </a:lnTo>
                <a:lnTo>
                  <a:pt x="16513" y="16200"/>
                </a:lnTo>
                <a:lnTo>
                  <a:pt x="0" y="16200"/>
                </a:lnTo>
                <a:lnTo>
                  <a:pt x="2544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Bitte nochmal versuchen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Rechteck 8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Ellipse 5"/>
          <p:cNvSpPr/>
          <p:nvPr/>
        </p:nvSpPr>
        <p:spPr>
          <a:xfrm>
            <a:off x="3000240" y="1143000"/>
            <a:ext cx="2500560" cy="2500200"/>
          </a:xfrm>
          <a:prstGeom prst="ellipse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Rockwell"/>
              </a:rPr>
              <a:t>Klicke hier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Rockwell"/>
              </a:rPr>
              <a:t>oder wo an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539640" y="4142880"/>
            <a:ext cx="82296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Rockwell"/>
              </a:rPr>
              <a:t>Gratulation!                                                               stimmt!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Rockwell"/>
              </a:rPr>
              <a:t>So sieht die Berechnung aus: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Rockwell"/>
              </a:rPr>
              <a:t>Und weiter geht‘s mit einem Klick!  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11" name="AutoShape 5"/>
          <p:cNvSpPr/>
          <p:nvPr/>
        </p:nvSpPr>
        <p:spPr>
          <a:xfrm>
            <a:off x="1214280" y="428760"/>
            <a:ext cx="6858000" cy="3360600"/>
          </a:xfrm>
          <a:prstGeom prst="irregularSeal2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Arial"/>
              </a:rPr>
              <a:t>Bingo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2" name="Object 8"/>
          <p:cNvGraphicFramePr/>
          <p:nvPr/>
        </p:nvGraphicFramePr>
        <p:xfrm>
          <a:off x="2143080" y="4143240"/>
          <a:ext cx="3743280" cy="2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3080" y="4143240"/>
                    <a:ext cx="374328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4" name="Object 10"/>
          <p:cNvGraphicFramePr/>
          <p:nvPr/>
        </p:nvGraphicFramePr>
        <p:xfrm>
          <a:off x="3786120" y="4643280"/>
          <a:ext cx="3889440" cy="136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5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6120" y="4643280"/>
                    <a:ext cx="3889440" cy="13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evt="end">
                                        <p:tn val="47"/>
                                      </p:cond>
                                    </p:stCondLst>
                                  </p:cTn>
                                  <p:tgtEl>
                                    <p:spTgt spid="6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hteck 8"/>
          <p:cNvSpPr/>
          <p:nvPr/>
        </p:nvSpPr>
        <p:spPr>
          <a:xfrm>
            <a:off x="3635280" y="3730680"/>
            <a:ext cx="1714680" cy="78588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hteck 9"/>
          <p:cNvSpPr/>
          <p:nvPr/>
        </p:nvSpPr>
        <p:spPr>
          <a:xfrm>
            <a:off x="1349280" y="3730680"/>
            <a:ext cx="1714680" cy="78588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Rechteck 10"/>
          <p:cNvSpPr/>
          <p:nvPr/>
        </p:nvSpPr>
        <p:spPr>
          <a:xfrm>
            <a:off x="3635280" y="5445000"/>
            <a:ext cx="1714680" cy="78588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Rechteck 11"/>
          <p:cNvSpPr/>
          <p:nvPr/>
        </p:nvSpPr>
        <p:spPr>
          <a:xfrm>
            <a:off x="1349280" y="5445000"/>
            <a:ext cx="1714680" cy="78588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0f2d8"/>
                </a:solidFill>
                <a:latin typeface="Rockwell"/>
              </a:rPr>
              <a:t>Wie viele der folgenden vier Berechnungen stimmen? </a:t>
            </a:r>
            <a:br>
              <a:rPr sz="1800"/>
            </a:br>
            <a:r>
              <a:rPr b="0" lang="de-DE" sz="1800" spc="-1" strike="noStrike">
                <a:solidFill>
                  <a:srgbClr val="f0f2d8"/>
                </a:solidFill>
                <a:latin typeface="Rockwell"/>
              </a:rPr>
              <a:t>Rechne selbst in deinem Heft nach!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1258560" y="3789000"/>
            <a:ext cx="43578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Rockwell"/>
              </a:rPr>
              <a:t>         </a:t>
            </a:r>
            <a:r>
              <a:rPr b="1" lang="de-DE" sz="2800" spc="-1" strike="noStrike">
                <a:solidFill>
                  <a:srgbClr val="ff0000"/>
                </a:solidFill>
                <a:latin typeface="Rockwell"/>
              </a:rPr>
              <a:t>eine                 zwei   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Rockwell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Rockwell"/>
              </a:rPr>
              <a:t>          </a:t>
            </a:r>
            <a:r>
              <a:rPr b="1" lang="de-DE" sz="2800" spc="-1" strike="noStrike">
                <a:solidFill>
                  <a:srgbClr val="ff0000"/>
                </a:solidFill>
                <a:latin typeface="Rockwell"/>
              </a:rPr>
              <a:t>drei                  vier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2" name="Rahmen 4">
            <a:hlinkClick r:id="" action="ppaction://hlinkshowjump?jump=nextslide"/>
          </p:cNvPr>
          <p:cNvSpPr/>
          <p:nvPr/>
        </p:nvSpPr>
        <p:spPr>
          <a:xfrm>
            <a:off x="1349280" y="3730680"/>
            <a:ext cx="857520" cy="785880"/>
          </a:xfrm>
          <a:prstGeom prst="bevel">
            <a:avLst>
              <a:gd name="adj" fmla="val 12500"/>
            </a:avLst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db5353"/>
                </a:solidFill>
                <a:uFillTx/>
                <a:latin typeface="Rockwell"/>
                <a:hlinkClick r:id="rId1" action="ppaction://hlinksldjump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ahmen 5">
            <a:hlinkClick r:id="rId2" action="ppaction://hlinksldjump"/>
          </p:cNvPr>
          <p:cNvSpPr/>
          <p:nvPr/>
        </p:nvSpPr>
        <p:spPr>
          <a:xfrm>
            <a:off x="1349280" y="5445000"/>
            <a:ext cx="857520" cy="785880"/>
          </a:xfrm>
          <a:prstGeom prst="bevel">
            <a:avLst>
              <a:gd name="adj" fmla="val 12500"/>
            </a:avLst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db5353"/>
                </a:solidFill>
                <a:uFillTx/>
                <a:latin typeface="Rockwell"/>
                <a:hlinkClick r:id="rId3" action="ppaction://hlinksldjump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ahmen 6">
            <a:hlinkClick r:id="" action="ppaction://hlinkshowjump?jump=nextslide"/>
          </p:cNvPr>
          <p:cNvSpPr/>
          <p:nvPr/>
        </p:nvSpPr>
        <p:spPr>
          <a:xfrm>
            <a:off x="3635280" y="5445000"/>
            <a:ext cx="857520" cy="785880"/>
          </a:xfrm>
          <a:prstGeom prst="bevel">
            <a:avLst>
              <a:gd name="adj" fmla="val 12500"/>
            </a:avLst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db5353"/>
                </a:solidFill>
                <a:uFillTx/>
                <a:latin typeface="Rockwell"/>
                <a:hlinkClick r:id="rId4" action="ppaction://hlinksldjump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Rahmen 7">
            <a:hlinkClick r:id="" action="ppaction://hlinkshowjump?jump=nextslide"/>
          </p:cNvPr>
          <p:cNvSpPr/>
          <p:nvPr/>
        </p:nvSpPr>
        <p:spPr>
          <a:xfrm>
            <a:off x="3635280" y="3730680"/>
            <a:ext cx="857520" cy="785880"/>
          </a:xfrm>
          <a:prstGeom prst="bevel">
            <a:avLst>
              <a:gd name="adj" fmla="val 12500"/>
            </a:avLst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db5353"/>
                </a:solidFill>
                <a:uFillTx/>
                <a:latin typeface="Rockwell"/>
                <a:hlinkClick r:id="rId5" action="ppaction://hlinksldjump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Ellipse 13"/>
          <p:cNvSpPr/>
          <p:nvPr/>
        </p:nvSpPr>
        <p:spPr>
          <a:xfrm>
            <a:off x="7643880" y="5500800"/>
            <a:ext cx="1500120" cy="1357200"/>
          </a:xfrm>
          <a:prstGeom prst="ellipse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ffffff"/>
                </a:solidFill>
                <a:latin typeface="Rockwell"/>
              </a:rPr>
              <a:t>5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27" name="Object 19"/>
          <p:cNvGraphicFramePr/>
          <p:nvPr/>
        </p:nvGraphicFramePr>
        <p:xfrm>
          <a:off x="1476360" y="1557360"/>
          <a:ext cx="3168720" cy="1297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28" name="Object 1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76360" y="1557360"/>
                    <a:ext cx="316872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0f2d8"/>
                </a:solidFill>
                <a:latin typeface="Rockwell"/>
              </a:rPr>
              <a:t>Das war leider falsch!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0" name="AutoShape 4"/>
          <p:cNvSpPr/>
          <p:nvPr/>
        </p:nvSpPr>
        <p:spPr>
          <a:xfrm flipH="1">
            <a:off x="1547640" y="2071800"/>
            <a:ext cx="6167520" cy="2797200"/>
          </a:xfrm>
          <a:custGeom>
            <a:avLst/>
            <a:gdLst>
              <a:gd name="textAreaLeft" fmla="*/ 726120 w 6167520"/>
              <a:gd name="textAreaRight" fmla="*/ 5441400 w 6167520"/>
              <a:gd name="textAreaTop" fmla="*/ 699120 h 2797200"/>
              <a:gd name="textAreaBottom" fmla="*/ 2098080 h 279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513" y="5400"/>
                </a:lnTo>
                <a:lnTo>
                  <a:pt x="16513" y="0"/>
                </a:lnTo>
                <a:lnTo>
                  <a:pt x="21600" y="10800"/>
                </a:lnTo>
                <a:lnTo>
                  <a:pt x="16513" y="21600"/>
                </a:lnTo>
                <a:lnTo>
                  <a:pt x="16513" y="16200"/>
                </a:lnTo>
                <a:lnTo>
                  <a:pt x="0" y="16200"/>
                </a:lnTo>
                <a:lnTo>
                  <a:pt x="2544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Bitte nochmal versuchen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Rechteck 8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Ellipse 4">
            <a:hlinkClick r:id="" action="ppaction://hlinkshowjump?jump=nextslide"/>
          </p:cNvPr>
          <p:cNvSpPr/>
          <p:nvPr/>
        </p:nvSpPr>
        <p:spPr>
          <a:xfrm>
            <a:off x="2987640" y="1125360"/>
            <a:ext cx="2500200" cy="2500560"/>
          </a:xfrm>
          <a:prstGeom prst="ellipse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Rockwell"/>
              </a:rPr>
              <a:t>Klicke hier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Rockwell"/>
              </a:rPr>
              <a:t>oder wo an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68360" y="458136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ffffff"/>
                </a:solidFill>
                <a:latin typeface="Rockwell"/>
              </a:rPr>
              <a:t>Gratulation! Genau drei Berechnungen waren richtig!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ffffff"/>
                </a:solidFill>
                <a:latin typeface="Rockwell"/>
              </a:rPr>
              <a:t>Falsch war lediglich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ffffff"/>
                </a:solidFill>
                <a:latin typeface="Rockwell"/>
              </a:rPr>
              <a:t>Diese lautet richtig: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ffffff"/>
                </a:solidFill>
                <a:latin typeface="Rockwell"/>
              </a:rPr>
              <a:t>Und weiter geht‘s mit einem Klick!   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4" name="AutoShape 5"/>
          <p:cNvSpPr/>
          <p:nvPr/>
        </p:nvSpPr>
        <p:spPr>
          <a:xfrm>
            <a:off x="285840" y="260280"/>
            <a:ext cx="7786440" cy="3954600"/>
          </a:xfrm>
          <a:prstGeom prst="irregularSeal2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Arial"/>
              </a:rPr>
              <a:t>Bingo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5" name="Object 7"/>
          <p:cNvGraphicFramePr/>
          <p:nvPr/>
        </p:nvGraphicFramePr>
        <p:xfrm>
          <a:off x="3214800" y="5214960"/>
          <a:ext cx="316836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14800" y="5214960"/>
                    <a:ext cx="3168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7" name="Object 9"/>
          <p:cNvGraphicFramePr/>
          <p:nvPr/>
        </p:nvGraphicFramePr>
        <p:xfrm>
          <a:off x="3214800" y="5572080"/>
          <a:ext cx="3384360" cy="33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14800" y="5572080"/>
                    <a:ext cx="33843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evt="end">
                                        <p:tn val="61"/>
                                      </p:cond>
                                    </p:stCondLst>
                                  </p:cTn>
                                  <p:tgtEl>
                                    <p:spTgt spid="6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7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hteck 8"/>
          <p:cNvSpPr/>
          <p:nvPr/>
        </p:nvSpPr>
        <p:spPr>
          <a:xfrm>
            <a:off x="3643200" y="3727440"/>
            <a:ext cx="1714680" cy="78588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Rechteck 9"/>
          <p:cNvSpPr/>
          <p:nvPr/>
        </p:nvSpPr>
        <p:spPr>
          <a:xfrm>
            <a:off x="1357200" y="3727440"/>
            <a:ext cx="1714680" cy="78588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hteck 10"/>
          <p:cNvSpPr/>
          <p:nvPr/>
        </p:nvSpPr>
        <p:spPr>
          <a:xfrm>
            <a:off x="3643200" y="5442120"/>
            <a:ext cx="1714680" cy="78552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Rechteck 11"/>
          <p:cNvSpPr/>
          <p:nvPr/>
        </p:nvSpPr>
        <p:spPr>
          <a:xfrm>
            <a:off x="1357200" y="5442120"/>
            <a:ext cx="1714680" cy="78552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024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f0f2d8"/>
                </a:solidFill>
                <a:latin typeface="Rockwell"/>
              </a:rPr>
              <a:t>Ein Spezialfall des Distributivgesetzes sind die drei binomischen Formeln. Die Berechnung der ersten beiden binomischen Formeln siehst du hier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f0f2d8"/>
                </a:solidFill>
                <a:latin typeface="Rockwell"/>
              </a:rPr>
              <a:t>Was bekommst du bei der Berechnung der dritten binomischen Formel heraus?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042560" y="3645000"/>
            <a:ext cx="482436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Rockwell"/>
              </a:rPr>
              <a:t>                          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Rockwel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Rockwell"/>
              </a:rPr>
              <a:t>                      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5" name="Rahmen 4">
            <a:hlinkClick r:id="rId1" action="ppaction://hlinksldjump"/>
          </p:cNvPr>
          <p:cNvSpPr/>
          <p:nvPr/>
        </p:nvSpPr>
        <p:spPr>
          <a:xfrm>
            <a:off x="1332000" y="3716280"/>
            <a:ext cx="857160" cy="785880"/>
          </a:xfrm>
          <a:prstGeom prst="bevel">
            <a:avLst>
              <a:gd name="adj" fmla="val 12500"/>
            </a:avLst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db5353"/>
                </a:solidFill>
                <a:uFillTx/>
                <a:latin typeface="Rockwell"/>
                <a:hlinkClick r:id="rId2" action="ppaction://hlinksldjump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Rahmen 6">
            <a:hlinkClick r:id="" action="ppaction://hlinkshowjump?jump=nextslide"/>
          </p:cNvPr>
          <p:cNvSpPr/>
          <p:nvPr/>
        </p:nvSpPr>
        <p:spPr>
          <a:xfrm>
            <a:off x="3635280" y="5445000"/>
            <a:ext cx="857520" cy="785880"/>
          </a:xfrm>
          <a:prstGeom prst="bevel">
            <a:avLst>
              <a:gd name="adj" fmla="val 12500"/>
            </a:avLst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db5353"/>
                </a:solidFill>
                <a:uFillTx/>
                <a:latin typeface="Rockwell"/>
                <a:hlinkClick r:id="rId3" action="ppaction://hlinksldjump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Rahmen 7">
            <a:hlinkClick r:id="" action="ppaction://hlinkshowjump?jump=nextslide"/>
          </p:cNvPr>
          <p:cNvSpPr/>
          <p:nvPr/>
        </p:nvSpPr>
        <p:spPr>
          <a:xfrm>
            <a:off x="3635280" y="3716280"/>
            <a:ext cx="857520" cy="785880"/>
          </a:xfrm>
          <a:prstGeom prst="bevel">
            <a:avLst>
              <a:gd name="adj" fmla="val 12500"/>
            </a:avLst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db5353"/>
                </a:solidFill>
                <a:uFillTx/>
                <a:latin typeface="Rockwell"/>
                <a:hlinkClick r:id="rId4" action="ppaction://hlinksldjump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Ellipse 13"/>
          <p:cNvSpPr/>
          <p:nvPr/>
        </p:nvSpPr>
        <p:spPr>
          <a:xfrm>
            <a:off x="7643880" y="5500800"/>
            <a:ext cx="1500120" cy="1357200"/>
          </a:xfrm>
          <a:prstGeom prst="ellipse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ffffff"/>
                </a:solidFill>
                <a:latin typeface="Rockwell"/>
              </a:rPr>
              <a:t>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9" name="Object 15"/>
          <p:cNvGraphicFramePr/>
          <p:nvPr/>
        </p:nvGraphicFramePr>
        <p:xfrm>
          <a:off x="1619280" y="1989000"/>
          <a:ext cx="4392720" cy="136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0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19280" y="1989000"/>
                    <a:ext cx="4392720" cy="13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1" name="Object 16"/>
          <p:cNvGraphicFramePr/>
          <p:nvPr/>
        </p:nvGraphicFramePr>
        <p:xfrm>
          <a:off x="4114800" y="4424400"/>
          <a:ext cx="914400" cy="193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2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4800" y="4424400"/>
                    <a:ext cx="91440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3" name="Object 17"/>
          <p:cNvGraphicFramePr/>
          <p:nvPr/>
        </p:nvGraphicFramePr>
        <p:xfrm>
          <a:off x="4114800" y="4424400"/>
          <a:ext cx="914400" cy="193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4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14800" y="4424400"/>
                    <a:ext cx="91440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5" name="Object 20"/>
          <p:cNvGraphicFramePr/>
          <p:nvPr/>
        </p:nvGraphicFramePr>
        <p:xfrm>
          <a:off x="4572000" y="3932280"/>
          <a:ext cx="647640" cy="360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56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3932280"/>
                    <a:ext cx="6476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7" name="Object 21"/>
          <p:cNvGraphicFramePr/>
          <p:nvPr/>
        </p:nvGraphicFramePr>
        <p:xfrm>
          <a:off x="2268360" y="3933720"/>
          <a:ext cx="648000" cy="360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58" name="Object 2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68360" y="3933720"/>
                    <a:ext cx="6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9" name="Object 24"/>
          <p:cNvGraphicFramePr/>
          <p:nvPr/>
        </p:nvGraphicFramePr>
        <p:xfrm>
          <a:off x="2195640" y="5661000"/>
          <a:ext cx="936360" cy="289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60" name="Object 2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195640" y="5661000"/>
                    <a:ext cx="93636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1" name="Object 26"/>
          <p:cNvGraphicFramePr/>
          <p:nvPr/>
        </p:nvGraphicFramePr>
        <p:xfrm>
          <a:off x="4427640" y="5661000"/>
          <a:ext cx="936360" cy="287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62" name="Object 2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27640" y="5661000"/>
                    <a:ext cx="93636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3" name="Rahmen 7">
            <a:hlinkClick r:id="" action="ppaction://hlinkshowjump?jump=nextslide"/>
          </p:cNvPr>
          <p:cNvSpPr/>
          <p:nvPr/>
        </p:nvSpPr>
        <p:spPr>
          <a:xfrm>
            <a:off x="1332000" y="5445000"/>
            <a:ext cx="857160" cy="785880"/>
          </a:xfrm>
          <a:prstGeom prst="bevel">
            <a:avLst>
              <a:gd name="adj" fmla="val 12500"/>
            </a:avLst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db5353"/>
                </a:solidFill>
                <a:uFillTx/>
                <a:latin typeface="Rockwell"/>
                <a:hlinkClick r:id="rId19" action="ppaction://hlinksldjump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0f2d8"/>
                </a:solidFill>
                <a:latin typeface="Rockwell"/>
              </a:rPr>
              <a:t>Das war leider falsch!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5" name="AutoShape 4"/>
          <p:cNvSpPr/>
          <p:nvPr/>
        </p:nvSpPr>
        <p:spPr>
          <a:xfrm flipH="1">
            <a:off x="1547640" y="2071800"/>
            <a:ext cx="6167520" cy="2797200"/>
          </a:xfrm>
          <a:custGeom>
            <a:avLst/>
            <a:gdLst>
              <a:gd name="textAreaLeft" fmla="*/ 726120 w 6167520"/>
              <a:gd name="textAreaRight" fmla="*/ 5441400 w 6167520"/>
              <a:gd name="textAreaTop" fmla="*/ 699120 h 2797200"/>
              <a:gd name="textAreaBottom" fmla="*/ 2098080 h 279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513" y="5400"/>
                </a:lnTo>
                <a:lnTo>
                  <a:pt x="16513" y="0"/>
                </a:lnTo>
                <a:lnTo>
                  <a:pt x="21600" y="10800"/>
                </a:lnTo>
                <a:lnTo>
                  <a:pt x="16513" y="21600"/>
                </a:lnTo>
                <a:lnTo>
                  <a:pt x="16513" y="16200"/>
                </a:lnTo>
                <a:lnTo>
                  <a:pt x="0" y="16200"/>
                </a:lnTo>
                <a:lnTo>
                  <a:pt x="2544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Bitte nochmal versuchen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Rechteck 8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Ellipse 4">
            <a:hlinkClick r:id="" action="ppaction://hlinkshowjump?jump=nextslide"/>
          </p:cNvPr>
          <p:cNvSpPr/>
          <p:nvPr/>
        </p:nvSpPr>
        <p:spPr>
          <a:xfrm>
            <a:off x="2987640" y="1125360"/>
            <a:ext cx="2500200" cy="2500560"/>
          </a:xfrm>
          <a:prstGeom prst="ellipse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Rockwell"/>
              </a:rPr>
              <a:t>Klicke hier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Rockwell"/>
              </a:rPr>
              <a:t>oder wo an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394920" y="4437000"/>
            <a:ext cx="705636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Rockwell"/>
              </a:rPr>
              <a:t>Gratulation! Deine Berechnung der dritten binomischen Formel war richtig!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Rockwell"/>
              </a:rPr>
              <a:t>Die drei binomischen Formeln lauten: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Rockwell"/>
              </a:rPr>
              <a:t>Schreibe das in dein Heft!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Rockwell"/>
              </a:rPr>
              <a:t>Und weiter geht‘s mit einem Klick!  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9" name="AutoShape 5"/>
          <p:cNvSpPr/>
          <p:nvPr/>
        </p:nvSpPr>
        <p:spPr>
          <a:xfrm>
            <a:off x="1187280" y="189000"/>
            <a:ext cx="7201080" cy="3887640"/>
          </a:xfrm>
          <a:prstGeom prst="irregularSeal2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Arial"/>
              </a:rPr>
              <a:t>Bingo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0" name="Object 8"/>
          <p:cNvGraphicFramePr/>
          <p:nvPr/>
        </p:nvGraphicFramePr>
        <p:xfrm>
          <a:off x="5076720" y="5084640"/>
          <a:ext cx="280836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5084640"/>
                    <a:ext cx="280836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evt="end">
                                        <p:tn val="75"/>
                                      </p:cond>
                                    </p:stCondLst>
                                  </p:cTn>
                                  <p:tgtEl>
                                    <p:spTgt spid="6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hteck 8"/>
          <p:cNvSpPr/>
          <p:nvPr/>
        </p:nvSpPr>
        <p:spPr>
          <a:xfrm>
            <a:off x="3616200" y="3789360"/>
            <a:ext cx="1714680" cy="78588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hteck 9"/>
          <p:cNvSpPr/>
          <p:nvPr/>
        </p:nvSpPr>
        <p:spPr>
          <a:xfrm>
            <a:off x="1330200" y="3789360"/>
            <a:ext cx="1714680" cy="78588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Rechteck 10"/>
          <p:cNvSpPr/>
          <p:nvPr/>
        </p:nvSpPr>
        <p:spPr>
          <a:xfrm>
            <a:off x="3616200" y="5504040"/>
            <a:ext cx="1714680" cy="78552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hteck 11"/>
          <p:cNvSpPr/>
          <p:nvPr/>
        </p:nvSpPr>
        <p:spPr>
          <a:xfrm>
            <a:off x="1330200" y="5504040"/>
            <a:ext cx="1714680" cy="78552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71680" y="16430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f0f2d8"/>
                </a:solidFill>
                <a:latin typeface="Rockwell"/>
              </a:rPr>
              <a:t>Möchtest du schnell auf einem Blatt das Ergebnis ausrechnen, dann kannst du die obige Zerlegung von 37 und 98 verwenden und nun vier Produkte addieren.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f0f2d8"/>
                </a:solidFill>
                <a:latin typeface="Rockwell"/>
              </a:rPr>
              <a:t>Welches Ergebnis kommt heraus, wenn du so rechnest?</a:t>
            </a:r>
            <a:r>
              <a:rPr b="0" lang="de-DE" sz="2500" spc="-1" strike="noStrike">
                <a:solidFill>
                  <a:srgbClr val="f0f2d8"/>
                </a:solidFill>
                <a:latin typeface="Rockwel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1258560" y="3860280"/>
            <a:ext cx="43578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Rockwell"/>
              </a:rPr>
              <a:t>         </a:t>
            </a:r>
            <a:r>
              <a:rPr b="1" lang="de-DE" sz="2400" spc="-1" strike="noStrike">
                <a:solidFill>
                  <a:srgbClr val="ff0000"/>
                </a:solidFill>
                <a:latin typeface="Rockwell"/>
              </a:rPr>
              <a:t>2996                      3386   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Rockwell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Rockwell"/>
              </a:rPr>
              <a:t>            </a:t>
            </a:r>
            <a:r>
              <a:rPr b="1" lang="de-DE" sz="2400" spc="-1" strike="noStrike">
                <a:solidFill>
                  <a:srgbClr val="ff0000"/>
                </a:solidFill>
                <a:latin typeface="Rockwell"/>
              </a:rPr>
              <a:t>3626                      2756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3" name="Rahmen 4">
            <a:hlinkClick r:id="" action="ppaction://hlinkshowjump?jump=nextslide"/>
          </p:cNvPr>
          <p:cNvSpPr/>
          <p:nvPr/>
        </p:nvSpPr>
        <p:spPr>
          <a:xfrm>
            <a:off x="1305000" y="3778200"/>
            <a:ext cx="857160" cy="785880"/>
          </a:xfrm>
          <a:prstGeom prst="bevel">
            <a:avLst>
              <a:gd name="adj" fmla="val 12500"/>
            </a:avLst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db5353"/>
                </a:solidFill>
                <a:uFillTx/>
                <a:latin typeface="Rockwell"/>
                <a:hlinkClick r:id="rId1" action="ppaction://hlinksldjump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ahmen 5">
            <a:hlinkClick r:id="rId2" action="ppaction://hlinksldjump"/>
          </p:cNvPr>
          <p:cNvSpPr/>
          <p:nvPr/>
        </p:nvSpPr>
        <p:spPr>
          <a:xfrm>
            <a:off x="1305000" y="5506920"/>
            <a:ext cx="857160" cy="785880"/>
          </a:xfrm>
          <a:prstGeom prst="bevel">
            <a:avLst>
              <a:gd name="adj" fmla="val 12500"/>
            </a:avLst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db5353"/>
                </a:solidFill>
                <a:uFillTx/>
                <a:latin typeface="Rockwell"/>
                <a:hlinkClick r:id="rId3" action="ppaction://hlinksldjump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ahmen 6">
            <a:hlinkClick r:id="" action="ppaction://hlinkshowjump?jump=nextslide"/>
          </p:cNvPr>
          <p:cNvSpPr/>
          <p:nvPr/>
        </p:nvSpPr>
        <p:spPr>
          <a:xfrm>
            <a:off x="3616200" y="5504040"/>
            <a:ext cx="857520" cy="785520"/>
          </a:xfrm>
          <a:prstGeom prst="bevel">
            <a:avLst>
              <a:gd name="adj" fmla="val 12500"/>
            </a:avLst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db5353"/>
                </a:solidFill>
                <a:uFillTx/>
                <a:latin typeface="Rockwell"/>
                <a:hlinkClick r:id="rId4" action="ppaction://hlinksldjump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ahmen 7">
            <a:hlinkClick r:id="" action="ppaction://hlinkshowjump?jump=nextslide"/>
          </p:cNvPr>
          <p:cNvSpPr/>
          <p:nvPr/>
        </p:nvSpPr>
        <p:spPr>
          <a:xfrm>
            <a:off x="3608280" y="3778200"/>
            <a:ext cx="857520" cy="785880"/>
          </a:xfrm>
          <a:prstGeom prst="bevel">
            <a:avLst>
              <a:gd name="adj" fmla="val 12500"/>
            </a:avLst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db5353"/>
                </a:solidFill>
                <a:uFillTx/>
                <a:latin typeface="Rockwell"/>
                <a:hlinkClick r:id="rId5" action="ppaction://hlinksldjump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Ellipse 12"/>
          <p:cNvSpPr/>
          <p:nvPr/>
        </p:nvSpPr>
        <p:spPr>
          <a:xfrm>
            <a:off x="7643880" y="5500800"/>
            <a:ext cx="1500120" cy="1357200"/>
          </a:xfrm>
          <a:prstGeom prst="ellipse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ffffff"/>
                </a:solidFill>
                <a:latin typeface="Rockwell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8" name="Object 17"/>
          <p:cNvGraphicFramePr/>
          <p:nvPr/>
        </p:nvGraphicFramePr>
        <p:xfrm>
          <a:off x="2428920" y="1500120"/>
          <a:ext cx="2289240" cy="360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09" name="Object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28920" y="1500120"/>
                    <a:ext cx="22892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0" name="Object 20"/>
          <p:cNvGraphicFramePr/>
          <p:nvPr/>
        </p:nvGraphicFramePr>
        <p:xfrm>
          <a:off x="2714760" y="714240"/>
          <a:ext cx="1143000" cy="441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11" name="Object 2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714760" y="714240"/>
                    <a:ext cx="114300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2" name="Object 22"/>
          <p:cNvGraphicFramePr/>
          <p:nvPr/>
        </p:nvGraphicFramePr>
        <p:xfrm>
          <a:off x="1785960" y="2643120"/>
          <a:ext cx="5072040" cy="357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13" name="Object 2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785960" y="2643120"/>
                    <a:ext cx="507204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hteck 8"/>
          <p:cNvSpPr/>
          <p:nvPr/>
        </p:nvSpPr>
        <p:spPr>
          <a:xfrm>
            <a:off x="3643200" y="3727440"/>
            <a:ext cx="1714680" cy="78588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Rechteck 9"/>
          <p:cNvSpPr/>
          <p:nvPr/>
        </p:nvSpPr>
        <p:spPr>
          <a:xfrm>
            <a:off x="1357200" y="3727440"/>
            <a:ext cx="1714680" cy="78588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Rechteck 10"/>
          <p:cNvSpPr/>
          <p:nvPr/>
        </p:nvSpPr>
        <p:spPr>
          <a:xfrm>
            <a:off x="3643200" y="5442120"/>
            <a:ext cx="1714680" cy="78552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Rechteck 11"/>
          <p:cNvSpPr/>
          <p:nvPr/>
        </p:nvSpPr>
        <p:spPr>
          <a:xfrm>
            <a:off x="1357200" y="5442120"/>
            <a:ext cx="1714680" cy="78552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0f2d8"/>
                </a:solidFill>
                <a:latin typeface="Rockwell"/>
              </a:rPr>
              <a:t>Wendet man das Distributivgesetz umgekehrt an, so nennt man dies „Ausklammern“. Dabei klammerst du den allen Summanden gemeinsamen Faktor aus: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f0f2d8"/>
                </a:solidFill>
                <a:latin typeface="Rockwell"/>
              </a:rPr>
              <a:t>Beispiele:                                         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f0f2d8"/>
                </a:solidFill>
                <a:latin typeface="Rockwell"/>
              </a:rPr>
              <a:t> (der Faktor ist hier 4, bzw. 2a oder 2xb)                                            </a:t>
            </a: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f0f2d8"/>
                </a:solidFill>
                <a:latin typeface="Rockwell"/>
              </a:rPr>
              <a:t>Welchen Faktor verwendest du, um in                                                          möglichst vollständig auszuklammern? 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1258560" y="3789000"/>
            <a:ext cx="43578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Rockwell"/>
              </a:rPr>
              <a:t>         </a:t>
            </a:r>
            <a:r>
              <a:rPr b="1" lang="de-DE" sz="2800" spc="-1" strike="noStrike">
                <a:solidFill>
                  <a:srgbClr val="ff0000"/>
                </a:solidFill>
                <a:latin typeface="Rockwell"/>
              </a:rPr>
              <a:t>                    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Rockwell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Rockwell"/>
              </a:rPr>
              <a:t>                         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8" name="Rahmen 4">
            <a:hlinkClick r:id="" action="ppaction://hlinkshowjump?jump=nextslide"/>
          </p:cNvPr>
          <p:cNvSpPr/>
          <p:nvPr/>
        </p:nvSpPr>
        <p:spPr>
          <a:xfrm>
            <a:off x="1332000" y="3716280"/>
            <a:ext cx="857160" cy="785880"/>
          </a:xfrm>
          <a:prstGeom prst="bevel">
            <a:avLst>
              <a:gd name="adj" fmla="val 12500"/>
            </a:avLst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Rockwel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Rahmen 5"/>
          <p:cNvSpPr/>
          <p:nvPr/>
        </p:nvSpPr>
        <p:spPr>
          <a:xfrm>
            <a:off x="1332000" y="5445000"/>
            <a:ext cx="857160" cy="785880"/>
          </a:xfrm>
          <a:prstGeom prst="bevel">
            <a:avLst>
              <a:gd name="adj" fmla="val 12500"/>
            </a:avLst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Rockwel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Rahmen 6">
            <a:hlinkClick r:id="" action="ppaction://hlinkshowjump?jump=nextslide"/>
          </p:cNvPr>
          <p:cNvSpPr/>
          <p:nvPr/>
        </p:nvSpPr>
        <p:spPr>
          <a:xfrm>
            <a:off x="3635280" y="5445000"/>
            <a:ext cx="857520" cy="785880"/>
          </a:xfrm>
          <a:prstGeom prst="bevel">
            <a:avLst>
              <a:gd name="adj" fmla="val 12500"/>
            </a:avLst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Rockwel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Rahmen 7">
            <a:hlinkClick r:id="" action="ppaction://hlinkshowjump?jump=nextslide"/>
          </p:cNvPr>
          <p:cNvSpPr/>
          <p:nvPr/>
        </p:nvSpPr>
        <p:spPr>
          <a:xfrm>
            <a:off x="3635280" y="3716280"/>
            <a:ext cx="857520" cy="785880"/>
          </a:xfrm>
          <a:prstGeom prst="bevel">
            <a:avLst>
              <a:gd name="adj" fmla="val 12500"/>
            </a:avLst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Rockwel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Ellipse 12"/>
          <p:cNvSpPr/>
          <p:nvPr/>
        </p:nvSpPr>
        <p:spPr>
          <a:xfrm>
            <a:off x="7643880" y="5500800"/>
            <a:ext cx="1500120" cy="1357200"/>
          </a:xfrm>
          <a:prstGeom prst="ellipse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ffffff"/>
                </a:solidFill>
                <a:latin typeface="Rockwell"/>
              </a:rPr>
              <a:t>7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3" name="Object 15"/>
          <p:cNvGraphicFramePr/>
          <p:nvPr/>
        </p:nvGraphicFramePr>
        <p:xfrm>
          <a:off x="4492800" y="907920"/>
          <a:ext cx="2303280" cy="3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2800" y="907920"/>
                    <a:ext cx="230328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Object 17"/>
          <p:cNvGraphicFramePr/>
          <p:nvPr/>
        </p:nvGraphicFramePr>
        <p:xfrm>
          <a:off x="1828800" y="1341360"/>
          <a:ext cx="2664000" cy="10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1341360"/>
                    <a:ext cx="2664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7" name="Object 19"/>
          <p:cNvGraphicFramePr/>
          <p:nvPr/>
        </p:nvGraphicFramePr>
        <p:xfrm>
          <a:off x="4211640" y="2781360"/>
          <a:ext cx="2590920" cy="36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8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1640" y="2781360"/>
                    <a:ext cx="25909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9" name="Object 21"/>
          <p:cNvGraphicFramePr/>
          <p:nvPr/>
        </p:nvGraphicFramePr>
        <p:xfrm>
          <a:off x="2340000" y="5661000"/>
          <a:ext cx="503280" cy="36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0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40000" y="5661000"/>
                    <a:ext cx="50328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1" name="Object 23"/>
          <p:cNvGraphicFramePr/>
          <p:nvPr/>
        </p:nvGraphicFramePr>
        <p:xfrm>
          <a:off x="2340000" y="3932280"/>
          <a:ext cx="576360" cy="341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2" name="Object 2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40000" y="3932280"/>
                    <a:ext cx="57636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Object 28"/>
          <p:cNvGraphicFramePr/>
          <p:nvPr/>
        </p:nvGraphicFramePr>
        <p:xfrm>
          <a:off x="4643280" y="5661000"/>
          <a:ext cx="505080" cy="360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94" name="Object 2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43280" y="5661000"/>
                    <a:ext cx="5050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Object 29"/>
          <p:cNvGraphicFramePr/>
          <p:nvPr/>
        </p:nvGraphicFramePr>
        <p:xfrm>
          <a:off x="4572000" y="3932280"/>
          <a:ext cx="360360" cy="336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96" name="Object 2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572000" y="3932280"/>
                    <a:ext cx="36036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0f2d8"/>
                </a:solidFill>
                <a:latin typeface="Rockwell"/>
              </a:rPr>
              <a:t>Das war leider falsch!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98" name="AutoShape 4"/>
          <p:cNvSpPr/>
          <p:nvPr/>
        </p:nvSpPr>
        <p:spPr>
          <a:xfrm flipH="1">
            <a:off x="1547640" y="2071800"/>
            <a:ext cx="6167520" cy="2797200"/>
          </a:xfrm>
          <a:custGeom>
            <a:avLst/>
            <a:gdLst>
              <a:gd name="textAreaLeft" fmla="*/ 726120 w 6167520"/>
              <a:gd name="textAreaRight" fmla="*/ 5441400 w 6167520"/>
              <a:gd name="textAreaTop" fmla="*/ 699120 h 2797200"/>
              <a:gd name="textAreaBottom" fmla="*/ 2098080 h 279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513" y="5400"/>
                </a:lnTo>
                <a:lnTo>
                  <a:pt x="16513" y="0"/>
                </a:lnTo>
                <a:lnTo>
                  <a:pt x="21600" y="10800"/>
                </a:lnTo>
                <a:lnTo>
                  <a:pt x="16513" y="21600"/>
                </a:lnTo>
                <a:lnTo>
                  <a:pt x="16513" y="16200"/>
                </a:lnTo>
                <a:lnTo>
                  <a:pt x="0" y="16200"/>
                </a:lnTo>
                <a:lnTo>
                  <a:pt x="2544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Bitte nochmal versuchen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Rechteck 8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Ellipse 5"/>
          <p:cNvSpPr/>
          <p:nvPr/>
        </p:nvSpPr>
        <p:spPr>
          <a:xfrm>
            <a:off x="3000240" y="1143000"/>
            <a:ext cx="2500560" cy="2500200"/>
          </a:xfrm>
          <a:prstGeom prst="ellipse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Rockwell"/>
              </a:rPr>
              <a:t>Klicke hier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Rockwell"/>
              </a:rPr>
              <a:t>oder wo an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297000" y="422064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Rockwell"/>
              </a:rPr>
              <a:t>Gratulation!           stimmt!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Rockwell"/>
              </a:rPr>
              <a:t>Dass das Ausklammern so richtig ist, kannst du kontrollieren, indem du das Distributivgesetz anwendest und wieder alles ausmultiplizierst.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Rockwell"/>
              </a:rPr>
              <a:t>Und weiter geht‘s mit einem Klick!   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02" name="AutoShape 5"/>
          <p:cNvSpPr/>
          <p:nvPr/>
        </p:nvSpPr>
        <p:spPr>
          <a:xfrm>
            <a:off x="755640" y="620640"/>
            <a:ext cx="7310520" cy="3213000"/>
          </a:xfrm>
          <a:prstGeom prst="irregularSeal2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Arial"/>
              </a:rPr>
              <a:t>Bingo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03" name="Object 8"/>
          <p:cNvGraphicFramePr/>
          <p:nvPr/>
        </p:nvGraphicFramePr>
        <p:xfrm>
          <a:off x="1692360" y="4437000"/>
          <a:ext cx="503280" cy="3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4437000"/>
                    <a:ext cx="50328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5" name="Object 9"/>
          <p:cNvGraphicFramePr/>
          <p:nvPr/>
        </p:nvGraphicFramePr>
        <p:xfrm>
          <a:off x="395280" y="4869000"/>
          <a:ext cx="446400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4869000"/>
                    <a:ext cx="4464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evt="end">
                                        <p:tn val="89"/>
                                      </p:cond>
                                    </p:stCondLst>
                                  </p:cTn>
                                  <p:tgtEl>
                                    <p:spTgt spid="7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hteck 11"/>
          <p:cNvSpPr/>
          <p:nvPr/>
        </p:nvSpPr>
        <p:spPr>
          <a:xfrm>
            <a:off x="1332000" y="5516640"/>
            <a:ext cx="1714320" cy="78588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Rechteck 10"/>
          <p:cNvSpPr/>
          <p:nvPr/>
        </p:nvSpPr>
        <p:spPr>
          <a:xfrm>
            <a:off x="3635280" y="5516640"/>
            <a:ext cx="1714680" cy="78588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Rechteck 8"/>
          <p:cNvSpPr/>
          <p:nvPr/>
        </p:nvSpPr>
        <p:spPr>
          <a:xfrm>
            <a:off x="3635280" y="3801960"/>
            <a:ext cx="1714680" cy="78588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Rechteck 9"/>
          <p:cNvSpPr/>
          <p:nvPr/>
        </p:nvSpPr>
        <p:spPr>
          <a:xfrm>
            <a:off x="1349280" y="3801960"/>
            <a:ext cx="1714680" cy="78588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Rectangle 3"/>
          <p:cNvSpPr/>
          <p:nvPr/>
        </p:nvSpPr>
        <p:spPr>
          <a:xfrm>
            <a:off x="1278000" y="3933720"/>
            <a:ext cx="42861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Rockwell"/>
              </a:rPr>
              <a:t>        </a:t>
            </a:r>
            <a:r>
              <a:rPr b="1" lang="de-DE" sz="2400" spc="-1" strike="noStrike">
                <a:solidFill>
                  <a:srgbClr val="ff0000"/>
                </a:solidFill>
                <a:latin typeface="Rockwell"/>
              </a:rPr>
              <a:t>keine                    zwei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Rockwel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Rockwell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Rockwell"/>
              </a:rPr>
              <a:t>            </a:t>
            </a:r>
            <a:r>
              <a:rPr b="1" lang="de-DE" sz="2400" spc="-1" strike="noStrike">
                <a:solidFill>
                  <a:srgbClr val="ff0000"/>
                </a:solidFill>
                <a:latin typeface="Rockwell"/>
              </a:rPr>
              <a:t>drei                      e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213920" y="189000"/>
            <a:ext cx="702972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0f2d8"/>
                </a:solidFill>
                <a:latin typeface="Rockwell"/>
              </a:rPr>
              <a:t>Bei wie vielen der folgenden vier Berechnungen wurde richtig </a:t>
            </a:r>
            <a:br>
              <a:rPr sz="1800"/>
            </a:br>
            <a:r>
              <a:rPr b="0" lang="de-DE" sz="1800" spc="-1" strike="noStrike">
                <a:solidFill>
                  <a:srgbClr val="f0f2d8"/>
                </a:solidFill>
                <a:latin typeface="Rockwell"/>
              </a:rPr>
              <a:t>und vollständig ausgeklammert?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f0f2d8"/>
                </a:solidFill>
                <a:latin typeface="Rockwell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f0f2d8"/>
                </a:solidFill>
                <a:latin typeface="Rockwell"/>
              </a:rPr>
              <a:t>Rechne selbst in deinem Heft nach!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3" name="Rahmen 4">
            <a:hlinkClick r:id="" action="ppaction://hlinkshowjump?jump=nextslide"/>
          </p:cNvPr>
          <p:cNvSpPr/>
          <p:nvPr/>
        </p:nvSpPr>
        <p:spPr>
          <a:xfrm>
            <a:off x="1332000" y="3789360"/>
            <a:ext cx="857160" cy="785880"/>
          </a:xfrm>
          <a:prstGeom prst="bevel">
            <a:avLst>
              <a:gd name="adj" fmla="val 12500"/>
            </a:avLst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Rockwel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Rahmen 5">
            <a:hlinkClick r:id="" action="ppaction://hlinkshowjump?jump=nextslide"/>
          </p:cNvPr>
          <p:cNvSpPr/>
          <p:nvPr/>
        </p:nvSpPr>
        <p:spPr>
          <a:xfrm>
            <a:off x="1324080" y="5519880"/>
            <a:ext cx="857160" cy="785520"/>
          </a:xfrm>
          <a:prstGeom prst="bevel">
            <a:avLst>
              <a:gd name="adj" fmla="val 12500"/>
            </a:avLst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Rockwel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Rahmen 6">
            <a:hlinkClick r:id="" action="ppaction://hlinkshowjump?jump=nextslide"/>
          </p:cNvPr>
          <p:cNvSpPr/>
          <p:nvPr/>
        </p:nvSpPr>
        <p:spPr>
          <a:xfrm>
            <a:off x="3635280" y="5516640"/>
            <a:ext cx="857520" cy="785880"/>
          </a:xfrm>
          <a:prstGeom prst="bevel">
            <a:avLst>
              <a:gd name="adj" fmla="val 12500"/>
            </a:avLst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Rockwel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Rahmen 7"/>
          <p:cNvSpPr/>
          <p:nvPr/>
        </p:nvSpPr>
        <p:spPr>
          <a:xfrm>
            <a:off x="3635280" y="3801960"/>
            <a:ext cx="857520" cy="785880"/>
          </a:xfrm>
          <a:prstGeom prst="bevel">
            <a:avLst>
              <a:gd name="adj" fmla="val 12500"/>
            </a:avLst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Rockwel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Ellipse 12"/>
          <p:cNvSpPr/>
          <p:nvPr/>
        </p:nvSpPr>
        <p:spPr>
          <a:xfrm>
            <a:off x="7643880" y="5500800"/>
            <a:ext cx="1500120" cy="1357200"/>
          </a:xfrm>
          <a:prstGeom prst="ellipse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ffffff"/>
                </a:solidFill>
                <a:latin typeface="Rockwell"/>
              </a:rPr>
              <a:t>8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8" name="Object 16"/>
          <p:cNvGraphicFramePr/>
          <p:nvPr/>
        </p:nvGraphicFramePr>
        <p:xfrm>
          <a:off x="1403280" y="1268280"/>
          <a:ext cx="403236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9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268280"/>
                    <a:ext cx="40323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0f2d8"/>
                </a:solidFill>
                <a:latin typeface="Rockwell"/>
              </a:rPr>
              <a:t>Das war leider falsch!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1" name="AutoShape 4"/>
          <p:cNvSpPr/>
          <p:nvPr/>
        </p:nvSpPr>
        <p:spPr>
          <a:xfrm flipH="1">
            <a:off x="1547640" y="2071800"/>
            <a:ext cx="6167520" cy="2797200"/>
          </a:xfrm>
          <a:custGeom>
            <a:avLst/>
            <a:gdLst>
              <a:gd name="textAreaLeft" fmla="*/ 726120 w 6167520"/>
              <a:gd name="textAreaRight" fmla="*/ 5441400 w 6167520"/>
              <a:gd name="textAreaTop" fmla="*/ 699120 h 2797200"/>
              <a:gd name="textAreaBottom" fmla="*/ 2098080 h 279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513" y="5400"/>
                </a:lnTo>
                <a:lnTo>
                  <a:pt x="16513" y="0"/>
                </a:lnTo>
                <a:lnTo>
                  <a:pt x="21600" y="10800"/>
                </a:lnTo>
                <a:lnTo>
                  <a:pt x="16513" y="21600"/>
                </a:lnTo>
                <a:lnTo>
                  <a:pt x="16513" y="16200"/>
                </a:lnTo>
                <a:lnTo>
                  <a:pt x="0" y="16200"/>
                </a:lnTo>
                <a:lnTo>
                  <a:pt x="2544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Bitte nochmal versuchen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Rechteck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Ellipse 5"/>
          <p:cNvSpPr/>
          <p:nvPr/>
        </p:nvSpPr>
        <p:spPr>
          <a:xfrm>
            <a:off x="3124080" y="1066680"/>
            <a:ext cx="2500560" cy="2500560"/>
          </a:xfrm>
          <a:prstGeom prst="ellipse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Rockwell"/>
              </a:rPr>
              <a:t>Klicke hier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Rockwell"/>
              </a:rPr>
              <a:t>oder wo an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767880" y="3860640"/>
            <a:ext cx="7210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Rockwell"/>
              </a:rPr>
              <a:t>Gratulation! Zwei stimmt!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Rockwell"/>
              </a:rPr>
              <a:t>Bei der ersten Gleichung kann man nur -2 ausklammern und bei der vierten Gleichung wurde zu wenig ausgeklammert.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Rockwell"/>
              </a:rPr>
              <a:t>Richtig gehst du in diesen beiden Beispielen wie folgt vor: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Rockwell"/>
              </a:rPr>
              <a:t>Und weiter geht‘s mit einem Klick!  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5" name="AutoShape 5"/>
          <p:cNvSpPr/>
          <p:nvPr/>
        </p:nvSpPr>
        <p:spPr>
          <a:xfrm>
            <a:off x="1763640" y="765000"/>
            <a:ext cx="5761080" cy="2802240"/>
          </a:xfrm>
          <a:prstGeom prst="irregularSeal2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Arial"/>
              </a:rPr>
              <a:t>Bingo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26" name="Object 8"/>
          <p:cNvGraphicFramePr/>
          <p:nvPr/>
        </p:nvGraphicFramePr>
        <p:xfrm>
          <a:off x="1216080" y="5300640"/>
          <a:ext cx="381636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6080" y="5300640"/>
                    <a:ext cx="3816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evt="end">
                                        <p:tn val="104"/>
                                      </p:cond>
                                    </p:stCondLst>
                                  </p:cTn>
                                  <p:tgtEl>
                                    <p:spTgt spid="7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hteck 11"/>
          <p:cNvSpPr/>
          <p:nvPr/>
        </p:nvSpPr>
        <p:spPr>
          <a:xfrm>
            <a:off x="1349280" y="5516640"/>
            <a:ext cx="1714680" cy="78588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Rechteck 10"/>
          <p:cNvSpPr/>
          <p:nvPr/>
        </p:nvSpPr>
        <p:spPr>
          <a:xfrm>
            <a:off x="3635280" y="5516640"/>
            <a:ext cx="1714680" cy="78588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Rechteck 8"/>
          <p:cNvSpPr/>
          <p:nvPr/>
        </p:nvSpPr>
        <p:spPr>
          <a:xfrm>
            <a:off x="3635280" y="3801960"/>
            <a:ext cx="1714680" cy="78588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Rechteck 9"/>
          <p:cNvSpPr/>
          <p:nvPr/>
        </p:nvSpPr>
        <p:spPr>
          <a:xfrm>
            <a:off x="1349280" y="3801960"/>
            <a:ext cx="1714680" cy="78588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Rectangle 3"/>
          <p:cNvSpPr/>
          <p:nvPr/>
        </p:nvSpPr>
        <p:spPr>
          <a:xfrm>
            <a:off x="1285920" y="2071800"/>
            <a:ext cx="428616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Rockwell"/>
              </a:rPr>
              <a:t>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Rockwel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Rockwell"/>
              </a:rPr>
              <a:t>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Rahmen 4">
            <a:hlinkClick r:id="" action="ppaction://hlinkshowjump?jump=nextslide"/>
          </p:cNvPr>
          <p:cNvSpPr/>
          <p:nvPr/>
        </p:nvSpPr>
        <p:spPr>
          <a:xfrm>
            <a:off x="1349280" y="3801960"/>
            <a:ext cx="857520" cy="785880"/>
          </a:xfrm>
          <a:prstGeom prst="bevel">
            <a:avLst>
              <a:gd name="adj" fmla="val 12500"/>
            </a:avLst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Rockwel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Rahmen 5">
            <a:hlinkClick r:id="" action="ppaction://hlinkshowjump?jump=nextslide"/>
          </p:cNvPr>
          <p:cNvSpPr/>
          <p:nvPr/>
        </p:nvSpPr>
        <p:spPr>
          <a:xfrm>
            <a:off x="1349280" y="5516640"/>
            <a:ext cx="857520" cy="785880"/>
          </a:xfrm>
          <a:prstGeom prst="bevel">
            <a:avLst>
              <a:gd name="adj" fmla="val 12500"/>
            </a:avLst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Rockwel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Rahmen 6"/>
          <p:cNvSpPr/>
          <p:nvPr/>
        </p:nvSpPr>
        <p:spPr>
          <a:xfrm>
            <a:off x="3635280" y="5516640"/>
            <a:ext cx="857520" cy="785880"/>
          </a:xfrm>
          <a:prstGeom prst="bevel">
            <a:avLst>
              <a:gd name="adj" fmla="val 12500"/>
            </a:avLst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Rockwel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Rahmen 7">
            <a:hlinkClick r:id="" action="ppaction://hlinkshowjump?jump=nextslide"/>
          </p:cNvPr>
          <p:cNvSpPr/>
          <p:nvPr/>
        </p:nvSpPr>
        <p:spPr>
          <a:xfrm>
            <a:off x="3635280" y="3801960"/>
            <a:ext cx="857520" cy="785880"/>
          </a:xfrm>
          <a:prstGeom prst="bevel">
            <a:avLst>
              <a:gd name="adj" fmla="val 12500"/>
            </a:avLst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Rockwel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Ellipse 12"/>
          <p:cNvSpPr/>
          <p:nvPr/>
        </p:nvSpPr>
        <p:spPr>
          <a:xfrm>
            <a:off x="7643880" y="5500800"/>
            <a:ext cx="1500120" cy="1357200"/>
          </a:xfrm>
          <a:prstGeom prst="ellipse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ffffff"/>
                </a:solidFill>
                <a:latin typeface="Rockwell"/>
              </a:rPr>
              <a:t>9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Rectangle 2"/>
          <p:cNvSpPr/>
          <p:nvPr/>
        </p:nvSpPr>
        <p:spPr>
          <a:xfrm>
            <a:off x="611280" y="404640"/>
            <a:ext cx="8064360" cy="29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0f2d8"/>
                </a:solidFill>
                <a:latin typeface="Rockwell"/>
              </a:rPr>
              <a:t>Um einen Term möglichst einfach darzustellen, geht man manchmal so vor, dass man zunächst sinnvoll ausklammert und dann den Rest vereinfacht.</a:t>
            </a:r>
            <a:br>
              <a:rPr sz="1800"/>
            </a:br>
            <a:r>
              <a:rPr b="0" lang="de-DE" sz="1800" spc="-1" strike="noStrike">
                <a:solidFill>
                  <a:srgbClr val="f0f2d8"/>
                </a:solidFill>
                <a:latin typeface="Rockwell"/>
              </a:rPr>
              <a:t> </a:t>
            </a:r>
            <a:br>
              <a:rPr sz="1800"/>
            </a:br>
            <a:r>
              <a:rPr b="0" lang="de-DE" sz="1800" spc="-1" strike="noStrike">
                <a:solidFill>
                  <a:srgbClr val="f0f2d8"/>
                </a:solidFill>
                <a:latin typeface="Rockwell"/>
              </a:rPr>
              <a:t>Welcher Term entsteht aus                                                wenn du so vorgehst? 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f0f2d8"/>
                </a:solidFill>
                <a:latin typeface="Rockwell"/>
              </a:rPr>
              <a:t>Sollte dir dies nicht gelingen, so kannst du hier auch zunächst das Distributivgesetz anwenden,  danach gleichartige Terme zusammenfassen und schließlich möglichst vollständig ausklammer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39" name="Object 21"/>
          <p:cNvGraphicFramePr/>
          <p:nvPr/>
        </p:nvGraphicFramePr>
        <p:xfrm>
          <a:off x="4500720" y="5805360"/>
          <a:ext cx="792000" cy="2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0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5805360"/>
                    <a:ext cx="79200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1" name="Object 22"/>
          <p:cNvGraphicFramePr/>
          <p:nvPr/>
        </p:nvGraphicFramePr>
        <p:xfrm>
          <a:off x="3564000" y="1628640"/>
          <a:ext cx="2663640" cy="31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2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1628640"/>
                    <a:ext cx="266364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3" name="Object 28"/>
          <p:cNvGraphicFramePr/>
          <p:nvPr/>
        </p:nvGraphicFramePr>
        <p:xfrm>
          <a:off x="2195640" y="4076640"/>
          <a:ext cx="792000" cy="28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4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95640" y="4076640"/>
                    <a:ext cx="79200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5" name="Object 29"/>
          <p:cNvGraphicFramePr/>
          <p:nvPr/>
        </p:nvGraphicFramePr>
        <p:xfrm>
          <a:off x="2195640" y="5805360"/>
          <a:ext cx="863640" cy="21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6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95640" y="5805360"/>
                    <a:ext cx="86364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7" name="Object 30"/>
          <p:cNvGraphicFramePr/>
          <p:nvPr/>
        </p:nvGraphicFramePr>
        <p:xfrm>
          <a:off x="4500720" y="4076640"/>
          <a:ext cx="792000" cy="289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48" name="Object 3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00720" y="4076640"/>
                    <a:ext cx="79200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0f2d8"/>
                </a:solidFill>
                <a:latin typeface="Rockwell"/>
              </a:rPr>
              <a:t>Das war leider falsch!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0" name="AutoShape 4"/>
          <p:cNvSpPr/>
          <p:nvPr/>
        </p:nvSpPr>
        <p:spPr>
          <a:xfrm flipH="1">
            <a:off x="1547640" y="2071800"/>
            <a:ext cx="6167520" cy="2797200"/>
          </a:xfrm>
          <a:custGeom>
            <a:avLst/>
            <a:gdLst>
              <a:gd name="textAreaLeft" fmla="*/ 726120 w 6167520"/>
              <a:gd name="textAreaRight" fmla="*/ 5441400 w 6167520"/>
              <a:gd name="textAreaTop" fmla="*/ 699120 h 2797200"/>
              <a:gd name="textAreaBottom" fmla="*/ 2098080 h 279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513" y="5400"/>
                </a:lnTo>
                <a:lnTo>
                  <a:pt x="16513" y="0"/>
                </a:lnTo>
                <a:lnTo>
                  <a:pt x="21600" y="10800"/>
                </a:lnTo>
                <a:lnTo>
                  <a:pt x="16513" y="21600"/>
                </a:lnTo>
                <a:lnTo>
                  <a:pt x="16513" y="16200"/>
                </a:lnTo>
                <a:lnTo>
                  <a:pt x="0" y="16200"/>
                </a:lnTo>
                <a:lnTo>
                  <a:pt x="2544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Bitte nochmal versuchen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Rechteck 8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Ellipse 4"/>
          <p:cNvSpPr/>
          <p:nvPr/>
        </p:nvSpPr>
        <p:spPr>
          <a:xfrm>
            <a:off x="3000240" y="1143000"/>
            <a:ext cx="2500560" cy="2500200"/>
          </a:xfrm>
          <a:prstGeom prst="ellipse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Rockwell"/>
              </a:rPr>
              <a:t>Klicke hier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Rockwell"/>
              </a:rPr>
              <a:t>oder wo an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324000" y="4005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Rockwell"/>
              </a:rPr>
              <a:t>Gratulation!                   stimmt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Rockwell"/>
              </a:rPr>
              <a:t>Rechnest du geschickt, so klammerst du zunächst         aus: 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Rockwell"/>
              </a:rPr>
              <a:t>Ansonsten kannst du auch so rechnen: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Rockwell"/>
              </a:rPr>
              <a:t>Und weiter geht‘s mit einem Klick!   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4" name="AutoShape 5"/>
          <p:cNvSpPr/>
          <p:nvPr/>
        </p:nvSpPr>
        <p:spPr>
          <a:xfrm>
            <a:off x="1763640" y="479520"/>
            <a:ext cx="5832720" cy="2808360"/>
          </a:xfrm>
          <a:prstGeom prst="irregularSeal2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Arial"/>
              </a:rPr>
              <a:t>Bingo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55" name="Object 6"/>
          <p:cNvGraphicFramePr/>
          <p:nvPr/>
        </p:nvGraphicFramePr>
        <p:xfrm>
          <a:off x="1741320" y="4005360"/>
          <a:ext cx="863640" cy="28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1320" y="4005360"/>
                    <a:ext cx="863640" cy="2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7" name="Object 8"/>
          <p:cNvGraphicFramePr/>
          <p:nvPr/>
        </p:nvGraphicFramePr>
        <p:xfrm>
          <a:off x="4594320" y="4941720"/>
          <a:ext cx="3024000" cy="129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4320" y="4941720"/>
                    <a:ext cx="302400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9" name="Object 10"/>
          <p:cNvGraphicFramePr/>
          <p:nvPr/>
        </p:nvGraphicFramePr>
        <p:xfrm>
          <a:off x="5651640" y="4365720"/>
          <a:ext cx="431640" cy="21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0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51640" y="4365720"/>
                    <a:ext cx="43164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1" name="Object 12"/>
          <p:cNvGraphicFramePr/>
          <p:nvPr/>
        </p:nvGraphicFramePr>
        <p:xfrm>
          <a:off x="5651640" y="4653000"/>
          <a:ext cx="2663640" cy="28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2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51640" y="4653000"/>
                    <a:ext cx="266364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evt="end">
                                        <p:tn val="118"/>
                                      </p:cond>
                                    </p:stCondLst>
                                  </p:cTn>
                                  <p:tgtEl>
                                    <p:spTgt spid="7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4" nodeType="afterEffect" fill="hold" presetClass="entr" presetID="7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hteck 11"/>
          <p:cNvSpPr/>
          <p:nvPr/>
        </p:nvSpPr>
        <p:spPr>
          <a:xfrm>
            <a:off x="1306440" y="5506920"/>
            <a:ext cx="1714680" cy="78588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Rechteck 10"/>
          <p:cNvSpPr/>
          <p:nvPr/>
        </p:nvSpPr>
        <p:spPr>
          <a:xfrm>
            <a:off x="3618000" y="5504040"/>
            <a:ext cx="1714320" cy="78552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Rechteck 8"/>
          <p:cNvSpPr/>
          <p:nvPr/>
        </p:nvSpPr>
        <p:spPr>
          <a:xfrm>
            <a:off x="3618000" y="3789360"/>
            <a:ext cx="1714320" cy="78588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Rechteck 9"/>
          <p:cNvSpPr/>
          <p:nvPr/>
        </p:nvSpPr>
        <p:spPr>
          <a:xfrm>
            <a:off x="1332000" y="3789360"/>
            <a:ext cx="1714320" cy="78588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1258920" y="3933720"/>
            <a:ext cx="428616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Rockwell"/>
              </a:rPr>
              <a:t>         </a:t>
            </a:r>
            <a:r>
              <a:rPr b="1" lang="de-DE" sz="2800" spc="-1" strike="noStrike">
                <a:solidFill>
                  <a:srgbClr val="ff0000"/>
                </a:solidFill>
                <a:latin typeface="Rockwell"/>
              </a:rPr>
              <a:t>vier                 zwei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Rockwell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Rockwell"/>
              </a:rPr>
              <a:t>          </a:t>
            </a:r>
            <a:r>
              <a:rPr b="1" lang="de-DE" sz="2800" spc="-1" strike="noStrike">
                <a:solidFill>
                  <a:srgbClr val="ff0000"/>
                </a:solidFill>
                <a:latin typeface="Rockwell"/>
              </a:rPr>
              <a:t>eine                 dre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Rockwell"/>
              </a:rPr>
              <a:t>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186920" y="333360"/>
            <a:ext cx="6885000" cy="29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0f2d8"/>
                </a:solidFill>
                <a:latin typeface="Rockwell"/>
              </a:rPr>
              <a:t>Wie viele der folgenden vier Berechnungen stimmen?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f0f2d8"/>
                </a:solidFill>
                <a:latin typeface="Rockwell"/>
              </a:rPr>
              <a:t>Rechne selbst in deinem Heft nach!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9" name="Rahmen 4">
            <a:hlinkClick r:id="" action="ppaction://hlinkshowjump?jump=nextslide"/>
          </p:cNvPr>
          <p:cNvSpPr/>
          <p:nvPr/>
        </p:nvSpPr>
        <p:spPr>
          <a:xfrm>
            <a:off x="1332000" y="3789360"/>
            <a:ext cx="857160" cy="785880"/>
          </a:xfrm>
          <a:prstGeom prst="bevel">
            <a:avLst>
              <a:gd name="adj" fmla="val 12500"/>
            </a:avLst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Rockwel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Rahmen 5">
            <a:hlinkClick r:id="" action="ppaction://hlinkshowjump?jump=nextslide"/>
          </p:cNvPr>
          <p:cNvSpPr/>
          <p:nvPr/>
        </p:nvSpPr>
        <p:spPr>
          <a:xfrm>
            <a:off x="1332000" y="5504040"/>
            <a:ext cx="857160" cy="785520"/>
          </a:xfrm>
          <a:prstGeom prst="bevel">
            <a:avLst>
              <a:gd name="adj" fmla="val 12500"/>
            </a:avLst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Rockwel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Rahmen 6"/>
          <p:cNvSpPr/>
          <p:nvPr/>
        </p:nvSpPr>
        <p:spPr>
          <a:xfrm>
            <a:off x="3618000" y="5504040"/>
            <a:ext cx="857160" cy="785520"/>
          </a:xfrm>
          <a:prstGeom prst="bevel">
            <a:avLst>
              <a:gd name="adj" fmla="val 12500"/>
            </a:avLst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Rockwel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Rahmen 7">
            <a:hlinkClick r:id="" action="ppaction://hlinkshowjump?jump=nextslide"/>
          </p:cNvPr>
          <p:cNvSpPr/>
          <p:nvPr/>
        </p:nvSpPr>
        <p:spPr>
          <a:xfrm>
            <a:off x="3618000" y="3789360"/>
            <a:ext cx="857160" cy="785880"/>
          </a:xfrm>
          <a:prstGeom prst="bevel">
            <a:avLst>
              <a:gd name="adj" fmla="val 12500"/>
            </a:avLst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Rockwel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Ellipse 16"/>
          <p:cNvSpPr/>
          <p:nvPr/>
        </p:nvSpPr>
        <p:spPr>
          <a:xfrm>
            <a:off x="7643880" y="5500800"/>
            <a:ext cx="1500120" cy="1357200"/>
          </a:xfrm>
          <a:prstGeom prst="ellipse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ffffff"/>
                </a:solidFill>
                <a:latin typeface="Rockwell"/>
              </a:rPr>
              <a:t>1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74" name="Object 20"/>
          <p:cNvGraphicFramePr/>
          <p:nvPr/>
        </p:nvGraphicFramePr>
        <p:xfrm>
          <a:off x="1332000" y="1125360"/>
          <a:ext cx="4680000" cy="13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5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125360"/>
                    <a:ext cx="4680000" cy="13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0f2d8"/>
                </a:solidFill>
                <a:latin typeface="Rockwell"/>
              </a:rPr>
              <a:t>Das war leider falsch!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5" name="AutoShape 4"/>
          <p:cNvSpPr/>
          <p:nvPr/>
        </p:nvSpPr>
        <p:spPr>
          <a:xfrm flipH="1">
            <a:off x="1547640" y="2071800"/>
            <a:ext cx="6167520" cy="2797200"/>
          </a:xfrm>
          <a:custGeom>
            <a:avLst/>
            <a:gdLst>
              <a:gd name="textAreaLeft" fmla="*/ 726120 w 6167520"/>
              <a:gd name="textAreaRight" fmla="*/ 5441400 w 6167520"/>
              <a:gd name="textAreaTop" fmla="*/ 699120 h 2797200"/>
              <a:gd name="textAreaBottom" fmla="*/ 2098080 h 279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513" y="5400"/>
                </a:lnTo>
                <a:lnTo>
                  <a:pt x="16513" y="0"/>
                </a:lnTo>
                <a:lnTo>
                  <a:pt x="21600" y="10800"/>
                </a:lnTo>
                <a:lnTo>
                  <a:pt x="16513" y="21600"/>
                </a:lnTo>
                <a:lnTo>
                  <a:pt x="16513" y="16200"/>
                </a:lnTo>
                <a:lnTo>
                  <a:pt x="0" y="16200"/>
                </a:lnTo>
                <a:lnTo>
                  <a:pt x="2544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Bitte nochmal versuchen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hteck 8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0f2d8"/>
                </a:solidFill>
                <a:latin typeface="Rockwell"/>
              </a:rPr>
              <a:t>Das war leider falsch!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7" name="AutoShape 4"/>
          <p:cNvSpPr/>
          <p:nvPr/>
        </p:nvSpPr>
        <p:spPr>
          <a:xfrm flipH="1">
            <a:off x="1547640" y="2071800"/>
            <a:ext cx="6167520" cy="2797200"/>
          </a:xfrm>
          <a:custGeom>
            <a:avLst/>
            <a:gdLst>
              <a:gd name="textAreaLeft" fmla="*/ 726120 w 6167520"/>
              <a:gd name="textAreaRight" fmla="*/ 5441400 w 6167520"/>
              <a:gd name="textAreaTop" fmla="*/ 699120 h 2797200"/>
              <a:gd name="textAreaBottom" fmla="*/ 2098080 h 279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513" y="5400"/>
                </a:lnTo>
                <a:lnTo>
                  <a:pt x="16513" y="0"/>
                </a:lnTo>
                <a:lnTo>
                  <a:pt x="21600" y="10800"/>
                </a:lnTo>
                <a:lnTo>
                  <a:pt x="16513" y="21600"/>
                </a:lnTo>
                <a:lnTo>
                  <a:pt x="16513" y="16200"/>
                </a:lnTo>
                <a:lnTo>
                  <a:pt x="0" y="16200"/>
                </a:lnTo>
                <a:lnTo>
                  <a:pt x="2544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Bitte nochmal versuchen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Rechteck 8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Ellipse 8"/>
          <p:cNvSpPr/>
          <p:nvPr/>
        </p:nvSpPr>
        <p:spPr>
          <a:xfrm>
            <a:off x="3786120" y="785880"/>
            <a:ext cx="1928880" cy="1785960"/>
          </a:xfrm>
          <a:prstGeom prst="ellipse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Rockwell"/>
              </a:rPr>
              <a:t>Klicke hier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Rockwell"/>
              </a:rPr>
              <a:t>oder wo an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456840" y="3499920"/>
            <a:ext cx="76438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Rockwell"/>
              </a:rPr>
              <a:t>Gratulation! Drei stimmt! Nur die erste Gleichung war falsch.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Rockwell"/>
              </a:rPr>
              <a:t>Die richtigen Rechnungen sehen wie folgt aus: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700" spc="-1" strike="noStrike">
                <a:solidFill>
                  <a:srgbClr val="ffffff"/>
                </a:solidFill>
                <a:latin typeface="Rockwell"/>
              </a:rPr>
              <a:t>Übernimm diese in dein Heft! Klicke noch einmal und du wirst sehen, dass dies …</a:t>
            </a:r>
            <a:r>
              <a:rPr b="0" lang="de-AT" sz="2200" spc="-1" strike="noStrike">
                <a:solidFill>
                  <a:srgbClr val="ffffff"/>
                </a:solidFill>
                <a:latin typeface="Rockwell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Rockwel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1" name="AutoShape 5"/>
          <p:cNvSpPr/>
          <p:nvPr/>
        </p:nvSpPr>
        <p:spPr>
          <a:xfrm>
            <a:off x="1403280" y="189000"/>
            <a:ext cx="6048360" cy="3095640"/>
          </a:xfrm>
          <a:prstGeom prst="irregularSeal2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Arial"/>
              </a:rPr>
              <a:t>Bingo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82" name="Object 13"/>
          <p:cNvGraphicFramePr/>
          <p:nvPr/>
        </p:nvGraphicFramePr>
        <p:xfrm>
          <a:off x="611280" y="4292640"/>
          <a:ext cx="7632720" cy="11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3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4292640"/>
                    <a:ext cx="763272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6" dur="1" fill="hold">
                                    <p:stCondLst>
                                      <p:cond evt="end">
                                        <p:tn val="132"/>
                                      </p:cond>
                                    </p:stCondLst>
                                  </p:cTn>
                                  <p:tgtEl>
                                    <p:spTgt spid="7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Rockwell"/>
              </a:rPr>
              <a:t>… </a:t>
            </a:r>
            <a:r>
              <a:rPr b="0" lang="de-DE" sz="4400" spc="-1" strike="noStrike">
                <a:solidFill>
                  <a:srgbClr val="ffffff"/>
                </a:solidFill>
                <a:latin typeface="Rockwell"/>
              </a:rPr>
              <a:t>das Ende dieses Quiz ist!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785" name="Picture 15" descr="C:\Users\Frank\AppData\Local\Microsoft\Windows\Temporary Internet Files\Content.IE5\2I5WOS3H\MMj03005030000[1].gif"/>
          <p:cNvPicPr/>
          <p:nvPr/>
        </p:nvPicPr>
        <p:blipFill>
          <a:blip r:embed="rId1"/>
          <a:stretch/>
        </p:blipFill>
        <p:spPr>
          <a:xfrm>
            <a:off x="428760" y="2357280"/>
            <a:ext cx="1928520" cy="192888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15" descr="C:\Users\Frank\AppData\Local\Microsoft\Windows\Temporary Internet Files\Content.IE5\2I5WOS3H\MMj03005030000[1].gif"/>
          <p:cNvPicPr/>
          <p:nvPr/>
        </p:nvPicPr>
        <p:blipFill>
          <a:blip r:embed="rId2"/>
          <a:stretch/>
        </p:blipFill>
        <p:spPr>
          <a:xfrm>
            <a:off x="6786720" y="2214720"/>
            <a:ext cx="1928520" cy="19285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15" descr="C:\Users\Frank\AppData\Local\Microsoft\Windows\Temporary Internet Files\Content.IE5\2I5WOS3H\MMj03005030000[1].gif"/>
          <p:cNvPicPr/>
          <p:nvPr/>
        </p:nvPicPr>
        <p:blipFill>
          <a:blip r:embed="rId3"/>
          <a:stretch/>
        </p:blipFill>
        <p:spPr>
          <a:xfrm>
            <a:off x="6357960" y="435780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15" descr="C:\Users\Frank\AppData\Local\Microsoft\Windows\Temporary Internet Files\Content.IE5\2I5WOS3H\MMj03005030000[1].gif"/>
          <p:cNvPicPr/>
          <p:nvPr/>
        </p:nvPicPr>
        <p:blipFill>
          <a:blip r:embed="rId4"/>
          <a:stretch/>
        </p:blipFill>
        <p:spPr>
          <a:xfrm>
            <a:off x="3786120" y="492912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5" descr="C:\Users\Frank\AppData\Local\Microsoft\Windows\Temporary Internet Files\Content.IE5\2I5WOS3H\MMj03005030000[1].gif"/>
          <p:cNvPicPr/>
          <p:nvPr/>
        </p:nvPicPr>
        <p:blipFill>
          <a:blip r:embed="rId5"/>
          <a:stretch/>
        </p:blipFill>
        <p:spPr>
          <a:xfrm>
            <a:off x="714240" y="442908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10" descr="ausgang, hinweis, schild, ausweg, ende"/>
          <p:cNvPicPr/>
          <p:nvPr/>
        </p:nvPicPr>
        <p:blipFill>
          <a:blip r:embed="rId6"/>
          <a:stretch/>
        </p:blipFill>
        <p:spPr>
          <a:xfrm>
            <a:off x="2556000" y="1628640"/>
            <a:ext cx="3671640" cy="3095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Ellipse 4"/>
          <p:cNvSpPr/>
          <p:nvPr/>
        </p:nvSpPr>
        <p:spPr>
          <a:xfrm>
            <a:off x="3000240" y="1143000"/>
            <a:ext cx="2500560" cy="2500200"/>
          </a:xfrm>
          <a:prstGeom prst="ellipse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Rockwell"/>
              </a:rPr>
              <a:t>Klicke hier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Rockwell"/>
              </a:rPr>
              <a:t>oder wo an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611280" y="4365360"/>
            <a:ext cx="691344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Rockwell"/>
              </a:rPr>
              <a:t>Gratulation: 3626 stimmt!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Rockwell"/>
              </a:rPr>
              <a:t>Und weiter geht‘s mit einem Klick!</a:t>
            </a:r>
            <a:r>
              <a:rPr b="0" lang="de-AT" sz="3000" spc="-1" strike="noStrike">
                <a:solidFill>
                  <a:srgbClr val="ffffff"/>
                </a:solidFill>
                <a:latin typeface="Rockwell"/>
              </a:rPr>
              <a:t>   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9" name="AutoShape 5"/>
          <p:cNvSpPr/>
          <p:nvPr/>
        </p:nvSpPr>
        <p:spPr>
          <a:xfrm>
            <a:off x="755640" y="260280"/>
            <a:ext cx="7416720" cy="3745080"/>
          </a:xfrm>
          <a:prstGeom prst="irregularSeal2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Arial"/>
              </a:rPr>
              <a:t>Bingo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0" name="Object 7"/>
          <p:cNvGraphicFramePr/>
          <p:nvPr/>
        </p:nvGraphicFramePr>
        <p:xfrm>
          <a:off x="4786200" y="4857840"/>
          <a:ext cx="324036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6200" y="4857840"/>
                    <a:ext cx="324036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5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hteck 8"/>
          <p:cNvSpPr/>
          <p:nvPr/>
        </p:nvSpPr>
        <p:spPr>
          <a:xfrm>
            <a:off x="3700440" y="3719520"/>
            <a:ext cx="1728720" cy="78588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hteck 9"/>
          <p:cNvSpPr/>
          <p:nvPr/>
        </p:nvSpPr>
        <p:spPr>
          <a:xfrm>
            <a:off x="1422360" y="3730680"/>
            <a:ext cx="1714680" cy="78588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hteck 10"/>
          <p:cNvSpPr/>
          <p:nvPr/>
        </p:nvSpPr>
        <p:spPr>
          <a:xfrm>
            <a:off x="3708360" y="5445000"/>
            <a:ext cx="1714680" cy="78588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hteck 11"/>
          <p:cNvSpPr/>
          <p:nvPr/>
        </p:nvSpPr>
        <p:spPr>
          <a:xfrm>
            <a:off x="1422360" y="5445000"/>
            <a:ext cx="1714680" cy="78588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0f2d8"/>
                </a:solidFill>
                <a:latin typeface="Rockwell"/>
              </a:rPr>
              <a:t>Für das Berechnen von Termen ist das Distributivgesetz wichtig. Dabei wird der Faktor vor der Klammer auf die Summanden innerhalb der Klammer verteilt. 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f0f2d8"/>
                </a:solidFill>
                <a:latin typeface="Rockwell"/>
              </a:rPr>
              <a:t>Im allgemeinen Distributivgesetz besteht der Faktor selbst aus einer Summe.</a:t>
            </a:r>
            <a:br>
              <a:rPr sz="1800"/>
            </a:br>
            <a:r>
              <a:rPr b="0" lang="de-DE" sz="1800" spc="-1" strike="noStrike">
                <a:solidFill>
                  <a:srgbClr val="f0f2d8"/>
                </a:solidFill>
                <a:latin typeface="Rockwell"/>
              </a:rPr>
              <a:t>Welches Ergebnis errechnest du hier auf der rechten Seite?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1285560" y="2142720"/>
            <a:ext cx="43578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Rockwell"/>
              </a:rPr>
              <a:t>                                  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Rockwel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Rockwell"/>
              </a:rPr>
              <a:t>                             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8" name="Rahmen 4">
            <a:hlinkClick r:id="" action="ppaction://hlinkshowjump?jump=nextslide"/>
          </p:cNvPr>
          <p:cNvSpPr/>
          <p:nvPr/>
        </p:nvSpPr>
        <p:spPr>
          <a:xfrm>
            <a:off x="1403280" y="3716280"/>
            <a:ext cx="857160" cy="785880"/>
          </a:xfrm>
          <a:prstGeom prst="bevel">
            <a:avLst>
              <a:gd name="adj" fmla="val 12500"/>
            </a:avLst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db5353"/>
                </a:solidFill>
                <a:uFillTx/>
                <a:latin typeface="Rockwell"/>
                <a:hlinkClick r:id="rId1" action="ppaction://hlinksldjump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ahmen 5">
            <a:hlinkClick r:id="" action="ppaction://hlinkshowjump?jump=nextslide"/>
          </p:cNvPr>
          <p:cNvSpPr/>
          <p:nvPr/>
        </p:nvSpPr>
        <p:spPr>
          <a:xfrm>
            <a:off x="1422360" y="5445000"/>
            <a:ext cx="857160" cy="785880"/>
          </a:xfrm>
          <a:prstGeom prst="bevel">
            <a:avLst>
              <a:gd name="adj" fmla="val 12500"/>
            </a:avLst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db5353"/>
                </a:solidFill>
                <a:uFillTx/>
                <a:latin typeface="Rockwell"/>
                <a:hlinkClick r:id="rId2" action="ppaction://hlinksldjump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Rahmen 6">
            <a:hlinkClick r:id="" action="ppaction://hlinkshowjump?jump=nextslide"/>
          </p:cNvPr>
          <p:cNvSpPr/>
          <p:nvPr/>
        </p:nvSpPr>
        <p:spPr>
          <a:xfrm>
            <a:off x="3708360" y="5445000"/>
            <a:ext cx="857160" cy="785880"/>
          </a:xfrm>
          <a:prstGeom prst="bevel">
            <a:avLst>
              <a:gd name="adj" fmla="val 12500"/>
            </a:avLst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db5353"/>
                </a:solidFill>
                <a:uFillTx/>
                <a:latin typeface="Rockwell"/>
                <a:hlinkClick r:id="rId3" action="ppaction://hlinksldjump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Rahmen 7">
            <a:hlinkClick r:id="rId4" action="ppaction://hlinksldjump"/>
          </p:cNvPr>
          <p:cNvSpPr/>
          <p:nvPr/>
        </p:nvSpPr>
        <p:spPr>
          <a:xfrm>
            <a:off x="3700440" y="3719520"/>
            <a:ext cx="857160" cy="785880"/>
          </a:xfrm>
          <a:prstGeom prst="bevel">
            <a:avLst>
              <a:gd name="adj" fmla="val 12500"/>
            </a:avLst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db5353"/>
                </a:solidFill>
                <a:uFillTx/>
                <a:latin typeface="Rockwell"/>
                <a:hlinkClick r:id="rId5" action="ppaction://hlinksldjump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Ellipse 12"/>
          <p:cNvSpPr/>
          <p:nvPr/>
        </p:nvSpPr>
        <p:spPr>
          <a:xfrm>
            <a:off x="7643880" y="5500800"/>
            <a:ext cx="1500120" cy="1357200"/>
          </a:xfrm>
          <a:prstGeom prst="ellipse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ffffff"/>
                </a:solidFill>
                <a:latin typeface="Rockwell"/>
              </a:rPr>
              <a:t>2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3" name="Object 14"/>
          <p:cNvGraphicFramePr/>
          <p:nvPr/>
        </p:nvGraphicFramePr>
        <p:xfrm>
          <a:off x="3500280" y="1341360"/>
          <a:ext cx="202752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34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00280" y="1341360"/>
                    <a:ext cx="202752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Object 16"/>
          <p:cNvGraphicFramePr/>
          <p:nvPr/>
        </p:nvGraphicFramePr>
        <p:xfrm>
          <a:off x="2627280" y="2643120"/>
          <a:ext cx="2313000" cy="357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36" name="Object 1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27280" y="2643120"/>
                    <a:ext cx="231300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7" name="Object 20"/>
          <p:cNvGraphicFramePr/>
          <p:nvPr/>
        </p:nvGraphicFramePr>
        <p:xfrm>
          <a:off x="4565520" y="3792600"/>
          <a:ext cx="838440" cy="574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38" name="Object 2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565520" y="3792600"/>
                    <a:ext cx="83844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9" name="Object 24"/>
          <p:cNvGraphicFramePr/>
          <p:nvPr/>
        </p:nvGraphicFramePr>
        <p:xfrm>
          <a:off x="2189160" y="5735520"/>
          <a:ext cx="979560" cy="216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40" name="Object 2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189160" y="5735520"/>
                    <a:ext cx="97956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1" name="Object 25"/>
          <p:cNvGraphicFramePr/>
          <p:nvPr/>
        </p:nvGraphicFramePr>
        <p:xfrm>
          <a:off x="2260440" y="3792600"/>
          <a:ext cx="863640" cy="6476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42" name="Object 25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260440" y="3792600"/>
                    <a:ext cx="8636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3" name="Object 27"/>
          <p:cNvGraphicFramePr/>
          <p:nvPr/>
        </p:nvGraphicFramePr>
        <p:xfrm>
          <a:off x="4637160" y="5519880"/>
          <a:ext cx="720720" cy="6476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44" name="Object 27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637160" y="5519880"/>
                    <a:ext cx="7207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0f2d8"/>
                </a:solidFill>
                <a:latin typeface="Rockwell"/>
              </a:rPr>
              <a:t>Das war leider falsch!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6" name="AutoShape 4"/>
          <p:cNvSpPr/>
          <p:nvPr/>
        </p:nvSpPr>
        <p:spPr>
          <a:xfrm flipH="1">
            <a:off x="1547640" y="2071800"/>
            <a:ext cx="6167520" cy="2797200"/>
          </a:xfrm>
          <a:custGeom>
            <a:avLst/>
            <a:gdLst>
              <a:gd name="textAreaLeft" fmla="*/ 726120 w 6167520"/>
              <a:gd name="textAreaRight" fmla="*/ 5441400 w 6167520"/>
              <a:gd name="textAreaTop" fmla="*/ 699120 h 2797200"/>
              <a:gd name="textAreaBottom" fmla="*/ 2098080 h 279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513" y="5400"/>
                </a:lnTo>
                <a:lnTo>
                  <a:pt x="16513" y="0"/>
                </a:lnTo>
                <a:lnTo>
                  <a:pt x="21600" y="10800"/>
                </a:lnTo>
                <a:lnTo>
                  <a:pt x="16513" y="21600"/>
                </a:lnTo>
                <a:lnTo>
                  <a:pt x="16513" y="16200"/>
                </a:lnTo>
                <a:lnTo>
                  <a:pt x="0" y="16200"/>
                </a:lnTo>
                <a:lnTo>
                  <a:pt x="2544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Bitte nochmal versuchen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Rechteck 8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Ellipse 5"/>
          <p:cNvSpPr/>
          <p:nvPr/>
        </p:nvSpPr>
        <p:spPr>
          <a:xfrm>
            <a:off x="3000240" y="1143000"/>
            <a:ext cx="2500560" cy="2500200"/>
          </a:xfrm>
          <a:prstGeom prst="ellipse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Rockwell"/>
              </a:rPr>
              <a:t>Klicke hier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Rockwell"/>
              </a:rPr>
              <a:t>oder wo an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28400" y="3860640"/>
            <a:ext cx="83199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Rockwell"/>
              </a:rPr>
              <a:t>Gratulation! Das allgemeine Distributivgesetz lautet: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Rockwell"/>
              </a:rPr>
              <a:t>Es entstehen also vier Summanden, wenn man die beiden Summen miteinander multipliziert. 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Rockwell"/>
              </a:rPr>
              <a:t>Notiere das Distributivgesetz jetzt in deinem Heft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Rockwell"/>
              </a:rPr>
              <a:t>                 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Rockwell"/>
              </a:rPr>
              <a:t>Und weiter geht‘s mit einem Klick!   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0" name="AutoShape 5"/>
          <p:cNvSpPr/>
          <p:nvPr/>
        </p:nvSpPr>
        <p:spPr>
          <a:xfrm>
            <a:off x="1214280" y="642960"/>
            <a:ext cx="6786720" cy="3146400"/>
          </a:xfrm>
          <a:prstGeom prst="irregularSeal2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Arial"/>
              </a:rPr>
              <a:t>Bingo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1" name="Object 9"/>
          <p:cNvGraphicFramePr/>
          <p:nvPr/>
        </p:nvGraphicFramePr>
        <p:xfrm>
          <a:off x="3000240" y="4429080"/>
          <a:ext cx="3456000" cy="3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0240" y="4429080"/>
                    <a:ext cx="345600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evt="end">
                                        <p:tn val="19"/>
                                      </p:cond>
                                    </p:stCondLst>
                                  </p:cTn>
                                  <p:tgtEl>
                                    <p:spTgt spid="5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7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hteck 8"/>
          <p:cNvSpPr/>
          <p:nvPr/>
        </p:nvSpPr>
        <p:spPr>
          <a:xfrm>
            <a:off x="3643200" y="3800520"/>
            <a:ext cx="1714680" cy="78588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hteck 9"/>
          <p:cNvSpPr/>
          <p:nvPr/>
        </p:nvSpPr>
        <p:spPr>
          <a:xfrm>
            <a:off x="1357200" y="3800520"/>
            <a:ext cx="1714680" cy="78588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Rechteck 10"/>
          <p:cNvSpPr/>
          <p:nvPr/>
        </p:nvSpPr>
        <p:spPr>
          <a:xfrm>
            <a:off x="3643200" y="5514840"/>
            <a:ext cx="1714680" cy="78588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Rechteck 11"/>
          <p:cNvSpPr/>
          <p:nvPr/>
        </p:nvSpPr>
        <p:spPr>
          <a:xfrm>
            <a:off x="1357200" y="5514840"/>
            <a:ext cx="1714680" cy="78588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f0f2d8"/>
                </a:solidFill>
                <a:latin typeface="Rockwell"/>
              </a:rPr>
              <a:t>Multipliziere aus, indem du das Distributivgesetz verwendest und anschließend gleichartige Terme zusammenfasst: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f0f2d8"/>
                </a:solidFill>
                <a:latin typeface="Rockwell"/>
              </a:rPr>
              <a:t>Dein Ergebnis lautet: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1258560" y="2133360"/>
            <a:ext cx="43578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Rockwell"/>
              </a:rPr>
              <a:t>                                   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Rockwel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Rockwell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Rockwell"/>
              </a:rPr>
              <a:t>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9" name="Rahmen 4">
            <a:hlinkClick r:id="rId1" action="ppaction://hlinksldjump"/>
          </p:cNvPr>
          <p:cNvSpPr/>
          <p:nvPr/>
        </p:nvSpPr>
        <p:spPr>
          <a:xfrm>
            <a:off x="1357200" y="3800520"/>
            <a:ext cx="857520" cy="785880"/>
          </a:xfrm>
          <a:prstGeom prst="bevel">
            <a:avLst>
              <a:gd name="adj" fmla="val 12500"/>
            </a:avLst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db5353"/>
                </a:solidFill>
                <a:uFillTx/>
                <a:latin typeface="Rockwell"/>
                <a:hlinkClick r:id="rId2" action="ppaction://hlinksldjump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ahmen 5">
            <a:hlinkClick r:id="" action="ppaction://hlinkshowjump?jump=nextslide"/>
          </p:cNvPr>
          <p:cNvSpPr/>
          <p:nvPr/>
        </p:nvSpPr>
        <p:spPr>
          <a:xfrm>
            <a:off x="1357200" y="5514840"/>
            <a:ext cx="857520" cy="785880"/>
          </a:xfrm>
          <a:prstGeom prst="bevel">
            <a:avLst>
              <a:gd name="adj" fmla="val 12500"/>
            </a:avLst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db5353"/>
                </a:solidFill>
                <a:uFillTx/>
                <a:latin typeface="Rockwell"/>
                <a:hlinkClick r:id="rId3" action="ppaction://hlinksldjump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ahmen 6">
            <a:hlinkClick r:id="" action="ppaction://hlinkshowjump?jump=nextslide"/>
          </p:cNvPr>
          <p:cNvSpPr/>
          <p:nvPr/>
        </p:nvSpPr>
        <p:spPr>
          <a:xfrm>
            <a:off x="3643200" y="5514840"/>
            <a:ext cx="857520" cy="785880"/>
          </a:xfrm>
          <a:prstGeom prst="bevel">
            <a:avLst>
              <a:gd name="adj" fmla="val 12500"/>
            </a:avLst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db5353"/>
                </a:solidFill>
                <a:uFillTx/>
                <a:latin typeface="Rockwell"/>
                <a:hlinkClick r:id="rId4" action="ppaction://hlinksldjump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ahmen 7">
            <a:hlinkClick r:id="" action="ppaction://hlinkshowjump?jump=nextslide"/>
          </p:cNvPr>
          <p:cNvSpPr/>
          <p:nvPr/>
        </p:nvSpPr>
        <p:spPr>
          <a:xfrm>
            <a:off x="3643200" y="3800520"/>
            <a:ext cx="857520" cy="785880"/>
          </a:xfrm>
          <a:prstGeom prst="bevel">
            <a:avLst>
              <a:gd name="adj" fmla="val 12500"/>
            </a:avLst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db5353"/>
                </a:solidFill>
                <a:uFillTx/>
                <a:latin typeface="Rockwell"/>
                <a:hlinkClick r:id="rId5" action="ppaction://hlinksldjump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Ellipse 12"/>
          <p:cNvSpPr/>
          <p:nvPr/>
        </p:nvSpPr>
        <p:spPr>
          <a:xfrm>
            <a:off x="7643880" y="5500800"/>
            <a:ext cx="1500120" cy="1357200"/>
          </a:xfrm>
          <a:prstGeom prst="ellipse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ffffff"/>
                </a:solidFill>
                <a:latin typeface="Rockwell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4" name="Object 16"/>
          <p:cNvGraphicFramePr/>
          <p:nvPr/>
        </p:nvGraphicFramePr>
        <p:xfrm>
          <a:off x="2786040" y="1643040"/>
          <a:ext cx="2664000" cy="289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65" name="Object 1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86040" y="1643040"/>
                    <a:ext cx="266400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Object 18"/>
          <p:cNvGraphicFramePr/>
          <p:nvPr/>
        </p:nvGraphicFramePr>
        <p:xfrm>
          <a:off x="2268360" y="4005360"/>
          <a:ext cx="576360" cy="360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7" name="Object 1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68360" y="4005360"/>
                    <a:ext cx="576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8" name="Object 22"/>
          <p:cNvGraphicFramePr/>
          <p:nvPr/>
        </p:nvGraphicFramePr>
        <p:xfrm>
          <a:off x="4356000" y="4005360"/>
          <a:ext cx="1008000" cy="360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69" name="Object 2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356000" y="4005360"/>
                    <a:ext cx="100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Object 23"/>
          <p:cNvGraphicFramePr/>
          <p:nvPr/>
        </p:nvGraphicFramePr>
        <p:xfrm>
          <a:off x="2268360" y="5746680"/>
          <a:ext cx="719280" cy="346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71" name="Object 2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68360" y="5746680"/>
                    <a:ext cx="71928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2" name="Object 24"/>
          <p:cNvGraphicFramePr/>
          <p:nvPr/>
        </p:nvGraphicFramePr>
        <p:xfrm>
          <a:off x="4356000" y="5734080"/>
          <a:ext cx="1008000" cy="3715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73" name="Object 24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356000" y="5734080"/>
                    <a:ext cx="10080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0f2d8"/>
                </a:solidFill>
                <a:latin typeface="Rockwell"/>
              </a:rPr>
              <a:t>Das war leider falsch!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5" name="AutoShape 4"/>
          <p:cNvSpPr/>
          <p:nvPr/>
        </p:nvSpPr>
        <p:spPr>
          <a:xfrm flipH="1">
            <a:off x="1547640" y="2071800"/>
            <a:ext cx="6167520" cy="2797200"/>
          </a:xfrm>
          <a:custGeom>
            <a:avLst/>
            <a:gdLst>
              <a:gd name="textAreaLeft" fmla="*/ 726120 w 6167520"/>
              <a:gd name="textAreaRight" fmla="*/ 5441400 w 6167520"/>
              <a:gd name="textAreaTop" fmla="*/ 699120 h 2797200"/>
              <a:gd name="textAreaBottom" fmla="*/ 2098080 h 279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513" y="5400"/>
                </a:lnTo>
                <a:lnTo>
                  <a:pt x="16513" y="0"/>
                </a:lnTo>
                <a:lnTo>
                  <a:pt x="21600" y="10800"/>
                </a:lnTo>
                <a:lnTo>
                  <a:pt x="16513" y="21600"/>
                </a:lnTo>
                <a:lnTo>
                  <a:pt x="16513" y="16200"/>
                </a:lnTo>
                <a:lnTo>
                  <a:pt x="0" y="16200"/>
                </a:lnTo>
                <a:lnTo>
                  <a:pt x="2544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Bitte nochmal versuchen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Rechteck 8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12:50:43Z</dcterms:created>
  <dc:creator>Frank Zeilfelder</dc:creator>
  <dc:description/>
  <dc:language>en-US</dc:language>
  <cp:lastModifiedBy>Brosch-Kammerer, Gabriele (LS)</cp:lastModifiedBy>
  <dcterms:modified xsi:type="dcterms:W3CDTF">2013-05-16T09:42:11Z</dcterms:modified>
  <cp:revision>233</cp:revision>
  <dc:subject/>
  <dc:title>Quiz Exponentialfunktion</dc:title>
</cp:coreProperties>
</file>