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2.wmf" ContentType="image/x-wmf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0.wmf" ContentType="image/x-wmf"/>
  <Override PartName="/ppt/media/image6.png" ContentType="image/png"/>
  <Override PartName="/ppt/media/image41.png" ContentType="image/png"/>
  <Override PartName="/ppt/media/image39.wmf" ContentType="image/x-wmf"/>
  <Override PartName="/ppt/media/image38.png" ContentType="image/png"/>
  <Override PartName="/ppt/media/image60.wmf" ContentType="image/x-wmf"/>
  <Override PartName="/ppt/media/image36.wmf" ContentType="image/x-wmf"/>
  <Override PartName="/ppt/media/image35.png" ContentType="image/png"/>
  <Override PartName="/ppt/media/image34.wmf" ContentType="image/x-wmf"/>
  <Override PartName="/ppt/media/image31.wmf" ContentType="image/x-wmf"/>
  <Override PartName="/ppt/media/image74.png" ContentType="image/png"/>
  <Override PartName="/ppt/media/image13.wmf" ContentType="image/x-wmf"/>
  <Override PartName="/ppt/media/image56.png" ContentType="image/png"/>
  <Override PartName="/ppt/media/image17.wmf" ContentType="image/x-wmf"/>
  <Override PartName="/ppt/media/image5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37.wmf" ContentType="image/x-wmf"/>
  <Override PartName="/ppt/media/image7.wmf" ContentType="image/x-wmf"/>
  <Override PartName="/ppt/media/image84.wmf" ContentType="image/x-wmf"/>
  <Override PartName="/ppt/media/image30.png" ContentType="image/png"/>
  <Override PartName="/ppt/media/image27.wmf" ContentType="image/x-wmf"/>
  <Override PartName="/ppt/media/image62.wmf" ContentType="image/x-wmf"/>
  <Override PartName="/ppt/media/image22.png" ContentType="image/png"/>
  <Override PartName="/ppt/media/image91.wmf" ContentType="image/x-wmf"/>
  <Override PartName="/ppt/media/image26.wmf" ContentType="image/x-wmf"/>
  <Override PartName="/ppt/media/image63.wmf" ContentType="image/x-wmf"/>
  <Override PartName="/ppt/media/image66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8.wmf" ContentType="image/x-wmf"/>
  <Override PartName="/ppt/media/image70.png" ContentType="image/png"/>
  <Override PartName="/ppt/media/image85.png" ContentType="image/png"/>
  <Override PartName="/ppt/media/image73.png" ContentType="image/png"/>
  <Override PartName="/ppt/media/image23.wmf" ContentType="image/x-wmf"/>
  <Override PartName="/ppt/media/image95.wmf" ContentType="image/x-wmf"/>
  <Override PartName="/ppt/media/image90.wmf" ContentType="image/x-wmf"/>
  <Override PartName="/ppt/media/image87.png" ContentType="image/png"/>
  <Override PartName="/ppt/media/image72.wmf" ContentType="image/x-wmf"/>
  <Override PartName="/ppt/media/image86.wmf" ContentType="image/x-wmf"/>
  <Override PartName="/ppt/media/image65.wmf" ContentType="image/x-wmf"/>
  <Override PartName="/ppt/media/image25.png" ContentType="image/png"/>
  <Override PartName="/ppt/media/image82.png" ContentType="image/png"/>
  <Override PartName="/ppt/media/image78.wmf" ContentType="image/x-wmf"/>
  <Override PartName="/ppt/media/image77.wmf" ContentType="image/x-wmf"/>
  <Override PartName="/ppt/media/image67.png" ContentType="image/png"/>
  <Override PartName="/ppt/media/image24.wmf" ContentType="image/x-wmf"/>
  <Override PartName="/ppt/media/image61.wmf" ContentType="image/x-wmf"/>
  <Override PartName="/ppt/media/image96.wmf" ContentType="image/x-wmf"/>
  <Override PartName="/ppt/media/image76.png" ContentType="image/png"/>
  <Override PartName="/ppt/media/image92.png" ContentType="image/png"/>
  <Override PartName="/ppt/media/image75.wmf" ContentType="image/x-wmf"/>
  <Override PartName="/ppt/media/image59.png" ContentType="image/png"/>
  <Override PartName="/ppt/media/image81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png" ContentType="image/png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80.wmf" ContentType="image/x-wmf"/>
  <Override PartName="/ppt/media/image15.wmf" ContentType="image/x-wmf"/>
  <Override PartName="/ppt/media/image54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93.wmf" ContentType="image/x-wmf"/>
  <Override PartName="/ppt/media/image2.png" ContentType="image/png"/>
  <Override PartName="/ppt/media/image14.png" ContentType="image/png"/>
  <Override PartName="/ppt/media/image10.wmf" ContentType="image/x-wmf"/>
  <Override PartName="/ppt/media/image79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9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46C-DCF1-46E1-B6CC-44287C6D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C1B-A7FC-4036-9A1E-88AFB6AF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5CE-96BB-4C30-A53E-D122A0E5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D04-9FCA-4E78-8F47-4676592A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8E5-5987-4456-85B0-8B71BA6D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DC2-70D1-41D2-BDA2-2937679A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E42-3001-4F61-A6D1-E09D375F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DBA-4E15-4FEC-B636-823CE04C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363-22A1-4BF0-BBA9-0B4D8C1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55E-170C-4479-B683-0FDBB43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BB2-384F-4B0B-B0D6-C70B30F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BF8-2545-46CE-BB12-4F41B24D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0AE-B422-4074-A04D-EC8975E114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0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05" name="Textfeld 8"/>
          <p:cNvSpPr/>
          <p:nvPr/>
        </p:nvSpPr>
        <p:spPr>
          <a:xfrm>
            <a:off x="1857240" y="235728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21"/>
          <p:cNvSpPr/>
          <p:nvPr/>
        </p:nvSpPr>
        <p:spPr>
          <a:xfrm>
            <a:off x="2071800" y="2500200"/>
            <a:ext cx="528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nach o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maler als die Normalpar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16"/>
          <p:cNvGraphicFramePr/>
          <p:nvPr/>
        </p:nvGraphicFramePr>
        <p:xfrm>
          <a:off x="4978440" y="2928960"/>
          <a:ext cx="1665360" cy="6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78440" y="2928960"/>
                    <a:ext cx="16653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en Streckungsfaktor 0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Schnittpunkte gibt es mit der x-Achse und waru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132000" y="2781360"/>
          <a:ext cx="143064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1360"/>
                    <a:ext cx="1430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29440"/>
          </a:xfrm>
          <a:prstGeom prst="rect">
            <a:avLst/>
          </a:prstGeom>
          <a:ln w="0">
            <a:noFill/>
          </a:ln>
        </p:spPr>
      </p:pic>
      <p:sp>
        <p:nvSpPr>
          <p:cNvPr id="11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2" name="Textfeld 8"/>
          <p:cNvSpPr/>
          <p:nvPr/>
        </p:nvSpPr>
        <p:spPr>
          <a:xfrm>
            <a:off x="1857240" y="264312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zwei Schnittpunkte mit der x-Achse, weil die Parabel nach oben geöffnet ist und der Scheitelpunkt unterhalb der x-Achse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8"/>
          <p:cNvSpPr/>
          <p:nvPr/>
        </p:nvSpPr>
        <p:spPr>
          <a:xfrm>
            <a:off x="1857240" y="1928880"/>
            <a:ext cx="55008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ib die Koordinaten des Schnittpunktes der Parabel mit der y-Achse 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2556000" y="3382920"/>
          <a:ext cx="28144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382920"/>
                    <a:ext cx="2814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3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857760" y="3143160"/>
          <a:ext cx="154116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7760" y="3143160"/>
                    <a:ext cx="154116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304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8"/>
          <p:cNvSpPr/>
          <p:nvPr/>
        </p:nvSpPr>
        <p:spPr>
          <a:xfrm>
            <a:off x="1643040" y="1928880"/>
            <a:ext cx="607212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als Scheitelpunk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hat den Streckungsfak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1,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Parabelgleichu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427640" y="2349360"/>
          <a:ext cx="1643040" cy="5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349360"/>
                    <a:ext cx="164304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2786040" y="3000240"/>
          <a:ext cx="3861000" cy="78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86040" y="3000240"/>
                    <a:ext cx="3861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0" name="Textfeld 8"/>
          <p:cNvSpPr/>
          <p:nvPr/>
        </p:nvSpPr>
        <p:spPr>
          <a:xfrm>
            <a:off x="1857240" y="19162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folgende Parabelgleichung auf die allgemeine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714760" y="3500280"/>
          <a:ext cx="30812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3500280"/>
                    <a:ext cx="3081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6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2928960" y="2928960"/>
          <a:ext cx="306072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8960" y="2928960"/>
                    <a:ext cx="30607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die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y-Wert des Punktes             , der auf der Parabel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4570560" y="2265480"/>
          <a:ext cx="266544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0560" y="2265480"/>
                    <a:ext cx="266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3564000" y="3645000"/>
          <a:ext cx="13572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645000"/>
                    <a:ext cx="13572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pic>
        <p:nvPicPr>
          <p:cNvPr id="46" name="Diagramm 7" descr=""/>
          <p:cNvPicPr/>
          <p:nvPr/>
        </p:nvPicPr>
        <p:blipFill>
          <a:blip r:embed="rId2"/>
          <a:stretch/>
        </p:blipFill>
        <p:spPr>
          <a:xfrm>
            <a:off x="1517760" y="1328760"/>
            <a:ext cx="61084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7"/>
          <p:cNvGraphicFramePr/>
          <p:nvPr/>
        </p:nvGraphicFramePr>
        <p:xfrm>
          <a:off x="3786120" y="2979720"/>
          <a:ext cx="142884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6120" y="2979720"/>
                    <a:ext cx="1428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hat den Scheitelpunkt              und den Streckungsfaktor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Symmetrieachse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4572000" y="2357280"/>
          <a:ext cx="14414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57280"/>
                    <a:ext cx="1441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04" name="Textfeld 8"/>
          <p:cNvSpPr/>
          <p:nvPr/>
        </p:nvSpPr>
        <p:spPr>
          <a:xfrm>
            <a:off x="1835280" y="2637000"/>
            <a:ext cx="53575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mit dem Scheitelpunkt           hat den Streckungsfaktor 1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gemeinsame Punkte hat die Parabel mit der x-Achse? Gib die Koordinaten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510080" y="2349360"/>
          <a:ext cx="12142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0080" y="2349360"/>
                    <a:ext cx="1214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8"/>
          <p:cNvSpPr/>
          <p:nvPr/>
        </p:nvSpPr>
        <p:spPr>
          <a:xfrm>
            <a:off x="1857240" y="2643120"/>
            <a:ext cx="557244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nur einen gemeinsamen Punkt, weil der Scheitelpunkt auf der x-Achse lieg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3714840" y="4357800"/>
          <a:ext cx="18604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4357800"/>
                    <a:ext cx="18604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26" name="Textfeld 8"/>
          <p:cNvSpPr/>
          <p:nvPr/>
        </p:nvSpPr>
        <p:spPr>
          <a:xfrm>
            <a:off x="2214720" y="2214720"/>
            <a:ext cx="550044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kizziere eine Parabel, die durch genau zwei Schnittpunkte mit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festgelegt ist. Wie viele Möglichkeiten gibt 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8"/>
          <p:cNvSpPr/>
          <p:nvPr/>
        </p:nvSpPr>
        <p:spPr>
          <a:xfrm>
            <a:off x="1835280" y="2060640"/>
            <a:ext cx="5357520" cy="29577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endlich viele, 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Bild 44" descr=""/>
          <p:cNvPicPr/>
          <p:nvPr/>
        </p:nvPicPr>
        <p:blipFill>
          <a:blip r:embed="rId3"/>
          <a:srcRect l="0" t="22474" r="0" b="0"/>
          <a:stretch/>
        </p:blipFill>
        <p:spPr>
          <a:xfrm>
            <a:off x="2916360" y="2781360"/>
            <a:ext cx="3395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3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9" name="Textfeld 8"/>
          <p:cNvSpPr/>
          <p:nvPr/>
        </p:nvSpPr>
        <p:spPr>
          <a:xfrm>
            <a:off x="1857240" y="1928880"/>
            <a:ext cx="564372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Symmetrieachse einer Parabel hat die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 Die Parabel ist nach oben geöffnet, der Streckungsfaktor ist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könnte die Gleichung der Parabel laut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1925640" y="2787480"/>
          <a:ext cx="1278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2787480"/>
                    <a:ext cx="1278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4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47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658960" y="3282840"/>
          <a:ext cx="301788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8960" y="3282840"/>
                    <a:ext cx="3017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52" name="Textfeld 5"/>
          <p:cNvSpPr/>
          <p:nvPr/>
        </p:nvSpPr>
        <p:spPr>
          <a:xfrm>
            <a:off x="785880" y="6000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ös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55" name="Textfeld 8"/>
          <p:cNvSpPr/>
          <p:nvPr/>
        </p:nvSpPr>
        <p:spPr>
          <a:xfrm>
            <a:off x="1857240" y="1928880"/>
            <a:ext cx="5572440" cy="35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geben ist eine Parabel mit der Gleichung              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rechne den y-Wert des Punktes              , der auf der Parabel lie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3857760" y="2428920"/>
          <a:ext cx="294768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428920"/>
                    <a:ext cx="2947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"/>
          <p:cNvGraphicFramePr/>
          <p:nvPr/>
        </p:nvGraphicFramePr>
        <p:xfrm>
          <a:off x="3286080" y="3929040"/>
          <a:ext cx="13431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929040"/>
                    <a:ext cx="1343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" name="Textfeld 8"/>
          <p:cNvSpPr/>
          <p:nvPr/>
        </p:nvSpPr>
        <p:spPr>
          <a:xfrm>
            <a:off x="1857240" y="264312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eine Gleichung einer Parabel, die den Scheitelpunkt im Ursprung hat und nach oben geöffnet 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65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y = 2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1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Bild 1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3240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7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8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3124080" y="3071880"/>
          <a:ext cx="264636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071880"/>
                    <a:ext cx="2646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86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Nullstel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Objekt 2"/>
          <p:cNvGraphicFramePr/>
          <p:nvPr/>
        </p:nvGraphicFramePr>
        <p:xfrm>
          <a:off x="3203640" y="2924280"/>
          <a:ext cx="28764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924280"/>
                    <a:ext cx="2876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9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3929040" y="2928960"/>
          <a:ext cx="121464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2928960"/>
                    <a:ext cx="12146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02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nittpunkt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916360" y="2997360"/>
          <a:ext cx="29718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997360"/>
                    <a:ext cx="2971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0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357720" y="3214800"/>
          <a:ext cx="200340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214800"/>
                    <a:ext cx="20034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8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Schnittpunkte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x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Object 3"/>
          <p:cNvGraphicFramePr/>
          <p:nvPr/>
        </p:nvGraphicFramePr>
        <p:xfrm>
          <a:off x="3357720" y="3000240"/>
          <a:ext cx="28573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00240"/>
                    <a:ext cx="2857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3786120" y="2786040"/>
          <a:ext cx="145728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2786040"/>
                    <a:ext cx="14572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714840" y="3571920"/>
          <a:ext cx="17478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3571920"/>
                    <a:ext cx="17478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36" name="Textfeld 8"/>
          <p:cNvSpPr/>
          <p:nvPr/>
        </p:nvSpPr>
        <p:spPr>
          <a:xfrm>
            <a:off x="1857240" y="1928880"/>
            <a:ext cx="55944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rstelle eine Wertetabelle für die x-Werte -3; -0,5; 0; 5; 10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Objekt 1"/>
          <p:cNvGraphicFramePr/>
          <p:nvPr/>
        </p:nvGraphicFramePr>
        <p:xfrm>
          <a:off x="2898720" y="3284640"/>
          <a:ext cx="3195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8720" y="3284640"/>
                    <a:ext cx="3195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8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2643120" y="3286080"/>
          <a:ext cx="41529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43120" y="3286080"/>
                    <a:ext cx="4152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4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28880" y="3071880"/>
          <a:ext cx="5000400" cy="1073160"/>
        </p:xfrm>
        <a:graphic>
          <a:graphicData uri="http://schemas.openxmlformats.org/drawingml/2006/table">
            <a:tbl>
              <a:tblPr/>
              <a:tblGrid>
                <a:gridCol w="642960"/>
                <a:gridCol w="785880"/>
                <a:gridCol w="928440"/>
                <a:gridCol w="714600"/>
                <a:gridCol w="857160"/>
                <a:gridCol w="1071360"/>
              </a:tblGrid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1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Gleichung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die allgemeine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Object 3"/>
          <p:cNvGraphicFramePr/>
          <p:nvPr/>
        </p:nvGraphicFramePr>
        <p:xfrm>
          <a:off x="2916360" y="2852640"/>
          <a:ext cx="29746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852640"/>
                    <a:ext cx="2974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5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2928960" y="3000240"/>
          <a:ext cx="34974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3000240"/>
                    <a:ext cx="3497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6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6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Parabel mit der Gleichung                     schneidet die Gerade mit der Gleichung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Koordinaten der Schnittpunk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3851280" y="2276640"/>
          <a:ext cx="24177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276640"/>
                    <a:ext cx="24177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4"/>
          <p:cNvGraphicFramePr/>
          <p:nvPr/>
        </p:nvGraphicFramePr>
        <p:xfrm>
          <a:off x="3851280" y="3286080"/>
          <a:ext cx="13636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3286080"/>
                    <a:ext cx="13636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7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77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8" name="Object 1"/>
          <p:cNvGraphicFramePr/>
          <p:nvPr/>
        </p:nvGraphicFramePr>
        <p:xfrm>
          <a:off x="3924360" y="2714760"/>
          <a:ext cx="131112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714760"/>
                    <a:ext cx="13111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kt 1"/>
          <p:cNvGraphicFramePr/>
          <p:nvPr/>
        </p:nvGraphicFramePr>
        <p:xfrm>
          <a:off x="3924360" y="3284640"/>
          <a:ext cx="1511280" cy="77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284640"/>
                    <a:ext cx="1511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8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zugehörige Scheitelfo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Objekt 1"/>
          <p:cNvGraphicFramePr/>
          <p:nvPr/>
        </p:nvGraphicFramePr>
        <p:xfrm>
          <a:off x="4572000" y="2230560"/>
          <a:ext cx="255096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30560"/>
                    <a:ext cx="2550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9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95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Object 1"/>
          <p:cNvGraphicFramePr/>
          <p:nvPr/>
        </p:nvGraphicFramePr>
        <p:xfrm>
          <a:off x="3357720" y="3071880"/>
          <a:ext cx="25272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71880"/>
                    <a:ext cx="2527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03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Scheitelpunkt der 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kt 1"/>
          <p:cNvGraphicFramePr/>
          <p:nvPr/>
        </p:nvGraphicFramePr>
        <p:xfrm>
          <a:off x="2928960" y="2928960"/>
          <a:ext cx="308448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928960"/>
                    <a:ext cx="3084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1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Object 1"/>
          <p:cNvGraphicFramePr/>
          <p:nvPr/>
        </p:nvGraphicFramePr>
        <p:xfrm>
          <a:off x="3786120" y="3143160"/>
          <a:ext cx="15350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3143160"/>
                    <a:ext cx="1535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7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1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9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66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ie Form einer Normal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3132000" y="2784600"/>
          <a:ext cx="149256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4600"/>
                    <a:ext cx="1492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27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8" name="Object 1"/>
          <p:cNvGraphicFramePr/>
          <p:nvPr/>
        </p:nvGraphicFramePr>
        <p:xfrm>
          <a:off x="3314880" y="2714760"/>
          <a:ext cx="204300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4880" y="2714760"/>
                    <a:ext cx="20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35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Bild 1" descr=""/>
          <p:cNvPicPr/>
          <p:nvPr/>
        </p:nvPicPr>
        <p:blipFill>
          <a:blip r:embed="rId3"/>
          <a:stretch/>
        </p:blipFill>
        <p:spPr>
          <a:xfrm>
            <a:off x="3708360" y="2459160"/>
            <a:ext cx="31672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4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3" name="Object 1"/>
          <p:cNvGraphicFramePr/>
          <p:nvPr/>
        </p:nvGraphicFramePr>
        <p:xfrm>
          <a:off x="3071880" y="2928960"/>
          <a:ext cx="27892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2928960"/>
                    <a:ext cx="27892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4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50" name="Textfeld 8"/>
          <p:cNvSpPr/>
          <p:nvPr/>
        </p:nvSpPr>
        <p:spPr>
          <a:xfrm>
            <a:off x="1857240" y="1928880"/>
            <a:ext cx="578664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schneidet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in den Punk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             . Sie hat die Form der Normalparab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eitelpunkt der Parabel und gib eine Gleichung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Object 3"/>
          <p:cNvGraphicFramePr/>
          <p:nvPr/>
        </p:nvGraphicFramePr>
        <p:xfrm>
          <a:off x="2000160" y="2817720"/>
          <a:ext cx="135252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2817720"/>
                    <a:ext cx="13525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4"/>
          <p:cNvGraphicFramePr/>
          <p:nvPr/>
        </p:nvGraphicFramePr>
        <p:xfrm>
          <a:off x="4286160" y="2806560"/>
          <a:ext cx="16066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806560"/>
                    <a:ext cx="1606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60" name="Textfeld 8"/>
          <p:cNvSpPr/>
          <p:nvPr/>
        </p:nvSpPr>
        <p:spPr>
          <a:xfrm>
            <a:off x="1857240" y="2428920"/>
            <a:ext cx="5357880" cy="24703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d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3857760" y="2714760"/>
          <a:ext cx="140940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714760"/>
                    <a:ext cx="1409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3"/>
          <p:cNvGraphicFramePr/>
          <p:nvPr/>
        </p:nvGraphicFramePr>
        <p:xfrm>
          <a:off x="3143160" y="3357720"/>
          <a:ext cx="317988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3357720"/>
                    <a:ext cx="31798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4"/>
          <p:cNvGraphicFramePr/>
          <p:nvPr/>
        </p:nvGraphicFramePr>
        <p:xfrm>
          <a:off x="3348000" y="3860640"/>
          <a:ext cx="248436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860640"/>
                    <a:ext cx="2484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6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72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den Streckungsfa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welchen Punkten schneidet die Parabel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4500720" y="2349360"/>
          <a:ext cx="154908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349360"/>
                    <a:ext cx="15490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kt 1"/>
          <p:cNvGraphicFramePr/>
          <p:nvPr/>
        </p:nvGraphicFramePr>
        <p:xfrm>
          <a:off x="6659640" y="2492280"/>
          <a:ext cx="738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2492280"/>
                    <a:ext cx="73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7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3487680" y="2781360"/>
          <a:ext cx="19940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2781360"/>
                    <a:ext cx="1994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8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0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8" name="Textfeld 8"/>
          <p:cNvSpPr/>
          <p:nvPr/>
        </p:nvSpPr>
        <p:spPr>
          <a:xfrm>
            <a:off x="1857240" y="2643120"/>
            <a:ext cx="535788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3429000" y="292896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92896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0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Diagramm 7" descr=""/>
          <p:cNvPicPr/>
          <p:nvPr/>
        </p:nvPicPr>
        <p:blipFill>
          <a:blip r:embed="rId2"/>
          <a:stretch/>
        </p:blipFill>
        <p:spPr>
          <a:xfrm>
            <a:off x="1639800" y="219240"/>
            <a:ext cx="6108840" cy="4140000"/>
          </a:xfrm>
          <a:prstGeom prst="rect">
            <a:avLst/>
          </a:prstGeom>
          <a:ln w="0">
            <a:noFill/>
          </a:ln>
        </p:spPr>
      </p:pic>
      <p:sp>
        <p:nvSpPr>
          <p:cNvPr id="50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          und den Streckungsfakto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Koordinaten des Schnittpunktes 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Object 3"/>
          <p:cNvGraphicFramePr/>
          <p:nvPr/>
        </p:nvGraphicFramePr>
        <p:xfrm>
          <a:off x="4572000" y="2349360"/>
          <a:ext cx="12128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12128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kt 2"/>
          <p:cNvGraphicFramePr/>
          <p:nvPr/>
        </p:nvGraphicFramePr>
        <p:xfrm>
          <a:off x="5902200" y="2847960"/>
          <a:ext cx="901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k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02200" y="2847960"/>
                    <a:ext cx="901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7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7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143160" y="3214800"/>
          <a:ext cx="2778120" cy="78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43160" y="3214800"/>
                    <a:ext cx="277812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1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1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7" name="Object 2"/>
          <p:cNvGraphicFramePr/>
          <p:nvPr/>
        </p:nvGraphicFramePr>
        <p:xfrm>
          <a:off x="3429000" y="3143160"/>
          <a:ext cx="1704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143160"/>
                    <a:ext cx="1704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4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Nullstellen besitzt diese Funktion? Begrün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5" name="Object 8"/>
          <p:cNvGraphicFramePr/>
          <p:nvPr/>
        </p:nvGraphicFramePr>
        <p:xfrm>
          <a:off x="2786040" y="2928960"/>
          <a:ext cx="33750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2928960"/>
                    <a:ext cx="3375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32" name="Textfeld 8"/>
          <p:cNvSpPr/>
          <p:nvPr/>
        </p:nvSpPr>
        <p:spPr>
          <a:xfrm>
            <a:off x="1763640" y="227664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ine Nullst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der Parabel nach un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          unterhalb der x–Ach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3" name="Object 2"/>
          <p:cNvGraphicFramePr/>
          <p:nvPr/>
        </p:nvGraphicFramePr>
        <p:xfrm>
          <a:off x="4572000" y="3541680"/>
          <a:ext cx="17715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541680"/>
                    <a:ext cx="1771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3" name="Textfeld 8"/>
          <p:cNvSpPr/>
          <p:nvPr/>
        </p:nvSpPr>
        <p:spPr>
          <a:xfrm>
            <a:off x="1857240" y="214308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, die durch Spiegelung der Normalparabel an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entstanden 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714840" y="3143160"/>
          <a:ext cx="15303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3143160"/>
                    <a:ext cx="153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9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97" name="Textfeld 8"/>
          <p:cNvSpPr/>
          <p:nvPr/>
        </p:nvSpPr>
        <p:spPr>
          <a:xfrm>
            <a:off x="1857240" y="1928880"/>
            <a:ext cx="5857920" cy="228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die Eigenschaften (Öffnung, Lage, Form)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987640" y="3213000"/>
          <a:ext cx="28209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213000"/>
                    <a:ext cx="28209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0:40:21Z</dcterms:created>
  <dc:creator>Angelika Delius</dc:creator>
  <dc:description/>
  <dc:language>en-US</dc:language>
  <cp:lastModifiedBy>Angelika Delius</cp:lastModifiedBy>
  <cp:lastPrinted>2014-01-21T15:00:51Z</cp:lastPrinted>
  <dcterms:modified xsi:type="dcterms:W3CDTF">2014-02-05T11:40:34Z</dcterms:modified>
  <cp:revision>252</cp:revision>
  <dc:subject/>
  <dc:title>Folie 1</dc:title>
</cp:coreProperties>
</file>