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846-0402-41EF-A6AC-AFD69FCC1ED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F17-3831-4285-B227-116BFA947FC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627-FF0B-4331-AAF6-7823A1D55A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5E56-8C65-47BB-ADEF-1C4B07DC16C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D8C-33E3-49B5-B660-E24ABC671FB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0768-906C-433C-BD24-73DC9B28929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544-5986-4B7D-BC84-28BA80DFE9D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AEF3-DCCF-425D-9378-408C73F832C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4E3-CFC2-4CF7-96DF-784BB59B67C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DBF-1A4F-46D7-BC66-2DD3B1705F3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169-5322-48D7-8C08-658F5DBFB55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297-BFDA-4CBD-94B8-E7A1171BB96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0B20-DB4A-482B-A345-DBA068CC605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799-F2E0-40CD-8BB9-11CB5D7F7C3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8CD-CB71-4A6D-AA24-34E74A5C541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60F3-65EB-40C7-B958-AB4CC01F1BF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0CC-126B-42DA-814E-DE5675C2FD0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6F1-B10C-4635-B7EF-3EB30FEE5CE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6CF1-5496-40C2-83E8-F5D565B6834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B99-52E8-40F5-BA9F-104E21B0C2C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0FF0-E08F-4928-96CC-E22CB29AF4E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oliennummernplatzhalt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47D3-F0EA-4F52-8E32-FBA472F797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577-1529-4D38-82A0-7634C9EC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41FA-4B6A-415B-B513-1CB564E4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A80-ADCB-4DFC-99EE-5B925BF9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F13-F92E-48AF-BDD1-1010CB04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684-DD0E-408B-9D46-97030E4F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7DE-70CC-4459-A226-2BE1D2A4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B11-8A6B-49B3-AA60-8ED69354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709-9021-449B-A28D-1BB4815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581-37BC-49E2-AD7D-1FC84D25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2EB-1C60-4070-A59F-6777002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D7F-26EA-4420-8E06-135F8256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A7D-F473-437F-B4CC-0C87D5A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5E81-040B-48C0-9819-66933B35FF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afik 3" descr=""/>
          <p:cNvPicPr/>
          <p:nvPr/>
        </p:nvPicPr>
        <p:blipFill>
          <a:blip r:embed="rId1"/>
          <a:stretch/>
        </p:blipFill>
        <p:spPr>
          <a:xfrm>
            <a:off x="-12852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55560" y="1700280"/>
          <a:ext cx="7685280" cy="3925800"/>
        </p:xfrm>
        <a:graphic>
          <a:graphicData uri="http://schemas.openxmlformats.org/drawingml/2006/table">
            <a:tbl>
              <a:tblPr/>
              <a:tblGrid>
                <a:gridCol w="5253120"/>
                <a:gridCol w="485640"/>
                <a:gridCol w="487440"/>
                <a:gridCol w="486000"/>
                <a:gridCol w="487080"/>
                <a:gridCol w="48600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obach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r Gegenstand bewegt sich nic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r Gegenstand bewegt si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f den Gegenstand wirkt - außer vielleicht Reibung - keine Kraft 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f den Gegenstand wirkt mindestens eine Kraft 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f den Gegenstand wirken mehrere Kräfte ein, die jedoch nichts oder nur wenig bewir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r Gegenstand bewegt sich mit konstanter Geschwindigke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r Gegenstand wird beschleunigt (auch Richtungsänderung) oder abgebre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953735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8" name="Textfeld 2"/>
          <p:cNvSpPr/>
          <p:nvPr/>
        </p:nvSpPr>
        <p:spPr>
          <a:xfrm>
            <a:off x="788400" y="60516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76092"/>
                </a:solidFill>
                <a:latin typeface="Calibri"/>
              </a:rPr>
              <a:t>Reibung vernachlässigt                         </a:t>
            </a:r>
            <a:r>
              <a:rPr b="0" lang="de-DE" sz="1800" spc="-1" strike="noStrike">
                <a:solidFill>
                  <a:srgbClr val="953735"/>
                </a:solidFill>
                <a:latin typeface="Calibri"/>
              </a:rPr>
              <a:t>mit Reib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Grafik 3" descr=""/>
          <p:cNvPicPr/>
          <p:nvPr/>
        </p:nvPicPr>
        <p:blipFill>
          <a:blip r:embed="rId1"/>
          <a:stretch/>
        </p:blipFill>
        <p:spPr>
          <a:xfrm>
            <a:off x="-12852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ösu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hteck 2"/>
          <p:cNvSpPr/>
          <p:nvPr/>
        </p:nvSpPr>
        <p:spPr>
          <a:xfrm>
            <a:off x="539640" y="1444680"/>
            <a:ext cx="7777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Calibri"/>
              </a:rPr>
              <a:t>3. Kraftname(n) und Wirkun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1: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wei Schubkräfte in die gleiche Richtung -&g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stärkung -&gt; Beschleuni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2: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wei Schubkräfte in entgegengesetzte  Richtungen 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hebung -&gt; Ruhezu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3: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ewichtskraft -&gt; Beschleunigung des Roll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4: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eine Kraft (höchstens etwas Reibung) 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nstante Geschwindigkeit (geringe Abbremsu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5: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agnetische Kraft -&gt; Kugel wird abgelenk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(Beschleunigung als Richtungsänderu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ndividuelles Arb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26560" y="393372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fovortrag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Experimente (2) mit Auswertung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Individuelles Arbeiten (4) mit Lösungen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Abschlusstest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Grafik 7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291360" cy="2070000"/>
          </a:xfrm>
          <a:prstGeom prst="rect">
            <a:avLst/>
          </a:prstGeom>
          <a:ln w="0">
            <a:noFill/>
          </a:ln>
        </p:spPr>
      </p:pic>
      <p:sp>
        <p:nvSpPr>
          <p:cNvPr id="176" name="Untertitel 2"/>
          <p:cNvSpPr/>
          <p:nvPr/>
        </p:nvSpPr>
        <p:spPr>
          <a:xfrm>
            <a:off x="900000" y="2133720"/>
            <a:ext cx="70567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1              2                               3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 5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6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ndividuelles Arbei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920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Selber entscheiden ob alleine oder in Partner- oder Gruppenarbe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Lehrertipps gibt es an der Tafel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Empfehlung:    mehr als 5 Fehler -&gt;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ro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26560" y="393372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fovortrag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Experimente (2) mit Auswertung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dividuelles Arbeiten (4) mit Lösungen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bschlusstest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Grafik 7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291360" cy="2070000"/>
          </a:xfrm>
          <a:prstGeom prst="rect">
            <a:avLst/>
          </a:prstGeom>
          <a:ln w="0">
            <a:noFill/>
          </a:ln>
        </p:spPr>
      </p:pic>
      <p:sp>
        <p:nvSpPr>
          <p:cNvPr id="184" name="Untertitel 2"/>
          <p:cNvSpPr/>
          <p:nvPr/>
        </p:nvSpPr>
        <p:spPr>
          <a:xfrm>
            <a:off x="900000" y="2133720"/>
            <a:ext cx="70567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1              2                               3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4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 5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1. Welche Aussage(n) ist/sind richti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Kraft ist ein Vektor und wird in Newton gem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Kraft ist ein Skalar und wird in Newton gem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Kraft ist weder ein Skalar noch ein Vektor und wird in Newton geme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2. Ein Körper auf den keine Kraft wirk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st eventuell in Ru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Bewegt sich eventuell mit konstanter Geschwindigke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Beschleunigt oder bremst 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3. Ein Körper auf den eine Kraft wirk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st eventuell in Ru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Bewegt sich eventuell mit konstanter Geschwindigke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Beschleunigt oder bremst 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4. Auf ein Auto wirkt die Motorkraft und der Luftwiderstand. Was passie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as Auto beschleunigt bis die Motorkraft größer als die Luftwiderstandskraft 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as Auto beschleunigt, bis die Motorkraft gleich der Luftwiderstandskraft 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as Auto bewegt sich von Anfang an mit konstanter Geschwindigk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5. Ein Fahrzeug soll von 50 km/h zum Stillstand abgebremst werden. Wie ist das mögli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urch eine Antriebskraft gegen die Fahrtrich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urch eine Reibungskraft, z.B. die Rollreibung oder der Luftwider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Durch eine Brem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raft und Beweg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5600" y="1988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f7f7f"/>
                </a:solidFill>
                <a:latin typeface="Calibri"/>
              </a:rPr>
              <a:t>Oder als Formel nach Newt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700" spc="-1" strike="noStrike">
                <a:solidFill>
                  <a:srgbClr val="7f7f7f"/>
                </a:solidFill>
                <a:latin typeface="Calibri"/>
              </a:rPr>
              <a:t>F = m a 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6. Auf einen ruhenden Wagen wirken zwei gleich große Kräfte. Was passie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Wenn die Kraftrichtungen ähnlich sind wird der Wagen bei kleiner Reibung schn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Wenn die Kraftrichtungen entgegen gesetzt sind wird der Wagen beschleuni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f5f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Wenn die Kraftrichtungen entgegen gesetzt sind bleibt der Wagen ste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chluss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Lösu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03280" y="2349360"/>
          <a:ext cx="6400800" cy="37846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066680"/>
                <a:gridCol w="1067040"/>
                <a:gridCol w="1066680"/>
                <a:gridCol w="106668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us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26920" y="2060640"/>
            <a:ext cx="7561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Weitere 4 Punkte erzielen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ildungs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85640" y="177336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Schüler sollen Beobachtungen notieren kö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Schüler sollen Kräfte als Ursache für Bewegungen verste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Schüler sollen Kraftwirkungen auf Körper voher sagen kön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Schüler sollen Betrag und Richtung von Kräften unterschei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lauf (Sandwichprinzi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393372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Infovortrag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Experimente (2) mit Auswertung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dividuelles Arbeiten (4) mit Lösungen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Abschlusstest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Grafik 7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291360" cy="2070000"/>
          </a:xfrm>
          <a:prstGeom prst="rect">
            <a:avLst/>
          </a:prstGeom>
          <a:ln w="0">
            <a:noFill/>
          </a:ln>
        </p:spPr>
      </p:pic>
      <p:sp>
        <p:nvSpPr>
          <p:cNvPr id="58" name="Untertitel 2"/>
          <p:cNvSpPr/>
          <p:nvPr/>
        </p:nvSpPr>
        <p:spPr>
          <a:xfrm>
            <a:off x="900000" y="2133720"/>
            <a:ext cx="70567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       2                               3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5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6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afik 3" descr=""/>
          <p:cNvPicPr/>
          <p:nvPr/>
        </p:nvPicPr>
        <p:blipFill>
          <a:blip r:embed="rId1"/>
          <a:stretch/>
        </p:blipFill>
        <p:spPr>
          <a:xfrm>
            <a:off x="-119160" y="10944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arum s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66960" y="1557000"/>
            <a:ext cx="741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Weil jeder im Gehirn anders vernetzt is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pieren 45"/>
          <p:cNvGrpSpPr/>
          <p:nvPr/>
        </p:nvGrpSpPr>
        <p:grpSpPr>
          <a:xfrm>
            <a:off x="539280" y="3860280"/>
            <a:ext cx="2435760" cy="1006920"/>
            <a:chOff x="539280" y="3860280"/>
            <a:chExt cx="2435760" cy="1006920"/>
          </a:xfrm>
        </p:grpSpPr>
        <p:sp>
          <p:nvSpPr>
            <p:cNvPr id="63" name="Gerade Verbindung 46"/>
            <p:cNvSpPr/>
            <p:nvPr/>
          </p:nvSpPr>
          <p:spPr>
            <a:xfrm flipH="1" flipV="1">
              <a:off x="539280" y="3871440"/>
              <a:ext cx="9720" cy="99576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Gerade Verbindung 47"/>
            <p:cNvSpPr/>
            <p:nvPr/>
          </p:nvSpPr>
          <p:spPr>
            <a:xfrm flipH="1" flipV="1">
              <a:off x="2154240" y="3871440"/>
              <a:ext cx="13680" cy="49536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Gerade Verbindung 48"/>
            <p:cNvSpPr/>
            <p:nvPr/>
          </p:nvSpPr>
          <p:spPr>
            <a:xfrm>
              <a:off x="539640" y="3871440"/>
              <a:ext cx="801360" cy="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Gerade Verbindung 49"/>
            <p:cNvSpPr/>
            <p:nvPr/>
          </p:nvSpPr>
          <p:spPr>
            <a:xfrm>
              <a:off x="1362600" y="4366080"/>
              <a:ext cx="790560" cy="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Gerade Verbindung 50"/>
            <p:cNvSpPr/>
            <p:nvPr/>
          </p:nvSpPr>
          <p:spPr>
            <a:xfrm>
              <a:off x="2154240" y="3860640"/>
              <a:ext cx="809280" cy="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Gerade Verbindung 51"/>
            <p:cNvSpPr/>
            <p:nvPr/>
          </p:nvSpPr>
          <p:spPr>
            <a:xfrm flipH="1" flipV="1">
              <a:off x="2961360" y="3860280"/>
              <a:ext cx="13680" cy="98892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Gerade Verbindung 52"/>
            <p:cNvSpPr/>
            <p:nvPr/>
          </p:nvSpPr>
          <p:spPr>
            <a:xfrm flipV="1">
              <a:off x="549720" y="4860000"/>
              <a:ext cx="2424600" cy="540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Gerade Verbindung 53"/>
            <p:cNvSpPr/>
            <p:nvPr/>
          </p:nvSpPr>
          <p:spPr>
            <a:xfrm flipH="1" flipV="1">
              <a:off x="1341720" y="3871440"/>
              <a:ext cx="13680" cy="495360"/>
            </a:xfrm>
            <a:prstGeom prst="line">
              <a:avLst/>
            </a:prstGeom>
            <a:ln cap="sq"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uppieren 150"/>
          <p:cNvGrpSpPr/>
          <p:nvPr/>
        </p:nvGrpSpPr>
        <p:grpSpPr>
          <a:xfrm>
            <a:off x="557280" y="5300640"/>
            <a:ext cx="2288880" cy="954000"/>
            <a:chOff x="557280" y="5300640"/>
            <a:chExt cx="2288880" cy="954000"/>
          </a:xfrm>
        </p:grpSpPr>
        <p:sp>
          <p:nvSpPr>
            <p:cNvPr id="72" name="Gerade Verbindung 55"/>
            <p:cNvSpPr/>
            <p:nvPr/>
          </p:nvSpPr>
          <p:spPr>
            <a:xfrm>
              <a:off x="557280" y="5302800"/>
              <a:ext cx="422640" cy="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Gerade Verbindung 56"/>
            <p:cNvSpPr/>
            <p:nvPr/>
          </p:nvSpPr>
          <p:spPr>
            <a:xfrm flipH="1" flipV="1">
              <a:off x="979560" y="5300640"/>
              <a:ext cx="7560" cy="51048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Gerade Verbindung 57"/>
            <p:cNvSpPr/>
            <p:nvPr/>
          </p:nvSpPr>
          <p:spPr>
            <a:xfrm flipH="1" flipV="1">
              <a:off x="1493280" y="5316480"/>
              <a:ext cx="7560" cy="49428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Gerade Verbindung 58"/>
            <p:cNvSpPr/>
            <p:nvPr/>
          </p:nvSpPr>
          <p:spPr>
            <a:xfrm flipV="1">
              <a:off x="2433600" y="5330520"/>
              <a:ext cx="0" cy="45828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Gerade Verbindung 59"/>
            <p:cNvSpPr/>
            <p:nvPr/>
          </p:nvSpPr>
          <p:spPr>
            <a:xfrm>
              <a:off x="989280" y="5811120"/>
              <a:ext cx="507960" cy="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Gerade Verbindung 60"/>
            <p:cNvSpPr/>
            <p:nvPr/>
          </p:nvSpPr>
          <p:spPr>
            <a:xfrm>
              <a:off x="1493640" y="5310000"/>
              <a:ext cx="423000" cy="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Gerade Verbindung 61"/>
            <p:cNvSpPr/>
            <p:nvPr/>
          </p:nvSpPr>
          <p:spPr>
            <a:xfrm>
              <a:off x="1925280" y="5811120"/>
              <a:ext cx="508320" cy="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Gerade Verbindung 62"/>
            <p:cNvSpPr/>
            <p:nvPr/>
          </p:nvSpPr>
          <p:spPr>
            <a:xfrm>
              <a:off x="2441880" y="5328720"/>
              <a:ext cx="390600" cy="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Gerade Verbindung 63"/>
            <p:cNvSpPr/>
            <p:nvPr/>
          </p:nvSpPr>
          <p:spPr>
            <a:xfrm flipH="1" flipV="1">
              <a:off x="2838600" y="5328720"/>
              <a:ext cx="7560" cy="91944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Gerade Verbindung 64"/>
            <p:cNvSpPr/>
            <p:nvPr/>
          </p:nvSpPr>
          <p:spPr>
            <a:xfrm flipV="1">
              <a:off x="575280" y="6248160"/>
              <a:ext cx="2257200" cy="612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Gerade Verbindung 65"/>
            <p:cNvSpPr/>
            <p:nvPr/>
          </p:nvSpPr>
          <p:spPr>
            <a:xfrm flipH="1" flipV="1">
              <a:off x="567000" y="5317920"/>
              <a:ext cx="7560" cy="93672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Gerade Verbindung 66"/>
            <p:cNvSpPr/>
            <p:nvPr/>
          </p:nvSpPr>
          <p:spPr>
            <a:xfrm flipH="1" flipV="1">
              <a:off x="1917000" y="5312520"/>
              <a:ext cx="7560" cy="497880"/>
            </a:xfrm>
            <a:prstGeom prst="line">
              <a:avLst/>
            </a:prstGeom>
            <a:ln cap="sq"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uppieren 67"/>
          <p:cNvGrpSpPr/>
          <p:nvPr/>
        </p:nvGrpSpPr>
        <p:grpSpPr>
          <a:xfrm>
            <a:off x="3308040" y="4692600"/>
            <a:ext cx="2400120" cy="988920"/>
            <a:chOff x="3308040" y="4692600"/>
            <a:chExt cx="2400120" cy="988920"/>
          </a:xfrm>
        </p:grpSpPr>
        <p:sp>
          <p:nvSpPr>
            <p:cNvPr id="85" name="Gerade Verbindung 68"/>
            <p:cNvSpPr/>
            <p:nvPr/>
          </p:nvSpPr>
          <p:spPr>
            <a:xfrm flipH="1" flipV="1">
              <a:off x="3308040" y="4703040"/>
              <a:ext cx="612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Gerade Verbindung 69"/>
            <p:cNvSpPr/>
            <p:nvPr/>
          </p:nvSpPr>
          <p:spPr>
            <a:xfrm>
              <a:off x="3308400" y="4703040"/>
              <a:ext cx="33588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Gerade Verbindung 70"/>
            <p:cNvSpPr/>
            <p:nvPr/>
          </p:nvSpPr>
          <p:spPr>
            <a:xfrm flipH="1" flipV="1">
              <a:off x="364572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Gerade Verbindung 71"/>
            <p:cNvSpPr/>
            <p:nvPr/>
          </p:nvSpPr>
          <p:spPr>
            <a:xfrm flipH="1" flipV="1">
              <a:off x="400212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Gerade Verbindung 72"/>
            <p:cNvSpPr/>
            <p:nvPr/>
          </p:nvSpPr>
          <p:spPr>
            <a:xfrm flipH="1" flipV="1">
              <a:off x="433620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Gerade Verbindung 73"/>
            <p:cNvSpPr/>
            <p:nvPr/>
          </p:nvSpPr>
          <p:spPr>
            <a:xfrm flipH="1" flipV="1">
              <a:off x="467424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Gerade Verbindung 74"/>
            <p:cNvSpPr/>
            <p:nvPr/>
          </p:nvSpPr>
          <p:spPr>
            <a:xfrm>
              <a:off x="3664800" y="518868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Gerade Verbindung 75"/>
            <p:cNvSpPr/>
            <p:nvPr/>
          </p:nvSpPr>
          <p:spPr>
            <a:xfrm>
              <a:off x="4002480" y="470304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Gerade Verbindung 76"/>
            <p:cNvSpPr/>
            <p:nvPr/>
          </p:nvSpPr>
          <p:spPr>
            <a:xfrm>
              <a:off x="4344120" y="518868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Gerade Verbindung 77"/>
            <p:cNvSpPr/>
            <p:nvPr/>
          </p:nvSpPr>
          <p:spPr>
            <a:xfrm>
              <a:off x="4674600" y="469260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Gerade Verbindung 78"/>
            <p:cNvSpPr/>
            <p:nvPr/>
          </p:nvSpPr>
          <p:spPr>
            <a:xfrm>
              <a:off x="5357520" y="470304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Gerade Verbindung 79"/>
            <p:cNvSpPr/>
            <p:nvPr/>
          </p:nvSpPr>
          <p:spPr>
            <a:xfrm>
              <a:off x="5016240" y="5188680"/>
              <a:ext cx="335520" cy="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Gerade Verbindung 80"/>
            <p:cNvSpPr/>
            <p:nvPr/>
          </p:nvSpPr>
          <p:spPr>
            <a:xfrm flipH="1" flipV="1">
              <a:off x="5008320" y="469260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Gerade Verbindung 81"/>
            <p:cNvSpPr/>
            <p:nvPr/>
          </p:nvSpPr>
          <p:spPr>
            <a:xfrm flipH="1" flipV="1">
              <a:off x="535356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Gerade Verbindung 82"/>
            <p:cNvSpPr/>
            <p:nvPr/>
          </p:nvSpPr>
          <p:spPr>
            <a:xfrm flipH="1" flipV="1">
              <a:off x="5695200" y="470304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Gerade Verbindung 83"/>
            <p:cNvSpPr/>
            <p:nvPr/>
          </p:nvSpPr>
          <p:spPr>
            <a:xfrm flipV="1">
              <a:off x="3323160" y="5663520"/>
              <a:ext cx="2365560" cy="1800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Gerade Verbindung 84"/>
            <p:cNvSpPr/>
            <p:nvPr/>
          </p:nvSpPr>
          <p:spPr>
            <a:xfrm flipH="1" flipV="1">
              <a:off x="3315240" y="518868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Gerade Verbindung 85"/>
            <p:cNvSpPr/>
            <p:nvPr/>
          </p:nvSpPr>
          <p:spPr>
            <a:xfrm flipH="1" flipV="1">
              <a:off x="5702760" y="5177880"/>
              <a:ext cx="5400" cy="486720"/>
            </a:xfrm>
            <a:prstGeom prst="line">
              <a:avLst/>
            </a:prstGeom>
            <a:ln cap="sq"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uppieren 86"/>
          <p:cNvGrpSpPr/>
          <p:nvPr/>
        </p:nvGrpSpPr>
        <p:grpSpPr>
          <a:xfrm>
            <a:off x="428040" y="2427120"/>
            <a:ext cx="7930080" cy="1032120"/>
            <a:chOff x="428040" y="2427120"/>
            <a:chExt cx="7930080" cy="1032120"/>
          </a:xfrm>
        </p:grpSpPr>
        <p:sp>
          <p:nvSpPr>
            <p:cNvPr id="104" name="Gerade Verbindung 87"/>
            <p:cNvSpPr/>
            <p:nvPr/>
          </p:nvSpPr>
          <p:spPr>
            <a:xfrm flipH="1">
              <a:off x="6503760" y="2926800"/>
              <a:ext cx="435600" cy="36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Gerade Verbindung 88"/>
            <p:cNvSpPr/>
            <p:nvPr/>
          </p:nvSpPr>
          <p:spPr>
            <a:xfrm flipH="1">
              <a:off x="447840" y="3426840"/>
              <a:ext cx="4561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Gruppieren 89"/>
            <p:cNvGrpSpPr/>
            <p:nvPr/>
          </p:nvGrpSpPr>
          <p:grpSpPr>
            <a:xfrm>
              <a:off x="902880" y="2926080"/>
              <a:ext cx="930960" cy="511200"/>
              <a:chOff x="902880" y="2926080"/>
              <a:chExt cx="930960" cy="511200"/>
            </a:xfrm>
          </p:grpSpPr>
          <p:sp>
            <p:nvSpPr>
              <p:cNvPr id="107" name="Gerade Verbindung 126"/>
              <p:cNvSpPr/>
              <p:nvPr/>
            </p:nvSpPr>
            <p:spPr>
              <a:xfrm>
                <a:off x="182556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Gerade Verbindung 127"/>
              <p:cNvSpPr/>
              <p:nvPr/>
            </p:nvSpPr>
            <p:spPr>
              <a:xfrm flipH="1">
                <a:off x="1377360" y="343728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Gerade Verbindung 128"/>
              <p:cNvSpPr/>
              <p:nvPr/>
            </p:nvSpPr>
            <p:spPr>
              <a:xfrm flipH="1">
                <a:off x="90288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Gerade Verbindung 129"/>
              <p:cNvSpPr/>
              <p:nvPr/>
            </p:nvSpPr>
            <p:spPr>
              <a:xfrm>
                <a:off x="137124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Gerade Verbindung 90"/>
            <p:cNvSpPr/>
            <p:nvPr/>
          </p:nvSpPr>
          <p:spPr>
            <a:xfrm>
              <a:off x="902160" y="2926080"/>
              <a:ext cx="7560" cy="4957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91"/>
            <p:cNvSpPr/>
            <p:nvPr/>
          </p:nvSpPr>
          <p:spPr>
            <a:xfrm>
              <a:off x="437760" y="2926080"/>
              <a:ext cx="7560" cy="4957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92"/>
            <p:cNvSpPr/>
            <p:nvPr/>
          </p:nvSpPr>
          <p:spPr>
            <a:xfrm flipH="1">
              <a:off x="463320" y="2427120"/>
              <a:ext cx="7886880" cy="17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93"/>
            <p:cNvSpPr/>
            <p:nvPr/>
          </p:nvSpPr>
          <p:spPr>
            <a:xfrm>
              <a:off x="428040" y="2442600"/>
              <a:ext cx="7560" cy="4957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" name="Gruppieren 94"/>
            <p:cNvGrpSpPr/>
            <p:nvPr/>
          </p:nvGrpSpPr>
          <p:grpSpPr>
            <a:xfrm>
              <a:off x="1836360" y="2926800"/>
              <a:ext cx="930960" cy="509400"/>
              <a:chOff x="1836360" y="2926800"/>
              <a:chExt cx="930960" cy="509400"/>
            </a:xfrm>
          </p:grpSpPr>
          <p:sp>
            <p:nvSpPr>
              <p:cNvPr id="116" name="Gerade Verbindung 122"/>
              <p:cNvSpPr/>
              <p:nvPr/>
            </p:nvSpPr>
            <p:spPr>
              <a:xfrm>
                <a:off x="2759040" y="2926800"/>
                <a:ext cx="7560" cy="49464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Gerade Verbindung 123"/>
              <p:cNvSpPr/>
              <p:nvPr/>
            </p:nvSpPr>
            <p:spPr>
              <a:xfrm flipH="1">
                <a:off x="2310840" y="34362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Gerade Verbindung 124"/>
              <p:cNvSpPr/>
              <p:nvPr/>
            </p:nvSpPr>
            <p:spPr>
              <a:xfrm flipH="1">
                <a:off x="183636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Gerade Verbindung 125"/>
              <p:cNvSpPr/>
              <p:nvPr/>
            </p:nvSpPr>
            <p:spPr>
              <a:xfrm>
                <a:off x="2304720" y="2926800"/>
                <a:ext cx="7560" cy="49464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Gruppieren 95"/>
            <p:cNvGrpSpPr/>
            <p:nvPr/>
          </p:nvGrpSpPr>
          <p:grpSpPr>
            <a:xfrm>
              <a:off x="2769840" y="2926800"/>
              <a:ext cx="930960" cy="509400"/>
              <a:chOff x="2769840" y="2926800"/>
              <a:chExt cx="930960" cy="509400"/>
            </a:xfrm>
          </p:grpSpPr>
          <p:sp>
            <p:nvSpPr>
              <p:cNvPr id="121" name="Gerade Verbindung 118"/>
              <p:cNvSpPr/>
              <p:nvPr/>
            </p:nvSpPr>
            <p:spPr>
              <a:xfrm>
                <a:off x="3692520" y="2926800"/>
                <a:ext cx="7560" cy="49464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Gerade Verbindung 119"/>
              <p:cNvSpPr/>
              <p:nvPr/>
            </p:nvSpPr>
            <p:spPr>
              <a:xfrm flipH="1">
                <a:off x="3244320" y="34362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Gerade Verbindung 120"/>
              <p:cNvSpPr/>
              <p:nvPr/>
            </p:nvSpPr>
            <p:spPr>
              <a:xfrm flipH="1">
                <a:off x="276984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Gerade Verbindung 121"/>
              <p:cNvSpPr/>
              <p:nvPr/>
            </p:nvSpPr>
            <p:spPr>
              <a:xfrm>
                <a:off x="3238200" y="2926800"/>
                <a:ext cx="7560" cy="49464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Gruppieren 96"/>
            <p:cNvGrpSpPr/>
            <p:nvPr/>
          </p:nvGrpSpPr>
          <p:grpSpPr>
            <a:xfrm>
              <a:off x="3708000" y="2926080"/>
              <a:ext cx="930960" cy="511200"/>
              <a:chOff x="3708000" y="2926080"/>
              <a:chExt cx="930960" cy="511200"/>
            </a:xfrm>
          </p:grpSpPr>
          <p:sp>
            <p:nvSpPr>
              <p:cNvPr id="126" name="Gerade Verbindung 114"/>
              <p:cNvSpPr/>
              <p:nvPr/>
            </p:nvSpPr>
            <p:spPr>
              <a:xfrm>
                <a:off x="463068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Gerade Verbindung 115"/>
              <p:cNvSpPr/>
              <p:nvPr/>
            </p:nvSpPr>
            <p:spPr>
              <a:xfrm flipH="1">
                <a:off x="4182480" y="343728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Gerade Verbindung 116"/>
              <p:cNvSpPr/>
              <p:nvPr/>
            </p:nvSpPr>
            <p:spPr>
              <a:xfrm flipH="1">
                <a:off x="370800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Gerade Verbindung 117"/>
              <p:cNvSpPr/>
              <p:nvPr/>
            </p:nvSpPr>
            <p:spPr>
              <a:xfrm>
                <a:off x="417636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0" name="Gruppieren 97"/>
            <p:cNvGrpSpPr/>
            <p:nvPr/>
          </p:nvGrpSpPr>
          <p:grpSpPr>
            <a:xfrm>
              <a:off x="4641480" y="2926080"/>
              <a:ext cx="930960" cy="511200"/>
              <a:chOff x="4641480" y="2926080"/>
              <a:chExt cx="930960" cy="511200"/>
            </a:xfrm>
          </p:grpSpPr>
          <p:sp>
            <p:nvSpPr>
              <p:cNvPr id="131" name="Gerade Verbindung 110"/>
              <p:cNvSpPr/>
              <p:nvPr/>
            </p:nvSpPr>
            <p:spPr>
              <a:xfrm>
                <a:off x="556416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Gerade Verbindung 111"/>
              <p:cNvSpPr/>
              <p:nvPr/>
            </p:nvSpPr>
            <p:spPr>
              <a:xfrm flipH="1">
                <a:off x="5115960" y="343728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Gerade Verbindung 112"/>
              <p:cNvSpPr/>
              <p:nvPr/>
            </p:nvSpPr>
            <p:spPr>
              <a:xfrm flipH="1">
                <a:off x="464148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Gerade Verbindung 113"/>
              <p:cNvSpPr/>
              <p:nvPr/>
            </p:nvSpPr>
            <p:spPr>
              <a:xfrm>
                <a:off x="510984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5" name="Gruppieren 98"/>
            <p:cNvGrpSpPr/>
            <p:nvPr/>
          </p:nvGrpSpPr>
          <p:grpSpPr>
            <a:xfrm>
              <a:off x="5565240" y="2926080"/>
              <a:ext cx="930960" cy="511200"/>
              <a:chOff x="5565240" y="2926080"/>
              <a:chExt cx="930960" cy="511200"/>
            </a:xfrm>
          </p:grpSpPr>
          <p:sp>
            <p:nvSpPr>
              <p:cNvPr id="136" name="Gerade Verbindung 106"/>
              <p:cNvSpPr/>
              <p:nvPr/>
            </p:nvSpPr>
            <p:spPr>
              <a:xfrm>
                <a:off x="648792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Gerade Verbindung 107"/>
              <p:cNvSpPr/>
              <p:nvPr/>
            </p:nvSpPr>
            <p:spPr>
              <a:xfrm flipH="1">
                <a:off x="6039720" y="343728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Gerade Verbindung 108"/>
              <p:cNvSpPr/>
              <p:nvPr/>
            </p:nvSpPr>
            <p:spPr>
              <a:xfrm flipH="1">
                <a:off x="5565240" y="2926800"/>
                <a:ext cx="456480" cy="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Gerade Verbindung 109"/>
              <p:cNvSpPr/>
              <p:nvPr/>
            </p:nvSpPr>
            <p:spPr>
              <a:xfrm>
                <a:off x="6033600" y="2926080"/>
                <a:ext cx="7560" cy="49572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0" name="Gerade Verbindung 99"/>
            <p:cNvSpPr/>
            <p:nvPr/>
          </p:nvSpPr>
          <p:spPr>
            <a:xfrm>
              <a:off x="7427160" y="2943360"/>
              <a:ext cx="0" cy="494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Gerade Verbindung 100"/>
            <p:cNvSpPr/>
            <p:nvPr/>
          </p:nvSpPr>
          <p:spPr>
            <a:xfrm flipH="1">
              <a:off x="6972480" y="3437640"/>
              <a:ext cx="45612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Gerade Verbindung 101"/>
            <p:cNvSpPr/>
            <p:nvPr/>
          </p:nvSpPr>
          <p:spPr>
            <a:xfrm>
              <a:off x="6967080" y="2926080"/>
              <a:ext cx="7560" cy="4957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Gerade Verbindung 102"/>
            <p:cNvSpPr/>
            <p:nvPr/>
          </p:nvSpPr>
          <p:spPr>
            <a:xfrm>
              <a:off x="8350920" y="2427120"/>
              <a:ext cx="7200" cy="10314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Gerade Verbindung 103"/>
            <p:cNvSpPr/>
            <p:nvPr/>
          </p:nvSpPr>
          <p:spPr>
            <a:xfrm flipH="1">
              <a:off x="7896240" y="3459240"/>
              <a:ext cx="45576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Gerade Verbindung 104"/>
            <p:cNvSpPr/>
            <p:nvPr/>
          </p:nvSpPr>
          <p:spPr>
            <a:xfrm flipH="1">
              <a:off x="7422120" y="2948760"/>
              <a:ext cx="45576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Gerade Verbindung 105"/>
            <p:cNvSpPr/>
            <p:nvPr/>
          </p:nvSpPr>
          <p:spPr>
            <a:xfrm>
              <a:off x="7890840" y="2948760"/>
              <a:ext cx="7560" cy="49464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00712 -0.05231 E">
                                      <p:cBhvr>
                                        <p:cTn id="6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022E-016 L -0.02448 -0.17222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27465 -1.11111E-006 C 0.39809 -1.11111E-006 0.55017 -0.09491 0.55017 -0.17176 L 0.55017 -0.34236 E">
                                      <p:cBhvr>
                                        <p:cTn id="1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räf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61880" y="207468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Uns interessieren eher technische Kräft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725400" y="1550880"/>
            <a:ext cx="81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c0504d"/>
                </a:solidFill>
                <a:latin typeface="Calibri"/>
              </a:rPr>
              <a:t>Überzeugungskraft, Waschkraft, politische Kraft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feld 5"/>
          <p:cNvSpPr/>
          <p:nvPr/>
        </p:nvSpPr>
        <p:spPr>
          <a:xfrm>
            <a:off x="4788000" y="307512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595959"/>
                </a:solidFill>
                <a:uFillTx/>
                <a:latin typeface="Calibri"/>
              </a:rPr>
              <a:t>Nach Ursach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Motorkra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Muskelkra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Magnetkra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6"/>
          <p:cNvSpPr/>
          <p:nvPr/>
        </p:nvSpPr>
        <p:spPr>
          <a:xfrm>
            <a:off x="450720" y="3106800"/>
            <a:ext cx="40798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595959"/>
                </a:solidFill>
                <a:uFillTx/>
                <a:latin typeface="Calibri"/>
              </a:rPr>
              <a:t>Nach Wirku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9595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Bremskra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95959"/>
                </a:solidFill>
                <a:latin typeface="Calibri"/>
              </a:rPr>
              <a:t>Beschleunigungs-kraf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rksat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13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feld 4"/>
          <p:cNvSpPr/>
          <p:nvPr/>
        </p:nvSpPr>
        <p:spPr>
          <a:xfrm>
            <a:off x="819000" y="1484280"/>
            <a:ext cx="7345440" cy="4299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Kräfte erkennt man an ihren Wirkungen auf Körp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Sie können Körper beschleuni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Sie können Körper abbremsen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Also deren Bewegungszustand veränder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3.   Außerdem können sie Körper verfor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00000"/>
                </a:solidFill>
                <a:latin typeface="Calibri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erks´ 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</a:t>
            </a:r>
            <a:br>
              <a:rPr sz="4400"/>
            </a:b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000"/>
            </a:b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uto auf einer Autobahnfah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Grafik 8" descr=""/>
          <p:cNvPicPr/>
          <p:nvPr/>
        </p:nvPicPr>
        <p:blipFill>
          <a:blip r:embed="rId2"/>
          <a:stretch/>
        </p:blipFill>
        <p:spPr>
          <a:xfrm>
            <a:off x="420840" y="2349360"/>
            <a:ext cx="80643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Grafik 3" descr=""/>
          <p:cNvPicPr/>
          <p:nvPr/>
        </p:nvPicPr>
        <p:blipFill>
          <a:blip r:embed="rId1"/>
          <a:stretch/>
        </p:blipFill>
        <p:spPr>
          <a:xfrm>
            <a:off x="-108000" y="44280"/>
            <a:ext cx="9252000" cy="6624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Zu den Versuchen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26560" y="3933720"/>
            <a:ext cx="741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fovortrag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xperimente (2) mit Auswertung (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Individuelles Arbeiten (4) mit Lösungen (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f5f5f"/>
                </a:solidFill>
                <a:latin typeface="Calibri"/>
              </a:rPr>
              <a:t>Abschlusstest (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Grafik 7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291360" cy="2070000"/>
          </a:xfrm>
          <a:prstGeom prst="rect">
            <a:avLst/>
          </a:prstGeom>
          <a:ln w="0">
            <a:noFill/>
          </a:ln>
        </p:spPr>
      </p:pic>
      <p:sp>
        <p:nvSpPr>
          <p:cNvPr id="164" name="Untertitel 2"/>
          <p:cNvSpPr/>
          <p:nvPr/>
        </p:nvSpPr>
        <p:spPr>
          <a:xfrm>
            <a:off x="900000" y="2133720"/>
            <a:ext cx="70567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 </a:t>
            </a:r>
            <a:r>
              <a:rPr b="0" lang="de-DE" sz="3000" spc="-1" strike="noStrike">
                <a:solidFill>
                  <a:srgbClr val="5f5f5f"/>
                </a:solidFill>
                <a:latin typeface="Calibri"/>
              </a:rPr>
              <a:t>1              </a:t>
            </a:r>
            <a:r>
              <a:rPr b="0" lang="de-DE" sz="3000" spc="-1" strike="noStrike">
                <a:solidFill>
                  <a:srgbClr val="ff0000"/>
                </a:solidFill>
                <a:latin typeface="Calibri"/>
              </a:rPr>
              <a:t>2                               3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5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       6</a:t>
            </a:r>
            <a:r>
              <a:rPr b="0" lang="de-DE" sz="30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2:02:24Z</dcterms:created>
  <dc:creator>DF2IAX</dc:creator>
  <dc:description/>
  <dc:language>en-US</dc:language>
  <cp:lastModifiedBy>df2iax</cp:lastModifiedBy>
  <cp:lastPrinted>2012-12-01T19:30:55Z</cp:lastPrinted>
  <dcterms:modified xsi:type="dcterms:W3CDTF">2013-04-09T19:57:05Z</dcterms:modified>
  <cp:revision>77</cp:revision>
  <dc:subject/>
  <dc:title>Überstrom-Schutzorgane</dc:title>
</cp:coreProperties>
</file>