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F55-E835-45CA-B93B-8B8AE4B3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2B9-B207-4745-8EAD-B84BAFCF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16A-C5CA-4B95-8297-ADB75925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FE3-4274-4B11-B743-4C4F831B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97C-AEB4-46D4-8B0D-6328F02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0A5-482A-40D1-B5E0-CA6B880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42B-1663-440C-98FE-18A48BEA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1C6-5234-4CF2-932D-F5C21E30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760"/>
            <a:ext cx="680544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597-00C6-4190-A06A-744A91E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A1C-9859-48DE-9573-5C28E41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675-85F6-4269-AA05-7EFBCE8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170-1951-4A10-94E9-F43D654D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12E7-DDF2-4351-A5AD-9283E89D6C8E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 rot="7264800">
            <a:off x="1043640" y="77173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Newton (1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600200" y="4495680"/>
            <a:ext cx="39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heit der 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143000" y="93726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Je größer die Kraft, die an einem Körper angreift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 rot="7228800">
            <a:off x="641160" y="7447680"/>
            <a:ext cx="39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...hängt ab vom Ort, an dem er sich befinde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43000" y="9601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größer die Masse eines Körp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 rot="14251800">
            <a:off x="2571120" y="2457000"/>
            <a:ext cx="38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Die Gewichtskraft eines Körpers..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 rot="14267400">
            <a:off x="2541600" y="797328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wichts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09680" y="937260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Die Masse eines Körpers..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7254600">
            <a:off x="1325520" y="2710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 = m *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4267400">
            <a:off x="2344320" y="786852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raftwirkung auf einen Kör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ägheits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 rot="7254600">
            <a:off x="106920" y="2558160"/>
            <a:ext cx="48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Änderung des Bewegungs-zustandes / Verform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14267400">
            <a:off x="2296440" y="7608600"/>
            <a:ext cx="45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...desto stärker wird er beschleuni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7356600">
            <a:off x="610560" y="8168040"/>
            <a:ext cx="33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heit der M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43434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okesches 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 rot="14267400">
            <a:off x="2313360" y="7914240"/>
            <a:ext cx="50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...desto größer seine Träg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 rot="18141000">
            <a:off x="234720" y="258444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Calibri"/>
              </a:rPr>
              <a:t>Ein Körper ändert seinen Bewegungszustand nur durch Krafteinwirk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 rot="3514200">
            <a:off x="2817000" y="2820600"/>
            <a:ext cx="40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1 Kilogramm (1 k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12720" y="541800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 rot="7356600">
            <a:off x="246240" y="7889760"/>
            <a:ext cx="42274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F</a:t>
            </a:r>
            <a:r>
              <a:rPr b="0" lang="de-DE" sz="2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12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 = F</a:t>
            </a:r>
            <a:r>
              <a:rPr b="0" lang="de-DE" sz="28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4815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Zeichnerische Addition von Krä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 rot="14267400">
            <a:off x="2143800" y="7743960"/>
            <a:ext cx="53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...ist immer gleich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 rot="3513000">
            <a:off x="2772360" y="2727000"/>
            <a:ext cx="41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chselwirkungs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ts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6520" y="46483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weiseitiger H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 rot="14267400">
            <a:off x="2739600" y="7850880"/>
            <a:ext cx="43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seitiger H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 rot="3513000">
            <a:off x="2455920" y="257220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 ~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 rot="7295400">
            <a:off x="803160" y="7653240"/>
            <a:ext cx="34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Wippe, Briefwaage, Scher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12720" y="541800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 rot="3513000">
            <a:off x="2860200" y="231948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allel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 rot="7295400">
            <a:off x="132840" y="771408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g = 9,81 N/k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 rot="18119400">
            <a:off x="141120" y="2678400"/>
            <a:ext cx="477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Brecheisen, Schubkarre, Schraubenschlüss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52:52Z</dcterms:created>
  <dc:creator>H.H.</dc:creator>
  <dc:description/>
  <dc:language>en-US</dc:language>
  <cp:lastModifiedBy>test</cp:lastModifiedBy>
  <dcterms:modified xsi:type="dcterms:W3CDTF">2013-03-21T11:08:44Z</dcterms:modified>
  <cp:revision>10</cp:revision>
  <dc:subject/>
  <dc:title>Folie 1</dc:title>
</cp:coreProperties>
</file>