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F4C-F137-49CB-9B78-76E213F6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BE7-08E0-40A1-84DB-B8040D0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7CD-E2B9-4D10-BDF9-11C17EF0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59F-1EBF-42C1-8AAB-5E2FE8FD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4C4-0B45-42BF-AD81-50D7862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9E4-5D18-4991-A1C2-07499A1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241-F4D0-4959-833B-C8860AC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DE6-8B7A-424F-AC21-902FC71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522-7762-424A-B326-6ED8D94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60E-CF26-473F-804A-58372ED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AD3-969C-4866-A46C-BFFBEAE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9A6-722D-4B83-B81C-6744D2C0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C92E-9248-41E7-A10E-34A9B766B56D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64832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 der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209680" y="9753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kt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48960" y="77972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lust von Lage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lar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1928520" y="241380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örper fällt nach 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41600" y="797328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erhaltungs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i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6120" y="2811240"/>
            <a:ext cx="46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 geht nicht verl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344320" y="786852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wegungs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kraft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608040" y="277128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inet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204640" y="7470000"/>
            <a:ext cx="458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elektrischer Energie in mechan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1064160" y="79246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nd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699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ge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048400" y="7472520"/>
            <a:ext cx="50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Sonnenenergie in elektrische Energi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158400" y="28134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Kernenergie in elektr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2907360" y="2957760"/>
            <a:ext cx="402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Calibri"/>
              </a:rPr>
              <a:t>Umwandlung von Windenergie in mechanische Energ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416160" y="7812000"/>
            <a:ext cx="42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ewinn an kinetischer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76520" y="464832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ssile Energieträ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2143800" y="7743960"/>
            <a:ext cx="53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stehung von Wä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051640" y="2671200"/>
            <a:ext cx="54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örper wird beschleuni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an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0680" y="4648320"/>
            <a:ext cx="52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nerative Energiequ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 rot="14267400">
            <a:off x="2648160" y="7866000"/>
            <a:ext cx="43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chanische Energie- übertragung (Arbe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 rot="3513000">
            <a:off x="2455920" y="25722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tenziell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 rot="7295400">
            <a:off x="315720" y="7759440"/>
            <a:ext cx="43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nd, Sonne, Biom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 rot="3513000">
            <a:off x="3332160" y="294192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hle, Gas, Erdö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 rot="7295400">
            <a:off x="135720" y="779040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ormung eines Kör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 rot="18119400">
            <a:off x="6840" y="2813760"/>
            <a:ext cx="47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 = F *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test</cp:lastModifiedBy>
  <dcterms:modified xsi:type="dcterms:W3CDTF">2013-03-21T12:30:49Z</dcterms:modified>
  <cp:revision>10</cp:revision>
  <dc:subject/>
  <dc:title>Folie 1</dc:title>
</cp:coreProperties>
</file>