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68A4-8CA7-4821-9639-BAE099A2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5056-CD6D-435E-B5BE-664C084A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0953-9222-424B-8847-2133BC04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AA38-80DA-42CF-A406-3DD607A8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99D9-F4AA-4530-9A78-823942AB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6C8D-04B6-4922-BE79-4FEA87AC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AE1E-7641-41DB-829D-BE530D46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49DE-C486-4AF3-A353-82215346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D6AB-45EA-48D6-866B-DFE071E9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C870-32FE-4E07-8959-632A8450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CA21-58F3-45FD-88FF-7E4A0714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0B61-2A4C-405D-9C67-94B8D948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DFEA-4A8E-4B07-A780-0E9B86F5D7D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542880" y="654120"/>
            <a:ext cx="5772240" cy="451476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530280" y="5262480"/>
            <a:ext cx="57816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TSF</cp:lastModifiedBy>
  <dcterms:modified xsi:type="dcterms:W3CDTF">2013-02-16T07:18:05Z</dcterms:modified>
  <cp:revision>64</cp:revision>
  <dc:subject/>
  <dc:title>Folie 1</dc:title>
</cp:coreProperties>
</file>