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64B-1F20-4802-BA3B-3816F65B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DC1-1BCD-48BA-B890-9A06DF3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B64-4C86-4A40-A4BB-05537CF0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55E-E71C-4414-9EB9-A6936FB9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C87-F85B-4781-83DB-5A23FE4B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56B-0D8D-46A0-B360-91A17B5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F08-6D60-42A6-991C-AD62749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032-8DD8-471D-A758-F7A44C3A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7D6-42CE-4D4C-BECF-D651E81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333-4FC1-4389-A33D-4F6C872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DAC-CE46-4D70-A684-8B459E8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8DF-94FA-44E2-B020-2703F7C5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2A79-57E1-47CD-8C14-71FAC8B27E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538200" y="343080"/>
            <a:ext cx="5781600" cy="92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18:28Z</dcterms:modified>
  <cp:revision>64</cp:revision>
  <dc:subject/>
  <dc:title>Folie 1</dc:title>
</cp:coreProperties>
</file>