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576-D3D8-4DE8-B6F7-F0DD26C4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FD1-C233-41FD-ADA2-E6517253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87A-B45C-4B41-9E3C-9A2B4B80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BE2-3837-4FBB-8F3C-4FAFD8A8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B73-8DB2-4B25-809C-D9F86151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6AC-F0BC-4DD9-93ED-D34E3A96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AE1-F1B3-402E-88DE-55DFDBA7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52C-40DC-4807-88A4-9C1FABA6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144-F46C-4F91-BA86-9C11DA42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D4E-A19F-4C6D-A51A-9C2940AC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165-0B2A-4345-9590-DC900A64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85A-C6A6-4C75-A6B7-2BB39742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E3A6-08B1-4AC2-A5C7-23759EE453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5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 rot="21436200">
            <a:off x="824040" y="6883200"/>
            <a:ext cx="318960" cy="129960"/>
          </a:xfrm>
          <a:custGeom>
            <a:avLst/>
            <a:gdLst/>
            <a:ahLst/>
            <a:rect l="l" t="t" r="r" b="b"/>
            <a:pathLst>
              <a:path w="201" h="57">
                <a:moveTo>
                  <a:pt x="0" y="54"/>
                </a:moveTo>
                <a:lnTo>
                  <a:pt x="12" y="33"/>
                </a:lnTo>
                <a:lnTo>
                  <a:pt x="39" y="15"/>
                </a:lnTo>
                <a:lnTo>
                  <a:pt x="75" y="0"/>
                </a:lnTo>
                <a:lnTo>
                  <a:pt x="102" y="0"/>
                </a:lnTo>
                <a:lnTo>
                  <a:pt x="132" y="3"/>
                </a:lnTo>
                <a:lnTo>
                  <a:pt x="156" y="12"/>
                </a:lnTo>
                <a:lnTo>
                  <a:pt x="186" y="30"/>
                </a:lnTo>
                <a:lnTo>
                  <a:pt x="201" y="57"/>
                </a:lnTo>
                <a:lnTo>
                  <a:pt x="0" y="5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989000" y="415800"/>
            <a:ext cx="2909880" cy="357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923120" y="488880"/>
            <a:ext cx="2911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 Druck - Lösungsvorsch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1720" y="2394000"/>
            <a:ext cx="566640" cy="404640"/>
          </a:xfrm>
          <a:prstGeom prst="cube">
            <a:avLst>
              <a:gd name="adj" fmla="val 39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0960" y="2313000"/>
            <a:ext cx="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170000" y="2144880"/>
            <a:ext cx="347760" cy="171360"/>
            <a:chOff x="1170000" y="2144880"/>
            <a:chExt cx="347760" cy="171360"/>
          </a:xfrm>
        </p:grpSpPr>
        <p:sp>
          <p:nvSpPr>
            <p:cNvPr id="45" name=""/>
            <p:cNvSpPr/>
            <p:nvPr/>
          </p:nvSpPr>
          <p:spPr>
            <a:xfrm>
              <a:off x="1170000" y="2144880"/>
              <a:ext cx="347760" cy="171360"/>
            </a:xfrm>
            <a:custGeom>
              <a:avLst/>
              <a:gdLst/>
              <a:ahLst/>
              <a:rect l="l" t="t" r="r" b="b"/>
              <a:pathLst>
                <a:path w="219" h="108">
                  <a:moveTo>
                    <a:pt x="0" y="84"/>
                  </a:moveTo>
                  <a:cubicBezTo>
                    <a:pt x="28" y="90"/>
                    <a:pt x="56" y="96"/>
                    <a:pt x="84" y="101"/>
                  </a:cubicBezTo>
                  <a:cubicBezTo>
                    <a:pt x="94" y="103"/>
                    <a:pt x="105" y="104"/>
                    <a:pt x="115" y="106"/>
                  </a:cubicBezTo>
                  <a:cubicBezTo>
                    <a:pt x="119" y="107"/>
                    <a:pt x="127" y="108"/>
                    <a:pt x="127" y="108"/>
                  </a:cubicBezTo>
                  <a:cubicBezTo>
                    <a:pt x="156" y="107"/>
                    <a:pt x="168" y="106"/>
                    <a:pt x="192" y="99"/>
                  </a:cubicBezTo>
                  <a:cubicBezTo>
                    <a:pt x="197" y="96"/>
                    <a:pt x="204" y="94"/>
                    <a:pt x="207" y="89"/>
                  </a:cubicBezTo>
                  <a:cubicBezTo>
                    <a:pt x="213" y="80"/>
                    <a:pt x="215" y="63"/>
                    <a:pt x="219" y="53"/>
                  </a:cubicBezTo>
                  <a:cubicBezTo>
                    <a:pt x="210" y="32"/>
                    <a:pt x="151" y="39"/>
                    <a:pt x="151" y="39"/>
                  </a:cubicBezTo>
                  <a:cubicBezTo>
                    <a:pt x="119" y="31"/>
                    <a:pt x="86" y="26"/>
                    <a:pt x="53" y="22"/>
                  </a:cubicBezTo>
                  <a:cubicBezTo>
                    <a:pt x="45" y="20"/>
                    <a:pt x="39" y="17"/>
                    <a:pt x="31" y="15"/>
                  </a:cubicBezTo>
                  <a:cubicBezTo>
                    <a:pt x="25" y="12"/>
                    <a:pt x="0" y="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404720" y="2198520"/>
              <a:ext cx="1033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24160" y="198432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2080" y="2541600"/>
            <a:ext cx="45720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4200" y="1960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5080" y="17226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af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71880" y="2131920"/>
            <a:ext cx="152280" cy="38124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05280" y="1738440"/>
            <a:ext cx="125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flagefläch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2560" y="228456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ra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76560" y="2136600"/>
            <a:ext cx="145800" cy="9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0440" y="1992240"/>
            <a:ext cx="2160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4680" y="2211480"/>
            <a:ext cx="8496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raube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ngeschliff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2400" y="2255760"/>
            <a:ext cx="17748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387440" y="2080800"/>
            <a:ext cx="8193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374840" y="2314080"/>
            <a:ext cx="865080" cy="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44800" y="2075040"/>
            <a:ext cx="40644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57560" y="2341440"/>
            <a:ext cx="33336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657600" y="1600200"/>
          <a:ext cx="1917720" cy="39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1600200"/>
                    <a:ext cx="19177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581280" y="1494000"/>
            <a:ext cx="2772000" cy="7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47720" y="233208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494000"/>
            <a:ext cx="2895480" cy="16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343400"/>
            <a:ext cx="5943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t man Flüssigkeiten zusammen, so werden sie in einen Druckzustand versetz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 erzeugte Druck wirkt . . . . . . . . . . . . . . . . . . . . . . . . . . . . . . . .  . . . . . . . . . . . und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2004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3341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9360" y="5384880"/>
            <a:ext cx="35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 Flüssigkeiten Kräfte übertragen (Station 3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52680" y="6904080"/>
            <a:ext cx="487440" cy="1134720"/>
            <a:chOff x="2452680" y="6904080"/>
            <a:chExt cx="487440" cy="1134720"/>
          </a:xfrm>
        </p:grpSpPr>
        <p:sp>
          <p:nvSpPr>
            <p:cNvPr id="72" name=""/>
            <p:cNvSpPr/>
            <p:nvPr/>
          </p:nvSpPr>
          <p:spPr>
            <a:xfrm>
              <a:off x="2660760" y="7852680"/>
              <a:ext cx="5148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86600" y="6904080"/>
              <a:ext cx="212760" cy="55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52680" y="690408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630520" y="7268400"/>
              <a:ext cx="123120" cy="534600"/>
              <a:chOff x="2630520" y="7268400"/>
              <a:chExt cx="123120" cy="534600"/>
            </a:xfrm>
          </p:grpSpPr>
          <p:sp>
            <p:nvSpPr>
              <p:cNvPr id="76" name=""/>
              <p:cNvSpPr/>
              <p:nvPr/>
            </p:nvSpPr>
            <p:spPr>
              <a:xfrm>
                <a:off x="2630520" y="78030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630520" y="77544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30520" y="77058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30520" y="76572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30520" y="7608600"/>
                <a:ext cx="123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630520" y="75600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630520" y="75114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630520" y="74628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30520" y="74142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30520" y="7365240"/>
                <a:ext cx="123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30520" y="73170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30520" y="7268400"/>
                <a:ext cx="12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570040" y="7221600"/>
              <a:ext cx="248760" cy="62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116160" y="5743440"/>
            <a:ext cx="0" cy="237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6880" y="5743440"/>
            <a:ext cx="0" cy="237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81280" y="8029440"/>
            <a:ext cx="482760" cy="352440"/>
          </a:xfrm>
          <a:custGeom>
            <a:avLst/>
            <a:gdLst/>
            <a:ahLst/>
            <a:rect l="l" t="t" r="r" b="b"/>
            <a:pathLst>
              <a:path w="385" h="251">
                <a:moveTo>
                  <a:pt x="384" y="42"/>
                </a:moveTo>
                <a:cubicBezTo>
                  <a:pt x="384" y="92"/>
                  <a:pt x="385" y="142"/>
                  <a:pt x="378" y="174"/>
                </a:cubicBezTo>
                <a:cubicBezTo>
                  <a:pt x="371" y="206"/>
                  <a:pt x="370" y="222"/>
                  <a:pt x="342" y="234"/>
                </a:cubicBezTo>
                <a:cubicBezTo>
                  <a:pt x="314" y="246"/>
                  <a:pt x="249" y="244"/>
                  <a:pt x="210" y="246"/>
                </a:cubicBezTo>
                <a:cubicBezTo>
                  <a:pt x="171" y="248"/>
                  <a:pt x="133" y="246"/>
                  <a:pt x="108" y="246"/>
                </a:cubicBezTo>
                <a:cubicBezTo>
                  <a:pt x="83" y="246"/>
                  <a:pt x="72" y="251"/>
                  <a:pt x="60" y="246"/>
                </a:cubicBezTo>
                <a:cubicBezTo>
                  <a:pt x="48" y="241"/>
                  <a:pt x="44" y="237"/>
                  <a:pt x="36" y="216"/>
                </a:cubicBezTo>
                <a:cubicBezTo>
                  <a:pt x="28" y="195"/>
                  <a:pt x="18" y="156"/>
                  <a:pt x="12" y="120"/>
                </a:cubicBezTo>
                <a:cubicBezTo>
                  <a:pt x="6" y="84"/>
                  <a:pt x="3" y="42"/>
                  <a:pt x="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87440" y="7257960"/>
            <a:ext cx="7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serstand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r dem B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sten mit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wicht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üc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16160" y="7218360"/>
            <a:ext cx="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6880" y="72183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65040" y="8001000"/>
            <a:ext cx="1823040" cy="449280"/>
            <a:chOff x="3965040" y="8001000"/>
            <a:chExt cx="1823040" cy="449280"/>
          </a:xfrm>
        </p:grpSpPr>
        <p:sp>
          <p:nvSpPr>
            <p:cNvPr id="96" name=""/>
            <p:cNvSpPr/>
            <p:nvPr/>
          </p:nvSpPr>
          <p:spPr>
            <a:xfrm>
              <a:off x="3965040" y="8021520"/>
              <a:ext cx="826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ruck</a:t>
              </a:r>
              <a:br>
                <a:rPr sz="1400"/>
              </a:b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kleiner Kolb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62600" y="8021520"/>
              <a:ext cx="825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ruck</a:t>
              </a:r>
              <a:br>
                <a:rPr sz="1400"/>
              </a:b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großer Kolb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28600" y="8001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6480" y="3200400"/>
            <a:ext cx="215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r Druck in Flüssigkeite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tation 2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3600" y="6753240"/>
            <a:ext cx="533520" cy="1047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3600" y="6629400"/>
            <a:ext cx="533520" cy="1047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19400" y="5838840"/>
            <a:ext cx="95400" cy="0"/>
          </a:xfrm>
          <a:prstGeom prst="line">
            <a:avLst/>
          </a:prstGeom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64960" y="661824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05360" y="6465960"/>
            <a:ext cx="507960" cy="1183680"/>
            <a:chOff x="4005360" y="6465960"/>
            <a:chExt cx="507960" cy="1183680"/>
          </a:xfrm>
        </p:grpSpPr>
        <p:sp>
          <p:nvSpPr>
            <p:cNvPr id="105" name=""/>
            <p:cNvSpPr/>
            <p:nvPr/>
          </p:nvSpPr>
          <p:spPr>
            <a:xfrm>
              <a:off x="4222080" y="7455240"/>
              <a:ext cx="53640" cy="19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4680" y="6465960"/>
              <a:ext cx="221760" cy="58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05360" y="6465960"/>
              <a:ext cx="50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190400" y="6846120"/>
              <a:ext cx="128160" cy="557640"/>
              <a:chOff x="4190400" y="6846120"/>
              <a:chExt cx="128160" cy="557640"/>
            </a:xfrm>
          </p:grpSpPr>
          <p:sp>
            <p:nvSpPr>
              <p:cNvPr id="109" name=""/>
              <p:cNvSpPr/>
              <p:nvPr/>
            </p:nvSpPr>
            <p:spPr>
              <a:xfrm>
                <a:off x="4190400" y="740376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90400" y="735300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90400" y="730224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90400" y="725148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90400" y="720108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0400" y="715032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90400" y="709956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90400" y="704880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90400" y="699804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90400" y="694728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90400" y="689688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90400" y="6846120"/>
                <a:ext cx="1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127400" y="6797160"/>
              <a:ext cx="259200" cy="6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253040" y="7623000"/>
            <a:ext cx="1344600" cy="303480"/>
          </a:xfrm>
          <a:custGeom>
            <a:avLst/>
            <a:gdLst/>
            <a:ahLst/>
            <a:rect l="l" t="t" r="r" b="b"/>
            <a:pathLst>
              <a:path w="385" h="251">
                <a:moveTo>
                  <a:pt x="384" y="42"/>
                </a:moveTo>
                <a:cubicBezTo>
                  <a:pt x="384" y="92"/>
                  <a:pt x="385" y="142"/>
                  <a:pt x="378" y="174"/>
                </a:cubicBezTo>
                <a:cubicBezTo>
                  <a:pt x="371" y="206"/>
                  <a:pt x="370" y="222"/>
                  <a:pt x="342" y="234"/>
                </a:cubicBezTo>
                <a:cubicBezTo>
                  <a:pt x="314" y="246"/>
                  <a:pt x="249" y="244"/>
                  <a:pt x="210" y="246"/>
                </a:cubicBezTo>
                <a:cubicBezTo>
                  <a:pt x="171" y="248"/>
                  <a:pt x="133" y="246"/>
                  <a:pt x="108" y="246"/>
                </a:cubicBezTo>
                <a:cubicBezTo>
                  <a:pt x="83" y="246"/>
                  <a:pt x="72" y="251"/>
                  <a:pt x="60" y="246"/>
                </a:cubicBezTo>
                <a:cubicBezTo>
                  <a:pt x="48" y="241"/>
                  <a:pt x="44" y="237"/>
                  <a:pt x="36" y="216"/>
                </a:cubicBezTo>
                <a:cubicBezTo>
                  <a:pt x="28" y="195"/>
                  <a:pt x="18" y="156"/>
                  <a:pt x="12" y="120"/>
                </a:cubicBezTo>
                <a:cubicBezTo>
                  <a:pt x="6" y="84"/>
                  <a:pt x="3" y="42"/>
                  <a:pt x="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76800" y="6478560"/>
            <a:ext cx="849240" cy="1181160"/>
            <a:chOff x="5176800" y="6478560"/>
            <a:chExt cx="849240" cy="1181160"/>
          </a:xfrm>
        </p:grpSpPr>
        <p:sp>
          <p:nvSpPr>
            <p:cNvPr id="124" name=""/>
            <p:cNvSpPr/>
            <p:nvPr/>
          </p:nvSpPr>
          <p:spPr>
            <a:xfrm>
              <a:off x="5557680" y="7464240"/>
              <a:ext cx="74880" cy="19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080" y="6478560"/>
              <a:ext cx="371520" cy="582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76800" y="647856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486400" y="6859440"/>
              <a:ext cx="213840" cy="557280"/>
              <a:chOff x="5486400" y="6859440"/>
              <a:chExt cx="213840" cy="557280"/>
            </a:xfrm>
          </p:grpSpPr>
          <p:sp>
            <p:nvSpPr>
              <p:cNvPr id="128" name=""/>
              <p:cNvSpPr/>
              <p:nvPr/>
            </p:nvSpPr>
            <p:spPr>
              <a:xfrm>
                <a:off x="5486400" y="74167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86400" y="73663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86400" y="731556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86400" y="726480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86400" y="7214040"/>
                <a:ext cx="21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86400" y="716328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86400" y="71125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86400" y="70621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400" y="701136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86400" y="6960600"/>
                <a:ext cx="21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86400" y="690984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86400" y="685944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381640" y="6810120"/>
              <a:ext cx="433440" cy="65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86320" y="5816520"/>
            <a:ext cx="417240" cy="636120"/>
            <a:chOff x="5386320" y="5816520"/>
            <a:chExt cx="417240" cy="636120"/>
          </a:xfrm>
        </p:grpSpPr>
        <p:sp>
          <p:nvSpPr>
            <p:cNvPr id="142" name=""/>
            <p:cNvSpPr/>
            <p:nvPr/>
          </p:nvSpPr>
          <p:spPr>
            <a:xfrm>
              <a:off x="5386320" y="6028200"/>
              <a:ext cx="417240" cy="424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1520" y="5816520"/>
              <a:ext cx="212400" cy="211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340880" y="6740640"/>
            <a:ext cx="10126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lbe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äch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,75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70440" y="6740640"/>
            <a:ext cx="92736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lbe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äch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7,0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0560" y="6532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54000" y="6541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7960" y="6122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6480" y="6603840"/>
            <a:ext cx="4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osi-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on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5200" y="6010200"/>
            <a:ext cx="5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osi-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3400" y="6476760"/>
            <a:ext cx="956880" cy="1329120"/>
            <a:chOff x="833400" y="6476760"/>
            <a:chExt cx="956880" cy="1329120"/>
          </a:xfrm>
        </p:grpSpPr>
        <p:sp>
          <p:nvSpPr>
            <p:cNvPr id="152" name=""/>
            <p:cNvSpPr/>
            <p:nvPr/>
          </p:nvSpPr>
          <p:spPr>
            <a:xfrm>
              <a:off x="1146600" y="7010280"/>
              <a:ext cx="635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9720" y="7254360"/>
              <a:ext cx="165240" cy="195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5920" y="7013160"/>
              <a:ext cx="313200" cy="1422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31320" y="7521120"/>
              <a:ext cx="123120" cy="25200"/>
            </a:xfrm>
            <a:custGeom>
              <a:avLst/>
              <a:gdLst>
                <a:gd name="textAreaLeft" fmla="*/ 22680 w 123120"/>
                <a:gd name="textAreaRight" fmla="*/ 100440 w 123120"/>
                <a:gd name="textAreaTop" fmla="*/ 4680 h 25200"/>
                <a:gd name="textAreaBottom" fmla="*/ 20520 h 2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67" y="21600"/>
                  </a:lnTo>
                  <a:lnTo>
                    <a:pt x="4033" y="2160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7200" y="7451280"/>
              <a:ext cx="168840" cy="68760"/>
            </a:xfrm>
            <a:custGeom>
              <a:avLst/>
              <a:gdLst>
                <a:gd name="textAreaLeft" fmla="*/ 26280 w 168840"/>
                <a:gd name="textAreaRight" fmla="*/ 142560 w 168840"/>
                <a:gd name="textAreaTop" fmla="*/ 10800 h 68760"/>
                <a:gd name="textAreaBottom" fmla="*/ 57960 h 6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666" y="21600"/>
                  </a:lnTo>
                  <a:lnTo>
                    <a:pt x="2934" y="2160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5920" y="7158960"/>
              <a:ext cx="310320" cy="92520"/>
            </a:xfrm>
            <a:custGeom>
              <a:avLst/>
              <a:gdLst>
                <a:gd name="textAreaLeft" fmla="*/ 64080 w 310320"/>
                <a:gd name="textAreaRight" fmla="*/ 246240 w 310320"/>
                <a:gd name="textAreaTop" fmla="*/ 19080 h 92520"/>
                <a:gd name="textAreaBottom" fmla="*/ 73440 h 9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694" y="21600"/>
                  </a:lnTo>
                  <a:lnTo>
                    <a:pt x="4906" y="2160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3400" y="7010280"/>
              <a:ext cx="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51280" y="7010280"/>
              <a:ext cx="0" cy="14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3400" y="7156440"/>
              <a:ext cx="73800" cy="9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077840" y="7156440"/>
              <a:ext cx="73440" cy="9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7200" y="7254360"/>
              <a:ext cx="17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3400" y="7156440"/>
              <a:ext cx="3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7200" y="7254360"/>
              <a:ext cx="0" cy="19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77840" y="7254360"/>
              <a:ext cx="0" cy="19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7200" y="7448760"/>
              <a:ext cx="2412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053000" y="7448760"/>
              <a:ext cx="2412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31320" y="7521120"/>
              <a:ext cx="2376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028880" y="7521120"/>
              <a:ext cx="2412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59400" y="7545240"/>
              <a:ext cx="69840" cy="58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81000" y="7326720"/>
              <a:ext cx="435240" cy="435600"/>
            </a:xfrm>
            <a:custGeom>
              <a:avLst/>
              <a:gdLst/>
              <a:ahLst/>
              <a:rect l="l" t="t" r="r" b="b"/>
              <a:pathLst>
                <a:path w="1103" h="859">
                  <a:moveTo>
                    <a:pt x="1101" y="0"/>
                  </a:moveTo>
                  <a:cubicBezTo>
                    <a:pt x="1101" y="111"/>
                    <a:pt x="1102" y="222"/>
                    <a:pt x="1101" y="308"/>
                  </a:cubicBezTo>
                  <a:cubicBezTo>
                    <a:pt x="1100" y="394"/>
                    <a:pt x="1103" y="466"/>
                    <a:pt x="1096" y="518"/>
                  </a:cubicBezTo>
                  <a:cubicBezTo>
                    <a:pt x="1089" y="570"/>
                    <a:pt x="1076" y="581"/>
                    <a:pt x="1056" y="618"/>
                  </a:cubicBezTo>
                  <a:cubicBezTo>
                    <a:pt x="1036" y="655"/>
                    <a:pt x="1015" y="706"/>
                    <a:pt x="976" y="738"/>
                  </a:cubicBezTo>
                  <a:cubicBezTo>
                    <a:pt x="937" y="770"/>
                    <a:pt x="874" y="797"/>
                    <a:pt x="821" y="808"/>
                  </a:cubicBezTo>
                  <a:cubicBezTo>
                    <a:pt x="768" y="819"/>
                    <a:pt x="706" y="813"/>
                    <a:pt x="656" y="803"/>
                  </a:cubicBezTo>
                  <a:cubicBezTo>
                    <a:pt x="606" y="793"/>
                    <a:pt x="553" y="770"/>
                    <a:pt x="520" y="748"/>
                  </a:cubicBezTo>
                  <a:cubicBezTo>
                    <a:pt x="487" y="726"/>
                    <a:pt x="467" y="698"/>
                    <a:pt x="455" y="668"/>
                  </a:cubicBezTo>
                  <a:cubicBezTo>
                    <a:pt x="443" y="638"/>
                    <a:pt x="435" y="598"/>
                    <a:pt x="445" y="568"/>
                  </a:cubicBezTo>
                  <a:cubicBezTo>
                    <a:pt x="455" y="538"/>
                    <a:pt x="476" y="501"/>
                    <a:pt x="515" y="488"/>
                  </a:cubicBezTo>
                  <a:cubicBezTo>
                    <a:pt x="554" y="475"/>
                    <a:pt x="640" y="478"/>
                    <a:pt x="681" y="488"/>
                  </a:cubicBezTo>
                  <a:cubicBezTo>
                    <a:pt x="722" y="498"/>
                    <a:pt x="746" y="517"/>
                    <a:pt x="761" y="548"/>
                  </a:cubicBezTo>
                  <a:cubicBezTo>
                    <a:pt x="776" y="579"/>
                    <a:pt x="788" y="626"/>
                    <a:pt x="771" y="673"/>
                  </a:cubicBezTo>
                  <a:cubicBezTo>
                    <a:pt x="754" y="720"/>
                    <a:pt x="713" y="799"/>
                    <a:pt x="661" y="829"/>
                  </a:cubicBezTo>
                  <a:cubicBezTo>
                    <a:pt x="609" y="859"/>
                    <a:pt x="543" y="853"/>
                    <a:pt x="460" y="854"/>
                  </a:cubicBezTo>
                  <a:cubicBezTo>
                    <a:pt x="377" y="855"/>
                    <a:pt x="232" y="844"/>
                    <a:pt x="160" y="834"/>
                  </a:cubicBezTo>
                  <a:cubicBezTo>
                    <a:pt x="88" y="824"/>
                    <a:pt x="50" y="816"/>
                    <a:pt x="25" y="793"/>
                  </a:cubicBezTo>
                  <a:cubicBezTo>
                    <a:pt x="0" y="770"/>
                    <a:pt x="12" y="734"/>
                    <a:pt x="10" y="693"/>
                  </a:cubicBezTo>
                  <a:cubicBezTo>
                    <a:pt x="8" y="652"/>
                    <a:pt x="9" y="600"/>
                    <a:pt x="10" y="5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3400" y="701028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328400" y="6909840"/>
              <a:ext cx="173160" cy="425520"/>
              <a:chOff x="1328400" y="6909840"/>
              <a:chExt cx="173160" cy="425520"/>
            </a:xfrm>
          </p:grpSpPr>
          <p:sp>
            <p:nvSpPr>
              <p:cNvPr id="174" name=""/>
              <p:cNvSpPr/>
              <p:nvPr/>
            </p:nvSpPr>
            <p:spPr>
              <a:xfrm>
                <a:off x="1356120" y="7247880"/>
                <a:ext cx="122400" cy="27720"/>
              </a:xfrm>
              <a:custGeom>
                <a:avLst/>
                <a:gdLst>
                  <a:gd name="textAreaLeft" fmla="*/ 22320 w 122400"/>
                  <a:gd name="textAreaRight" fmla="*/ 100080 w 122400"/>
                  <a:gd name="textAreaTop" fmla="*/ 5040 h 27720"/>
                  <a:gd name="textAreaBottom" fmla="*/ 22680 h 2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67" y="21600"/>
                    </a:lnTo>
                    <a:lnTo>
                      <a:pt x="4033" y="2160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32360" y="7179120"/>
                <a:ext cx="168840" cy="68400"/>
              </a:xfrm>
              <a:custGeom>
                <a:avLst/>
                <a:gdLst>
                  <a:gd name="textAreaLeft" fmla="*/ 26280 w 168840"/>
                  <a:gd name="textAreaRight" fmla="*/ 142560 w 168840"/>
                  <a:gd name="textAreaTop" fmla="*/ 10440 h 68400"/>
                  <a:gd name="textAreaBottom" fmla="*/ 57960 h 6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66" y="21600"/>
                    </a:lnTo>
                    <a:lnTo>
                      <a:pt x="2934" y="2160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33440" y="7017840"/>
                <a:ext cx="166680" cy="16092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1329840" y="6909840"/>
                <a:ext cx="171720" cy="425520"/>
                <a:chOff x="1329840" y="6909840"/>
                <a:chExt cx="171720" cy="425520"/>
              </a:xfrm>
            </p:grpSpPr>
            <p:sp>
              <p:nvSpPr>
                <p:cNvPr id="178" name=""/>
                <p:cNvSpPr/>
                <p:nvPr/>
              </p:nvSpPr>
              <p:spPr>
                <a:xfrm flipV="1">
                  <a:off x="1329840" y="6909840"/>
                  <a:ext cx="60840" cy="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329840" y="6912720"/>
                  <a:ext cx="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501560" y="6912720"/>
                  <a:ext cx="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329840" y="7180200"/>
                  <a:ext cx="24480" cy="72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1477080" y="7180200"/>
                  <a:ext cx="24480" cy="72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354320" y="7253280"/>
                  <a:ext cx="2448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1452600" y="7253280"/>
                  <a:ext cx="2448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81680" y="7277760"/>
                  <a:ext cx="70560" cy="576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453680" y="6912720"/>
                  <a:ext cx="47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328400" y="7013880"/>
                <a:ext cx="169200" cy="6120"/>
              </a:xfrm>
              <a:custGeom>
                <a:avLst/>
                <a:gdLst/>
                <a:ahLst/>
                <a:rect l="l" t="t" r="r" b="b"/>
                <a:pathLst>
                  <a:path w="331" h="12">
                    <a:moveTo>
                      <a:pt x="0" y="7"/>
                    </a:moveTo>
                    <a:cubicBezTo>
                      <a:pt x="67" y="0"/>
                      <a:pt x="133" y="8"/>
                      <a:pt x="200" y="12"/>
                    </a:cubicBezTo>
                    <a:cubicBezTo>
                      <a:pt x="252" y="7"/>
                      <a:pt x="277" y="2"/>
                      <a:pt x="331" y="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531080" y="6476760"/>
              <a:ext cx="171360" cy="425520"/>
              <a:chOff x="1531080" y="6476760"/>
              <a:chExt cx="171360" cy="425520"/>
            </a:xfrm>
          </p:grpSpPr>
          <p:sp>
            <p:nvSpPr>
              <p:cNvPr id="189" name=""/>
              <p:cNvSpPr/>
              <p:nvPr/>
            </p:nvSpPr>
            <p:spPr>
              <a:xfrm>
                <a:off x="1558800" y="6814800"/>
                <a:ext cx="122040" cy="27720"/>
              </a:xfrm>
              <a:custGeom>
                <a:avLst/>
                <a:gdLst>
                  <a:gd name="textAreaLeft" fmla="*/ 22320 w 122040"/>
                  <a:gd name="textAreaRight" fmla="*/ 99720 w 122040"/>
                  <a:gd name="textAreaTop" fmla="*/ 5040 h 27720"/>
                  <a:gd name="textAreaBottom" fmla="*/ 22680 h 2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67" y="21600"/>
                    </a:lnTo>
                    <a:lnTo>
                      <a:pt x="4033" y="2160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33240" y="6746040"/>
                <a:ext cx="169200" cy="68400"/>
              </a:xfrm>
              <a:custGeom>
                <a:avLst/>
                <a:gdLst>
                  <a:gd name="textAreaLeft" fmla="*/ 26280 w 169200"/>
                  <a:gd name="textAreaRight" fmla="*/ 142920 w 169200"/>
                  <a:gd name="textAreaTop" fmla="*/ 10440 h 68400"/>
                  <a:gd name="textAreaBottom" fmla="*/ 57960 h 6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66" y="21600"/>
                    </a:lnTo>
                    <a:lnTo>
                      <a:pt x="2934" y="2160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35760" y="6610320"/>
                <a:ext cx="165240" cy="13572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532160" y="6476760"/>
                <a:ext cx="170280" cy="425520"/>
                <a:chOff x="1532160" y="6476760"/>
                <a:chExt cx="170280" cy="42552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1532160" y="6476760"/>
                  <a:ext cx="60120" cy="25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532160" y="6479640"/>
                  <a:ext cx="0" cy="26748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702440" y="6479640"/>
                  <a:ext cx="0" cy="26748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532160" y="6747120"/>
                  <a:ext cx="24120" cy="727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1677960" y="6747120"/>
                  <a:ext cx="24120" cy="727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556280" y="6820200"/>
                  <a:ext cx="24120" cy="241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1653480" y="6820200"/>
                  <a:ext cx="24120" cy="241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583640" y="6844680"/>
                  <a:ext cx="69840" cy="57600"/>
                </a:xfrm>
                <a:prstGeom prst="rect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654920" y="6479640"/>
                  <a:ext cx="47520" cy="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1531080" y="6581160"/>
                <a:ext cx="167760" cy="6120"/>
              </a:xfrm>
              <a:custGeom>
                <a:avLst/>
                <a:gdLst/>
                <a:ahLst/>
                <a:rect l="l" t="t" r="r" b="b"/>
                <a:pathLst>
                  <a:path w="331" h="12">
                    <a:moveTo>
                      <a:pt x="0" y="7"/>
                    </a:moveTo>
                    <a:cubicBezTo>
                      <a:pt x="67" y="0"/>
                      <a:pt x="133" y="8"/>
                      <a:pt x="200" y="12"/>
                    </a:cubicBezTo>
                    <a:cubicBezTo>
                      <a:pt x="252" y="7"/>
                      <a:pt x="277" y="2"/>
                      <a:pt x="331" y="2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960480" y="6905160"/>
              <a:ext cx="667080" cy="900720"/>
            </a:xfrm>
            <a:custGeom>
              <a:avLst/>
              <a:gdLst/>
              <a:ahLst/>
              <a:rect l="l" t="t" r="r" b="b"/>
              <a:pathLst>
                <a:path w="1858" h="1774">
                  <a:moveTo>
                    <a:pt x="1842" y="0"/>
                  </a:moveTo>
                  <a:cubicBezTo>
                    <a:pt x="1845" y="181"/>
                    <a:pt x="1848" y="362"/>
                    <a:pt x="1842" y="576"/>
                  </a:cubicBezTo>
                  <a:cubicBezTo>
                    <a:pt x="1836" y="790"/>
                    <a:pt x="1858" y="1112"/>
                    <a:pt x="1806" y="1284"/>
                  </a:cubicBezTo>
                  <a:cubicBezTo>
                    <a:pt x="1754" y="1456"/>
                    <a:pt x="1684" y="1530"/>
                    <a:pt x="1530" y="1608"/>
                  </a:cubicBezTo>
                  <a:cubicBezTo>
                    <a:pt x="1376" y="1686"/>
                    <a:pt x="1096" y="1730"/>
                    <a:pt x="882" y="1752"/>
                  </a:cubicBezTo>
                  <a:cubicBezTo>
                    <a:pt x="668" y="1774"/>
                    <a:pt x="388" y="1746"/>
                    <a:pt x="246" y="1740"/>
                  </a:cubicBezTo>
                  <a:cubicBezTo>
                    <a:pt x="104" y="1734"/>
                    <a:pt x="60" y="1760"/>
                    <a:pt x="30" y="1716"/>
                  </a:cubicBezTo>
                  <a:cubicBezTo>
                    <a:pt x="0" y="1672"/>
                    <a:pt x="62" y="1534"/>
                    <a:pt x="66" y="1476"/>
                  </a:cubicBezTo>
                  <a:cubicBezTo>
                    <a:pt x="70" y="1418"/>
                    <a:pt x="62" y="1393"/>
                    <a:pt x="54" y="1368"/>
                  </a:cubicBezTo>
                </a:path>
              </a:pathLst>
            </a:custGeom>
            <a:noFill/>
            <a:ln w="50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1200" y="6606720"/>
              <a:ext cx="109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7160" y="66067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933720" y="5334120"/>
            <a:ext cx="0" cy="45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2800" y="7912080"/>
            <a:ext cx="15552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nstieg des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asserstand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ine Kraft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irkt auf di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81080" y="8475840"/>
            <a:ext cx="304920" cy="172800"/>
          </a:xfrm>
          <a:prstGeom prst="downArrow">
            <a:avLst>
              <a:gd name="adj1" fmla="val 25000"/>
              <a:gd name="adj2" fmla="val 2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03560" y="8359920"/>
            <a:ext cx="15019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Kraft auf den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Kolb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nstieg des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asserstan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3581280"/>
            <a:ext cx="2156040" cy="542880"/>
            <a:chOff x="533520" y="3581280"/>
            <a:chExt cx="2156040" cy="542880"/>
          </a:xfrm>
        </p:grpSpPr>
        <p:sp>
          <p:nvSpPr>
            <p:cNvPr id="211" name=""/>
            <p:cNvSpPr/>
            <p:nvPr/>
          </p:nvSpPr>
          <p:spPr>
            <a:xfrm>
              <a:off x="903240" y="3844800"/>
              <a:ext cx="9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03240" y="3952800"/>
              <a:ext cx="9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33400" y="3581280"/>
              <a:ext cx="919440" cy="542880"/>
            </a:xfrm>
            <a:custGeom>
              <a:avLst/>
              <a:gdLst/>
              <a:ahLst/>
              <a:rect l="l" t="t" r="r" b="b"/>
              <a:pathLst>
                <a:path w="804" h="477">
                  <a:moveTo>
                    <a:pt x="0" y="225"/>
                  </a:moveTo>
                  <a:cubicBezTo>
                    <a:pt x="17" y="222"/>
                    <a:pt x="35" y="220"/>
                    <a:pt x="54" y="219"/>
                  </a:cubicBezTo>
                  <a:cubicBezTo>
                    <a:pt x="73" y="218"/>
                    <a:pt x="94" y="223"/>
                    <a:pt x="114" y="219"/>
                  </a:cubicBezTo>
                  <a:cubicBezTo>
                    <a:pt x="134" y="215"/>
                    <a:pt x="151" y="213"/>
                    <a:pt x="174" y="195"/>
                  </a:cubicBezTo>
                  <a:cubicBezTo>
                    <a:pt x="197" y="177"/>
                    <a:pt x="222" y="139"/>
                    <a:pt x="252" y="111"/>
                  </a:cubicBezTo>
                  <a:cubicBezTo>
                    <a:pt x="282" y="83"/>
                    <a:pt x="310" y="45"/>
                    <a:pt x="354" y="27"/>
                  </a:cubicBezTo>
                  <a:cubicBezTo>
                    <a:pt x="398" y="9"/>
                    <a:pt x="463" y="0"/>
                    <a:pt x="516" y="3"/>
                  </a:cubicBezTo>
                  <a:cubicBezTo>
                    <a:pt x="569" y="6"/>
                    <a:pt x="627" y="12"/>
                    <a:pt x="672" y="45"/>
                  </a:cubicBezTo>
                  <a:cubicBezTo>
                    <a:pt x="717" y="78"/>
                    <a:pt x="768" y="156"/>
                    <a:pt x="786" y="201"/>
                  </a:cubicBezTo>
                  <a:cubicBezTo>
                    <a:pt x="804" y="246"/>
                    <a:pt x="793" y="277"/>
                    <a:pt x="780" y="315"/>
                  </a:cubicBezTo>
                  <a:cubicBezTo>
                    <a:pt x="767" y="353"/>
                    <a:pt x="744" y="403"/>
                    <a:pt x="708" y="429"/>
                  </a:cubicBezTo>
                  <a:cubicBezTo>
                    <a:pt x="672" y="455"/>
                    <a:pt x="611" y="465"/>
                    <a:pt x="564" y="471"/>
                  </a:cubicBezTo>
                  <a:cubicBezTo>
                    <a:pt x="517" y="477"/>
                    <a:pt x="465" y="476"/>
                    <a:pt x="426" y="465"/>
                  </a:cubicBezTo>
                  <a:cubicBezTo>
                    <a:pt x="387" y="454"/>
                    <a:pt x="359" y="419"/>
                    <a:pt x="330" y="405"/>
                  </a:cubicBezTo>
                  <a:cubicBezTo>
                    <a:pt x="301" y="391"/>
                    <a:pt x="290" y="392"/>
                    <a:pt x="252" y="381"/>
                  </a:cubicBezTo>
                  <a:cubicBezTo>
                    <a:pt x="214" y="370"/>
                    <a:pt x="137" y="347"/>
                    <a:pt x="102" y="339"/>
                  </a:cubicBezTo>
                  <a:cubicBezTo>
                    <a:pt x="67" y="331"/>
                    <a:pt x="54" y="332"/>
                    <a:pt x="42" y="333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06400" y="3830760"/>
              <a:ext cx="130320" cy="12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520" y="3778200"/>
              <a:ext cx="479160" cy="250920"/>
            </a:xfrm>
            <a:custGeom>
              <a:avLst/>
              <a:gdLst/>
              <a:ahLst/>
              <a:rect l="l" t="t" r="r" b="b"/>
              <a:pathLst>
                <a:path w="420" h="220">
                  <a:moveTo>
                    <a:pt x="420" y="58"/>
                  </a:moveTo>
                  <a:cubicBezTo>
                    <a:pt x="399" y="53"/>
                    <a:pt x="379" y="49"/>
                    <a:pt x="360" y="46"/>
                  </a:cubicBezTo>
                  <a:cubicBezTo>
                    <a:pt x="341" y="43"/>
                    <a:pt x="330" y="46"/>
                    <a:pt x="306" y="40"/>
                  </a:cubicBezTo>
                  <a:cubicBezTo>
                    <a:pt x="282" y="34"/>
                    <a:pt x="258" y="15"/>
                    <a:pt x="216" y="10"/>
                  </a:cubicBezTo>
                  <a:cubicBezTo>
                    <a:pt x="174" y="5"/>
                    <a:pt x="88" y="0"/>
                    <a:pt x="54" y="10"/>
                  </a:cubicBezTo>
                  <a:cubicBezTo>
                    <a:pt x="20" y="20"/>
                    <a:pt x="20" y="53"/>
                    <a:pt x="12" y="70"/>
                  </a:cubicBezTo>
                  <a:cubicBezTo>
                    <a:pt x="4" y="87"/>
                    <a:pt x="7" y="96"/>
                    <a:pt x="6" y="112"/>
                  </a:cubicBezTo>
                  <a:cubicBezTo>
                    <a:pt x="5" y="128"/>
                    <a:pt x="0" y="150"/>
                    <a:pt x="6" y="166"/>
                  </a:cubicBezTo>
                  <a:cubicBezTo>
                    <a:pt x="12" y="182"/>
                    <a:pt x="23" y="199"/>
                    <a:pt x="42" y="208"/>
                  </a:cubicBezTo>
                  <a:cubicBezTo>
                    <a:pt x="61" y="217"/>
                    <a:pt x="96" y="220"/>
                    <a:pt x="120" y="220"/>
                  </a:cubicBezTo>
                  <a:cubicBezTo>
                    <a:pt x="144" y="220"/>
                    <a:pt x="161" y="214"/>
                    <a:pt x="186" y="208"/>
                  </a:cubicBezTo>
                  <a:cubicBezTo>
                    <a:pt x="211" y="202"/>
                    <a:pt x="246" y="190"/>
                    <a:pt x="270" y="184"/>
                  </a:cubicBezTo>
                  <a:cubicBezTo>
                    <a:pt x="294" y="178"/>
                    <a:pt x="311" y="175"/>
                    <a:pt x="330" y="172"/>
                  </a:cubicBezTo>
                  <a:cubicBezTo>
                    <a:pt x="349" y="169"/>
                    <a:pt x="366" y="167"/>
                    <a:pt x="384" y="166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4640" y="3836880"/>
              <a:ext cx="129960" cy="130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96920" y="3608280"/>
              <a:ext cx="69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ll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t Wasser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fül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8640" y="3654360"/>
              <a:ext cx="932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rbindungsroh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87320" y="2208240"/>
            <a:ext cx="381240" cy="74520"/>
          </a:xfrm>
          <a:custGeom>
            <a:avLst/>
            <a:gdLst/>
            <a:ahLst/>
            <a:rect l="l" t="t" r="r" b="b"/>
            <a:pathLst>
              <a:path w="160" h="46">
                <a:moveTo>
                  <a:pt x="160" y="46"/>
                </a:moveTo>
                <a:cubicBezTo>
                  <a:pt x="134" y="17"/>
                  <a:pt x="38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2058840"/>
            <a:ext cx="341640" cy="87480"/>
          </a:xfrm>
          <a:custGeom>
            <a:avLst/>
            <a:gdLst/>
            <a:ahLst/>
            <a:rect l="l" t="t" r="r" b="b"/>
            <a:pathLst>
              <a:path w="215" h="55">
                <a:moveTo>
                  <a:pt x="215" y="55"/>
                </a:moveTo>
                <a:cubicBezTo>
                  <a:pt x="142" y="37"/>
                  <a:pt x="76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892680" y="2577960"/>
          <a:ext cx="1904760" cy="41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92680" y="2577960"/>
                    <a:ext cx="19047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491920" y="463392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alle Richtungen gleich st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5800" y="4952880"/>
            <a:ext cx="28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t an jeder Stelle gleich groß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222800" y="8443800"/>
          <a:ext cx="1307880" cy="1282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22800" y="8443800"/>
                    <a:ext cx="13078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652840" y="8934480"/>
            <a:ext cx="304560" cy="190440"/>
          </a:xfrm>
          <a:prstGeom prst="downArrow">
            <a:avLst>
              <a:gd name="adj1" fmla="val 25000"/>
              <a:gd name="adj2" fmla="val 2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5040" y="920880"/>
            <a:ext cx="605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r Auflagedruck (Station 1)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 . . . . . . . . . die Kraft auf eine bestimmte Fläche ist, desto . . . . . . . . . . ist der D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0960" y="1190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öß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12840" y="1190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öß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924280" y="3224160"/>
            <a:ext cx="1871280" cy="1086840"/>
            <a:chOff x="2924280" y="3224160"/>
            <a:chExt cx="1871280" cy="1086840"/>
          </a:xfrm>
        </p:grpSpPr>
        <p:sp>
          <p:nvSpPr>
            <p:cNvPr id="232" name=""/>
            <p:cNvSpPr/>
            <p:nvPr/>
          </p:nvSpPr>
          <p:spPr>
            <a:xfrm>
              <a:off x="2992680" y="3224160"/>
              <a:ext cx="136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lvorstell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924280" y="3295440"/>
              <a:ext cx="1871280" cy="1015560"/>
              <a:chOff x="2924280" y="3295440"/>
              <a:chExt cx="1871280" cy="101556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4377600" y="3295440"/>
                <a:ext cx="234360" cy="180360"/>
                <a:chOff x="4377600" y="3295440"/>
                <a:chExt cx="234360" cy="1803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377600" y="3295440"/>
                  <a:ext cx="23436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4447440" y="332352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4542840" y="332064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924280" y="3470040"/>
                <a:ext cx="1685160" cy="661680"/>
                <a:chOff x="2924280" y="3470040"/>
                <a:chExt cx="1685160" cy="661680"/>
              </a:xfrm>
            </p:grpSpPr>
            <p:pic>
              <p:nvPicPr>
                <p:cNvPr id="239" name="" descr=""/>
                <p:cNvPicPr/>
                <p:nvPr/>
              </p:nvPicPr>
              <p:blipFill>
                <a:blip r:embed="rId8">
                  <a:grayscl/>
                </a:blip>
                <a:stretch/>
              </p:blipFill>
              <p:spPr>
                <a:xfrm rot="16200000">
                  <a:off x="3704040" y="3224520"/>
                  <a:ext cx="659160" cy="115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0" name=""/>
                <p:cNvSpPr/>
                <p:nvPr/>
              </p:nvSpPr>
              <p:spPr>
                <a:xfrm>
                  <a:off x="3458160" y="3471120"/>
                  <a:ext cx="1151280" cy="659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308400" y="3481560"/>
                  <a:ext cx="145800" cy="638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077640" y="3470040"/>
                  <a:ext cx="380520" cy="661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924280" y="3751560"/>
                  <a:ext cx="384120" cy="106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4609800" y="3723840"/>
                <a:ext cx="185760" cy="227520"/>
                <a:chOff x="4609800" y="3723840"/>
                <a:chExt cx="185760" cy="227520"/>
              </a:xfrm>
            </p:grpSpPr>
            <p:sp>
              <p:nvSpPr>
                <p:cNvPr id="245" name=""/>
                <p:cNvSpPr/>
                <p:nvPr/>
              </p:nvSpPr>
              <p:spPr>
                <a:xfrm rot="5400000">
                  <a:off x="4588920" y="3744720"/>
                  <a:ext cx="227520" cy="18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639320" y="3791880"/>
                  <a:ext cx="12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641840" y="3884400"/>
                  <a:ext cx="12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737160" y="4130640"/>
                <a:ext cx="234360" cy="180360"/>
                <a:chOff x="3737160" y="4130640"/>
                <a:chExt cx="234360" cy="180360"/>
              </a:xfrm>
            </p:grpSpPr>
            <p:sp>
              <p:nvSpPr>
                <p:cNvPr id="249" name=""/>
                <p:cNvSpPr/>
                <p:nvPr/>
              </p:nvSpPr>
              <p:spPr>
                <a:xfrm rot="10800000">
                  <a:off x="3737160" y="4130640"/>
                  <a:ext cx="23436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01680" y="415908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806280" y="416160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176000" y="4130640"/>
                <a:ext cx="234000" cy="180360"/>
                <a:chOff x="4176000" y="4130640"/>
                <a:chExt cx="234000" cy="180360"/>
              </a:xfrm>
            </p:grpSpPr>
            <p:sp>
              <p:nvSpPr>
                <p:cNvPr id="253" name=""/>
                <p:cNvSpPr/>
                <p:nvPr/>
              </p:nvSpPr>
              <p:spPr>
                <a:xfrm rot="10800000">
                  <a:off x="4176000" y="4130640"/>
                  <a:ext cx="23400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340160" y="415908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245120" y="416160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6" name=""/>
            <p:cNvSpPr/>
            <p:nvPr/>
          </p:nvSpPr>
          <p:spPr>
            <a:xfrm rot="5400000">
              <a:off x="3079080" y="3651120"/>
              <a:ext cx="615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Kolb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013360" y="3655800"/>
            <a:ext cx="1333440" cy="433080"/>
            <a:chOff x="5013360" y="3655800"/>
            <a:chExt cx="1333440" cy="433080"/>
          </a:xfrm>
        </p:grpSpPr>
        <p:sp>
          <p:nvSpPr>
            <p:cNvPr id="258" name=""/>
            <p:cNvSpPr/>
            <p:nvPr/>
          </p:nvSpPr>
          <p:spPr>
            <a:xfrm rot="16200000">
              <a:off x="5865480" y="3681360"/>
              <a:ext cx="216000" cy="376560"/>
            </a:xfrm>
            <a:prstGeom prst="rect">
              <a:avLst/>
            </a:prstGeom>
            <a:blipFill rotWithShape="0">
              <a:blip r:embed="rId9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6214680" y="3778200"/>
              <a:ext cx="84240" cy="180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5421600" y="3596760"/>
              <a:ext cx="189360" cy="539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246640" y="3655800"/>
              <a:ext cx="0" cy="43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599440" y="3812760"/>
              <a:ext cx="519840" cy="108000"/>
              <a:chOff x="5599440" y="3812760"/>
              <a:chExt cx="519840" cy="10800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611928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607212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6024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5977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930280" y="381276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88276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5835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788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74092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5693760" y="381276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5646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5599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rot="16200000">
              <a:off x="4995720" y="3750840"/>
              <a:ext cx="271080" cy="236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5749920" y="3561480"/>
              <a:ext cx="219960" cy="608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6104160" y="3861000"/>
              <a:ext cx="3744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6109920" y="3924000"/>
              <a:ext cx="2628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6109560" y="3782520"/>
              <a:ext cx="2664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6200000">
              <a:off x="6269400" y="3835440"/>
              <a:ext cx="74880" cy="65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13360" y="3868200"/>
              <a:ext cx="16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49360" y="5745240"/>
            <a:ext cx="6048360" cy="40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60640" y="574524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133880" y="6186600"/>
            <a:ext cx="220680" cy="258480"/>
            <a:chOff x="4133880" y="6186600"/>
            <a:chExt cx="220680" cy="258480"/>
          </a:xfrm>
        </p:grpSpPr>
        <p:sp>
          <p:nvSpPr>
            <p:cNvPr id="285" name=""/>
            <p:cNvSpPr/>
            <p:nvPr/>
          </p:nvSpPr>
          <p:spPr>
            <a:xfrm>
              <a:off x="4133880" y="6272640"/>
              <a:ext cx="220680" cy="172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94720" y="6186600"/>
              <a:ext cx="112320" cy="86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941640" y="594684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,25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5880" y="5838840"/>
            <a:ext cx="69840" cy="2286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93920" y="582948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62240" y="581040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höh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serst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User</cp:lastModifiedBy>
  <dcterms:modified xsi:type="dcterms:W3CDTF">2013-03-29T11:55:13Z</dcterms:modified>
  <cp:revision>66</cp:revision>
  <dc:subject/>
  <dc:title>Folie 1</dc:title>
</cp:coreProperties>
</file>