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5EF-07C7-470E-B452-8BE0DF5F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C19-FF32-410E-A137-6E13267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F33-9BFC-42A7-AB09-900B82CE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753-B0A8-41A6-9EC2-7EBEC046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12F-D161-417B-A405-74CEF58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05A-99B2-417D-9DB4-53198FB5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34C-54D0-4255-9FBB-66B452D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DF0-29E7-4993-BC89-59B623B0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C40-354F-4A31-8A36-039E4972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1C1-6B87-4C74-8543-C2C3401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8A6-75FC-49EC-BE1E-14206CFC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D8B-B3F7-46CE-A60F-D8E2AD5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6F68-E790-4D6C-97EE-42F6E5140F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417600"/>
            <a:ext cx="1944720" cy="357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27120" y="488880"/>
            <a:ext cx="1895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 Druck-Dom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1136520"/>
            <a:ext cx="629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neide die einzelnen Karten aus und lege dann die zugehörigen Karten nebenein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8480" y="1486080"/>
            <a:ext cx="5934240" cy="462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9360" y="6238800"/>
            <a:ext cx="5972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28:04Z</dcterms:modified>
  <cp:revision>79</cp:revision>
  <dc:subject/>
  <dc:title>Folie 1</dc:title>
</cp:coreProperties>
</file>