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94D-350D-404E-B7FE-E40BF6C5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DFF-78CB-4055-B3E0-2F5F1DB8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DEC-634E-4BDD-95C1-C184EF47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169-B311-4D7C-9190-18FDFA2D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30B-C451-49F1-A034-0CEB335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E69-7D49-4457-9104-C7729729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175-1799-4CB6-98BA-01588994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571-EE76-4FDA-8213-1B84F73E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A61-4B8F-42F8-BB9E-9B72C6C5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00F-59ED-4B58-BCB6-C7F546B0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F77-1D6A-460D-9347-F0F0B5E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6DD-C101-4E30-8A9D-6C648FC1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436-1C4C-40DA-9DB4-7E08488A94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438280" y="417600"/>
            <a:ext cx="1927440" cy="64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427120" y="488880"/>
            <a:ext cx="1895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 Druck-Dom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9360" y="1208160"/>
            <a:ext cx="6010200" cy="78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29:13Z</dcterms:modified>
  <cp:revision>78</cp:revision>
  <dc:subject/>
  <dc:title>Folie 1</dc:title>
</cp:coreProperties>
</file>