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F66-8122-45FD-BC4C-512849DB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363-EFDD-4473-BED3-A81AF8A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5C0-C193-4CD7-BBE7-5A33848B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EF7-CB6B-4DB3-B28E-19A5B943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4DA-6195-4340-8FE5-D73B8CF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9D7-8D3D-4B59-8278-BBBB85F0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0AA-C6CF-4A3F-8955-D83BC2EA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1E5-E339-4643-A49B-65799D0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0B7-A192-4387-997C-3BC7FE8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613-C772-4D1B-96FB-7E705C0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115-5F35-46FE-AB73-D3DE7FF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6FC-0164-457A-AAB8-4E0EF50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7852-8569-40E7-84F8-E35C189E40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25360" y="992160"/>
            <a:ext cx="457848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063080" y="1063800"/>
            <a:ext cx="4559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sche Effekte durch Lichtbrechung - Glas/Lu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76280" y="1496880"/>
            <a:ext cx="59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e Lichtquelle strahlt unter verschiedenen Winkeln ein feines Lichtbündel auf einen Halbzylinder aus Glas. Ergänze den Strahlenverlau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682452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42120" y="1352160"/>
            <a:ext cx="5236200" cy="5415480"/>
            <a:chOff x="942120" y="1352160"/>
            <a:chExt cx="5236200" cy="5415480"/>
          </a:xfrm>
        </p:grpSpPr>
        <p:grpSp>
          <p:nvGrpSpPr>
            <p:cNvPr id="44" name=""/>
            <p:cNvGrpSpPr/>
            <p:nvPr/>
          </p:nvGrpSpPr>
          <p:grpSpPr>
            <a:xfrm>
              <a:off x="942120" y="1352160"/>
              <a:ext cx="5236200" cy="5415480"/>
              <a:chOff x="942120" y="1352160"/>
              <a:chExt cx="5236200" cy="5415480"/>
            </a:xfrm>
          </p:grpSpPr>
          <p:sp>
            <p:nvSpPr>
              <p:cNvPr id="45" name=""/>
              <p:cNvSpPr/>
              <p:nvPr/>
            </p:nvSpPr>
            <p:spPr>
              <a:xfrm rot="10800000">
                <a:off x="1137960" y="1352160"/>
                <a:ext cx="5040360" cy="5329440"/>
              </a:xfrm>
              <a:prstGeom prst="blockArc">
                <a:avLst>
                  <a:gd name="adj1" fmla="val 10814052"/>
                  <a:gd name="adj2" fmla="val 21585948"/>
                  <a:gd name="adj3" fmla="val 2431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1541600">
                <a:off x="2655360" y="6398640"/>
                <a:ext cx="79200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0800000">
                <a:off x="1055520" y="3958920"/>
                <a:ext cx="422280" cy="9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3057200">
                <a:off x="907920" y="5414400"/>
                <a:ext cx="216036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067120" y="2581200"/>
              <a:ext cx="3951000" cy="4162320"/>
              <a:chOff x="2067120" y="2581200"/>
              <a:chExt cx="3951000" cy="416232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067120" y="2754720"/>
                <a:ext cx="3168360" cy="2325240"/>
                <a:chOff x="2067120" y="2754720"/>
                <a:chExt cx="3168360" cy="2325240"/>
              </a:xfrm>
            </p:grpSpPr>
            <p:sp>
              <p:nvSpPr>
                <p:cNvPr id="51" name=""/>
                <p:cNvSpPr/>
                <p:nvPr/>
              </p:nvSpPr>
              <p:spPr>
                <a:xfrm rot="10800000">
                  <a:off x="2596320" y="2966760"/>
                  <a:ext cx="2113200" cy="21132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rot="10800000">
                  <a:off x="2067120" y="2754720"/>
                  <a:ext cx="3168360" cy="126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2594160" y="4022280"/>
                  <a:ext cx="211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 flipV="1">
                <a:off x="3668040" y="4023720"/>
                <a:ext cx="410400" cy="177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3666960" y="4022640"/>
                <a:ext cx="1047240" cy="149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3648240" y="4015440"/>
                <a:ext cx="1221480" cy="13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3671640" y="4028400"/>
                <a:ext cx="158112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3673080" y="4014720"/>
                <a:ext cx="771840" cy="16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59040" y="2581200"/>
                <a:ext cx="0" cy="36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4024800" y="5785200"/>
                <a:ext cx="405720" cy="929880"/>
                <a:chOff x="4024800" y="5785200"/>
                <a:chExt cx="405720" cy="929880"/>
              </a:xfrm>
            </p:grpSpPr>
            <p:sp>
              <p:nvSpPr>
                <p:cNvPr id="61" name=""/>
                <p:cNvSpPr/>
                <p:nvPr/>
              </p:nvSpPr>
              <p:spPr>
                <a:xfrm rot="15409800">
                  <a:off x="3843720" y="608508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5409800">
                  <a:off x="4030560" y="582372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5409800">
                  <a:off x="4104360" y="639108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383720" y="5643000"/>
                <a:ext cx="549360" cy="907920"/>
                <a:chOff x="4383720" y="5643000"/>
                <a:chExt cx="549360" cy="907920"/>
              </a:xfrm>
            </p:grpSpPr>
            <p:sp>
              <p:nvSpPr>
                <p:cNvPr id="65" name=""/>
                <p:cNvSpPr/>
                <p:nvPr/>
              </p:nvSpPr>
              <p:spPr>
                <a:xfrm rot="14750400">
                  <a:off x="4257360" y="5928120"/>
                  <a:ext cx="64800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4750400">
                  <a:off x="4389120" y="5684040"/>
                  <a:ext cx="14292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4750400">
                  <a:off x="4588200" y="6209640"/>
                  <a:ext cx="30312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668840" y="5480640"/>
                <a:ext cx="675000" cy="851400"/>
                <a:chOff x="4668840" y="5480640"/>
                <a:chExt cx="675000" cy="851400"/>
              </a:xfrm>
            </p:grpSpPr>
            <p:sp>
              <p:nvSpPr>
                <p:cNvPr id="69" name=""/>
                <p:cNvSpPr/>
                <p:nvPr/>
              </p:nvSpPr>
              <p:spPr>
                <a:xfrm rot="14079600">
                  <a:off x="4590360" y="573696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14079600">
                  <a:off x="4671720" y="552168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4079600">
                  <a:off x="4987080" y="598140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826520" y="5327640"/>
                <a:ext cx="742680" cy="803160"/>
                <a:chOff x="4826520" y="5327640"/>
                <a:chExt cx="742680" cy="803160"/>
              </a:xfrm>
            </p:grpSpPr>
            <p:sp>
              <p:nvSpPr>
                <p:cNvPr id="73" name=""/>
                <p:cNvSpPr/>
                <p:nvPr/>
              </p:nvSpPr>
              <p:spPr>
                <a:xfrm rot="13689000">
                  <a:off x="4778640" y="556164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rot="13689000">
                  <a:off x="4832640" y="536724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3689000">
                  <a:off x="5209560" y="577836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120640" y="4837320"/>
                <a:ext cx="873720" cy="630000"/>
                <a:chOff x="5120640" y="4837320"/>
                <a:chExt cx="873720" cy="630000"/>
              </a:xfrm>
            </p:grpSpPr>
            <p:sp>
              <p:nvSpPr>
                <p:cNvPr id="77" name=""/>
                <p:cNvSpPr/>
                <p:nvPr/>
              </p:nvSpPr>
              <p:spPr>
                <a:xfrm rot="12662400">
                  <a:off x="5133960" y="499428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2662400">
                  <a:off x="5131080" y="486828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2662400">
                  <a:off x="5639040" y="512244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704320" y="4145040"/>
                <a:ext cx="988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laskörp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lbzyli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71360" y="4291200"/>
                <a:ext cx="13467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chtquel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osition veränderb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3514320" y="5832360"/>
                <a:ext cx="287640" cy="911160"/>
                <a:chOff x="3514320" y="5832360"/>
                <a:chExt cx="287640" cy="911160"/>
              </a:xfrm>
            </p:grpSpPr>
            <p:sp>
              <p:nvSpPr>
                <p:cNvPr id="83" name=""/>
                <p:cNvSpPr/>
                <p:nvPr/>
              </p:nvSpPr>
              <p:spPr>
                <a:xfrm rot="16200000">
                  <a:off x="3334680" y="6132240"/>
                  <a:ext cx="64800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6200000">
                  <a:off x="3589920" y="5863320"/>
                  <a:ext cx="14292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6200000">
                  <a:off x="3506400" y="6447960"/>
                  <a:ext cx="30312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86" name=""/>
          <p:cNvGraphicFramePr/>
          <p:nvPr/>
        </p:nvGraphicFramePr>
        <p:xfrm>
          <a:off x="549360" y="4016520"/>
          <a:ext cx="1584360" cy="23000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49360" y="6897600"/>
            <a:ext cx="59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kizzen ist die Ausbreitung des Lichtes dargestellt. Vervollständige den Strahlenverlau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82137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6280" y="8183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080" y="7945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6440" y="8224200"/>
            <a:ext cx="396000" cy="84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42800" y="84661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9720" y="80344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50800" y="8048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74080" y="7832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44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4680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1772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44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360080" y="8525520"/>
            <a:ext cx="1216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7600" y="7886880"/>
            <a:ext cx="692640" cy="82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77760" y="8346600"/>
            <a:ext cx="716400" cy="6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62520" y="8353800"/>
            <a:ext cx="286560" cy="2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97160" y="7564320"/>
            <a:ext cx="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39840" y="79311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57480" y="83610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73720" y="81216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3720" y="8048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96160" y="7819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38480" y="81867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856120" y="86166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6:54:35Z</dcterms:modified>
  <cp:revision>67</cp:revision>
  <dc:subject/>
  <dc:title>Folie 1</dc:title>
</cp:coreProperties>
</file>