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1B7-9D1E-427F-A5A7-9D9D2C0D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6E7-77FC-4429-8CB6-B35B9EF1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3D2-ABD1-480E-9DBC-999F65E5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511-E5FA-47A7-90B0-1522D0FB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BF9-3106-4CAC-B3F9-5A33C050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58C-7154-4DEC-8DA8-6F417603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540-BB77-464E-834F-4221F973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289-089B-4EBA-840B-7C6FFB7A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479-56FF-4E69-9F67-6FEA1926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63B-7C6A-4F89-9022-AC29D81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C33-3159-49E8-8634-AAE9D35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2DA-063D-4477-B836-B7D27EF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7819-C85C-4B55-82D7-CB507ABDAB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25360" y="992160"/>
            <a:ext cx="4607280" cy="574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100880" y="1060560"/>
            <a:ext cx="45590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sche Effekte durch Lichtbrechung - Glas/Lu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49360" y="17845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9360" y="682452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9360" y="6897600"/>
            <a:ext cx="59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640" y="821376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6280" y="81835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080" y="7945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6440" y="8224200"/>
            <a:ext cx="396000" cy="84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2800" y="84661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9720" y="80344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50800" y="80485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74080" y="7832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440" y="7545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6800" y="754524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17720" y="7545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58440" y="754524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72440" y="1321200"/>
            <a:ext cx="5236200" cy="5414760"/>
            <a:chOff x="1072440" y="1321200"/>
            <a:chExt cx="5236200" cy="5414760"/>
          </a:xfrm>
        </p:grpSpPr>
        <p:grpSp>
          <p:nvGrpSpPr>
            <p:cNvPr id="57" name=""/>
            <p:cNvGrpSpPr/>
            <p:nvPr/>
          </p:nvGrpSpPr>
          <p:grpSpPr>
            <a:xfrm>
              <a:off x="1072440" y="1321200"/>
              <a:ext cx="5236200" cy="5414760"/>
              <a:chOff x="1072440" y="1321200"/>
              <a:chExt cx="5236200" cy="5414760"/>
            </a:xfrm>
          </p:grpSpPr>
          <p:sp>
            <p:nvSpPr>
              <p:cNvPr id="58" name=""/>
              <p:cNvSpPr/>
              <p:nvPr/>
            </p:nvSpPr>
            <p:spPr>
              <a:xfrm rot="10800000">
                <a:off x="1268280" y="1321200"/>
                <a:ext cx="5040360" cy="5329080"/>
              </a:xfrm>
              <a:prstGeom prst="blockArc">
                <a:avLst>
                  <a:gd name="adj1" fmla="val 10814052"/>
                  <a:gd name="adj2" fmla="val 21585948"/>
                  <a:gd name="adj3" fmla="val 2431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1541600">
                <a:off x="2785680" y="6367320"/>
                <a:ext cx="792000" cy="28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0800000">
                <a:off x="1185840" y="3927960"/>
                <a:ext cx="422280" cy="9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3057200">
                <a:off x="1038240" y="5383440"/>
                <a:ext cx="2160360" cy="62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197440" y="2548800"/>
              <a:ext cx="3951000" cy="4162320"/>
              <a:chOff x="2197440" y="2548800"/>
              <a:chExt cx="3951000" cy="416232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2197440" y="2722320"/>
                <a:ext cx="3168360" cy="2324520"/>
                <a:chOff x="2197440" y="2722320"/>
                <a:chExt cx="3168360" cy="2324520"/>
              </a:xfrm>
            </p:grpSpPr>
            <p:sp>
              <p:nvSpPr>
                <p:cNvPr id="64" name=""/>
                <p:cNvSpPr/>
                <p:nvPr/>
              </p:nvSpPr>
              <p:spPr>
                <a:xfrm rot="10800000">
                  <a:off x="2726640" y="2933640"/>
                  <a:ext cx="2113200" cy="21132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800000">
                  <a:off x="2197440" y="2722320"/>
                  <a:ext cx="3168360" cy="1267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>
                  <a:off x="2724480" y="3989520"/>
                  <a:ext cx="211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 flipH="1" flipV="1">
                <a:off x="3798360" y="3991680"/>
                <a:ext cx="410400" cy="177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3797640" y="3990240"/>
                <a:ext cx="1046880" cy="149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3778920" y="3983400"/>
                <a:ext cx="1221120" cy="13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3801960" y="3996000"/>
                <a:ext cx="1581120" cy="9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flipV="1">
                <a:off x="3803400" y="3981960"/>
                <a:ext cx="771480" cy="16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3789360" y="2548800"/>
                <a:ext cx="0" cy="3600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4155120" y="5753520"/>
                <a:ext cx="405720" cy="929160"/>
                <a:chOff x="4155120" y="5753520"/>
                <a:chExt cx="405720" cy="929160"/>
              </a:xfrm>
            </p:grpSpPr>
            <p:sp>
              <p:nvSpPr>
                <p:cNvPr id="74" name=""/>
                <p:cNvSpPr/>
                <p:nvPr/>
              </p:nvSpPr>
              <p:spPr>
                <a:xfrm rot="15409800">
                  <a:off x="3974400" y="6053400"/>
                  <a:ext cx="64764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15409800">
                  <a:off x="4160880" y="5791680"/>
                  <a:ext cx="14256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15409800">
                  <a:off x="4235040" y="6358680"/>
                  <a:ext cx="30276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4514400" y="5611320"/>
                <a:ext cx="549000" cy="907200"/>
                <a:chOff x="4514400" y="5611320"/>
                <a:chExt cx="549000" cy="907200"/>
              </a:xfrm>
            </p:grpSpPr>
            <p:sp>
              <p:nvSpPr>
                <p:cNvPr id="78" name=""/>
                <p:cNvSpPr/>
                <p:nvPr/>
              </p:nvSpPr>
              <p:spPr>
                <a:xfrm rot="14750400">
                  <a:off x="4388040" y="5896080"/>
                  <a:ext cx="647640" cy="142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4750400">
                  <a:off x="4520160" y="5652000"/>
                  <a:ext cx="142560" cy="810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14750400">
                  <a:off x="4718520" y="6177600"/>
                  <a:ext cx="302760" cy="2876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799160" y="5447520"/>
                <a:ext cx="674640" cy="851400"/>
                <a:chOff x="4799160" y="5447520"/>
                <a:chExt cx="674640" cy="851400"/>
              </a:xfrm>
            </p:grpSpPr>
            <p:sp>
              <p:nvSpPr>
                <p:cNvPr id="82" name=""/>
                <p:cNvSpPr/>
                <p:nvPr/>
              </p:nvSpPr>
              <p:spPr>
                <a:xfrm rot="14079600">
                  <a:off x="4720680" y="570384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4079600">
                  <a:off x="4802040" y="548856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4079600">
                  <a:off x="5117040" y="5948280"/>
                  <a:ext cx="30312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957200" y="5295960"/>
                <a:ext cx="742320" cy="802440"/>
                <a:chOff x="4957200" y="5295960"/>
                <a:chExt cx="742320" cy="802440"/>
              </a:xfrm>
            </p:grpSpPr>
            <p:sp>
              <p:nvSpPr>
                <p:cNvPr id="86" name=""/>
                <p:cNvSpPr/>
                <p:nvPr/>
              </p:nvSpPr>
              <p:spPr>
                <a:xfrm rot="13689000">
                  <a:off x="4908960" y="5529240"/>
                  <a:ext cx="64764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3689000">
                  <a:off x="4963320" y="5335200"/>
                  <a:ext cx="14256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3689000">
                  <a:off x="5340240" y="5745960"/>
                  <a:ext cx="30276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50960" y="4804200"/>
                <a:ext cx="874080" cy="630000"/>
                <a:chOff x="5250960" y="4804200"/>
                <a:chExt cx="874080" cy="630000"/>
              </a:xfrm>
            </p:grpSpPr>
            <p:sp>
              <p:nvSpPr>
                <p:cNvPr id="90" name=""/>
                <p:cNvSpPr/>
                <p:nvPr/>
              </p:nvSpPr>
              <p:spPr>
                <a:xfrm rot="12662400">
                  <a:off x="5264640" y="496116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2662400">
                  <a:off x="5261400" y="483516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2662400">
                  <a:off x="5769360" y="5089320"/>
                  <a:ext cx="303120" cy="2869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2834640" y="4112640"/>
                <a:ext cx="9885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laskörp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lbzyli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01680" y="4258800"/>
                <a:ext cx="13467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chtquel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osition veränderb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3644640" y="5800680"/>
                <a:ext cx="287640" cy="910440"/>
                <a:chOff x="3644640" y="5800680"/>
                <a:chExt cx="287640" cy="910440"/>
              </a:xfrm>
            </p:grpSpPr>
            <p:sp>
              <p:nvSpPr>
                <p:cNvPr id="96" name=""/>
                <p:cNvSpPr/>
                <p:nvPr/>
              </p:nvSpPr>
              <p:spPr>
                <a:xfrm rot="16200000">
                  <a:off x="3465360" y="6100560"/>
                  <a:ext cx="647640" cy="142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16200000">
                  <a:off x="3720240" y="5831280"/>
                  <a:ext cx="142560" cy="810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16200000">
                  <a:off x="3637080" y="6415920"/>
                  <a:ext cx="302760" cy="2876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99" name=""/>
          <p:cNvGraphicFramePr/>
          <p:nvPr/>
        </p:nvGraphicFramePr>
        <p:xfrm>
          <a:off x="549360" y="4448160"/>
          <a:ext cx="1584360" cy="23004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htbrechung beim Über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8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flipH="1" flipV="1">
            <a:off x="3162600" y="2293920"/>
            <a:ext cx="615600" cy="169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610360" y="2601000"/>
            <a:ext cx="1157400" cy="13791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217240" y="3094560"/>
            <a:ext cx="155916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98720" y="39924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12560" y="4007880"/>
            <a:ext cx="1559160" cy="9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3280" y="7794000"/>
            <a:ext cx="347040" cy="41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360080" y="8525520"/>
            <a:ext cx="1216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17600" y="7886880"/>
            <a:ext cx="692640" cy="82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877760" y="8346600"/>
            <a:ext cx="716400" cy="6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162520" y="8353800"/>
            <a:ext cx="286560" cy="2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11080" y="8349120"/>
            <a:ext cx="675360" cy="24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97160" y="7564320"/>
            <a:ext cx="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939840" y="7931160"/>
            <a:ext cx="15156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57480" y="8361000"/>
            <a:ext cx="590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096440" y="7465320"/>
            <a:ext cx="542520" cy="4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73720" y="81216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3720" y="8048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96160" y="781992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838480" y="8186760"/>
            <a:ext cx="15156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56120" y="8616600"/>
            <a:ext cx="590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95360" y="7655760"/>
            <a:ext cx="93600" cy="53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6:55:02Z</dcterms:modified>
  <cp:revision>65</cp:revision>
  <dc:subject/>
  <dc:title>Folie 1</dc:title>
</cp:coreProperties>
</file>