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CB5-CB07-482E-BE4F-FA57306E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172-B732-4344-8307-B3D5E348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989-90CD-4176-BEE9-831F8F72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8A8-E237-41BD-A08C-4D92FE79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8F0-FF95-43B9-BCCE-A2D8A2C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165-4378-4666-80BF-9A0E01F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24B-3EE7-4E97-8E38-D3B127B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F1E-ECA1-4E17-9962-BD4F4E15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BD-386D-4742-8DB9-040735A6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51D-F65C-440F-8FB4-EE7B1A7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D7A-A47E-41FA-A1FC-38DFE4C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24C-8227-4954-B0A8-9558FAE0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315D-6C8C-40DB-8F7D-93DA217C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13040" y="7746840"/>
            <a:ext cx="2160720" cy="20066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200000">
            <a:off x="3644640" y="8265960"/>
            <a:ext cx="21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3817800" y="821376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800000">
            <a:off x="5516280" y="804852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854520" y="82756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886200" y="83314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7545240"/>
            <a:ext cx="5759280" cy="22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440" y="754524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ktionswe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81216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9360" y="84805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9360" y="88408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360" y="92012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9360" y="95616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13360" y="7578720"/>
            <a:ext cx="1224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7578720"/>
            <a:ext cx="1295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6280" y="78678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7867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44640" y="560520"/>
            <a:ext cx="333684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9480" y="646200"/>
            <a:ext cx="3341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funktioniert ein Rauchmel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8640" y="1074600"/>
            <a:ext cx="5848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05:28Z</dcterms:modified>
  <cp:revision>73</cp:revision>
  <dc:subject/>
  <dc:title>Folie 1</dc:title>
</cp:coreProperties>
</file>