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903-ABF8-4E45-917B-2FD8599E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C3C-F78C-4A3D-94BA-35A506C0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32E-DF89-4C31-9451-D1FB2E66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399-08E6-4E16-B733-D834CEB4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A13-F1E9-493E-908F-6ACC99F5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A47-8161-4A19-99B4-5AB45D17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07E-3437-4231-BAF7-437C93AE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5C6-B718-4F63-999E-9D81C2AD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218-EBEC-4082-AEF4-48BF931F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4AA-DA75-4E84-8773-98D3E5C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D7D-A6AE-4B18-B566-76B7293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076-E0A0-4DF2-B29A-491A0E7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88CA-9C9E-43F1-B4F3-A0B3EE1BF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16280" y="7761240"/>
            <a:ext cx="2160720" cy="20066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200000">
            <a:off x="3644640" y="8265960"/>
            <a:ext cx="215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3817800" y="821376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9800000">
            <a:off x="5516280" y="8048520"/>
            <a:ext cx="43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854520" y="82756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886200" y="83314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7473960"/>
            <a:ext cx="5759280" cy="23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440" y="748656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ktionswe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6280" y="77612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48400" y="7804080"/>
            <a:ext cx="126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2160" y="7507440"/>
            <a:ext cx="9565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etek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7680" y="7507440"/>
            <a:ext cx="11880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Lichtquel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9360" y="7761240"/>
            <a:ext cx="309564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Gelangen Rauchpartikel in die Detektorkammer wird das Licht daran gestreu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as Streulicht  wird von dem Detektor registrier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er Alarm wird ausgelö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49720" y="8624880"/>
            <a:ext cx="721800" cy="647640"/>
            <a:chOff x="4149720" y="8624880"/>
            <a:chExt cx="721800" cy="647640"/>
          </a:xfrm>
        </p:grpSpPr>
        <p:sp>
          <p:nvSpPr>
            <p:cNvPr id="53" name=""/>
            <p:cNvSpPr/>
            <p:nvPr/>
          </p:nvSpPr>
          <p:spPr>
            <a:xfrm>
              <a:off x="4727520" y="898344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82800" y="898344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7520" y="90565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55880" y="891216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0240" y="8767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5880" y="876780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00240" y="8840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28600" y="869616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82800" y="869616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38440" y="8696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82800" y="8769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11160" y="8624880"/>
              <a:ext cx="7092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8440" y="9128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94080" y="9128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38440" y="9201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366800" y="905652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11520" y="8912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67160" y="8912160"/>
              <a:ext cx="7236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11520" y="8985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439880" y="884088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4080" y="8840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9720" y="8840880"/>
              <a:ext cx="7272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94080" y="8913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222440" y="876924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221000" y="8985240"/>
            <a:ext cx="722520" cy="647640"/>
            <a:chOff x="4221000" y="8985240"/>
            <a:chExt cx="722520" cy="647640"/>
          </a:xfrm>
        </p:grpSpPr>
        <p:sp>
          <p:nvSpPr>
            <p:cNvPr id="78" name=""/>
            <p:cNvSpPr/>
            <p:nvPr/>
          </p:nvSpPr>
          <p:spPr>
            <a:xfrm>
              <a:off x="4799160" y="9343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54440" y="934380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9160" y="94168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727160" y="927252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1880" y="912816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27520" y="912816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1880" y="9201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800600" y="905652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54440" y="905652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10080" y="905652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54440" y="9129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83160" y="898524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10080" y="9488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65720" y="948852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10080" y="956160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438800" y="941688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8316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38800" y="927252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83160" y="934560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511160" y="920124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65720" y="920124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1000" y="9201240"/>
              <a:ext cx="7308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5720" y="927396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293720" y="9129600"/>
              <a:ext cx="7164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65720" y="8840880"/>
            <a:ext cx="721800" cy="647640"/>
            <a:chOff x="4365720" y="8840880"/>
            <a:chExt cx="721800" cy="647640"/>
          </a:xfrm>
        </p:grpSpPr>
        <p:sp>
          <p:nvSpPr>
            <p:cNvPr id="103" name=""/>
            <p:cNvSpPr/>
            <p:nvPr/>
          </p:nvSpPr>
          <p:spPr>
            <a:xfrm>
              <a:off x="4943520" y="919944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98800" y="919944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3520" y="92725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871880" y="912816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240" y="8983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1880" y="898380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6240" y="9056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944600" y="891216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8800" y="891216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4440" y="8912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98800" y="8985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727160" y="8840880"/>
              <a:ext cx="7092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9344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10080" y="9344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54440" y="9417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82800" y="927252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7520" y="9128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160" y="9128160"/>
              <a:ext cx="7236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7520" y="9201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655880" y="905688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10080" y="9056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5720" y="9056880"/>
              <a:ext cx="7272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10080" y="9129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438440" y="898524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4280" y="8913960"/>
            <a:ext cx="722520" cy="647640"/>
            <a:chOff x="4724280" y="8913960"/>
            <a:chExt cx="722520" cy="647640"/>
          </a:xfrm>
        </p:grpSpPr>
        <p:sp>
          <p:nvSpPr>
            <p:cNvPr id="128" name=""/>
            <p:cNvSpPr/>
            <p:nvPr/>
          </p:nvSpPr>
          <p:spPr>
            <a:xfrm>
              <a:off x="530244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7720" y="927252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02440" y="9345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30440" y="920124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75160" y="905688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0800" y="905688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5160" y="912996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3880" y="898524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57720" y="898524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13360" y="898524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7720" y="90583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086440" y="891396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3360" y="941724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69000" y="941724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3360" y="949032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42080" y="934560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86440" y="920124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2080" y="920124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6440" y="927432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014440" y="912996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9000" y="912996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24280" y="9129960"/>
              <a:ext cx="7308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9000" y="92026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797000" y="9058320"/>
              <a:ext cx="7164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 flipV="1">
            <a:off x="4437000" y="812124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076640" y="8265960"/>
            <a:ext cx="433440" cy="503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860640" y="8408520"/>
            <a:ext cx="648000" cy="505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89000" y="89139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789000" y="86245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97360" y="81212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00640" y="9129600"/>
            <a:ext cx="721800" cy="647640"/>
            <a:chOff x="5300640" y="9129600"/>
            <a:chExt cx="721800" cy="647640"/>
          </a:xfrm>
        </p:grpSpPr>
        <p:sp>
          <p:nvSpPr>
            <p:cNvPr id="159" name=""/>
            <p:cNvSpPr/>
            <p:nvPr/>
          </p:nvSpPr>
          <p:spPr>
            <a:xfrm>
              <a:off x="5878440" y="9488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33720" y="9488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78440" y="9561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806800" y="941688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5116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6800" y="927252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1160" y="934560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879520" y="920088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33720" y="920088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9360" y="920088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33720" y="927396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662080" y="9129600"/>
              <a:ext cx="7092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9360" y="9632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5000" y="963288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9360" y="970596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517720" y="956124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62440" y="9416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18080" y="9416880"/>
              <a:ext cx="7236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2440" y="948996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590800" y="934560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45000" y="934560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00640" y="9345600"/>
              <a:ext cx="7272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5000" y="94183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373360" y="927396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97360" y="9056520"/>
            <a:ext cx="722520" cy="647640"/>
            <a:chOff x="4797360" y="9056520"/>
            <a:chExt cx="722520" cy="647640"/>
          </a:xfrm>
        </p:grpSpPr>
        <p:sp>
          <p:nvSpPr>
            <p:cNvPr id="184" name=""/>
            <p:cNvSpPr/>
            <p:nvPr/>
          </p:nvSpPr>
          <p:spPr>
            <a:xfrm>
              <a:off x="5375520" y="941508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30800" y="941508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5520" y="948816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303520" y="934380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48240" y="919944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03880" y="919944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48240" y="927252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76960" y="912780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0800" y="912780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912780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0800" y="92008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159520" y="905652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6440" y="9559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42080" y="955980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86440" y="9632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015160" y="948816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59520" y="9343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5160" y="934380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59520" y="9416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87520" y="927252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208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97360" y="9272520"/>
              <a:ext cx="7308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42080" y="9345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870080" y="9200880"/>
              <a:ext cx="7164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565960" y="9509040"/>
            <a:ext cx="7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au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22360" y="571680"/>
            <a:ext cx="4191120" cy="34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48920" y="646200"/>
            <a:ext cx="4187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funktioniert ein Rauchmelder ? - 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1360" y="1015920"/>
            <a:ext cx="584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06:01Z</dcterms:modified>
  <cp:revision>73</cp:revision>
  <dc:subject/>
  <dc:title>Folie 1</dc:title>
</cp:coreProperties>
</file>