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981-2F28-4029-8687-4C9C2D4A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84D-511C-4FE1-A4CA-C06E235B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3F7-2760-4111-A75D-73CD1FF5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D09-C429-4754-AC29-04320E0D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1AA-17DE-4850-BB8F-7DCAD2A7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A7A-AEE5-48E9-9D04-C84995C8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34F-1AC1-4B1F-B4E7-4EDB9582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7B4-87E9-42F3-879E-C3F953C9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46F-E0D1-4624-8F81-AE738962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3D2-5303-42FB-B7FD-1A27C720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252-ACE4-471E-A4A0-68266438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053-4A28-4E92-9AA8-69715C20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142D-AE0E-4171-A981-AD7F0B4D5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130800" y="2581200"/>
            <a:ext cx="71640" cy="71640"/>
          </a:xfrm>
          <a:prstGeom prst="ellipse">
            <a:avLst/>
          </a:prstGeom>
          <a:solidFill>
            <a:srgbClr val="c0c0c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135840" y="249228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52640" y="2570040"/>
            <a:ext cx="71640" cy="71640"/>
          </a:xfrm>
          <a:prstGeom prst="ellipse">
            <a:avLst/>
          </a:prstGeom>
          <a:solidFill>
            <a:srgbClr val="c0c0c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7680" y="24811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62080" y="992160"/>
            <a:ext cx="3022560" cy="34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96920" y="1065240"/>
            <a:ext cx="30002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ösungen (1)  - Ebener Spieg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76280" y="2503440"/>
            <a:ext cx="679320" cy="1851120"/>
            <a:chOff x="476280" y="2503440"/>
            <a:chExt cx="679320" cy="1851120"/>
          </a:xfrm>
        </p:grpSpPr>
        <p:sp>
          <p:nvSpPr>
            <p:cNvPr id="46" name=""/>
            <p:cNvSpPr/>
            <p:nvPr/>
          </p:nvSpPr>
          <p:spPr>
            <a:xfrm flipV="1">
              <a:off x="939960" y="3070440"/>
              <a:ext cx="21564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733320" y="3939840"/>
              <a:ext cx="3672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2800" y="3502080"/>
              <a:ext cx="61920" cy="4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12800" y="2860560"/>
              <a:ext cx="4752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6480" y="2503440"/>
              <a:ext cx="263520" cy="36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4480" y="3135240"/>
              <a:ext cx="1954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4480" y="3149640"/>
              <a:ext cx="169920" cy="2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16200" y="3297240"/>
              <a:ext cx="15372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568440" y="3909960"/>
              <a:ext cx="98280" cy="40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666360" y="3527640"/>
              <a:ext cx="4284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1520" y="4238640"/>
              <a:ext cx="245880" cy="81000"/>
            </a:xfrm>
            <a:custGeom>
              <a:avLst/>
              <a:gdLst/>
              <a:ahLst/>
              <a:rect l="l" t="t" r="r" b="b"/>
              <a:pathLst>
                <a:path w="377" h="87">
                  <a:moveTo>
                    <a:pt x="0" y="85"/>
                  </a:moveTo>
                  <a:cubicBezTo>
                    <a:pt x="86" y="86"/>
                    <a:pt x="172" y="87"/>
                    <a:pt x="227" y="85"/>
                  </a:cubicBezTo>
                  <a:cubicBezTo>
                    <a:pt x="282" y="83"/>
                    <a:pt x="306" y="77"/>
                    <a:pt x="329" y="72"/>
                  </a:cubicBezTo>
                  <a:cubicBezTo>
                    <a:pt x="352" y="67"/>
                    <a:pt x="357" y="66"/>
                    <a:pt x="365" y="54"/>
                  </a:cubicBezTo>
                  <a:cubicBezTo>
                    <a:pt x="373" y="42"/>
                    <a:pt x="375" y="21"/>
                    <a:pt x="3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6280" y="4273560"/>
              <a:ext cx="246240" cy="81000"/>
            </a:xfrm>
            <a:custGeom>
              <a:avLst/>
              <a:gdLst/>
              <a:ahLst/>
              <a:rect l="l" t="t" r="r" b="b"/>
              <a:pathLst>
                <a:path w="377" h="87">
                  <a:moveTo>
                    <a:pt x="0" y="85"/>
                  </a:moveTo>
                  <a:cubicBezTo>
                    <a:pt x="86" y="86"/>
                    <a:pt x="172" y="87"/>
                    <a:pt x="227" y="85"/>
                  </a:cubicBezTo>
                  <a:cubicBezTo>
                    <a:pt x="282" y="83"/>
                    <a:pt x="306" y="77"/>
                    <a:pt x="329" y="72"/>
                  </a:cubicBezTo>
                  <a:cubicBezTo>
                    <a:pt x="352" y="67"/>
                    <a:pt x="357" y="66"/>
                    <a:pt x="365" y="54"/>
                  </a:cubicBezTo>
                  <a:cubicBezTo>
                    <a:pt x="373" y="42"/>
                    <a:pt x="375" y="21"/>
                    <a:pt x="3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3280" y="2743200"/>
              <a:ext cx="114120" cy="28800"/>
            </a:xfrm>
            <a:custGeom>
              <a:avLst/>
              <a:gdLst/>
              <a:ahLst/>
              <a:rect l="l" t="t" r="r" b="b"/>
              <a:pathLst>
                <a:path w="72" h="18">
                  <a:moveTo>
                    <a:pt x="0" y="0"/>
                  </a:moveTo>
                  <a:cubicBezTo>
                    <a:pt x="25" y="17"/>
                    <a:pt x="42" y="18"/>
                    <a:pt x="72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89120" y="2576520"/>
              <a:ext cx="69840" cy="698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6"/>
                  </a:moveTo>
                  <a:cubicBezTo>
                    <a:pt x="21" y="13"/>
                    <a:pt x="12" y="14"/>
                    <a:pt x="27" y="9"/>
                  </a:cubicBezTo>
                  <a:cubicBezTo>
                    <a:pt x="13" y="0"/>
                    <a:pt x="22" y="2"/>
                    <a:pt x="0" y="6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04640" y="4376880"/>
            <a:ext cx="251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65160" y="2428920"/>
            <a:ext cx="0" cy="720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6280" y="1784520"/>
            <a:ext cx="12240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gab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58800" y="2073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ie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1960" y="2610000"/>
            <a:ext cx="1046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57240" y="2611440"/>
            <a:ext cx="1046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43040" y="2610000"/>
            <a:ext cx="2147760" cy="1114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838080" y="2295360"/>
            <a:ext cx="2043360" cy="314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7920" y="3800520"/>
            <a:ext cx="216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e Person sieht den Kopf mit dem gesamten Oberkörper bis auf ca. die Mitte des Oberschenke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787920" y="2506680"/>
            <a:ext cx="679320" cy="1851120"/>
            <a:chOff x="3787920" y="2506680"/>
            <a:chExt cx="679320" cy="1851120"/>
          </a:xfrm>
        </p:grpSpPr>
        <p:sp>
          <p:nvSpPr>
            <p:cNvPr id="70" name=""/>
            <p:cNvSpPr/>
            <p:nvPr/>
          </p:nvSpPr>
          <p:spPr>
            <a:xfrm flipV="1">
              <a:off x="4251600" y="3073680"/>
              <a:ext cx="21564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044960" y="3943080"/>
              <a:ext cx="3672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24440" y="3505320"/>
              <a:ext cx="61920" cy="4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024440" y="2863800"/>
              <a:ext cx="4752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48120" y="2506680"/>
              <a:ext cx="263520" cy="36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56120" y="3138480"/>
              <a:ext cx="1954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56120" y="3152880"/>
              <a:ext cx="169920" cy="2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27840" y="3300480"/>
              <a:ext cx="15372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880080" y="3913200"/>
              <a:ext cx="98280" cy="40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978000" y="3530880"/>
              <a:ext cx="4284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53160" y="4241880"/>
              <a:ext cx="245880" cy="81000"/>
            </a:xfrm>
            <a:custGeom>
              <a:avLst/>
              <a:gdLst/>
              <a:ahLst/>
              <a:rect l="l" t="t" r="r" b="b"/>
              <a:pathLst>
                <a:path w="377" h="87">
                  <a:moveTo>
                    <a:pt x="0" y="85"/>
                  </a:moveTo>
                  <a:cubicBezTo>
                    <a:pt x="86" y="86"/>
                    <a:pt x="172" y="87"/>
                    <a:pt x="227" y="85"/>
                  </a:cubicBezTo>
                  <a:cubicBezTo>
                    <a:pt x="282" y="83"/>
                    <a:pt x="306" y="77"/>
                    <a:pt x="329" y="72"/>
                  </a:cubicBezTo>
                  <a:cubicBezTo>
                    <a:pt x="352" y="67"/>
                    <a:pt x="357" y="66"/>
                    <a:pt x="365" y="54"/>
                  </a:cubicBezTo>
                  <a:cubicBezTo>
                    <a:pt x="373" y="42"/>
                    <a:pt x="375" y="21"/>
                    <a:pt x="3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87920" y="4276800"/>
              <a:ext cx="246240" cy="81000"/>
            </a:xfrm>
            <a:custGeom>
              <a:avLst/>
              <a:gdLst/>
              <a:ahLst/>
              <a:rect l="l" t="t" r="r" b="b"/>
              <a:pathLst>
                <a:path w="377" h="87">
                  <a:moveTo>
                    <a:pt x="0" y="85"/>
                  </a:moveTo>
                  <a:cubicBezTo>
                    <a:pt x="86" y="86"/>
                    <a:pt x="172" y="87"/>
                    <a:pt x="227" y="85"/>
                  </a:cubicBezTo>
                  <a:cubicBezTo>
                    <a:pt x="282" y="83"/>
                    <a:pt x="306" y="77"/>
                    <a:pt x="329" y="72"/>
                  </a:cubicBezTo>
                  <a:cubicBezTo>
                    <a:pt x="352" y="67"/>
                    <a:pt x="357" y="66"/>
                    <a:pt x="365" y="54"/>
                  </a:cubicBezTo>
                  <a:cubicBezTo>
                    <a:pt x="373" y="42"/>
                    <a:pt x="375" y="21"/>
                    <a:pt x="3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84920" y="2746440"/>
              <a:ext cx="114120" cy="28800"/>
            </a:xfrm>
            <a:custGeom>
              <a:avLst/>
              <a:gdLst/>
              <a:ahLst/>
              <a:rect l="l" t="t" r="r" b="b"/>
              <a:pathLst>
                <a:path w="72" h="18">
                  <a:moveTo>
                    <a:pt x="0" y="0"/>
                  </a:moveTo>
                  <a:cubicBezTo>
                    <a:pt x="25" y="17"/>
                    <a:pt x="42" y="18"/>
                    <a:pt x="72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00760" y="2579760"/>
              <a:ext cx="69840" cy="698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6"/>
                  </a:moveTo>
                  <a:cubicBezTo>
                    <a:pt x="21" y="13"/>
                    <a:pt x="12" y="14"/>
                    <a:pt x="27" y="9"/>
                  </a:cubicBezTo>
                  <a:cubicBezTo>
                    <a:pt x="13" y="0"/>
                    <a:pt x="22" y="2"/>
                    <a:pt x="0" y="6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645000" y="4376880"/>
            <a:ext cx="25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90760" y="2579760"/>
            <a:ext cx="85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e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vergröße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60640" y="2484360"/>
            <a:ext cx="432000" cy="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03560" y="2341440"/>
            <a:ext cx="144720" cy="142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51600" y="2227320"/>
            <a:ext cx="0" cy="21477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02440" y="200016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261612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60960" y="2619360"/>
            <a:ext cx="1009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4143240" y="2343240"/>
            <a:ext cx="2014560" cy="27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176360" y="2614680"/>
            <a:ext cx="1986120" cy="169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6560" y="2486160"/>
            <a:ext cx="0" cy="98892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9360" y="4954680"/>
            <a:ext cx="59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gab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22080" y="5745240"/>
            <a:ext cx="5759640" cy="1873080"/>
            <a:chOff x="622080" y="5745240"/>
            <a:chExt cx="5759640" cy="1873080"/>
          </a:xfrm>
        </p:grpSpPr>
        <p:sp>
          <p:nvSpPr>
            <p:cNvPr id="97" name=""/>
            <p:cNvSpPr/>
            <p:nvPr/>
          </p:nvSpPr>
          <p:spPr>
            <a:xfrm>
              <a:off x="622440" y="5746680"/>
              <a:ext cx="5759280" cy="18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62080" y="574668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02080" y="574668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2080" y="5745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62080" y="5745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1720" y="5745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230480" y="6860160"/>
              <a:ext cx="510120" cy="51012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230480" y="5995080"/>
              <a:ext cx="510120" cy="51012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3720" y="70423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25360" y="7042320"/>
              <a:ext cx="3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713680" y="6861960"/>
              <a:ext cx="509760" cy="50976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76560" y="704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08200" y="7043760"/>
              <a:ext cx="37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42480" y="5923800"/>
              <a:ext cx="509760" cy="50976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54440" y="6321600"/>
              <a:ext cx="0" cy="72072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933720" y="6323040"/>
              <a:ext cx="720720" cy="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075920" y="6882480"/>
              <a:ext cx="35712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08040" y="6699240"/>
              <a:ext cx="407520" cy="40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574668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540400" y="6926400"/>
              <a:ext cx="6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67240" y="69264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078880" y="6328440"/>
              <a:ext cx="690480" cy="675000"/>
              <a:chOff x="5078880" y="6328440"/>
              <a:chExt cx="690480" cy="675000"/>
            </a:xfrm>
          </p:grpSpPr>
          <p:sp>
            <p:nvSpPr>
              <p:cNvPr id="119" name=""/>
              <p:cNvSpPr/>
              <p:nvPr/>
            </p:nvSpPr>
            <p:spPr>
              <a:xfrm flipH="1" flipV="1">
                <a:off x="5078880" y="6340320"/>
                <a:ext cx="282960" cy="66312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5100480" y="6328440"/>
                <a:ext cx="668880" cy="26892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943160" y="5745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503360" y="6276600"/>
              <a:ext cx="0" cy="76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800" y="628164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38360" y="628164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986200" y="621936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133720" y="6219720"/>
              <a:ext cx="8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490480" y="6219720"/>
              <a:ext cx="1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73920" y="6357600"/>
              <a:ext cx="34200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672000" y="6355440"/>
              <a:ext cx="598680" cy="59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866760" y="6653160"/>
              <a:ext cx="10476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362200" y="6596280"/>
              <a:ext cx="32076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86560" y="6600960"/>
              <a:ext cx="468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91240" y="7172280"/>
              <a:ext cx="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81000" y="761832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4240" y="8265960"/>
            <a:ext cx="11026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wend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isk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02080" y="7618320"/>
            <a:ext cx="648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41720" y="8265960"/>
            <a:ext cx="18003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wend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inkelspie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inkelspiegel werden in der Vermessungs-technik zum Einmessen von zwei Flächen ver-we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0640" y="7618320"/>
            <a:ext cx="648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3880" y="8265960"/>
            <a:ext cx="11026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wend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flek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3-20T11:44:39Z</dcterms:modified>
  <cp:revision>46</cp:revision>
  <dc:subject/>
  <dc:title>Folie 1</dc:title>
</cp:coreProperties>
</file>