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B929-12D9-4720-98E4-6781D17B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A944-CA27-4579-BCAF-3E09FB40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C820-59C1-4661-B194-D660E914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DABC-857E-47EF-918F-C8D58473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CF4E-A5C8-48E0-A1A7-6586447B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202-25DF-4E3F-8730-1F0B205C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7B64-09F9-4118-9EE3-6B5F6060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4C72-4B3A-435E-8DCD-C9969F63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760"/>
            <a:ext cx="6805440" cy="82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012A-7C13-4779-BA54-70EDB83A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4AF-6ED0-4CD8-B745-36AC9FE3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9677-ED7A-410F-98CF-7458B323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161D-3C40-4385-9BAB-E8D6B5B6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249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737640"/>
            <a:ext cx="1765080" cy="741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737640"/>
            <a:ext cx="2395440" cy="741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737640"/>
            <a:ext cx="1765440" cy="741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A528-5B74-42D3-88FE-902BE35EE0F4}" type="slidenum">
              <a:rPr b="0" lang="de-DE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9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0"/>
          <p:cNvSpPr/>
          <p:nvPr/>
        </p:nvSpPr>
        <p:spPr>
          <a:xfrm>
            <a:off x="612720" y="540072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 rot="7264800">
            <a:off x="1043640" y="77173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 Newton (1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1600200" y="4495680"/>
            <a:ext cx="39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heit der K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1143000" y="93726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Je größer die Kraft, die an einem Körper angreift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609480" y="54864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 rot="7228800">
            <a:off x="641160" y="7447680"/>
            <a:ext cx="398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Calibri"/>
              </a:rPr>
              <a:t>...hängt ab vom Ort, an dem er sich befinde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143000" y="96012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 größer die Masse eines Körp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 rot="14251800">
            <a:off x="2571120" y="2457000"/>
            <a:ext cx="388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Die Gewichtskraft eines Körpers..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 rot="14267400">
            <a:off x="2541600" y="797328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wichtsk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612720" y="540072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209680" y="937260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Die Masse eines Körpers..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 rot="7254600">
            <a:off x="1325520" y="2710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 = m *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 rot="14267400">
            <a:off x="2344320" y="7868520"/>
            <a:ext cx="51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raftwirkung auf einen Kör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609480" y="54100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197080" y="9810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ägheitsgese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 rot="7254600">
            <a:off x="106920" y="2558160"/>
            <a:ext cx="48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Änderung des Bewegungs-zustandes / Verform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 rot="14267400">
            <a:off x="2296440" y="7608600"/>
            <a:ext cx="458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...desto stärker wird er beschleunig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609480" y="3808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609480" y="54864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 rot="7356600">
            <a:off x="610560" y="8168040"/>
            <a:ext cx="33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heit der M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514600" y="43434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okesches Gese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 rot="14267400">
            <a:off x="2313360" y="7914240"/>
            <a:ext cx="50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...desto größer seine Trägh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 rot="18141000">
            <a:off x="234720" y="2584440"/>
            <a:ext cx="45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Calibri"/>
              </a:rPr>
              <a:t>Ein Körper ändert seinen Bewegungszustand nur durch Krafteinwirk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 rot="3514200">
            <a:off x="2817000" y="2820600"/>
            <a:ext cx="40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1 Kilogramm (1 k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612720" y="541800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 rot="7356600">
            <a:off x="246240" y="7889760"/>
            <a:ext cx="422748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F</a:t>
            </a:r>
            <a:r>
              <a:rPr b="0" lang="de-DE" sz="28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12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 = F</a:t>
            </a:r>
            <a:r>
              <a:rPr b="0" lang="de-DE" sz="28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1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48150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Zeichnerische Addition von Krä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 rot="14267400">
            <a:off x="2143800" y="7743960"/>
            <a:ext cx="53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...ist immer gleich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 rot="3513000">
            <a:off x="2772360" y="2727000"/>
            <a:ext cx="41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chselwirkungsgese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609480" y="54100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197080" y="9810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rtsfa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676520" y="464832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weiseitiger H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 rot="14267400">
            <a:off x="2739600" y="7850880"/>
            <a:ext cx="43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seitiger H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 rot="3513000">
            <a:off x="2455920" y="2572200"/>
            <a:ext cx="45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 ~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 rot="7295400">
            <a:off x="803160" y="7653240"/>
            <a:ext cx="345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Wippe, Briefwaage, Scher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609480" y="3808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612720" y="541800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 rot="3513000">
            <a:off x="2860200" y="2319480"/>
            <a:ext cx="33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rallelogra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 rot="7295400">
            <a:off x="132840" y="7714080"/>
            <a:ext cx="45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g = 9,81 N/kg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 rot="18119400">
            <a:off x="141120" y="2678400"/>
            <a:ext cx="477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Brecheisen, Schubkarre, Schraubenschlüssel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5T13:52:52Z</dcterms:created>
  <dc:creator>H.H.</dc:creator>
  <dc:description/>
  <dc:language>en-US</dc:language>
  <cp:lastModifiedBy>test</cp:lastModifiedBy>
  <dcterms:modified xsi:type="dcterms:W3CDTF">2013-03-21T11:08:44Z</dcterms:modified>
  <cp:revision>10</cp:revision>
  <dc:subject/>
  <dc:title>Folie 1</dc:title>
</cp:coreProperties>
</file>